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679-917D-4713-97FE-C42957F5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2474-5E73-4F8D-9573-F52FA2D8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2D7A-88D4-46DA-AB80-8E6EB813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5C1A-C819-42E6-97F9-3403CC8F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01D-AB63-4E65-B625-64393220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0803-1BD3-4B8A-8609-C93DAFB0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EA3C-947A-4EBA-B67F-5519FC0E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C19-EC78-4E0B-B49C-9AF91E2A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626A-D461-4110-B70A-7F0AA1B4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0B7-7267-46B9-B110-805843D9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65B-7F17-48D8-9844-A842DFA6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9AB-D3CF-4B21-AEA9-99B80DEB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44CE-AEA4-4A8B-8E73-3BAB64115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539640" y="1341360"/>
            <a:ext cx="8064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am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Past Simple Ten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276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1547640" y="62064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en Mag saw the mouse she …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98764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190800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5148360" y="4726080"/>
            <a:ext cx="115236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1908000" y="4726080"/>
            <a:ext cx="122400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4068720" y="3716280"/>
            <a:ext cx="107964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5148360" y="27082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9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0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1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5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6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7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8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30">
            <a:hlinkClick r:id="" action="ppaction://hlinkshowjump?jump=nextslide"/>
          </p:cNvPr>
          <p:cNvSpPr/>
          <p:nvPr/>
        </p:nvSpPr>
        <p:spPr>
          <a:xfrm>
            <a:off x="3786120" y="200016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843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4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8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849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5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861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6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867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7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7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879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4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885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903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909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91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305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5"/>
          <p:cNvSpPr/>
          <p:nvPr/>
        </p:nvSpPr>
        <p:spPr>
          <a:xfrm>
            <a:off x="1403280" y="26028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r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pple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st evenin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298764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5148360" y="4726080"/>
            <a:ext cx="122400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4071960" y="471492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190800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4068720" y="3716280"/>
            <a:ext cx="107964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4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5"/>
          <p:cNvSpPr/>
          <p:nvPr/>
        </p:nvSpPr>
        <p:spPr>
          <a:xfrm>
            <a:off x="5148360" y="27082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6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7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8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9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0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1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2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3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4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5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6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7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8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9">
            <a:hlinkClick r:id="" action="ppaction://hlinkshowjump?jump=nextslide"/>
          </p:cNvPr>
          <p:cNvSpPr/>
          <p:nvPr/>
        </p:nvSpPr>
        <p:spPr>
          <a:xfrm>
            <a:off x="3780000" y="1844640"/>
            <a:ext cx="1692000" cy="405000"/>
          </a:xfrm>
          <a:custGeom>
            <a:avLst/>
            <a:gdLst>
              <a:gd name="textAreaLeft" fmla="*/ 25920 w 1692000"/>
              <a:gd name="textAreaRight" fmla="*/ 1666080 w 1692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79" h="21600">
                <a:moveTo>
                  <a:pt x="0" y="0"/>
                </a:moveTo>
                <a:lnTo>
                  <a:pt x="90179" y="0"/>
                </a:lnTo>
                <a:lnTo>
                  <a:pt x="90179" y="21600"/>
                </a:lnTo>
                <a:lnTo>
                  <a:pt x="0" y="21600"/>
                </a:lnTo>
                <a:close/>
              </a:path>
              <a:path fill="lightenLess" w="90179" h="21600">
                <a:moveTo>
                  <a:pt x="0" y="0"/>
                </a:moveTo>
                <a:lnTo>
                  <a:pt x="90179" y="0"/>
                </a:lnTo>
                <a:lnTo>
                  <a:pt x="88779" y="1400"/>
                </a:lnTo>
                <a:lnTo>
                  <a:pt x="1400" y="1400"/>
                </a:lnTo>
                <a:close/>
              </a:path>
              <a:path fill="darken" w="90179" h="21600">
                <a:moveTo>
                  <a:pt x="90179" y="0"/>
                </a:moveTo>
                <a:lnTo>
                  <a:pt x="90179" y="21600"/>
                </a:lnTo>
                <a:lnTo>
                  <a:pt x="88779" y="20200"/>
                </a:lnTo>
                <a:lnTo>
                  <a:pt x="88779" y="1400"/>
                </a:lnTo>
                <a:close/>
              </a:path>
              <a:path fill="darkenLess" w="90179" h="21600">
                <a:moveTo>
                  <a:pt x="90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79" y="20200"/>
                </a:lnTo>
                <a:close/>
              </a:path>
              <a:path fill="lighten" w="90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9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930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5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936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1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942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4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3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954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9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960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5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966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1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972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7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978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3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984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8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9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990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9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996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0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333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5"/>
          <p:cNvSpPr/>
          <p:nvPr/>
        </p:nvSpPr>
        <p:spPr>
          <a:xfrm>
            <a:off x="1714680" y="64296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… at six o’clock in the mo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298764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5148360" y="4726080"/>
            <a:ext cx="122400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190800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4068720" y="3716280"/>
            <a:ext cx="107964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4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5"/>
          <p:cNvSpPr/>
          <p:nvPr/>
        </p:nvSpPr>
        <p:spPr>
          <a:xfrm>
            <a:off x="4067280" y="27082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>
            <a:off x="1908000" y="4724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4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5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7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8">
            <a:hlinkClick r:id="" action="ppaction://hlinkshowjump?jump=nextslide"/>
          </p:cNvPr>
          <p:cNvSpPr/>
          <p:nvPr/>
        </p:nvSpPr>
        <p:spPr>
          <a:xfrm>
            <a:off x="3708360" y="198900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3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4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6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017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023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3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4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035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0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041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6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1047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2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053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5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1059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065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0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071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6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1077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8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360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1714680" y="714240"/>
            <a:ext cx="56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… in the river last sum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298764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5148360" y="4726080"/>
            <a:ext cx="115236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1928880" y="471492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2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3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4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5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d not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6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7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8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9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0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1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2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3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4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5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6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7">
            <a:hlinkClick r:id="" action="ppaction://hlinkshowjump?jump=nextslide"/>
          </p:cNvPr>
          <p:cNvSpPr/>
          <p:nvPr/>
        </p:nvSpPr>
        <p:spPr>
          <a:xfrm>
            <a:off x="3635280" y="1916280"/>
            <a:ext cx="1692360" cy="40464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0278" h="21600">
                <a:moveTo>
                  <a:pt x="0" y="0"/>
                </a:moveTo>
                <a:lnTo>
                  <a:pt x="90278" y="0"/>
                </a:lnTo>
                <a:lnTo>
                  <a:pt x="90278" y="21600"/>
                </a:lnTo>
                <a:lnTo>
                  <a:pt x="0" y="21600"/>
                </a:lnTo>
                <a:close/>
              </a:path>
              <a:path fill="lightenLess" w="90278" h="21600">
                <a:moveTo>
                  <a:pt x="0" y="0"/>
                </a:moveTo>
                <a:lnTo>
                  <a:pt x="90278" y="0"/>
                </a:lnTo>
                <a:lnTo>
                  <a:pt x="88878" y="1400"/>
                </a:lnTo>
                <a:lnTo>
                  <a:pt x="1400" y="1400"/>
                </a:lnTo>
                <a:close/>
              </a:path>
              <a:path fill="darken" w="90278" h="21600">
                <a:moveTo>
                  <a:pt x="90278" y="0"/>
                </a:moveTo>
                <a:lnTo>
                  <a:pt x="90278" y="21600"/>
                </a:lnTo>
                <a:lnTo>
                  <a:pt x="88878" y="20200"/>
                </a:lnTo>
                <a:lnTo>
                  <a:pt x="88878" y="1400"/>
                </a:lnTo>
                <a:close/>
              </a:path>
              <a:path fill="darkenLess" w="90278" h="21600">
                <a:moveTo>
                  <a:pt x="90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78" y="20200"/>
                </a:lnTo>
                <a:close/>
              </a:path>
              <a:path fill="lighten" w="90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5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6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7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098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0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1104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0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11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1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122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7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128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3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3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134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9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140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4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5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146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5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152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15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386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71760" y="0"/>
            <a:ext cx="6041880" cy="26370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1714680" y="71424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… this book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5148360" y="4724280"/>
            <a:ext cx="1152360" cy="1008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9"/>
          <p:cNvSpPr/>
          <p:nvPr/>
        </p:nvSpPr>
        <p:spPr>
          <a:xfrm>
            <a:off x="1928880" y="4714920"/>
            <a:ext cx="120312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2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4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6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7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8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9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0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1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2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3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4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5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6">
            <a:hlinkClick r:id="" action="ppaction://hlinkshowjump?jump=nextslide"/>
          </p:cNvPr>
          <p:cNvSpPr/>
          <p:nvPr/>
        </p:nvSpPr>
        <p:spPr>
          <a:xfrm>
            <a:off x="3780000" y="1844640"/>
            <a:ext cx="1692000" cy="405000"/>
          </a:xfrm>
          <a:custGeom>
            <a:avLst/>
            <a:gdLst>
              <a:gd name="textAreaLeft" fmla="*/ 25920 w 1692000"/>
              <a:gd name="textAreaRight" fmla="*/ 1666080 w 169200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79" h="21600">
                <a:moveTo>
                  <a:pt x="0" y="0"/>
                </a:moveTo>
                <a:lnTo>
                  <a:pt x="90179" y="0"/>
                </a:lnTo>
                <a:lnTo>
                  <a:pt x="90179" y="21600"/>
                </a:lnTo>
                <a:lnTo>
                  <a:pt x="0" y="21600"/>
                </a:lnTo>
                <a:close/>
              </a:path>
              <a:path fill="lightenLess" w="90179" h="21600">
                <a:moveTo>
                  <a:pt x="0" y="0"/>
                </a:moveTo>
                <a:lnTo>
                  <a:pt x="90179" y="0"/>
                </a:lnTo>
                <a:lnTo>
                  <a:pt x="88779" y="1400"/>
                </a:lnTo>
                <a:lnTo>
                  <a:pt x="1400" y="1400"/>
                </a:lnTo>
                <a:close/>
              </a:path>
              <a:path fill="darken" w="90179" h="21600">
                <a:moveTo>
                  <a:pt x="90179" y="0"/>
                </a:moveTo>
                <a:lnTo>
                  <a:pt x="90179" y="21600"/>
                </a:lnTo>
                <a:lnTo>
                  <a:pt x="88779" y="20200"/>
                </a:lnTo>
                <a:lnTo>
                  <a:pt x="88779" y="1400"/>
                </a:lnTo>
                <a:close/>
              </a:path>
              <a:path fill="darkenLess" w="90179" h="21600">
                <a:moveTo>
                  <a:pt x="90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79" y="20200"/>
                </a:lnTo>
                <a:close/>
              </a:path>
              <a:path fill="lighten" w="90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9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1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173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8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1179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4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185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1197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2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203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0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209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1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0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1221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2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411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5"/>
          <p:cNvSpPr/>
          <p:nvPr/>
        </p:nvSpPr>
        <p:spPr>
          <a:xfrm>
            <a:off x="1692360" y="18900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y …TV a week 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5148360" y="4724280"/>
            <a:ext cx="1152360" cy="1008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190800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4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5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6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7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8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9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0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21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22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3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24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25">
            <a:hlinkClick r:id="" action="ppaction://hlinkshowjump?jump=nextslide"/>
          </p:cNvPr>
          <p:cNvSpPr/>
          <p:nvPr/>
        </p:nvSpPr>
        <p:spPr>
          <a:xfrm>
            <a:off x="3708360" y="2060640"/>
            <a:ext cx="1692360" cy="40464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0278" h="21600">
                <a:moveTo>
                  <a:pt x="0" y="0"/>
                </a:moveTo>
                <a:lnTo>
                  <a:pt x="90278" y="0"/>
                </a:lnTo>
                <a:lnTo>
                  <a:pt x="90278" y="21600"/>
                </a:lnTo>
                <a:lnTo>
                  <a:pt x="0" y="21600"/>
                </a:lnTo>
                <a:close/>
              </a:path>
              <a:path fill="lightenLess" w="90278" h="21600">
                <a:moveTo>
                  <a:pt x="0" y="0"/>
                </a:moveTo>
                <a:lnTo>
                  <a:pt x="90278" y="0"/>
                </a:lnTo>
                <a:lnTo>
                  <a:pt x="88878" y="1400"/>
                </a:lnTo>
                <a:lnTo>
                  <a:pt x="1400" y="1400"/>
                </a:lnTo>
                <a:close/>
              </a:path>
              <a:path fill="darken" w="90278" h="21600">
                <a:moveTo>
                  <a:pt x="90278" y="0"/>
                </a:moveTo>
                <a:lnTo>
                  <a:pt x="90278" y="21600"/>
                </a:lnTo>
                <a:lnTo>
                  <a:pt x="88878" y="20200"/>
                </a:lnTo>
                <a:lnTo>
                  <a:pt x="88878" y="1400"/>
                </a:lnTo>
                <a:close/>
              </a:path>
              <a:path fill="darkenLess" w="90278" h="21600">
                <a:moveTo>
                  <a:pt x="90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78" y="20200"/>
                </a:lnTo>
                <a:close/>
              </a:path>
              <a:path fill="lighten" w="90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0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8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9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0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1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242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7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248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3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1254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9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260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6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5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266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7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1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1272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7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7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278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8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3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284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9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435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5"/>
          <p:cNvSpPr/>
          <p:nvPr/>
        </p:nvSpPr>
        <p:spPr>
          <a:xfrm>
            <a:off x="1692360" y="18900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…football with my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190800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lay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1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3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5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6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7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8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9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0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1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2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3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24">
            <a:hlinkClick r:id="" action="ppaction://hlinkshowjump?jump=nextslide"/>
          </p:cNvPr>
          <p:cNvSpPr/>
          <p:nvPr/>
        </p:nvSpPr>
        <p:spPr>
          <a:xfrm>
            <a:off x="3564000" y="198900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0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1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2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3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4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305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0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311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1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6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317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2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2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323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2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8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329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3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335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3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0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341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4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458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5"/>
          <p:cNvSpPr/>
          <p:nvPr/>
        </p:nvSpPr>
        <p:spPr>
          <a:xfrm>
            <a:off x="1692360" y="18900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…my teeth three ti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8"/>
          <p:cNvSpPr/>
          <p:nvPr/>
        </p:nvSpPr>
        <p:spPr>
          <a:xfrm>
            <a:off x="190800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lean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9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0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1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3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5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6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7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8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9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0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1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2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23">
            <a:hlinkClick r:id="" action="ppaction://hlinkshowjump?jump=nextslide"/>
          </p:cNvPr>
          <p:cNvSpPr/>
          <p:nvPr/>
        </p:nvSpPr>
        <p:spPr>
          <a:xfrm>
            <a:off x="3708360" y="198900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0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8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9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0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362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6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7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368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3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374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7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9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380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8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5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386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9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1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392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98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480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5"/>
          <p:cNvSpPr/>
          <p:nvPr/>
        </p:nvSpPr>
        <p:spPr>
          <a:xfrm>
            <a:off x="1692360" y="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… my friends to do their home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0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elp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1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2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3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4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5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6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7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9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1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>
            <a:hlinkClick r:id="" action="ppaction://hlinkshowjump?jump=nextslide"/>
          </p:cNvPr>
          <p:cNvSpPr/>
          <p:nvPr/>
        </p:nvSpPr>
        <p:spPr>
          <a:xfrm>
            <a:off x="3635280" y="184464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0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9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0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1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2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413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1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8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419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2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4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1425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2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0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431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3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6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1437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3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501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5"/>
          <p:cNvSpPr/>
          <p:nvPr/>
        </p:nvSpPr>
        <p:spPr>
          <a:xfrm>
            <a:off x="1692360" y="33336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… our grandpar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st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0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1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2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3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4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5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6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7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8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9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0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21">
            <a:hlinkClick r:id="" action="ppaction://hlinkshowjump?jump=nextslide"/>
          </p:cNvPr>
          <p:cNvSpPr/>
          <p:nvPr/>
        </p:nvSpPr>
        <p:spPr>
          <a:xfrm>
            <a:off x="3708360" y="184464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0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4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5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6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7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458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3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1464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9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1470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7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5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476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1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82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468360" y="260280"/>
            <a:ext cx="8207280" cy="46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, let’s remember Grammar Rules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ules of the G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м предлагается предложение, в котором пропущена форма глагола, которая употребляется в данном предложении. Для этого вы щелкаете мышкой на тот квадрат, в котором, по вашему мнению дана правильная форма. Если ответ выбран неверный, то сектор окрасится в желтый цвет. При верном ответе откроется часть сюрприза. Для перехода к следующему отрывку нажмите кнопку 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X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">
            <a:hlinkClick r:id="" action="ppaction://hlinkshowjump?jump=nextslide"/>
          </p:cNvPr>
          <p:cNvSpPr/>
          <p:nvPr/>
        </p:nvSpPr>
        <p:spPr>
          <a:xfrm>
            <a:off x="3635280" y="5516640"/>
            <a:ext cx="1692360" cy="40464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0278" h="21600">
                <a:moveTo>
                  <a:pt x="0" y="0"/>
                </a:moveTo>
                <a:lnTo>
                  <a:pt x="90278" y="0"/>
                </a:lnTo>
                <a:lnTo>
                  <a:pt x="90278" y="21600"/>
                </a:lnTo>
                <a:lnTo>
                  <a:pt x="0" y="21600"/>
                </a:lnTo>
                <a:close/>
              </a:path>
              <a:path fill="lightenLess" w="90278" h="21600">
                <a:moveTo>
                  <a:pt x="0" y="0"/>
                </a:moveTo>
                <a:lnTo>
                  <a:pt x="90278" y="0"/>
                </a:lnTo>
                <a:lnTo>
                  <a:pt x="88878" y="1400"/>
                </a:lnTo>
                <a:lnTo>
                  <a:pt x="1400" y="1400"/>
                </a:lnTo>
                <a:close/>
              </a:path>
              <a:path fill="darken" w="90278" h="21600">
                <a:moveTo>
                  <a:pt x="90278" y="0"/>
                </a:moveTo>
                <a:lnTo>
                  <a:pt x="90278" y="21600"/>
                </a:lnTo>
                <a:lnTo>
                  <a:pt x="88878" y="20200"/>
                </a:lnTo>
                <a:lnTo>
                  <a:pt x="88878" y="1400"/>
                </a:lnTo>
                <a:close/>
              </a:path>
              <a:path fill="darkenLess" w="90278" h="21600">
                <a:moveTo>
                  <a:pt x="90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78" y="20200"/>
                </a:lnTo>
                <a:close/>
              </a:path>
              <a:path fill="lighten" w="90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521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5"/>
          <p:cNvSpPr/>
          <p:nvPr/>
        </p:nvSpPr>
        <p:spPr>
          <a:xfrm>
            <a:off x="1692360" y="18900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see this bird yester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4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5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6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7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8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9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0">
            <a:hlinkClick r:id="" action="ppaction://hlinkshowjump?jump=nextslide"/>
          </p:cNvPr>
          <p:cNvSpPr/>
          <p:nvPr/>
        </p:nvSpPr>
        <p:spPr>
          <a:xfrm>
            <a:off x="3780000" y="2060640"/>
            <a:ext cx="1692000" cy="404640"/>
          </a:xfrm>
          <a:custGeom>
            <a:avLst/>
            <a:gdLst>
              <a:gd name="textAreaLeft" fmla="*/ 25920 w 1692000"/>
              <a:gd name="textAreaRight" fmla="*/ 1666080 w 169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0259" h="21600">
                <a:moveTo>
                  <a:pt x="0" y="0"/>
                </a:moveTo>
                <a:lnTo>
                  <a:pt x="90259" y="0"/>
                </a:lnTo>
                <a:lnTo>
                  <a:pt x="90259" y="21600"/>
                </a:lnTo>
                <a:lnTo>
                  <a:pt x="0" y="21600"/>
                </a:lnTo>
                <a:close/>
              </a:path>
              <a:path fill="lightenLess" w="90259" h="21600">
                <a:moveTo>
                  <a:pt x="0" y="0"/>
                </a:moveTo>
                <a:lnTo>
                  <a:pt x="90259" y="0"/>
                </a:lnTo>
                <a:lnTo>
                  <a:pt x="88859" y="1400"/>
                </a:lnTo>
                <a:lnTo>
                  <a:pt x="1400" y="1400"/>
                </a:lnTo>
                <a:close/>
              </a:path>
              <a:path fill="darken" w="90259" h="21600">
                <a:moveTo>
                  <a:pt x="90259" y="0"/>
                </a:moveTo>
                <a:lnTo>
                  <a:pt x="90259" y="21600"/>
                </a:lnTo>
                <a:lnTo>
                  <a:pt x="88859" y="20200"/>
                </a:lnTo>
                <a:lnTo>
                  <a:pt x="88859" y="1400"/>
                </a:lnTo>
                <a:close/>
              </a:path>
              <a:path fill="darkenLess" w="90259" h="21600">
                <a:moveTo>
                  <a:pt x="90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59" y="20200"/>
                </a:lnTo>
                <a:close/>
              </a:path>
              <a:path fill="lighten" w="90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0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3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4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5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6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497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0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503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0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8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509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1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0828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540" name="Text Box 3"/>
          <p:cNvSpPr/>
          <p:nvPr/>
        </p:nvSpPr>
        <p:spPr>
          <a:xfrm>
            <a:off x="2195640" y="2852640"/>
            <a:ext cx="475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5"/>
          <p:cNvSpPr/>
          <p:nvPr/>
        </p:nvSpPr>
        <p:spPr>
          <a:xfrm>
            <a:off x="1619280" y="333360"/>
            <a:ext cx="5688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… the party last week.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8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9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0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1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2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3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4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5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6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7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8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9">
            <a:hlinkClick r:id="" action="ppaction://hlinkshowjump?jump=nextslide"/>
          </p:cNvPr>
          <p:cNvSpPr/>
          <p:nvPr/>
        </p:nvSpPr>
        <p:spPr>
          <a:xfrm>
            <a:off x="3708360" y="184464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fill="hold">
                      <p:stCondLst>
                        <p:cond delay="0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6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7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8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5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536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4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0828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558" name="Text Box 3"/>
          <p:cNvSpPr/>
          <p:nvPr/>
        </p:nvSpPr>
        <p:spPr>
          <a:xfrm>
            <a:off x="2195640" y="2852640"/>
            <a:ext cx="475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5"/>
          <p:cNvSpPr/>
          <p:nvPr/>
        </p:nvSpPr>
        <p:spPr>
          <a:xfrm>
            <a:off x="1619280" y="333360"/>
            <a:ext cx="568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… to go to the cinem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00240" y="3714840"/>
            <a:ext cx="1143000" cy="1009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8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1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2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3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4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5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6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7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8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9">
            <a:hlinkClick r:id="" action="ppaction://hlinkshowjump?jump=nextslide"/>
          </p:cNvPr>
          <p:cNvSpPr/>
          <p:nvPr/>
        </p:nvSpPr>
        <p:spPr>
          <a:xfrm>
            <a:off x="3708360" y="184464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7" dur="indefinite" restart="never" nodeType="tmRoot">
          <p:childTnLst>
            <p:seq>
              <p:cTn id="1548" dur="indefinite" nodeType="mainSeq">
                <p:childTnLst>
                  <p:par>
                    <p:cTn id="1549" fill="hold">
                      <p:stCondLst>
                        <p:cond delay="0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4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555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3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574" name="AutoShape 4">
            <a:hlinkClick r:id="" action="ppaction://hlinkshowjump?jump=nextslide"/>
          </p:cNvPr>
          <p:cNvSpPr/>
          <p:nvPr/>
        </p:nvSpPr>
        <p:spPr>
          <a:xfrm>
            <a:off x="3564000" y="112536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6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403280" y="0"/>
            <a:ext cx="6481800" cy="343836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7"/>
          <p:cNvSpPr/>
          <p:nvPr/>
        </p:nvSpPr>
        <p:spPr>
          <a:xfrm>
            <a:off x="2268360" y="26028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"/>
          <p:cNvSpPr/>
          <p:nvPr/>
        </p:nvSpPr>
        <p:spPr>
          <a:xfrm>
            <a:off x="1403280" y="189000"/>
            <a:ext cx="640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cc"/>
                </a:solidFill>
                <a:latin typeface="Times New Roman"/>
              </a:rPr>
              <a:t>I’m proud of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cc"/>
                </a:solidFill>
                <a:latin typeface="Times New Roman"/>
              </a:rPr>
              <a:t>Now I’m sure that you know Grammar Rul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"/>
          <p:cNvSpPr/>
          <p:nvPr/>
        </p:nvSpPr>
        <p:spPr>
          <a:xfrm rot="19801800">
            <a:off x="900000" y="4076280"/>
            <a:ext cx="552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Good Luck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45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643040" y="18900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he … computer games yester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6229440" y="5734080"/>
            <a:ext cx="107928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5148360" y="5734080"/>
            <a:ext cx="108108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2987640" y="5734080"/>
            <a:ext cx="108108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1908000" y="5734080"/>
            <a:ext cx="107964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6229440" y="4726080"/>
            <a:ext cx="107928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5148360" y="4653000"/>
            <a:ext cx="1079280" cy="10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2987640" y="4726080"/>
            <a:ext cx="108108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1908000" y="4726080"/>
            <a:ext cx="107964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4068720" y="3716280"/>
            <a:ext cx="1079640" cy="1009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3000240" y="3714840"/>
            <a:ext cx="1081080" cy="10094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1908000" y="3716280"/>
            <a:ext cx="1079640" cy="1009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6229440" y="2708280"/>
            <a:ext cx="107928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ash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5148360" y="2708280"/>
            <a:ext cx="108108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2987640" y="2708280"/>
            <a:ext cx="107964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6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7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9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0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1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3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6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7">
            <a:hlinkClick r:id="" action="ppaction://hlinkshowjump?jump=nextslide"/>
          </p:cNvPr>
          <p:cNvSpPr/>
          <p:nvPr/>
        </p:nvSpPr>
        <p:spPr>
          <a:xfrm>
            <a:off x="3564000" y="162864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81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1835280" y="189000"/>
            <a:ext cx="54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 weath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fine yester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6229440" y="57340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d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514836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298764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190800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6229440" y="47260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5148360" y="4726080"/>
            <a:ext cx="115236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2987640" y="4724280"/>
            <a:ext cx="1081080" cy="1008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190800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4068720" y="3716280"/>
            <a:ext cx="107964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1908000" y="3716280"/>
            <a:ext cx="107964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6229440" y="27082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5148360" y="27082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5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6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7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8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9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0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1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2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3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4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5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6">
            <a:hlinkClick r:id="" action="ppaction://hlinkshowjump?jump=nextslide"/>
          </p:cNvPr>
          <p:cNvSpPr/>
          <p:nvPr/>
        </p:nvSpPr>
        <p:spPr>
          <a:xfrm>
            <a:off x="3635280" y="162864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116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835280" y="18900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… to school yester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229440" y="57340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514836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298764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190800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6229440" y="47260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5148360" y="4726080"/>
            <a:ext cx="122400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190800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4068720" y="3716280"/>
            <a:ext cx="107964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1908000" y="3716280"/>
            <a:ext cx="107964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6229440" y="27082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1"/>
          <p:cNvSpPr/>
          <p:nvPr/>
        </p:nvSpPr>
        <p:spPr>
          <a:xfrm>
            <a:off x="5148360" y="27082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2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6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7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8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9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0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1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2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3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4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5">
            <a:hlinkClick r:id="" action="ppaction://hlinkshowjump?jump=nextslide"/>
          </p:cNvPr>
          <p:cNvSpPr/>
          <p:nvPr/>
        </p:nvSpPr>
        <p:spPr>
          <a:xfrm>
            <a:off x="3708360" y="184464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9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150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714680" y="0"/>
            <a:ext cx="5898960" cy="2637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2000160" y="214200"/>
            <a:ext cx="5523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…my hands and face ten ti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6229440" y="57340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14836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298764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190800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6229440" y="47260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5148360" y="4726080"/>
            <a:ext cx="122400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1908000" y="4726080"/>
            <a:ext cx="1151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4068720" y="3716280"/>
            <a:ext cx="107964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6156360" y="2708280"/>
            <a:ext cx="115236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5148360" y="27082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3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4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5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6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7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8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9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0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1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2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3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4">
            <a:hlinkClick r:id="" action="ppaction://hlinkshowjump?jump=nextslide"/>
          </p:cNvPr>
          <p:cNvSpPr/>
          <p:nvPr/>
        </p:nvSpPr>
        <p:spPr>
          <a:xfrm>
            <a:off x="3780000" y="1773360"/>
            <a:ext cx="1692000" cy="404640"/>
          </a:xfrm>
          <a:custGeom>
            <a:avLst/>
            <a:gdLst>
              <a:gd name="textAreaLeft" fmla="*/ 25920 w 1692000"/>
              <a:gd name="textAreaRight" fmla="*/ 1666080 w 169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0259" h="21600">
                <a:moveTo>
                  <a:pt x="0" y="0"/>
                </a:moveTo>
                <a:lnTo>
                  <a:pt x="90259" y="0"/>
                </a:lnTo>
                <a:lnTo>
                  <a:pt x="90259" y="21600"/>
                </a:lnTo>
                <a:lnTo>
                  <a:pt x="0" y="21600"/>
                </a:lnTo>
                <a:close/>
              </a:path>
              <a:path fill="lightenLess" w="90259" h="21600">
                <a:moveTo>
                  <a:pt x="0" y="0"/>
                </a:moveTo>
                <a:lnTo>
                  <a:pt x="90259" y="0"/>
                </a:lnTo>
                <a:lnTo>
                  <a:pt x="88859" y="1400"/>
                </a:lnTo>
                <a:lnTo>
                  <a:pt x="1400" y="1400"/>
                </a:lnTo>
                <a:close/>
              </a:path>
              <a:path fill="darken" w="90259" h="21600">
                <a:moveTo>
                  <a:pt x="90259" y="0"/>
                </a:moveTo>
                <a:lnTo>
                  <a:pt x="90259" y="21600"/>
                </a:lnTo>
                <a:lnTo>
                  <a:pt x="88859" y="20200"/>
                </a:lnTo>
                <a:lnTo>
                  <a:pt x="88859" y="1400"/>
                </a:lnTo>
                <a:close/>
              </a:path>
              <a:path fill="darkenLess" w="90259" h="21600">
                <a:moveTo>
                  <a:pt x="90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59" y="20200"/>
                </a:lnTo>
                <a:close/>
              </a:path>
              <a:path fill="lighten" w="90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0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183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1571760" y="14292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e… not sleep yester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229440" y="57340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5143680" y="5734080"/>
            <a:ext cx="108576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298764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190800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6229440" y="47260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5148360" y="4726080"/>
            <a:ext cx="115236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190800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7"/>
          <p:cNvSpPr/>
          <p:nvPr/>
        </p:nvSpPr>
        <p:spPr>
          <a:xfrm>
            <a:off x="4068720" y="3716280"/>
            <a:ext cx="107964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8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9"/>
          <p:cNvSpPr/>
          <p:nvPr/>
        </p:nvSpPr>
        <p:spPr>
          <a:xfrm>
            <a:off x="5148360" y="27082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0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1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3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6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7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8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9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0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1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2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3">
            <a:hlinkClick r:id="" action="ppaction://hlinkshowjump?jump=nextslide"/>
          </p:cNvPr>
          <p:cNvSpPr/>
          <p:nvPr/>
        </p:nvSpPr>
        <p:spPr>
          <a:xfrm>
            <a:off x="3714840" y="200016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82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1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215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1547640" y="333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ere… you … last eve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229440" y="57340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514836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298764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190800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5148360" y="4726080"/>
            <a:ext cx="115236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90800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068720" y="3716280"/>
            <a:ext cx="107964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5148360" y="27082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9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0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3"/>
          <p:cNvSpPr/>
          <p:nvPr/>
        </p:nvSpPr>
        <p:spPr>
          <a:xfrm>
            <a:off x="1908000" y="4726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4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5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6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7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8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9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0"/>
          <p:cNvSpPr/>
          <p:nvPr/>
        </p:nvSpPr>
        <p:spPr>
          <a:xfrm>
            <a:off x="6227640" y="282420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1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32">
            <a:hlinkClick r:id="" action="ppaction://hlinkshowjump?jump=nextslide"/>
          </p:cNvPr>
          <p:cNvSpPr/>
          <p:nvPr/>
        </p:nvSpPr>
        <p:spPr>
          <a:xfrm>
            <a:off x="3708360" y="2060640"/>
            <a:ext cx="1692360" cy="40464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90278" h="21600">
                <a:moveTo>
                  <a:pt x="0" y="0"/>
                </a:moveTo>
                <a:lnTo>
                  <a:pt x="90278" y="0"/>
                </a:lnTo>
                <a:lnTo>
                  <a:pt x="90278" y="21600"/>
                </a:lnTo>
                <a:lnTo>
                  <a:pt x="0" y="21600"/>
                </a:lnTo>
                <a:close/>
              </a:path>
              <a:path fill="lightenLess" w="90278" h="21600">
                <a:moveTo>
                  <a:pt x="0" y="0"/>
                </a:moveTo>
                <a:lnTo>
                  <a:pt x="90278" y="0"/>
                </a:lnTo>
                <a:lnTo>
                  <a:pt x="88878" y="1400"/>
                </a:lnTo>
                <a:lnTo>
                  <a:pt x="1400" y="1400"/>
                </a:lnTo>
                <a:close/>
              </a:path>
              <a:path fill="darken" w="90278" h="21600">
                <a:moveTo>
                  <a:pt x="90278" y="0"/>
                </a:moveTo>
                <a:lnTo>
                  <a:pt x="90278" y="21600"/>
                </a:lnTo>
                <a:lnTo>
                  <a:pt x="88878" y="20200"/>
                </a:lnTo>
                <a:lnTo>
                  <a:pt x="88878" y="1400"/>
                </a:lnTo>
                <a:close/>
              </a:path>
              <a:path fill="darkenLess" w="90278" h="21600">
                <a:moveTo>
                  <a:pt x="90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78" y="20200"/>
                </a:lnTo>
                <a:close/>
              </a:path>
              <a:path fill="lighten" w="90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3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645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651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699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2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осень1"/>
          <p:cNvPicPr/>
          <p:nvPr/>
        </p:nvPicPr>
        <p:blipFill>
          <a:blip r:embed="rId1"/>
          <a:srcRect l="0" t="0" r="-137" b="2268"/>
          <a:stretch/>
        </p:blipFill>
        <p:spPr>
          <a:xfrm>
            <a:off x="1908000" y="2719440"/>
            <a:ext cx="5399280" cy="3949560"/>
          </a:xfrm>
          <a:prstGeom prst="rect">
            <a:avLst/>
          </a:prstGeom>
          <a:ln w="38160">
            <a:solidFill>
              <a:srgbClr val="339966"/>
            </a:solidFill>
            <a:miter/>
          </a:ln>
        </p:spPr>
      </p:pic>
      <p:sp>
        <p:nvSpPr>
          <p:cNvPr id="246" name="Text Box 3"/>
          <p:cNvSpPr/>
          <p:nvPr/>
        </p:nvSpPr>
        <p:spPr>
          <a:xfrm>
            <a:off x="2195640" y="2863800"/>
            <a:ext cx="4752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gratulations! Now you know all grammar rul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4f3bfe5839e1252f77af829f8eadf207"/>
          <p:cNvPicPr/>
          <p:nvPr/>
        </p:nvPicPr>
        <p:blipFill>
          <a:blip r:embed="rId2">
            <a:lum bright="6000"/>
          </a:blip>
          <a:srcRect l="0" t="0" r="0" b="66101"/>
          <a:stretch/>
        </p:blipFill>
        <p:spPr>
          <a:xfrm>
            <a:off x="1547640" y="0"/>
            <a:ext cx="6042240" cy="2637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1571760" y="0"/>
            <a:ext cx="59767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he …not … tea after lun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6229440" y="5734080"/>
            <a:ext cx="10792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dr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406872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2987640" y="57340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1908000" y="5734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5148360" y="4726080"/>
            <a:ext cx="115236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406872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1908000" y="47260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3"/>
          <p:cNvSpPr/>
          <p:nvPr/>
        </p:nvSpPr>
        <p:spPr>
          <a:xfrm>
            <a:off x="6229440" y="3716280"/>
            <a:ext cx="10792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4"/>
          <p:cNvSpPr/>
          <p:nvPr/>
        </p:nvSpPr>
        <p:spPr>
          <a:xfrm>
            <a:off x="514836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4068720" y="3716280"/>
            <a:ext cx="107964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6"/>
          <p:cNvSpPr/>
          <p:nvPr/>
        </p:nvSpPr>
        <p:spPr>
          <a:xfrm>
            <a:off x="2987640" y="3716280"/>
            <a:ext cx="1081080" cy="1009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7"/>
          <p:cNvSpPr/>
          <p:nvPr/>
        </p:nvSpPr>
        <p:spPr>
          <a:xfrm>
            <a:off x="5148360" y="2708280"/>
            <a:ext cx="108108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8"/>
          <p:cNvSpPr/>
          <p:nvPr/>
        </p:nvSpPr>
        <p:spPr>
          <a:xfrm>
            <a:off x="406872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9"/>
          <p:cNvSpPr/>
          <p:nvPr/>
        </p:nvSpPr>
        <p:spPr>
          <a:xfrm>
            <a:off x="1908000" y="2708280"/>
            <a:ext cx="1079640" cy="100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"/>
          <p:cNvSpPr/>
          <p:nvPr/>
        </p:nvSpPr>
        <p:spPr>
          <a:xfrm>
            <a:off x="1908000" y="27082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"/>
          <p:cNvSpPr/>
          <p:nvPr/>
        </p:nvSpPr>
        <p:spPr>
          <a:xfrm>
            <a:off x="1908000" y="3716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2"/>
          <p:cNvSpPr/>
          <p:nvPr/>
        </p:nvSpPr>
        <p:spPr>
          <a:xfrm>
            <a:off x="1908000" y="47242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3"/>
          <p:cNvSpPr/>
          <p:nvPr/>
        </p:nvSpPr>
        <p:spPr>
          <a:xfrm>
            <a:off x="1908000" y="5734080"/>
            <a:ext cx="54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4"/>
          <p:cNvSpPr/>
          <p:nvPr/>
        </p:nvSpPr>
        <p:spPr>
          <a:xfrm>
            <a:off x="1908000" y="6742080"/>
            <a:ext cx="54007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90800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29876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7"/>
          <p:cNvSpPr/>
          <p:nvPr/>
        </p:nvSpPr>
        <p:spPr>
          <a:xfrm>
            <a:off x="406872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8"/>
          <p:cNvSpPr/>
          <p:nvPr/>
        </p:nvSpPr>
        <p:spPr>
          <a:xfrm>
            <a:off x="514836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9"/>
          <p:cNvSpPr/>
          <p:nvPr/>
        </p:nvSpPr>
        <p:spPr>
          <a:xfrm>
            <a:off x="6229440" y="2708280"/>
            <a:ext cx="0" cy="403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0"/>
          <p:cNvSpPr/>
          <p:nvPr/>
        </p:nvSpPr>
        <p:spPr>
          <a:xfrm>
            <a:off x="7308720" y="2708280"/>
            <a:ext cx="0" cy="4033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1">
            <a:hlinkClick r:id="" action="ppaction://hlinkshowjump?jump=nextslide"/>
          </p:cNvPr>
          <p:cNvSpPr/>
          <p:nvPr/>
        </p:nvSpPr>
        <p:spPr>
          <a:xfrm>
            <a:off x="3643200" y="2000160"/>
            <a:ext cx="1692360" cy="405000"/>
          </a:xfrm>
          <a:custGeom>
            <a:avLst/>
            <a:gdLst>
              <a:gd name="textAreaLeft" fmla="*/ 25920 w 1692360"/>
              <a:gd name="textAreaRight" fmla="*/ 1666440 w 169236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90198" h="21600">
                <a:moveTo>
                  <a:pt x="0" y="0"/>
                </a:moveTo>
                <a:lnTo>
                  <a:pt x="90198" y="0"/>
                </a:lnTo>
                <a:lnTo>
                  <a:pt x="90198" y="21600"/>
                </a:lnTo>
                <a:lnTo>
                  <a:pt x="0" y="21600"/>
                </a:lnTo>
                <a:close/>
              </a:path>
              <a:path fill="lightenLess" w="90198" h="21600">
                <a:moveTo>
                  <a:pt x="0" y="0"/>
                </a:moveTo>
                <a:lnTo>
                  <a:pt x="90198" y="0"/>
                </a:lnTo>
                <a:lnTo>
                  <a:pt x="88798" y="1400"/>
                </a:lnTo>
                <a:lnTo>
                  <a:pt x="1400" y="1400"/>
                </a:lnTo>
                <a:close/>
              </a:path>
              <a:path fill="darken" w="90198" h="21600">
                <a:moveTo>
                  <a:pt x="90198" y="0"/>
                </a:moveTo>
                <a:lnTo>
                  <a:pt x="90198" y="21600"/>
                </a:lnTo>
                <a:lnTo>
                  <a:pt x="88798" y="20200"/>
                </a:lnTo>
                <a:lnTo>
                  <a:pt x="88798" y="1400"/>
                </a:lnTo>
                <a:close/>
              </a:path>
              <a:path fill="darkenLess" w="90198" h="21600">
                <a:moveTo>
                  <a:pt x="90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98" y="20200"/>
                </a:lnTo>
                <a:close/>
              </a:path>
              <a:path fill="lighten" w="90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7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738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744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4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9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750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756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1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762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6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768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3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774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5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786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1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792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3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804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810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816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2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1:02:48Z</dcterms:created>
  <dc:creator>Ирина</dc:creator>
  <dc:description/>
  <dc:language>en-US</dc:language>
  <cp:lastModifiedBy>Gulnara</cp:lastModifiedBy>
  <dcterms:modified xsi:type="dcterms:W3CDTF">2012-04-14T02:29:14Z</dcterms:modified>
  <cp:revision>36</cp:revision>
  <dc:subject/>
  <dc:title>Слайд 1</dc:title>
</cp:coreProperties>
</file>