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159-7A69-4132-ABC9-24993DF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A8B-E5DE-4B50-8674-11E31E3B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70D-334F-464A-A90C-791AF375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566-00FB-4E35-A933-02115D65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2CF-1C99-470B-91ED-3404A67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11D-A5CE-4019-ACE9-21A35DE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084-1317-41A1-A336-746EF177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E7B-B04B-4AA6-9FC6-B1A38BC0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05B-78DB-42CA-BF96-4F3C05C0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5BE-2A14-43A1-B53C-8FEBA8C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A38-D558-4803-9627-BA5C9F08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E6E-1E0A-4BEB-93B8-C560E0A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F93-FFB2-421A-B95B-4F068245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39640" y="1341360"/>
            <a:ext cx="806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a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Past Simple 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7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1547640" y="620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Mag saw the mouse she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90800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5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6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0">
            <a:hlinkClick r:id="" action="ppaction://hlinkshowjump?jump=nextslide"/>
          </p:cNvPr>
          <p:cNvSpPr/>
          <p:nvPr/>
        </p:nvSpPr>
        <p:spPr>
          <a:xfrm>
            <a:off x="378612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0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1403280" y="260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r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l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st even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071960" y="471492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9">
            <a:hlinkClick r:id="" action="ppaction://hlinkshowjump?jump=nextslide"/>
          </p:cNvPr>
          <p:cNvSpPr/>
          <p:nvPr/>
        </p:nvSpPr>
        <p:spPr>
          <a:xfrm>
            <a:off x="3780000" y="1844640"/>
            <a:ext cx="1692000" cy="40500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79" h="21600">
                <a:moveTo>
                  <a:pt x="0" y="0"/>
                </a:moveTo>
                <a:lnTo>
                  <a:pt x="90179" y="0"/>
                </a:lnTo>
                <a:lnTo>
                  <a:pt x="90179" y="21600"/>
                </a:lnTo>
                <a:lnTo>
                  <a:pt x="0" y="21600"/>
                </a:lnTo>
                <a:close/>
              </a:path>
              <a:path fill="lightenLess" w="90179" h="21600">
                <a:moveTo>
                  <a:pt x="0" y="0"/>
                </a:moveTo>
                <a:lnTo>
                  <a:pt x="90179" y="0"/>
                </a:lnTo>
                <a:lnTo>
                  <a:pt x="88779" y="1400"/>
                </a:lnTo>
                <a:lnTo>
                  <a:pt x="1400" y="1400"/>
                </a:lnTo>
                <a:close/>
              </a:path>
              <a:path fill="darken" w="90179" h="21600">
                <a:moveTo>
                  <a:pt x="90179" y="0"/>
                </a:moveTo>
                <a:lnTo>
                  <a:pt x="90179" y="21600"/>
                </a:lnTo>
                <a:lnTo>
                  <a:pt x="88779" y="20200"/>
                </a:lnTo>
                <a:lnTo>
                  <a:pt x="88779" y="1400"/>
                </a:lnTo>
                <a:close/>
              </a:path>
              <a:path fill="darkenLess" w="90179" h="21600">
                <a:moveTo>
                  <a:pt x="90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79" y="20200"/>
                </a:lnTo>
                <a:close/>
              </a:path>
              <a:path fill="lighten" w="90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0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33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714680" y="6429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at six o’clock in the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06728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908000" y="4724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8">
            <a:hlinkClick r:id="" action="ppaction://hlinkshowjump?jump=nextslide"/>
          </p:cNvPr>
          <p:cNvSpPr/>
          <p:nvPr/>
        </p:nvSpPr>
        <p:spPr>
          <a:xfrm>
            <a:off x="370836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71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6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714680" y="7142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… in the river last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1928880" y="471492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 not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4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5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>
            <a:hlinkClick r:id="" action="ppaction://hlinkshowjump?jump=nextslide"/>
          </p:cNvPr>
          <p:cNvSpPr/>
          <p:nvPr/>
        </p:nvSpPr>
        <p:spPr>
          <a:xfrm>
            <a:off x="3635280" y="191628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5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8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71760" y="0"/>
            <a:ext cx="6041880" cy="2637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1714680" y="7142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… this boo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5148360" y="4724280"/>
            <a:ext cx="115236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1928880" y="4714920"/>
            <a:ext cx="120312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1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2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3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4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6">
            <a:hlinkClick r:id="" action="ppaction://hlinkshowjump?jump=nextslide"/>
          </p:cNvPr>
          <p:cNvSpPr/>
          <p:nvPr/>
        </p:nvSpPr>
        <p:spPr>
          <a:xfrm>
            <a:off x="3780000" y="1844640"/>
            <a:ext cx="1692000" cy="40500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79" h="21600">
                <a:moveTo>
                  <a:pt x="0" y="0"/>
                </a:moveTo>
                <a:lnTo>
                  <a:pt x="90179" y="0"/>
                </a:lnTo>
                <a:lnTo>
                  <a:pt x="90179" y="21600"/>
                </a:lnTo>
                <a:lnTo>
                  <a:pt x="0" y="21600"/>
                </a:lnTo>
                <a:close/>
              </a:path>
              <a:path fill="lightenLess" w="90179" h="21600">
                <a:moveTo>
                  <a:pt x="0" y="0"/>
                </a:moveTo>
                <a:lnTo>
                  <a:pt x="90179" y="0"/>
                </a:lnTo>
                <a:lnTo>
                  <a:pt x="88779" y="1400"/>
                </a:lnTo>
                <a:lnTo>
                  <a:pt x="1400" y="1400"/>
                </a:lnTo>
                <a:close/>
              </a:path>
              <a:path fill="darken" w="90179" h="21600">
                <a:moveTo>
                  <a:pt x="90179" y="0"/>
                </a:moveTo>
                <a:lnTo>
                  <a:pt x="90179" y="21600"/>
                </a:lnTo>
                <a:lnTo>
                  <a:pt x="88779" y="20200"/>
                </a:lnTo>
                <a:lnTo>
                  <a:pt x="88779" y="1400"/>
                </a:lnTo>
                <a:close/>
              </a:path>
              <a:path fill="darkenLess" w="90179" h="21600">
                <a:moveTo>
                  <a:pt x="90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79" y="20200"/>
                </a:lnTo>
                <a:close/>
              </a:path>
              <a:path fill="lighten" w="90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1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692360" y="189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y …TV a week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148360" y="4724280"/>
            <a:ext cx="115236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3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4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25">
            <a:hlinkClick r:id="" action="ppaction://hlinkshowjump?jump=nextslide"/>
          </p:cNvPr>
          <p:cNvSpPr/>
          <p:nvPr/>
        </p:nvSpPr>
        <p:spPr>
          <a:xfrm>
            <a:off x="3708360" y="2060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84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3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1692360" y="1890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…football with my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y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9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4">
            <a:hlinkClick r:id="" action="ppaction://hlinkshowjump?jump=nextslide"/>
          </p:cNvPr>
          <p:cNvSpPr/>
          <p:nvPr/>
        </p:nvSpPr>
        <p:spPr>
          <a:xfrm>
            <a:off x="356400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0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34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4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58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1692360" y="189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…my teeth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3">
            <a:hlinkClick r:id="" action="ppaction://hlinkshowjump?jump=nextslide"/>
          </p:cNvPr>
          <p:cNvSpPr/>
          <p:nvPr/>
        </p:nvSpPr>
        <p:spPr>
          <a:xfrm>
            <a:off x="370836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38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392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9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8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1692360" y="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my friends to do their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elp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1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>
            <a:hlinkClick r:id="" action="ppaction://hlinkshowjump?jump=nextslide"/>
          </p:cNvPr>
          <p:cNvSpPr/>
          <p:nvPr/>
        </p:nvSpPr>
        <p:spPr>
          <a:xfrm>
            <a:off x="363528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42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43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0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1692360" y="3333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… our grandpar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s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1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2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4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0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47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8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68360" y="260280"/>
            <a:ext cx="820728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, let’s remember Grammar Rules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ules of the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м предлагается предложение, в котором пропущена форма глагола, которая употребляется в данном предложении. Для этого вы щелкаете мышкой на тот квадрат, в котором, по вашему мнению дана правильная форма. Если ответ выбран неверный, то сектор окрасится в желтый цвет. При верном ответе откроется часть сюрприза. Для перехода к следующему отрывку нажмите кнопку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>
            <a:hlinkClick r:id="" action="ppaction://hlinkshowjump?jump=nextslide"/>
          </p:cNvPr>
          <p:cNvSpPr/>
          <p:nvPr/>
        </p:nvSpPr>
        <p:spPr>
          <a:xfrm>
            <a:off x="3635280" y="5516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2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692360" y="1890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see this bird yeste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>
            <a:hlinkClick r:id="" action="ppaction://hlinkshowjump?jump=nextslide"/>
          </p:cNvPr>
          <p:cNvSpPr/>
          <p:nvPr/>
        </p:nvSpPr>
        <p:spPr>
          <a:xfrm>
            <a:off x="3780000" y="2060640"/>
            <a:ext cx="1692000" cy="40464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59" h="21600">
                <a:moveTo>
                  <a:pt x="0" y="0"/>
                </a:moveTo>
                <a:lnTo>
                  <a:pt x="90259" y="0"/>
                </a:lnTo>
                <a:lnTo>
                  <a:pt x="90259" y="21600"/>
                </a:lnTo>
                <a:lnTo>
                  <a:pt x="0" y="21600"/>
                </a:lnTo>
                <a:close/>
              </a:path>
              <a:path fill="lightenLess" w="90259" h="21600">
                <a:moveTo>
                  <a:pt x="0" y="0"/>
                </a:moveTo>
                <a:lnTo>
                  <a:pt x="90259" y="0"/>
                </a:lnTo>
                <a:lnTo>
                  <a:pt x="88859" y="1400"/>
                </a:lnTo>
                <a:lnTo>
                  <a:pt x="1400" y="1400"/>
                </a:lnTo>
                <a:close/>
              </a:path>
              <a:path fill="darken" w="90259" h="21600">
                <a:moveTo>
                  <a:pt x="90259" y="0"/>
                </a:moveTo>
                <a:lnTo>
                  <a:pt x="90259" y="21600"/>
                </a:lnTo>
                <a:lnTo>
                  <a:pt x="88859" y="20200"/>
                </a:lnTo>
                <a:lnTo>
                  <a:pt x="88859" y="1400"/>
                </a:lnTo>
                <a:close/>
              </a:path>
              <a:path fill="darkenLess" w="90259" h="21600">
                <a:moveTo>
                  <a:pt x="90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9" y="20200"/>
                </a:lnTo>
                <a:close/>
              </a:path>
              <a:path fill="lighten" w="90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0828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40" name="Text Box 3"/>
          <p:cNvSpPr/>
          <p:nvPr/>
        </p:nvSpPr>
        <p:spPr>
          <a:xfrm>
            <a:off x="2195640" y="285264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1619280" y="333360"/>
            <a:ext cx="5688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the party last week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9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0828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58" name="Text Box 3"/>
          <p:cNvSpPr/>
          <p:nvPr/>
        </p:nvSpPr>
        <p:spPr>
          <a:xfrm>
            <a:off x="2195640" y="285264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1619280" y="33336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to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00240" y="3714840"/>
            <a:ext cx="1143000" cy="100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9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0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74" name="AutoShape 4">
            <a:hlinkClick r:id="" action="ppaction://hlinkshowjump?jump=nextslide"/>
          </p:cNvPr>
          <p:cNvSpPr/>
          <p:nvPr/>
        </p:nvSpPr>
        <p:spPr>
          <a:xfrm>
            <a:off x="3564000" y="11253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403280" y="0"/>
            <a:ext cx="6481800" cy="34383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7"/>
          <p:cNvSpPr/>
          <p:nvPr/>
        </p:nvSpPr>
        <p:spPr>
          <a:xfrm>
            <a:off x="2268360" y="26028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1403280" y="18900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I’m proud of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Now I’m sure that you know Grammar Rul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9801800">
            <a:off x="900000" y="4076280"/>
            <a:ext cx="55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643040" y="18900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 … computer games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5148360" y="4653000"/>
            <a:ext cx="107928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987640" y="4726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000240" y="3714840"/>
            <a:ext cx="108108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98764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7">
            <a:hlinkClick r:id="" action="ppaction://hlinkshowjump?jump=nextslide"/>
          </p:cNvPr>
          <p:cNvSpPr/>
          <p:nvPr/>
        </p:nvSpPr>
        <p:spPr>
          <a:xfrm>
            <a:off x="3564000" y="1628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835280" y="18900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wea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fine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987640" y="4724280"/>
            <a:ext cx="10810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3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6">
            <a:hlinkClick r:id="" action="ppaction://hlinkshowjump?jump=nextslide"/>
          </p:cNvPr>
          <p:cNvSpPr/>
          <p:nvPr/>
        </p:nvSpPr>
        <p:spPr>
          <a:xfrm>
            <a:off x="3635280" y="1628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835280" y="18900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to school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3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4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5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714680" y="0"/>
            <a:ext cx="5898960" cy="2637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000160" y="214200"/>
            <a:ext cx="552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my hands and face ten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908000" y="4726080"/>
            <a:ext cx="1151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156360" y="27082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8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4">
            <a:hlinkClick r:id="" action="ppaction://hlinkshowjump?jump=nextslide"/>
          </p:cNvPr>
          <p:cNvSpPr/>
          <p:nvPr/>
        </p:nvSpPr>
        <p:spPr>
          <a:xfrm>
            <a:off x="3780000" y="1773360"/>
            <a:ext cx="1692000" cy="40464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59" h="21600">
                <a:moveTo>
                  <a:pt x="0" y="0"/>
                </a:moveTo>
                <a:lnTo>
                  <a:pt x="90259" y="0"/>
                </a:lnTo>
                <a:lnTo>
                  <a:pt x="90259" y="21600"/>
                </a:lnTo>
                <a:lnTo>
                  <a:pt x="0" y="21600"/>
                </a:lnTo>
                <a:close/>
              </a:path>
              <a:path fill="lightenLess" w="90259" h="21600">
                <a:moveTo>
                  <a:pt x="0" y="0"/>
                </a:moveTo>
                <a:lnTo>
                  <a:pt x="90259" y="0"/>
                </a:lnTo>
                <a:lnTo>
                  <a:pt x="88859" y="1400"/>
                </a:lnTo>
                <a:lnTo>
                  <a:pt x="1400" y="1400"/>
                </a:lnTo>
                <a:close/>
              </a:path>
              <a:path fill="darken" w="90259" h="21600">
                <a:moveTo>
                  <a:pt x="90259" y="0"/>
                </a:moveTo>
                <a:lnTo>
                  <a:pt x="90259" y="21600"/>
                </a:lnTo>
                <a:lnTo>
                  <a:pt x="88859" y="20200"/>
                </a:lnTo>
                <a:lnTo>
                  <a:pt x="88859" y="1400"/>
                </a:lnTo>
                <a:close/>
              </a:path>
              <a:path fill="darkenLess" w="90259" h="21600">
                <a:moveTo>
                  <a:pt x="90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9" y="20200"/>
                </a:lnTo>
                <a:close/>
              </a:path>
              <a:path fill="lighten" w="90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83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571760" y="1429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… not sleep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143680" y="5734080"/>
            <a:ext cx="10857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>
            <a:hlinkClick r:id="" action="ppaction://hlinkshowjump?jump=nextslide"/>
          </p:cNvPr>
          <p:cNvSpPr/>
          <p:nvPr/>
        </p:nvSpPr>
        <p:spPr>
          <a:xfrm>
            <a:off x="371484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1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547640" y="333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re… you … last ev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5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7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8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9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6227640" y="282420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2">
            <a:hlinkClick r:id="" action="ppaction://hlinkshowjump?jump=nextslide"/>
          </p:cNvPr>
          <p:cNvSpPr/>
          <p:nvPr/>
        </p:nvSpPr>
        <p:spPr>
          <a:xfrm>
            <a:off x="3708360" y="2060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4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571760" y="0"/>
            <a:ext cx="5976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 …not … tea after lu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1908000" y="4724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0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1">
            <a:hlinkClick r:id="" action="ppaction://hlinkshowjump?jump=nextslide"/>
          </p:cNvPr>
          <p:cNvSpPr/>
          <p:nvPr/>
        </p:nvSpPr>
        <p:spPr>
          <a:xfrm>
            <a:off x="364320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02:48Z</dcterms:created>
  <dc:creator>Ирина</dc:creator>
  <dc:description/>
  <dc:language>en-US</dc:language>
  <cp:lastModifiedBy>Gulnara</cp:lastModifiedBy>
  <dcterms:modified xsi:type="dcterms:W3CDTF">2012-04-14T02:29:14Z</dcterms:modified>
  <cp:revision>36</cp:revision>
  <dc:subject/>
  <dc:title>Слайд 1</dc:title>
</cp:coreProperties>
</file>