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4CCB-10B3-40A8-A047-55AC3F8CAB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6F9B-8701-4C0D-AEFF-2B4526E91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E1D-AF14-40FA-9024-89E24116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BFE-20CB-43D1-940F-BB08CB67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431-A029-4EC8-B1B8-EC008A02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914-FCC5-43F1-8D0D-B6A3EF68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73A1-C235-4CDC-BA93-8CAA3B7D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486-ACFD-48B6-916A-D6EE8F9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16BB-0CB9-4D50-AD59-E8CFC22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43EF-A5CB-4EA7-95EB-D4D4533D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28E-3AEB-4427-BC57-29DB1757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DC36-0C60-46A6-8DB3-6761251F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6C7C-A28C-4A72-B845-C5A7431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3C1-142B-4649-9881-D5C51D1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DD6F-CDA3-438E-B0FC-4806794B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C490-23C9-416F-8435-24F23F4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BBFB-605B-444A-A27E-E5D1924E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B76-2AA6-4FFD-B419-A2A50FB3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BDD7-C99B-45F0-9B99-83CED5DB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EAED7-2633-4F1C-BA4F-7A9ADE3E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754ED-8939-4CCC-82E4-7ED73572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46598-E838-407B-95F0-89719D1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5CBB1-99EB-4B5D-8A4B-7BA9C55A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F4B76-52CD-4C96-8FDE-6A586B95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6C4-FB76-4821-860E-D3A4C832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FACFD-090F-415E-81D5-CF33C0D7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72ED4-9BB1-4A57-8AA4-1A29BB1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772EB3-A925-4359-A241-A8EF9F1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E57CE-8660-4D6F-AFD4-E2F1BD53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22C5B-88EB-4F27-BC0F-4E12FFAD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5C521-A246-4BD5-BC5C-D8844F83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0C659-5C6E-4C47-8B56-F09EC570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16D4-EE43-4BFB-8E3C-35E0CEB0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1EA20-251C-44D9-BC04-C5EF304B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87F0-A2DD-4ECC-A68C-919232FE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9FA-CD69-4B2B-A6EC-4EA62F7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12613-C4EA-4041-930A-888828B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B861-9035-401A-8854-EEFCAD2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6555-68D2-47E8-B443-F31F3540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6A67-A8ED-4236-BD68-060CC71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DE6B-1CEA-4BE2-A39D-3C017A1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D5B9E-7E47-4459-9CCA-5B10AFF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48CC-B53F-44D0-8D1F-C99D7B3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06E6-BDAD-4196-8995-BB2231F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43F6-15F5-451A-A6DE-169EBA7B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BC9-E46D-42EA-AE85-D781A5D5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7EA-AB1F-4E00-97E3-6A220F8A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A96-8052-4E5E-9C85-F74B436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3E6-BD0B-46D0-B517-F270A34A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80E-6B4F-4AC4-BB28-D3B9C2D2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F69C-121A-4277-8B18-BC27C659965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3E3-C67E-4E10-B057-6E1F30AFB4D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5F6-BF50-4470-A6E0-B0E42D70F86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AA0-0FFA-4478-85FC-F2D4283AB1A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0" y="214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ская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реги честь смолоду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 повести А.С.Пу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Капитанская дочк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I:\Портфолио_МОЁ\2015 ДЛЯ ПОРТФОЛИО МНЕ\ПУШКИН\1260604043.114916.jpg"/>
          <p:cNvPicPr/>
          <p:nvPr/>
        </p:nvPicPr>
        <p:blipFill>
          <a:blip r:embed="rId1"/>
          <a:stretch/>
        </p:blipFill>
        <p:spPr>
          <a:xfrm>
            <a:off x="2786040" y="2357280"/>
            <a:ext cx="34290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2156040" y="2500200"/>
            <a:ext cx="461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285840" y="21420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Честь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щественно - моральное достоинство, то, что вызывает и поддерживает общее уважение, чувство горд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целомудрие, непорочность (женщин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чёт, уважени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рь  С.И.Ожегова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1071720" y="357120"/>
            <a:ext cx="7071840" cy="5973480"/>
            <a:chOff x="1071720" y="357120"/>
            <a:chExt cx="7071840" cy="5973480"/>
          </a:xfrm>
        </p:grpSpPr>
        <p:sp>
          <p:nvSpPr>
            <p:cNvPr id="225" name="Oval 2"/>
            <p:cNvSpPr/>
            <p:nvPr/>
          </p:nvSpPr>
          <p:spPr>
            <a:xfrm>
              <a:off x="3572280" y="357120"/>
              <a:ext cx="1845720" cy="155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уж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3"/>
            <p:cNvSpPr/>
            <p:nvPr/>
          </p:nvSpPr>
          <p:spPr>
            <a:xfrm>
              <a:off x="1790280" y="1023840"/>
              <a:ext cx="1782000" cy="15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остоин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4"/>
            <p:cNvSpPr/>
            <p:nvPr/>
          </p:nvSpPr>
          <p:spPr>
            <a:xfrm>
              <a:off x="1858680" y="4140720"/>
              <a:ext cx="1794600" cy="158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ем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"/>
            <p:cNvSpPr/>
            <p:nvPr/>
          </p:nvSpPr>
          <p:spPr>
            <a:xfrm>
              <a:off x="3787200" y="2500200"/>
              <a:ext cx="174096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Че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6"/>
            <p:cNvSpPr/>
            <p:nvPr/>
          </p:nvSpPr>
          <p:spPr>
            <a:xfrm>
              <a:off x="1071720" y="2500200"/>
              <a:ext cx="179352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"/>
            <p:cNvSpPr/>
            <p:nvPr/>
          </p:nvSpPr>
          <p:spPr>
            <a:xfrm>
              <a:off x="5500440" y="928080"/>
              <a:ext cx="1699560" cy="156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"/>
            <p:cNvSpPr/>
            <p:nvPr/>
          </p:nvSpPr>
          <p:spPr>
            <a:xfrm>
              <a:off x="6358320" y="2500200"/>
              <a:ext cx="178524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тече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9"/>
            <p:cNvSpPr/>
            <p:nvPr/>
          </p:nvSpPr>
          <p:spPr>
            <a:xfrm>
              <a:off x="5516640" y="4140720"/>
              <a:ext cx="1775880" cy="158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ружб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0"/>
            <p:cNvSpPr/>
            <p:nvPr/>
          </p:nvSpPr>
          <p:spPr>
            <a:xfrm>
              <a:off x="3644280" y="4713840"/>
              <a:ext cx="1758600" cy="161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ер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AutoShape 11"/>
            <p:cNvCxnSpPr/>
            <p:nvPr/>
          </p:nvCxnSpPr>
          <p:spPr>
            <a:xfrm flipV="1">
              <a:off x="5255640" y="2356200"/>
              <a:ext cx="505440" cy="400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35" name="AutoShape 12"/>
            <p:cNvCxnSpPr/>
            <p:nvPr/>
          </p:nvCxnSpPr>
          <p:spPr>
            <a:xfrm>
              <a:off x="5603400" y="3340080"/>
              <a:ext cx="7318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36" name="AutoShape 13"/>
            <p:cNvCxnSpPr/>
            <p:nvPr/>
          </p:nvCxnSpPr>
          <p:spPr>
            <a:xfrm>
              <a:off x="5412240" y="3873600"/>
              <a:ext cx="488160" cy="43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AutoShape 14"/>
            <p:cNvCxnSpPr/>
            <p:nvPr/>
          </p:nvCxnSpPr>
          <p:spPr>
            <a:xfrm>
              <a:off x="4541400" y="4140720"/>
              <a:ext cx="1080" cy="60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AutoShape 15"/>
            <p:cNvCxnSpPr/>
            <p:nvPr/>
          </p:nvCxnSpPr>
          <p:spPr>
            <a:xfrm flipH="1">
              <a:off x="3444120" y="3873960"/>
              <a:ext cx="558000" cy="55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AutoShape 16"/>
            <p:cNvCxnSpPr/>
            <p:nvPr/>
          </p:nvCxnSpPr>
          <p:spPr>
            <a:xfrm flipH="1">
              <a:off x="3008880" y="3256920"/>
              <a:ext cx="766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0" name="AutoShape 17"/>
            <p:cNvCxnSpPr/>
            <p:nvPr/>
          </p:nvCxnSpPr>
          <p:spPr>
            <a:xfrm flipH="1" flipV="1">
              <a:off x="3357000" y="2214360"/>
              <a:ext cx="679680" cy="516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41" name="AutoShape 18"/>
            <p:cNvCxnSpPr/>
            <p:nvPr/>
          </p:nvCxnSpPr>
          <p:spPr>
            <a:xfrm flipV="1">
              <a:off x="4541400" y="1923480"/>
              <a:ext cx="1080" cy="600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А.С. Пушкин &quot;Капитанская дочка&quot;. Роман &quot;Капитанская дочка&quot; повествует о драматических событиях 70-х годов XVIII века, когда недо"/>
          <p:cNvPicPr/>
          <p:nvPr/>
        </p:nvPicPr>
        <p:blipFill>
          <a:blip r:embed="rId1"/>
          <a:stretch/>
        </p:blipFill>
        <p:spPr>
          <a:xfrm>
            <a:off x="2857680" y="285840"/>
            <a:ext cx="3697200" cy="52941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1857240" y="5786280"/>
            <a:ext cx="578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чести – центральная тема пов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а «Капитанская доч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357120" y="94932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ётр Гринё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возвращает карточный долг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защищая честь Маши, вызывает Швабрина на дуэл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-находясь под арестом по доносу з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с Пугачёвым, не называет имени своей возлюбленно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 не изменяет присяге Отече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57120" y="45468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 Кузьм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са Его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 Пет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Миро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«Капитанская дочка». Глава 3. «Крепость». Гринев и Швабрин у Мироновых. Художник С. Герасимов"/>
          <p:cNvPicPr/>
          <p:nvPr/>
        </p:nvPicPr>
        <p:blipFill>
          <a:blip r:embed="rId1"/>
          <a:stretch/>
        </p:blipFill>
        <p:spPr>
          <a:xfrm>
            <a:off x="4500720" y="214200"/>
            <a:ext cx="43290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428760" y="357120"/>
            <a:ext cx="8358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А.С.Пушкина «Дубровский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эма М.Ю.Лермонтова «Песня про царя Ивана Васильевича, молодого опричника и удалого купца Калашникова»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Б.Полевого «Повесть о настоящем человек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повесть Н.В.Гоголя  «Тарас Бульб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эма Н.А.Некрасова «Русские женщины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сказ  М.Горького «Старуха Изергиль»: легенда о Данко» 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285840" y="22392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вынесла душа Поэ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ора мелочных оби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стал он против мнений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, как прежде… и уби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Лига Пера - Page 6"/>
          <p:cNvPicPr/>
          <p:nvPr/>
        </p:nvPicPr>
        <p:blipFill>
          <a:blip r:embed="rId1"/>
          <a:stretch/>
        </p:blipFill>
        <p:spPr>
          <a:xfrm>
            <a:off x="1500120" y="2571840"/>
            <a:ext cx="5899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14200" y="23220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лужи верно, кому присягнёшь, слушайся начальников; за их лаской не гоняйся; на службу не напрашивайся; от службы не отговаривайся и помни пословицу: береги платье снову, а честь смолод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3:10:49Z</dcterms:created>
  <dc:creator>Вера</dc:creator>
  <dc:description/>
  <dc:language>en-US</dc:language>
  <cp:lastModifiedBy>Вера</cp:lastModifiedBy>
  <dcterms:modified xsi:type="dcterms:W3CDTF">2015-03-01T17:22:35Z</dcterms:modified>
  <cp:revision>77</cp:revision>
  <dc:subject/>
  <dc:title>Слайд 1</dc:title>
</cp:coreProperties>
</file>