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E53D-D6A0-4E00-9828-61BDB34AF4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665B-1964-441C-9EF3-B9D07EE09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0DF-4C25-4369-BFE5-CFE610A9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FFC-018E-47D8-B792-71A09525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9AD-79FB-450F-9E6E-B1181C61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C82-AB23-4A24-A871-07BE78AF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7F86-748A-4E96-89F8-C95C86BC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6ABC-A17D-453B-AA1B-F86ED401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6AE-0F82-41BA-80DE-7123AF66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C680-68AD-412D-B383-714EAFB1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838D-F241-4C7C-9ABB-00DE2B32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8229-937B-42A7-90CD-4416C377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2C13-89BF-44F0-8BEA-1B03E8B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07C-7FFE-40A9-AFEA-830F3574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A3C3-FFAD-4593-A5E5-3AAF32CA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D8B4-59D8-44B8-9209-AD2C9009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A290-899D-4B06-8DFA-30E8E43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D62D-6106-4758-B016-3FD64537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B69D-B6C1-4888-B027-6A868246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4AFCC-7C6B-4C3F-82A3-57246016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2BAFF-EF05-4BE2-9985-B5925EE1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D8B1A-6C56-46D7-BB1D-B42F5C38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B466A-15F8-4BA0-833A-4D5D901E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5743D-349C-48C2-9C11-3EBE3B28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4A2-F99A-49BC-A7F4-A5E83B5E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1FBAF-6BA1-48F5-8E4D-9D8822F1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D924C-00C3-49E6-81AC-EFAB4293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A0DFE-7288-4250-B176-68222991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7D5E7-137F-4570-BCBB-5FEF4E4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B5DF5-7D87-4C20-9FDB-C44C729A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CDDAA-F41B-48D2-AE47-1B1D078C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883CA-9BC2-4E89-B851-7414BBD5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82AD8-6004-4FC2-843B-92410FDE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09F6-DE77-4130-962E-CFE98E8E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3109-5587-402A-82D0-ECEFD6D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D0D-4996-4980-BF2D-025C1BFE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301D1-278F-41DA-AAD3-56F4665A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57F2-1DBF-47F9-8466-1EE754E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8B01-6389-4643-A0B3-918F27BD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56AF-3642-4AFF-873C-5258A85D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A1FF-4840-4921-A78F-02BF5A2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63AE-67E6-483B-9DC0-36F7CC05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3B28-A21E-4FE8-A5E9-07C9037E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421B-E571-45BB-B40D-A8B7BCCE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8C62E-4450-4279-B15D-9D609AE8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1F6-6F51-491A-89AF-F8824145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A9E-C14B-45C9-9531-331999C3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8BA-E3C9-4DB5-993F-DA9704C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1B6-76E9-443C-935A-24F78A1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52D-A424-438A-BE83-424CD84F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5037-014A-4D06-B16F-407DAC03494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B752-0FA9-4CD7-B9E3-1DD5A70E8AF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E8E8-89DB-4C96-9415-B76D20DBD28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5A4D-E810-4A65-A18E-B3142B630C3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0" y="2142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ерская творческого 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реги честь смолоду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повести А.С.Пу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апитанская дочка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I:\Портфолио_МОЁ\2015 ДЛЯ ПОРТФОЛИО МНЕ\ПУШКИН\1260604043.114916.jpg"/>
          <p:cNvPicPr/>
          <p:nvPr/>
        </p:nvPicPr>
        <p:blipFill>
          <a:blip r:embed="rId1"/>
          <a:stretch/>
        </p:blipFill>
        <p:spPr>
          <a:xfrm>
            <a:off x="2786040" y="2357280"/>
            <a:ext cx="342900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3"/>
          <p:cNvSpPr/>
          <p:nvPr/>
        </p:nvSpPr>
        <p:spPr>
          <a:xfrm>
            <a:off x="2156040" y="2500200"/>
            <a:ext cx="461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СПАСИБ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2"/>
          <p:cNvSpPr/>
          <p:nvPr/>
        </p:nvSpPr>
        <p:spPr>
          <a:xfrm>
            <a:off x="285840" y="214200"/>
            <a:ext cx="864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есть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щественно - моральное достоинство, то, что вызывает и поддерживает общее уважение, чувство горд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целомудрие, непорочность (женщины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чёт, уважение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арь  С.И.Ожегова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"/>
          <p:cNvGrpSpPr/>
          <p:nvPr/>
        </p:nvGrpSpPr>
        <p:grpSpPr>
          <a:xfrm>
            <a:off x="1071720" y="357120"/>
            <a:ext cx="7071840" cy="5973480"/>
            <a:chOff x="1071720" y="357120"/>
            <a:chExt cx="7071840" cy="5973480"/>
          </a:xfrm>
        </p:grpSpPr>
        <p:sp>
          <p:nvSpPr>
            <p:cNvPr id="225" name="Oval 2"/>
            <p:cNvSpPr/>
            <p:nvPr/>
          </p:nvSpPr>
          <p:spPr>
            <a:xfrm>
              <a:off x="3572280" y="357120"/>
              <a:ext cx="1845720" cy="155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уже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3"/>
            <p:cNvSpPr/>
            <p:nvPr/>
          </p:nvSpPr>
          <p:spPr>
            <a:xfrm>
              <a:off x="1790280" y="1023840"/>
              <a:ext cx="1782000" cy="156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остоин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4"/>
            <p:cNvSpPr/>
            <p:nvPr/>
          </p:nvSpPr>
          <p:spPr>
            <a:xfrm>
              <a:off x="1858680" y="4140720"/>
              <a:ext cx="1794600" cy="158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"/>
            <p:cNvSpPr/>
            <p:nvPr/>
          </p:nvSpPr>
          <p:spPr>
            <a:xfrm>
              <a:off x="3787200" y="2500200"/>
              <a:ext cx="1740960" cy="161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Че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6"/>
            <p:cNvSpPr/>
            <p:nvPr/>
          </p:nvSpPr>
          <p:spPr>
            <a:xfrm>
              <a:off x="1071720" y="2500200"/>
              <a:ext cx="1793520" cy="161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Любов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"/>
            <p:cNvSpPr/>
            <p:nvPr/>
          </p:nvSpPr>
          <p:spPr>
            <a:xfrm>
              <a:off x="5500440" y="928080"/>
              <a:ext cx="1699560" cy="156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е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"/>
            <p:cNvSpPr/>
            <p:nvPr/>
          </p:nvSpPr>
          <p:spPr>
            <a:xfrm>
              <a:off x="6358320" y="2500200"/>
              <a:ext cx="1785240" cy="161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тече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9"/>
            <p:cNvSpPr/>
            <p:nvPr/>
          </p:nvSpPr>
          <p:spPr>
            <a:xfrm>
              <a:off x="5516640" y="4140720"/>
              <a:ext cx="1775880" cy="158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ружб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0"/>
            <p:cNvSpPr/>
            <p:nvPr/>
          </p:nvSpPr>
          <p:spPr>
            <a:xfrm>
              <a:off x="3644280" y="4713840"/>
              <a:ext cx="1758600" cy="161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ер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AutoShape 11"/>
            <p:cNvCxnSpPr/>
            <p:nvPr/>
          </p:nvCxnSpPr>
          <p:spPr>
            <a:xfrm flipV="1">
              <a:off x="5255640" y="2356200"/>
              <a:ext cx="505440" cy="400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35" name="AutoShape 12"/>
            <p:cNvCxnSpPr/>
            <p:nvPr/>
          </p:nvCxnSpPr>
          <p:spPr>
            <a:xfrm>
              <a:off x="5603400" y="3340080"/>
              <a:ext cx="7318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36" name="AutoShape 13"/>
            <p:cNvCxnSpPr/>
            <p:nvPr/>
          </p:nvCxnSpPr>
          <p:spPr>
            <a:xfrm>
              <a:off x="5412240" y="3873600"/>
              <a:ext cx="488160" cy="43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AutoShape 14"/>
            <p:cNvCxnSpPr/>
            <p:nvPr/>
          </p:nvCxnSpPr>
          <p:spPr>
            <a:xfrm>
              <a:off x="4541400" y="4140720"/>
              <a:ext cx="1080" cy="60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AutoShape 15"/>
            <p:cNvCxnSpPr/>
            <p:nvPr/>
          </p:nvCxnSpPr>
          <p:spPr>
            <a:xfrm flipH="1">
              <a:off x="3444120" y="3873960"/>
              <a:ext cx="558000" cy="55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AutoShape 16"/>
            <p:cNvCxnSpPr/>
            <p:nvPr/>
          </p:nvCxnSpPr>
          <p:spPr>
            <a:xfrm flipH="1">
              <a:off x="3008880" y="3256920"/>
              <a:ext cx="766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0" name="AutoShape 17"/>
            <p:cNvCxnSpPr/>
            <p:nvPr/>
          </p:nvCxnSpPr>
          <p:spPr>
            <a:xfrm flipH="1" flipV="1">
              <a:off x="3357000" y="2214360"/>
              <a:ext cx="679680" cy="516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1" name="AutoShape 18"/>
            <p:cNvCxnSpPr/>
            <p:nvPr/>
          </p:nvCxnSpPr>
          <p:spPr>
            <a:xfrm flipV="1">
              <a:off x="4541400" y="1923480"/>
              <a:ext cx="1080" cy="600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А.С. Пушкин &quot;Капитанская дочка&quot;. Роман &quot;Капитанская дочка&quot; повествует о драматических событиях 70-х годов XVIII века, когда недо"/>
          <p:cNvPicPr/>
          <p:nvPr/>
        </p:nvPicPr>
        <p:blipFill>
          <a:blip r:embed="rId1"/>
          <a:stretch/>
        </p:blipFill>
        <p:spPr>
          <a:xfrm>
            <a:off x="2857680" y="285840"/>
            <a:ext cx="3697200" cy="52941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3"/>
          <p:cNvSpPr/>
          <p:nvPr/>
        </p:nvSpPr>
        <p:spPr>
          <a:xfrm>
            <a:off x="1857240" y="5786280"/>
            <a:ext cx="57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чести – центральная тема пов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Пушкина «Капитанская д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357120" y="94932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ётр Гринё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-возвращает карточный долг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-защищая честь Маши, вызывает Швабрина на дуэл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-находясь под арестом по доносу з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ь с Пугачёвым, не называет имени своей возлюбленн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изменяет присяге Отече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57120" y="45468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 Кузьм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илиса Ег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Пет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Мирон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«Капитанская дочка». Глава 3. «Крепость». Гринев и Швабрин у Мироновых. Художник С. Герасимов"/>
          <p:cNvPicPr/>
          <p:nvPr/>
        </p:nvPicPr>
        <p:blipFill>
          <a:blip r:embed="rId1"/>
          <a:stretch/>
        </p:blipFill>
        <p:spPr>
          <a:xfrm>
            <a:off x="4500720" y="214200"/>
            <a:ext cx="4329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428760" y="357120"/>
            <a:ext cx="8358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весть А.С.Пушкина «Дубровский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эма М.Ю.Лермонтова «Песня про царя Ивана Васильевича, молодого опричника и удалого купца Калашникова»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весть Б.Полевого «Повесть о настоящем человек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весть Н.В.Гоголя  «Тарас Бульб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эма Н.А.Некрасова «Русские женщины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сказ  М.Горького «Старуха Изергиль»: легенда о Данко» 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285840" y="22392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вынесла душа Поэ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ора мелочных оби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ал он против мнений с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, как прежде… и уби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Лига Пера - Page 6"/>
          <p:cNvPicPr/>
          <p:nvPr/>
        </p:nvPicPr>
        <p:blipFill>
          <a:blip r:embed="rId1"/>
          <a:stretch/>
        </p:blipFill>
        <p:spPr>
          <a:xfrm>
            <a:off x="1500120" y="2571840"/>
            <a:ext cx="5899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214200" y="23220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лужи верно, кому присягнёшь, слушайся начальников; за их лаской не гоняйся; на службу не напрашивайся; от службы не отговаривайся и помни пословицу: береги платье снову, а честь смолод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3:10:49Z</dcterms:created>
  <dc:creator>Вера</dc:creator>
  <dc:description/>
  <dc:language>en-US</dc:language>
  <cp:lastModifiedBy>Вера</cp:lastModifiedBy>
  <dcterms:modified xsi:type="dcterms:W3CDTF">2015-03-01T17:22:35Z</dcterms:modified>
  <cp:revision>77</cp:revision>
  <dc:subject/>
  <dc:title>Слайд 1</dc:title>
</cp:coreProperties>
</file>