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8A16-FA88-420F-9070-822C4E241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27B1-1449-4D0B-9A4C-72C3C4C3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44B3-7A94-4A68-918C-E69A2A031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C8A6-A410-45F1-8E64-569534941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B877-6369-4B72-8B05-FADB3B00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59F0-7C67-4AD0-A141-812B8213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19EE-982C-4081-9D10-5563A725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04BD-7C19-481A-AB77-08C0AD55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7C72-0878-438F-B482-CAD914CA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06D3-8DAF-4C97-916E-8F78F473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3C8B-7E75-4130-A636-086C97B0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F53C-0274-44B0-89D0-473AE54C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9B1B-7786-482D-9F68-620F70C4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3EFA-D723-4E2D-AD90-4C70F15E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B4A6-BBF3-4CE6-AEDF-3D885BA5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5C11-34BA-4C33-9BE8-2EBC42596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2293-B940-4171-994C-46ACFAE50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14B1-9A13-41D2-867C-55F461EC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6DD8-B27B-49B2-A957-70384899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F106-93F1-48A7-8A3E-F364A289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5D4E-1A4C-477D-BC5F-61EE8E0C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1FC5-1992-4783-8B07-C00E5DB9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890A-F405-4198-B5A0-50B6D047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0FF8-632C-4363-BDCE-D16E0D79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813D-627C-4064-AAA0-28B7AA6C79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D19D-41F8-4916-B8F8-99BA4ECF38F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адачи на проценты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РЕБРЕННИКОВА ВЕРА АЛЕКСАНДРО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6" descr="E:\мама\Фотки\IMG_3909.jpg"/>
          <p:cNvPicPr/>
          <p:nvPr/>
        </p:nvPicPr>
        <p:blipFill>
          <a:blip r:embed="rId1"/>
          <a:stretch/>
        </p:blipFill>
        <p:spPr>
          <a:xfrm>
            <a:off x="5435640" y="1628640"/>
            <a:ext cx="324648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Нахождение числа по его проценту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классе 10 девочек, что составляет 40% всех учащихся.Сколько учеников в класс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564000" y="3357720"/>
            <a:ext cx="331164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овер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4"/>
              <p:cNvSpPr txBox="1"/>
              <p:nvPr/>
            </p:nvSpPr>
            <p:spPr>
              <a:xfrm>
                <a:off x="324000" y="2637000"/>
                <a:ext cx="8820000" cy="22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ученико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260280"/>
            <a:ext cx="76899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хождение процентного отнош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755640" y="2060640"/>
            <a:ext cx="7594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вочек в классе 10, а мальчиков 15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процентов составляет количество девочек от  количества мальчиков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процентов составляет количество мальчиков от количества девочек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овер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755640" y="3324240"/>
            <a:ext cx="1428840" cy="958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1" name="Object 11"/>
              <p:cNvSpPr txBox="1"/>
              <p:nvPr/>
            </p:nvSpPr>
            <p:spPr>
              <a:xfrm>
                <a:off x="2556000" y="2271600"/>
                <a:ext cx="6119640" cy="331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пасибо за урок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адачи на процен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1371600" y="1700280"/>
            <a:ext cx="640080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ну сотую часть числа называют процентом этого чис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3995640" y="3573360"/>
            <a:ext cx="142884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Запиши проценты в виде обыкновенной дроби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8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9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10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11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1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1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1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1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18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21"/>
              <p:cNvSpPr txBox="1"/>
              <p:nvPr/>
            </p:nvSpPr>
            <p:spPr>
              <a:xfrm>
                <a:off x="3571920" y="1714680"/>
                <a:ext cx="2171520" cy="480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равильные ответы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8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9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10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11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1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1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1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1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1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8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21"/>
              <p:cNvSpPr txBox="1"/>
              <p:nvPr/>
            </p:nvSpPr>
            <p:spPr>
              <a:xfrm>
                <a:off x="714240" y="2071800"/>
                <a:ext cx="8209080" cy="37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Запиши дроби в виде процент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1258920" y="1844640"/>
                <a:ext cx="712944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2"/>
              <p:cNvSpPr txBox="1"/>
              <p:nvPr/>
            </p:nvSpPr>
            <p:spPr>
              <a:xfrm>
                <a:off x="755640" y="1500120"/>
                <a:ext cx="3760920" cy="484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3"/>
              <p:cNvSpPr txBox="1"/>
              <p:nvPr/>
            </p:nvSpPr>
            <p:spPr>
              <a:xfrm>
                <a:off x="6184800" y="1049400"/>
                <a:ext cx="1800360" cy="583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785880" y="5715000"/>
                <a:ext cx="314316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Нахождение процента от числа 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классе 25 учени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вочки составляют 40% всех учащихся.Сколько девочек в класс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619280" y="3789360"/>
            <a:ext cx="2736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овер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7"/>
              <p:cNvSpPr txBox="1"/>
              <p:nvPr/>
            </p:nvSpPr>
            <p:spPr>
              <a:xfrm>
                <a:off x="0" y="37400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девочек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3"/>
              <p:cNvSpPr txBox="1"/>
              <p:nvPr/>
            </p:nvSpPr>
            <p:spPr>
              <a:xfrm>
                <a:off x="539640" y="2421000"/>
                <a:ext cx="8353440" cy="23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девочек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3:39:23Z</dcterms:created>
  <dc:creator>Гусева </dc:creator>
  <dc:description/>
  <dc:language>en-US</dc:language>
  <cp:lastModifiedBy>Vera</cp:lastModifiedBy>
  <dcterms:modified xsi:type="dcterms:W3CDTF">2020-11-05T20:18:59Z</dcterms:modified>
  <cp:revision>24</cp:revision>
  <dc:subject/>
  <dc:title>Задачи на проценты</dc:title>
</cp:coreProperties>
</file>