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C7D-F14A-46C6-846D-A72A6C09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361-2279-4292-B016-DAC89589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F3FA-AF79-42F2-AD37-8CA3C779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ED1-CB62-4F86-A681-7C4DCA70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A810-229D-4F50-B990-98948C29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5BB6-BFE9-4541-A9E7-D3ADFD8A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F0E4-597A-4EE0-BE89-04D97DAC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33E9-19D6-4F34-8AEF-CCC9D69E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547C-814B-485A-BE3D-9E504A9E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DA87-757C-4307-8818-84A722C9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ACFF-0ED1-4EF8-B4E7-A24E35AF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3D95-F1B0-403E-BF71-C7036973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A4AD-93A7-4BE1-BF7E-E8302C34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CCDC-311B-43A8-9AA6-C37334EB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F6D6-3062-4F88-B623-C51F8E97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1E5A-808C-43B3-A2F3-D195DB55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9454-0E5F-4236-9D29-57A2E6A1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081A-955A-4FC9-B35E-E9CBC7D7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2A65-E7F2-4A3C-9CA0-46A49BF9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CE0-D4D8-4C50-A7B9-6B493906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3FC-02CB-4916-9A84-D9B91D85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EE4E-CA03-4744-BB42-FD6EA89A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CC21-DD2E-4941-8F5D-0CB3130C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2839-984D-4A30-86B4-4F41F8AE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D8FB-9470-43E2-A3DA-98DD258D9E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4868-9788-4429-903D-930217DC6CA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 на проценты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РЕБРЕННИКОВА ВЕРА АЛЕКСАНДР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6" descr="E:\мама\Фотки\IMG_3909.jpg"/>
          <p:cNvPicPr/>
          <p:nvPr/>
        </p:nvPicPr>
        <p:blipFill>
          <a:blip r:embed="rId1"/>
          <a:stretch/>
        </p:blipFill>
        <p:spPr>
          <a:xfrm>
            <a:off x="5435640" y="1628640"/>
            <a:ext cx="324648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Нахождение числа по его проценту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лассе 10 девочек, что составляет 40% всех учащихся.Сколько учеников в класс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564000" y="3357720"/>
            <a:ext cx="331164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вер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324000" y="2637000"/>
                <a:ext cx="8820000" cy="22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ученико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260280"/>
            <a:ext cx="76899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хождение процентного отнош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55640" y="2060640"/>
            <a:ext cx="7594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вочек в классе 10, а мальчиков 1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процентов составляет количество девочек от  количества мальчико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процентов составляет количество мальчиков от количества девочек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вер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755640" y="3324240"/>
            <a:ext cx="1428840" cy="958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1" name="Object 11"/>
              <p:cNvSpPr txBox="1"/>
              <p:nvPr/>
            </p:nvSpPr>
            <p:spPr>
              <a:xfrm>
                <a:off x="2556000" y="2271600"/>
                <a:ext cx="6119640" cy="331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пасибо за урок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 на процен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1371600" y="1700280"/>
            <a:ext cx="640080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у сотую часть числа называют процентом этого чис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995640" y="3573360"/>
            <a:ext cx="14288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апиши проценты в виде обыкновенной дроби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1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1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21"/>
              <p:cNvSpPr txBox="1"/>
              <p:nvPr/>
            </p:nvSpPr>
            <p:spPr>
              <a:xfrm>
                <a:off x="3571920" y="1714680"/>
                <a:ext cx="2171520" cy="480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авильные ответы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1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21"/>
              <p:cNvSpPr txBox="1"/>
              <p:nvPr/>
            </p:nvSpPr>
            <p:spPr>
              <a:xfrm>
                <a:off x="714240" y="2071800"/>
                <a:ext cx="8209080" cy="37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апиши дроби в виде процент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1258920" y="1844640"/>
                <a:ext cx="712944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2"/>
              <p:cNvSpPr txBox="1"/>
              <p:nvPr/>
            </p:nvSpPr>
            <p:spPr>
              <a:xfrm>
                <a:off x="755640" y="1500120"/>
                <a:ext cx="3760920" cy="484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3"/>
              <p:cNvSpPr txBox="1"/>
              <p:nvPr/>
            </p:nvSpPr>
            <p:spPr>
              <a:xfrm>
                <a:off x="6184800" y="1049400"/>
                <a:ext cx="1800360" cy="58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785880" y="5715000"/>
                <a:ext cx="31431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Нахождение процента от числа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лассе 25 учен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вочки составляют 40% всех учащихся.Сколько девочек в класс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619280" y="3789360"/>
            <a:ext cx="2736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вер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7"/>
              <p:cNvSpPr txBox="1"/>
              <p:nvPr/>
            </p:nvSpPr>
            <p:spPr>
              <a:xfrm>
                <a:off x="0" y="37400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девочек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3"/>
              <p:cNvSpPr txBox="1"/>
              <p:nvPr/>
            </p:nvSpPr>
            <p:spPr>
              <a:xfrm>
                <a:off x="539640" y="2421000"/>
                <a:ext cx="8353440" cy="23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девочек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3:39:23Z</dcterms:created>
  <dc:creator>Гусева </dc:creator>
  <dc:description/>
  <dc:language>en-US</dc:language>
  <cp:lastModifiedBy>Vera</cp:lastModifiedBy>
  <dcterms:modified xsi:type="dcterms:W3CDTF">2020-11-05T20:18:59Z</dcterms:modified>
  <cp:revision>24</cp:revision>
  <dc:subject/>
  <dc:title>Задачи на проценты</dc:title>
</cp:coreProperties>
</file>