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24.jpeg" ContentType="image/jpeg"/>
  <Override PartName="/ppt/media/image3.jpeg" ContentType="image/jpeg"/>
  <Override PartName="/ppt/media/image30.jpeg" ContentType="image/jpeg"/>
  <Override PartName="/ppt/media/image12.gif" ContentType="image/gif"/>
  <Override PartName="/ppt/media/image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1.gif" ContentType="image/gif"/>
  <Override PartName="/ppt/media/image4.jpeg" ContentType="image/jpeg"/>
  <Override PartName="/ppt/media/image25.jpeg" ContentType="image/jpeg"/>
  <Override PartName="/ppt/media/image1.gif" ContentType="image/gif"/>
  <Override PartName="/ppt/media/image31.jpeg" ContentType="image/jpeg"/>
  <Override PartName="/ppt/media/image14.gif" ContentType="image/gif"/>
  <Override PartName="/ppt/media/image15.jpeg" ContentType="image/jpeg"/>
  <Override PartName="/ppt/media/image16.jpeg" ContentType="image/jpeg"/>
  <Override PartName="/ppt/media/image27.jpeg" ContentType="image/jpeg"/>
  <Override PartName="/ppt/media/image17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73D-1DE6-4BBA-8DC8-0883F289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3A3-D742-4FE3-9173-7DF5C9B5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8ED-9B73-415B-85C5-FE73F7B0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E2F-E8E2-4AB6-8FEB-23D03362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6876-15BC-43FF-9482-AC13ED4D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0657-B0AA-4439-8C1B-8D7DB55E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D7E5-53C6-4E73-B4AB-42A700DC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E6BC-008A-4219-9F34-B2410451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8B23-F5F7-45C0-80D4-348756FB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57E7-1025-4152-95F0-790A232F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AC1B-4B90-439D-8D05-DCC31756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0ECC-D006-47D3-B7AE-C4FF1BF1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77C4-8D0E-4572-83C2-12C16E5F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1FEA-35CB-407A-A671-CCEF4D89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7E7E-9797-4C55-B2B4-D5CBBA34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2072-9399-4849-9B56-77E2144A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1154-551D-4E43-8FDB-793DED5A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8DE-92A4-4B5F-B986-011B6A19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702-769E-4E7B-BF77-F8EAE6E6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564-55F3-4EE4-B343-68A49DC8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E2E-BEAF-4B4A-A11D-BFBF23A5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92A-4542-4140-B035-F49B0E62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ED6-CB93-4431-9DCA-FB363281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481-5B40-43E7-8AA0-0EAA7A7F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E24C-ACA3-4605-8704-68A414A9AA5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017E-0E74-449A-A7BF-D5B83C5B5BF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881.html" TargetMode="External"/><Relationship Id="rId2" Type="http://schemas.openxmlformats.org/officeDocument/2006/relationships/image" Target="../media/image1.gif"/><Relationship Id="rId3" Type="http://schemas.openxmlformats.org/officeDocument/2006/relationships/hyperlink" Target="http://smiles.33b.ru/smile.103880.html" TargetMode="External"/><Relationship Id="rId4" Type="http://schemas.openxmlformats.org/officeDocument/2006/relationships/image" Target="../media/image2.gi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rtap.ru/butterfly/butterfly1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rtap.ru/picture3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rtap.ru/picture24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ike.skyper.ru/photoplace/foto.php?id=44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smiles.rc-mir.com/smile.103894.html" TargetMode="External"/><Relationship Id="rId4" Type="http://schemas.openxmlformats.org/officeDocument/2006/relationships/image" Target="../media/image11.gif"/><Relationship Id="rId5" Type="http://schemas.openxmlformats.org/officeDocument/2006/relationships/hyperlink" Target="http://smiles.rc-mir.com/smile.103894.html" TargetMode="External"/><Relationship Id="rId6" Type="http://schemas.openxmlformats.org/officeDocument/2006/relationships/image" Target="../media/image11.gif"/><Relationship Id="rId7" Type="http://schemas.openxmlformats.org/officeDocument/2006/relationships/hyperlink" Target="http://smiles.rc-mir.com/smile.103894.html" TargetMode="External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ec85e"/>
                </a:solidFill>
                <a:latin typeface="Arial"/>
              </a:rPr>
              <a:t>Нармоттне    Птицы</a:t>
            </a:r>
            <a:br>
              <a:rPr sz="6000"/>
            </a:br>
            <a:r>
              <a:rPr b="0" lang="ru-RU" sz="4400" spc="-1" strike="noStrike">
                <a:solidFill>
                  <a:srgbClr val="eec85e"/>
                </a:solidFill>
                <a:latin typeface="Arial"/>
              </a:rPr>
              <a:t>( закрепление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6" descr="http://s10.rimg.info/a96eaf2107f0dea9624acc8a37c2bcc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1809720" cy="1362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s10.rimg.info/f545e5f533a29816f8cd4a2ff1ad1725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0120" y="53341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gazeta.aif.ru/data/mags/dacha/238/pics/14_01_00.jpg"/>
          <p:cNvPicPr/>
          <p:nvPr/>
        </p:nvPicPr>
        <p:blipFill>
          <a:blip r:embed="rId5"/>
          <a:stretch/>
        </p:blipFill>
        <p:spPr>
          <a:xfrm>
            <a:off x="914400" y="2895480"/>
            <a:ext cx="5029200" cy="358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2"/>
          <p:cNvSpPr/>
          <p:nvPr/>
        </p:nvSpPr>
        <p:spPr>
          <a:xfrm>
            <a:off x="1477800" y="6093000"/>
            <a:ext cx="42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Ситявня- синичка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3" descr="click?url=http%3A%2F%2Fkhustochka"/>
          <p:cNvPicPr/>
          <p:nvPr/>
        </p:nvPicPr>
        <p:blipFill>
          <a:blip r:embed="rId1"/>
          <a:stretch/>
        </p:blipFill>
        <p:spPr>
          <a:xfrm>
            <a:off x="684360" y="476280"/>
            <a:ext cx="7920000" cy="528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www.birds.kz/Dendrocopos%20major/main_photo.jpg"/>
          <p:cNvPicPr/>
          <p:nvPr/>
        </p:nvPicPr>
        <p:blipFill>
          <a:blip r:embed="rId1"/>
          <a:stretch/>
        </p:blipFill>
        <p:spPr>
          <a:xfrm>
            <a:off x="324000" y="260280"/>
            <a:ext cx="7199280" cy="53434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1676520" y="5562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Шякшата-дятел</a:t>
            </a:r>
            <a:endParaRPr b="1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2" descr="http://s10.rimg.info/b6b843d205df74075588632f9c2ec2d1.gif"/>
          <p:cNvPicPr/>
          <p:nvPr/>
        </p:nvPicPr>
        <p:blipFill>
          <a:blip r:embed="rId2"/>
          <a:stretch/>
        </p:blipFill>
        <p:spPr>
          <a:xfrm>
            <a:off x="7956720" y="189000"/>
            <a:ext cx="1000080" cy="1123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http://elementy.ru/images/news/crow_city.jpg"/>
          <p:cNvPicPr/>
          <p:nvPr/>
        </p:nvPicPr>
        <p:blipFill>
          <a:blip r:embed="rId1"/>
          <a:stretch/>
        </p:blipFill>
        <p:spPr>
          <a:xfrm>
            <a:off x="2666880" y="22860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www.moles.ee/05/Jun/21/17-1.jpg"/>
          <p:cNvPicPr/>
          <p:nvPr/>
        </p:nvPicPr>
        <p:blipFill>
          <a:blip r:embed="rId2"/>
          <a:stretch/>
        </p:blipFill>
        <p:spPr>
          <a:xfrm>
            <a:off x="250920" y="3911760"/>
            <a:ext cx="4249800" cy="2732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5074200" y="4643280"/>
            <a:ext cx="30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орона- варси</a:t>
            </a:r>
            <a:endParaRPr b="1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http://www.zooclub.ru/images/165.jpg"/>
          <p:cNvPicPr/>
          <p:nvPr/>
        </p:nvPicPr>
        <p:blipFill>
          <a:blip r:embed="rId1"/>
          <a:stretch/>
        </p:blipFill>
        <p:spPr>
          <a:xfrm>
            <a:off x="5867280" y="228600"/>
            <a:ext cx="3048120" cy="342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lazovzap.dvo.ru/pictures/picapica.jpg"/>
          <p:cNvPicPr/>
          <p:nvPr/>
        </p:nvPicPr>
        <p:blipFill>
          <a:blip r:embed="rId2"/>
          <a:stretch/>
        </p:blipFill>
        <p:spPr>
          <a:xfrm>
            <a:off x="0" y="228600"/>
            <a:ext cx="5349960" cy="51022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4"/>
          <p:cNvSpPr/>
          <p:nvPr/>
        </p:nvSpPr>
        <p:spPr>
          <a:xfrm>
            <a:off x="4876920" y="53737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орока -сязьгата</a:t>
            </a:r>
            <a:endParaRPr b="1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Сова-корож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Picture 4" descr="i?id=18257956-05"/>
          <p:cNvPicPr/>
          <p:nvPr/>
        </p:nvPicPr>
        <p:blipFill>
          <a:blip r:embed="rId1"/>
          <a:stretch/>
        </p:blipFill>
        <p:spPr>
          <a:xfrm>
            <a:off x="270000" y="1219320"/>
            <a:ext cx="4787640" cy="4114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5302080" y="3962520"/>
            <a:ext cx="3814920" cy="289548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1"/>
          <p:cNvSpPr/>
          <p:nvPr/>
        </p:nvSpPr>
        <p:spPr>
          <a:xfrm>
            <a:off x="5410080" y="25909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укушка- куку</a:t>
            </a:r>
            <a:endParaRPr b="1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Соловей- цёфкс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4" descr="картинка Соловей поет - , для мобильного телефона"/>
          <p:cNvPicPr/>
          <p:nvPr/>
        </p:nvPicPr>
        <p:blipFill>
          <a:blip r:embed="rId1"/>
          <a:stretch/>
        </p:blipFill>
        <p:spPr>
          <a:xfrm>
            <a:off x="2362320" y="1371600"/>
            <a:ext cx="4343400" cy="3886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Ласточка-пьзга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4" name="Picture 7" descr="i?id=20445178-05"/>
          <p:cNvPicPr/>
          <p:nvPr/>
        </p:nvPicPr>
        <p:blipFill>
          <a:blip r:embed="rId1"/>
          <a:stretch/>
        </p:blipFill>
        <p:spPr>
          <a:xfrm>
            <a:off x="304920" y="1447920"/>
            <a:ext cx="3504960" cy="2743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i?id=27972221-01"/>
          <p:cNvPicPr/>
          <p:nvPr/>
        </p:nvPicPr>
        <p:blipFill>
          <a:blip r:embed="rId2"/>
          <a:stretch/>
        </p:blipFill>
        <p:spPr>
          <a:xfrm>
            <a:off x="4343400" y="3276720"/>
            <a:ext cx="399096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кворец- псьма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Picture 5" descr="i?id=112649851-04"/>
          <p:cNvPicPr/>
          <p:nvPr/>
        </p:nvPicPr>
        <p:blipFill>
          <a:blip r:embed="rId1"/>
          <a:stretch/>
        </p:blipFill>
        <p:spPr>
          <a:xfrm>
            <a:off x="5638680" y="1371600"/>
            <a:ext cx="3124440" cy="2209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i?id=16642920-03"/>
          <p:cNvPicPr/>
          <p:nvPr/>
        </p:nvPicPr>
        <p:blipFill>
          <a:blip r:embed="rId2"/>
          <a:stretch/>
        </p:blipFill>
        <p:spPr>
          <a:xfrm>
            <a:off x="457200" y="434340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i?id=84032631-06"/>
          <p:cNvPicPr/>
          <p:nvPr/>
        </p:nvPicPr>
        <p:blipFill>
          <a:blip r:embed="rId3"/>
          <a:stretch/>
        </p:blipFill>
        <p:spPr>
          <a:xfrm>
            <a:off x="609480" y="1295280"/>
            <a:ext cx="3581640" cy="2590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i?id=14096397-02"/>
          <p:cNvPicPr/>
          <p:nvPr/>
        </p:nvPicPr>
        <p:blipFill>
          <a:blip r:embed="rId4"/>
          <a:stretch/>
        </p:blipFill>
        <p:spPr>
          <a:xfrm>
            <a:off x="4572000" y="4038480"/>
            <a:ext cx="403848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рач-грац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Picture 5" descr="i?id=198307632-07"/>
          <p:cNvPicPr/>
          <p:nvPr/>
        </p:nvPicPr>
        <p:blipFill>
          <a:blip r:embed="rId1"/>
          <a:stretch/>
        </p:blipFill>
        <p:spPr>
          <a:xfrm>
            <a:off x="457200" y="1600200"/>
            <a:ext cx="358128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i?id=115400655-06"/>
          <p:cNvPicPr/>
          <p:nvPr/>
        </p:nvPicPr>
        <p:blipFill>
          <a:blip r:embed="rId2"/>
          <a:stretch/>
        </p:blipFill>
        <p:spPr>
          <a:xfrm>
            <a:off x="4191120" y="350532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943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Цапля -карг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5" name="Picture 7" descr="i?id=12088400-05"/>
          <p:cNvPicPr/>
          <p:nvPr/>
        </p:nvPicPr>
        <p:blipFill>
          <a:blip r:embed="rId1"/>
          <a:stretch/>
        </p:blipFill>
        <p:spPr>
          <a:xfrm>
            <a:off x="457200" y="1828800"/>
            <a:ext cx="3200400" cy="304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i?id=113084890-03"/>
          <p:cNvPicPr/>
          <p:nvPr/>
        </p:nvPicPr>
        <p:blipFill>
          <a:blip r:embed="rId2"/>
          <a:stretch/>
        </p:blipFill>
        <p:spPr>
          <a:xfrm>
            <a:off x="5029200" y="1981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Задачи урок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Развитие логического мышления, памяти, внимани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Закрепление изученных слов на мокшанском языке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Обогащение знаний о птицах нашего кра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Физкультминутка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Фкя,кафта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яттнень ладяйть тяфт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лма, ниле, вете-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яттнень вяри кепот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та, сисем, кафкс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олдайть кяттнень ронгцень вакс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 тяни нинге весть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етексть комада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 вастозонт озад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a8456"/>
                </a:solidFill>
                <a:latin typeface="Verdana"/>
              </a:rPr>
              <a:t>Зачеркни лишнее слово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Чавка, ситявня, кши, сязьгат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зьгата, тунда, шякшата, цёфкс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ирьхкс, нумол, куку, грац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Цапля, псьмар, офта,  варси.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тгадайте о ком это стихотворение и вставьте это слово вместо точек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Чикор-чикор,…….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Мес кувака пулоце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Мес кувака пулозе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Пулозе- монь рулезе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пиши и переведи предлож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Сась тундась. Ушеса мани. Ловсь ушедсь  солам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Лямбе ширде састь нармоттне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Синь тиихть пизот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Шякшатась чакай шуфтть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ff"/>
                </a:solidFill>
                <a:latin typeface="Gill Sans MT Ext Condensed Bold"/>
              </a:rPr>
              <a:t>Сембоди 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ff"/>
                </a:solidFill>
                <a:latin typeface="Gill Sans MT Ext Condensed Bold"/>
              </a:rPr>
              <a:t>спасиба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Красная бабочка на жёлтом цветк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Сась мелавнясь инжикс и тусь загадка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Ранняя весна.Сельский пейзаж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3504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a8456"/>
                </a:solidFill>
                <a:latin typeface="Arial"/>
              </a:rPr>
              <a:t>Солась ловсь</a:t>
            </a:r>
            <a:br>
              <a:rPr sz="4400"/>
            </a:br>
            <a:r>
              <a:rPr b="0" lang="ru-RU" sz="4400" spc="-1" strike="noStrike">
                <a:solidFill>
                  <a:srgbClr val="aa8456"/>
                </a:solidFill>
                <a:latin typeface="Arial"/>
              </a:rPr>
              <a:t>     Няеви тишенясь </a:t>
            </a:r>
            <a:br>
              <a:rPr sz="4400"/>
            </a:br>
            <a:r>
              <a:rPr b="0" lang="ru-RU" sz="4400" spc="-1" strike="noStrike">
                <a:solidFill>
                  <a:srgbClr val="aa8456"/>
                </a:solidFill>
                <a:latin typeface="Arial"/>
              </a:rPr>
              <a:t>       Шись кувалгодсь,</a:t>
            </a:r>
            <a:br>
              <a:rPr sz="4400"/>
            </a:br>
            <a:r>
              <a:rPr b="0" lang="ru-RU" sz="4400" spc="-1" strike="noStrike">
                <a:solidFill>
                  <a:srgbClr val="aa8456"/>
                </a:solidFill>
                <a:latin typeface="Arial"/>
              </a:rPr>
              <a:t>     Мзярда тя эряй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i?id=84202587-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енельга яка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одать лангс ва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Левитан, Исаак Ильич. Март.. Холст, масло.Реализм. Россия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дама моли ковсь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4495680" y="60948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кирьхкс - воробей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3" descr="click?url=http%3A%2F%2Felis-birds"/>
          <p:cNvPicPr/>
          <p:nvPr/>
        </p:nvPicPr>
        <p:blipFill>
          <a:blip r:embed="rId1"/>
          <a:stretch/>
        </p:blipFill>
        <p:spPr>
          <a:xfrm>
            <a:off x="108000" y="1197000"/>
            <a:ext cx="4248000" cy="339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Чечётка"/>
          <p:cNvPicPr/>
          <p:nvPr/>
        </p:nvPicPr>
        <p:blipFill>
          <a:blip r:embed="rId2"/>
          <a:stretch/>
        </p:blipFill>
        <p:spPr>
          <a:xfrm>
            <a:off x="4572000" y="3068640"/>
            <a:ext cx="4392720" cy="366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Делай левой! | 64 Кб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336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133720" y="60213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Гуленя-голубь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44b2921d33c77cdaf7e2bb2aba29fdb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40464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44b2921d33c77cdaf7e2bb2aba29fdbb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56000" y="4437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44b2921d33c77cdaf7e2bb2aba29fdbb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24000" y="765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44b2921d33c77cdaf7e2bb2aba29fdbb"/>
          <p:cNvPicPr/>
          <p:nvPr/>
        </p:nvPicPr>
        <p:blipFill>
          <a:blip r:embed="rId9"/>
          <a:stretch/>
        </p:blipFill>
        <p:spPr>
          <a:xfrm>
            <a:off x="179280" y="566100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44b2921d33c77cdaf7e2bb2aba29fdbb"/>
          <p:cNvPicPr/>
          <p:nvPr/>
        </p:nvPicPr>
        <p:blipFill>
          <a:blip r:embed="rId10"/>
          <a:stretch/>
        </p:blipFill>
        <p:spPr>
          <a:xfrm>
            <a:off x="1116000" y="206064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44b2921d33c77cdaf7e2bb2aba29fdbb"/>
          <p:cNvPicPr/>
          <p:nvPr/>
        </p:nvPicPr>
        <p:blipFill>
          <a:blip r:embed="rId11"/>
          <a:stretch/>
        </p:blipFill>
        <p:spPr>
          <a:xfrm>
            <a:off x="5796000" y="378936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44b2921d33c77cdaf7e2bb2aba29fdbb"/>
          <p:cNvPicPr/>
          <p:nvPr/>
        </p:nvPicPr>
        <p:blipFill>
          <a:blip r:embed="rId12"/>
          <a:stretch/>
        </p:blipFill>
        <p:spPr>
          <a:xfrm>
            <a:off x="7524720" y="501336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26dcad251bd83ef1c30c9d6ef83a67be"/>
          <p:cNvPicPr/>
          <p:nvPr/>
        </p:nvPicPr>
        <p:blipFill>
          <a:blip r:embed="rId13"/>
          <a:stretch/>
        </p:blipFill>
        <p:spPr>
          <a:xfrm>
            <a:off x="6877080" y="249228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26dcad251bd83ef1c30c9d6ef83a67be"/>
          <p:cNvPicPr/>
          <p:nvPr/>
        </p:nvPicPr>
        <p:blipFill>
          <a:blip r:embed="rId14"/>
          <a:stretch/>
        </p:blipFill>
        <p:spPr>
          <a:xfrm>
            <a:off x="1763640" y="450864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26dcad251bd83ef1c30c9d6ef83a67be"/>
          <p:cNvPicPr/>
          <p:nvPr/>
        </p:nvPicPr>
        <p:blipFill>
          <a:blip r:embed="rId15"/>
          <a:stretch/>
        </p:blipFill>
        <p:spPr>
          <a:xfrm>
            <a:off x="4211640" y="549360"/>
            <a:ext cx="1276200" cy="942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P1315"/>
          <p:cNvPicPr/>
          <p:nvPr/>
        </p:nvPicPr>
        <p:blipFill>
          <a:blip r:embed="rId1"/>
          <a:stretch/>
        </p:blipFill>
        <p:spPr>
          <a:xfrm>
            <a:off x="971640" y="333360"/>
            <a:ext cx="5905440" cy="5516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1905120" y="5973840"/>
            <a:ext cx="31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чавка  - галка</a:t>
            </a:r>
            <a:endParaRPr b="1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9eaefbe20ad8741fae5d0f9ee11a388c"/>
          <p:cNvPicPr/>
          <p:nvPr/>
        </p:nvPicPr>
        <p:blipFill>
          <a:blip r:embed="rId2"/>
          <a:stretch/>
        </p:blipFill>
        <p:spPr>
          <a:xfrm>
            <a:off x="7164360" y="5300640"/>
            <a:ext cx="1843200" cy="138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20-11-05T18:27:3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