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12.gif" ContentType="image/gif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1.gif" ContentType="image/gif"/>
  <Override PartName="/ppt/media/image4.jpeg" ContentType="image/jpeg"/>
  <Override PartName="/ppt/media/image25.jpeg" ContentType="image/jpeg"/>
  <Override PartName="/ppt/media/image1.gif" ContentType="image/gif"/>
  <Override PartName="/ppt/media/image31.jpeg" ContentType="image/jpeg"/>
  <Override PartName="/ppt/media/image14.gif" ContentType="image/gif"/>
  <Override PartName="/ppt/media/image15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FD0-3CB9-4F51-B970-7C637277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D4E-3BB5-4473-8693-F1724DC5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3C5-5793-42F9-83D9-E012551F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289-71CD-4E1F-8733-23CE0085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AB51-4A48-469D-AA3D-FEA1F62D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8485-62E9-45E3-A5D6-6D7AC047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82FC-D76F-47E9-8E21-1C083DE7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028B-9F12-4E6C-87F5-0B8F019B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EC13-B132-4FE1-AEB1-E4A88A4B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3E66-702B-41BA-A9B4-F5E6FAAE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0CC2-D77E-44E6-B08C-EF2A2C25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626-34E0-44DA-9FE9-D9A211BE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5A85-DA7D-4AAD-809F-D85F0593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0DA9-810D-4C30-97EE-6EFAB7CC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DE76-B552-4311-A6D3-80EC83EC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EE89-8030-4FAB-B3E1-3C22C4DA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025C-ADD4-4235-B0B1-64D02453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531-AEEE-4A6B-8999-0C82198D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E0D-95AA-4D5B-A5DD-B3E04780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62F-AC3D-4EAD-84EE-155811EE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9EC-1EBD-4CDD-993F-0A0A534E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D89-C42E-4177-975E-7DD773DD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291-E24E-4840-AFC5-8E255EC8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AE2-DA83-4A46-8832-F714671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2309-EDDF-4BBE-A228-7E2DD921E7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2995-D953-4579-B6F3-62307056B33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881.html" TargetMode="External"/><Relationship Id="rId2" Type="http://schemas.openxmlformats.org/officeDocument/2006/relationships/image" Target="../media/image1.gif"/><Relationship Id="rId3" Type="http://schemas.openxmlformats.org/officeDocument/2006/relationships/hyperlink" Target="http://smiles.33b.ru/smile.103880.html" TargetMode="External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ap.ru/butterfly/butterfly1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rtap.ru/picture3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tap.ru/picture2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ke.skyper.ru/photoplace/foto.php?id=44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smiles.rc-mir.com/smile.103894.html" TargetMode="External"/><Relationship Id="rId4" Type="http://schemas.openxmlformats.org/officeDocument/2006/relationships/image" Target="../media/image11.gif"/><Relationship Id="rId5" Type="http://schemas.openxmlformats.org/officeDocument/2006/relationships/hyperlink" Target="http://smiles.rc-mir.com/smile.103894.html" TargetMode="External"/><Relationship Id="rId6" Type="http://schemas.openxmlformats.org/officeDocument/2006/relationships/image" Target="../media/image11.gif"/><Relationship Id="rId7" Type="http://schemas.openxmlformats.org/officeDocument/2006/relationships/hyperlink" Target="http://smiles.rc-mir.com/smile.103894.html" TargetMode="External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ec85e"/>
                </a:solidFill>
                <a:latin typeface="Arial"/>
              </a:rPr>
              <a:t>Нармоттне    Птицы</a:t>
            </a:r>
            <a:br>
              <a:rPr sz="6000"/>
            </a:b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( закрепление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6" descr="http://s10.rimg.info/a96eaf2107f0dea9624acc8a37c2bcc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809720" cy="1362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s10.rimg.info/f545e5f533a29816f8cd4a2ff1ad1725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0120" y="53341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gazeta.aif.ru/data/mags/dacha/238/pics/14_01_00.jpg"/>
          <p:cNvPicPr/>
          <p:nvPr/>
        </p:nvPicPr>
        <p:blipFill>
          <a:blip r:embed="rId5"/>
          <a:stretch/>
        </p:blipFill>
        <p:spPr>
          <a:xfrm>
            <a:off x="914400" y="2895480"/>
            <a:ext cx="5029200" cy="358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2"/>
          <p:cNvSpPr/>
          <p:nvPr/>
        </p:nvSpPr>
        <p:spPr>
          <a:xfrm>
            <a:off x="1477800" y="6093000"/>
            <a:ext cx="42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Ситявня- синичка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3" descr="click?url=http%3A%2F%2Fkhustochka"/>
          <p:cNvPicPr/>
          <p:nvPr/>
        </p:nvPicPr>
        <p:blipFill>
          <a:blip r:embed="rId1"/>
          <a:stretch/>
        </p:blipFill>
        <p:spPr>
          <a:xfrm>
            <a:off x="684360" y="476280"/>
            <a:ext cx="7920000" cy="528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www.birds.kz/Dendrocopos%20major/main_photo.jpg"/>
          <p:cNvPicPr/>
          <p:nvPr/>
        </p:nvPicPr>
        <p:blipFill>
          <a:blip r:embed="rId1"/>
          <a:stretch/>
        </p:blipFill>
        <p:spPr>
          <a:xfrm>
            <a:off x="324000" y="260280"/>
            <a:ext cx="7199280" cy="53434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1676520" y="5562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Шякшата-дятел</a:t>
            </a:r>
            <a:endParaRPr b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2" descr="http://s10.rimg.info/b6b843d205df74075588632f9c2ec2d1.gif"/>
          <p:cNvPicPr/>
          <p:nvPr/>
        </p:nvPicPr>
        <p:blipFill>
          <a:blip r:embed="rId2"/>
          <a:stretch/>
        </p:blipFill>
        <p:spPr>
          <a:xfrm>
            <a:off x="7956720" y="189000"/>
            <a:ext cx="1000080" cy="112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http://elementy.ru/images/news/crow_city.jpg"/>
          <p:cNvPicPr/>
          <p:nvPr/>
        </p:nvPicPr>
        <p:blipFill>
          <a:blip r:embed="rId1"/>
          <a:stretch/>
        </p:blipFill>
        <p:spPr>
          <a:xfrm>
            <a:off x="2666880" y="22860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moles.ee/05/Jun/21/17-1.jpg"/>
          <p:cNvPicPr/>
          <p:nvPr/>
        </p:nvPicPr>
        <p:blipFill>
          <a:blip r:embed="rId2"/>
          <a:stretch/>
        </p:blipFill>
        <p:spPr>
          <a:xfrm>
            <a:off x="250920" y="3911760"/>
            <a:ext cx="4249800" cy="2732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5074200" y="464328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орона- варси</a:t>
            </a:r>
            <a:endParaRPr b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www.zooclub.ru/images/165.jpg"/>
          <p:cNvPicPr/>
          <p:nvPr/>
        </p:nvPicPr>
        <p:blipFill>
          <a:blip r:embed="rId1"/>
          <a:stretch/>
        </p:blipFill>
        <p:spPr>
          <a:xfrm>
            <a:off x="5867280" y="228600"/>
            <a:ext cx="304812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lazovzap.dvo.ru/pictures/picapica.jpg"/>
          <p:cNvPicPr/>
          <p:nvPr/>
        </p:nvPicPr>
        <p:blipFill>
          <a:blip r:embed="rId2"/>
          <a:stretch/>
        </p:blipFill>
        <p:spPr>
          <a:xfrm>
            <a:off x="0" y="228600"/>
            <a:ext cx="5349960" cy="51022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4876920" y="5373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орока -сязьгата</a:t>
            </a:r>
            <a:endParaRPr b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ова-корож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Picture 4" descr="i?id=18257956-05"/>
          <p:cNvPicPr/>
          <p:nvPr/>
        </p:nvPicPr>
        <p:blipFill>
          <a:blip r:embed="rId1"/>
          <a:stretch/>
        </p:blipFill>
        <p:spPr>
          <a:xfrm>
            <a:off x="270000" y="1219320"/>
            <a:ext cx="4787640" cy="411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5302080" y="3962520"/>
            <a:ext cx="3814920" cy="28954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1"/>
          <p:cNvSpPr/>
          <p:nvPr/>
        </p:nvSpPr>
        <p:spPr>
          <a:xfrm>
            <a:off x="5410080" y="25909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укушка- куку</a:t>
            </a:r>
            <a:endParaRPr b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оловей- цёфкс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4" descr="картинка Соловей поет - , для мобильного телефона"/>
          <p:cNvPicPr/>
          <p:nvPr/>
        </p:nvPicPr>
        <p:blipFill>
          <a:blip r:embed="rId1"/>
          <a:stretch/>
        </p:blipFill>
        <p:spPr>
          <a:xfrm>
            <a:off x="2362320" y="1371600"/>
            <a:ext cx="4343400" cy="388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асточка-пьзга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Picture 7" descr="i?id=20445178-05"/>
          <p:cNvPicPr/>
          <p:nvPr/>
        </p:nvPicPr>
        <p:blipFill>
          <a:blip r:embed="rId1"/>
          <a:stretch/>
        </p:blipFill>
        <p:spPr>
          <a:xfrm>
            <a:off x="304920" y="1447920"/>
            <a:ext cx="350496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i?id=27972221-01"/>
          <p:cNvPicPr/>
          <p:nvPr/>
        </p:nvPicPr>
        <p:blipFill>
          <a:blip r:embed="rId2"/>
          <a:stretch/>
        </p:blipFill>
        <p:spPr>
          <a:xfrm>
            <a:off x="4343400" y="3276720"/>
            <a:ext cx="399096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кворец- псьм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Picture 5" descr="i?id=112649851-04"/>
          <p:cNvPicPr/>
          <p:nvPr/>
        </p:nvPicPr>
        <p:blipFill>
          <a:blip r:embed="rId1"/>
          <a:stretch/>
        </p:blipFill>
        <p:spPr>
          <a:xfrm>
            <a:off x="5638680" y="1371600"/>
            <a:ext cx="3124440" cy="2209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i?id=16642920-03"/>
          <p:cNvPicPr/>
          <p:nvPr/>
        </p:nvPicPr>
        <p:blipFill>
          <a:blip r:embed="rId2"/>
          <a:stretch/>
        </p:blipFill>
        <p:spPr>
          <a:xfrm>
            <a:off x="457200" y="43434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i?id=84032631-06"/>
          <p:cNvPicPr/>
          <p:nvPr/>
        </p:nvPicPr>
        <p:blipFill>
          <a:blip r:embed="rId3"/>
          <a:stretch/>
        </p:blipFill>
        <p:spPr>
          <a:xfrm>
            <a:off x="609480" y="1295280"/>
            <a:ext cx="3581640" cy="2590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i?id=14096397-02"/>
          <p:cNvPicPr/>
          <p:nvPr/>
        </p:nvPicPr>
        <p:blipFill>
          <a:blip r:embed="rId4"/>
          <a:stretch/>
        </p:blipFill>
        <p:spPr>
          <a:xfrm>
            <a:off x="4572000" y="4038480"/>
            <a:ext cx="403848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рач-грац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5" descr="i?id=198307632-07"/>
          <p:cNvPicPr/>
          <p:nvPr/>
        </p:nvPicPr>
        <p:blipFill>
          <a:blip r:embed="rId1"/>
          <a:stretch/>
        </p:blipFill>
        <p:spPr>
          <a:xfrm>
            <a:off x="457200" y="1600200"/>
            <a:ext cx="358128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115400655-06"/>
          <p:cNvPicPr/>
          <p:nvPr/>
        </p:nvPicPr>
        <p:blipFill>
          <a:blip r:embed="rId2"/>
          <a:stretch/>
        </p:blipFill>
        <p:spPr>
          <a:xfrm>
            <a:off x="4191120" y="350532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943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апля -кар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Picture 7" descr="i?id=12088400-05"/>
          <p:cNvPicPr/>
          <p:nvPr/>
        </p:nvPicPr>
        <p:blipFill>
          <a:blip r:embed="rId1"/>
          <a:stretch/>
        </p:blipFill>
        <p:spPr>
          <a:xfrm>
            <a:off x="457200" y="182880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i?id=113084890-03"/>
          <p:cNvPicPr/>
          <p:nvPr/>
        </p:nvPicPr>
        <p:blipFill>
          <a:blip r:embed="rId2"/>
          <a:stretch/>
        </p:blipFill>
        <p:spPr>
          <a:xfrm>
            <a:off x="5029200" y="1981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Задачи урок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Развитие логического мышления, памяти, вниман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Закрепление изученных слов на мокшанском язык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Обогащение знаний о птицах нашего кра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Физкультминутка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кя,кафта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яттнень ладяйть тяфт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лма, ниле, вете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яттнень вяри кепот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та, сисем, кафкс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лдайть кяттнень ронгцень вакс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 тяни нинге весть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етексть комада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 вастозонт озад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8456"/>
                </a:solidFill>
                <a:latin typeface="Verdana"/>
              </a:rPr>
              <a:t>Зачеркни лишнее слово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Чавка, ситявня, кши, сязьгат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зьгата, тунда, шякшата, цёфкс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ирьхкс, нумол, куку, грац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Цапля, псьмар, офта,  варси.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гадайте о ком это стихотворение и вставьте это слово вместо точек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Чикор-чикор,…….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Мес кувака пулоце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Мес кувака пулозе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Пулозе- монь рулезе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пиши и переведи предлож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ась тундась. Ушеса мани. Ловсь ушедсь  солам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Лямбе ширде састь нармоттне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инь тиихть пизот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Шякшатась чакай шуфтть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ff"/>
                </a:solidFill>
                <a:latin typeface="Gill Sans MT Ext Condensed Bold"/>
              </a:rPr>
              <a:t>Сембоди 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ff"/>
                </a:solidFill>
                <a:latin typeface="Gill Sans MT Ext Condensed Bold"/>
              </a:rPr>
              <a:t>спасиба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Красная бабочка на жёлтом цветк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ась мелавнясь инжикс и тусь загадка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Ранняя весна.Сельский пейзаж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504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8456"/>
                </a:solidFill>
                <a:latin typeface="Arial"/>
              </a:rPr>
              <a:t>Солась ловсь</a:t>
            </a:r>
            <a:br>
              <a:rPr sz="4400"/>
            </a:br>
            <a:r>
              <a:rPr b="0" lang="ru-RU" sz="4400" spc="-1" strike="noStrike">
                <a:solidFill>
                  <a:srgbClr val="aa8456"/>
                </a:solidFill>
                <a:latin typeface="Arial"/>
              </a:rPr>
              <a:t>     Няеви тишенясь </a:t>
            </a:r>
            <a:br>
              <a:rPr sz="4400"/>
            </a:br>
            <a:r>
              <a:rPr b="0" lang="ru-RU" sz="4400" spc="-1" strike="noStrike">
                <a:solidFill>
                  <a:srgbClr val="aa8456"/>
                </a:solidFill>
                <a:latin typeface="Arial"/>
              </a:rPr>
              <a:t>       Шись кувалгодсь,</a:t>
            </a:r>
            <a:br>
              <a:rPr sz="4400"/>
            </a:br>
            <a:r>
              <a:rPr b="0" lang="ru-RU" sz="4400" spc="-1" strike="noStrike">
                <a:solidFill>
                  <a:srgbClr val="aa8456"/>
                </a:solidFill>
                <a:latin typeface="Arial"/>
              </a:rPr>
              <a:t>     Мзярда тя эряй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i?id=84202587-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енельга яка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дать лангс ва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Левитан, Исаак Ильич. Март.. Холст, масло.Реализм. Россия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дама моли ковсь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4495680" y="6094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кирьхкс - воробей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3" descr="click?url=http%3A%2F%2Felis-birds"/>
          <p:cNvPicPr/>
          <p:nvPr/>
        </p:nvPicPr>
        <p:blipFill>
          <a:blip r:embed="rId1"/>
          <a:stretch/>
        </p:blipFill>
        <p:spPr>
          <a:xfrm>
            <a:off x="108000" y="1197000"/>
            <a:ext cx="4248000" cy="339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Чечётка"/>
          <p:cNvPicPr/>
          <p:nvPr/>
        </p:nvPicPr>
        <p:blipFill>
          <a:blip r:embed="rId2"/>
          <a:stretch/>
        </p:blipFill>
        <p:spPr>
          <a:xfrm>
            <a:off x="4572000" y="3068640"/>
            <a:ext cx="4392720" cy="36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Делай левой! | 64 Кб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3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133720" y="6021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уленя-голубь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44b2921d33c77cdaf7e2bb2aba29fdb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40464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44b2921d33c77cdaf7e2bb2aba29fdbb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6000" y="4437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44b2921d33c77cdaf7e2bb2aba29fdb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24000" y="765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44b2921d33c77cdaf7e2bb2aba29fdbb"/>
          <p:cNvPicPr/>
          <p:nvPr/>
        </p:nvPicPr>
        <p:blipFill>
          <a:blip r:embed="rId9"/>
          <a:stretch/>
        </p:blipFill>
        <p:spPr>
          <a:xfrm>
            <a:off x="179280" y="5661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44b2921d33c77cdaf7e2bb2aba29fdbb"/>
          <p:cNvPicPr/>
          <p:nvPr/>
        </p:nvPicPr>
        <p:blipFill>
          <a:blip r:embed="rId10"/>
          <a:stretch/>
        </p:blipFill>
        <p:spPr>
          <a:xfrm>
            <a:off x="1116000" y="206064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44b2921d33c77cdaf7e2bb2aba29fdbb"/>
          <p:cNvPicPr/>
          <p:nvPr/>
        </p:nvPicPr>
        <p:blipFill>
          <a:blip r:embed="rId11"/>
          <a:stretch/>
        </p:blipFill>
        <p:spPr>
          <a:xfrm>
            <a:off x="5796000" y="37893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44b2921d33c77cdaf7e2bb2aba29fdbb"/>
          <p:cNvPicPr/>
          <p:nvPr/>
        </p:nvPicPr>
        <p:blipFill>
          <a:blip r:embed="rId12"/>
          <a:stretch/>
        </p:blipFill>
        <p:spPr>
          <a:xfrm>
            <a:off x="7524720" y="501336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26dcad251bd83ef1c30c9d6ef83a67be"/>
          <p:cNvPicPr/>
          <p:nvPr/>
        </p:nvPicPr>
        <p:blipFill>
          <a:blip r:embed="rId13"/>
          <a:stretch/>
        </p:blipFill>
        <p:spPr>
          <a:xfrm>
            <a:off x="6877080" y="2492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26dcad251bd83ef1c30c9d6ef83a67be"/>
          <p:cNvPicPr/>
          <p:nvPr/>
        </p:nvPicPr>
        <p:blipFill>
          <a:blip r:embed="rId14"/>
          <a:stretch/>
        </p:blipFill>
        <p:spPr>
          <a:xfrm>
            <a:off x="1763640" y="450864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26dcad251bd83ef1c30c9d6ef83a67be"/>
          <p:cNvPicPr/>
          <p:nvPr/>
        </p:nvPicPr>
        <p:blipFill>
          <a:blip r:embed="rId15"/>
          <a:stretch/>
        </p:blipFill>
        <p:spPr>
          <a:xfrm>
            <a:off x="4211640" y="549360"/>
            <a:ext cx="1276200" cy="942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1315"/>
          <p:cNvPicPr/>
          <p:nvPr/>
        </p:nvPicPr>
        <p:blipFill>
          <a:blip r:embed="rId1"/>
          <a:stretch/>
        </p:blipFill>
        <p:spPr>
          <a:xfrm>
            <a:off x="971640" y="333360"/>
            <a:ext cx="5905440" cy="5516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1905120" y="5973840"/>
            <a:ext cx="31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чавка  - галка</a:t>
            </a:r>
            <a:endParaRPr b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9eaefbe20ad8741fae5d0f9ee11a388c"/>
          <p:cNvPicPr/>
          <p:nvPr/>
        </p:nvPicPr>
        <p:blipFill>
          <a:blip r:embed="rId2"/>
          <a:stretch/>
        </p:blipFill>
        <p:spPr>
          <a:xfrm>
            <a:off x="7164360" y="5300640"/>
            <a:ext cx="1843200" cy="13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20-11-05T18:27:3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