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45A-6113-4670-8FE1-48214F4C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CD7-8DBE-45AA-8F4E-8A9E1DF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9B7-EFA9-4D89-85B7-00AE758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558-73BF-400B-9472-9034C1C7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F46-9D30-4AD2-ADAC-3114038E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942-5E1D-44C4-A7A0-E94A0EE4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57B-BF35-4B14-94D3-421EF337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B92-DFE9-4512-8470-B61ACCE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F6C-DC96-45BB-A3C3-ACADF272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F71-8DDA-43A5-B0B4-398DA09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9FF-E795-4449-8A0F-130AFCE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C0D-744E-49E9-ABDE-8963EF1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063-F371-4E99-A2E4-BF959F9F0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FB32-FF77-4C8C-9605-EBE8AAE8974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14300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ван Саввич Ники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Картинка 2 из 3964"/>
          <p:cNvPicPr/>
          <p:nvPr/>
        </p:nvPicPr>
        <p:blipFill>
          <a:blip r:embed="rId1"/>
          <a:stretch/>
        </p:blipFill>
        <p:spPr>
          <a:xfrm>
            <a:off x="1981080" y="2438280"/>
            <a:ext cx="5562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0672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ты, мо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ь держав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я 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ославна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а 28 из 3964"/>
          <p:cNvPicPr/>
          <p:nvPr/>
        </p:nvPicPr>
        <p:blipFill>
          <a:blip r:embed="rId1"/>
          <a:stretch/>
        </p:blipFill>
        <p:spPr>
          <a:xfrm>
            <a:off x="2590920" y="515880"/>
            <a:ext cx="647676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о ты, Ру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ицу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расе цар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улася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2 из 3964"/>
          <p:cNvPicPr/>
          <p:nvPr/>
        </p:nvPicPr>
        <p:blipFill>
          <a:blip r:embed="rId1"/>
          <a:stretch/>
        </p:blipFill>
        <p:spPr>
          <a:xfrm>
            <a:off x="3200400" y="914400"/>
            <a:ext cx="58672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0"/>
            <a:ext cx="8534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я чист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б разгул наш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я смел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Картинка 44 из 3961"/>
          <p:cNvPicPr/>
          <p:nvPr/>
        </p:nvPicPr>
        <p:blipFill>
          <a:blip r:embed="rId1"/>
          <a:stretch/>
        </p:blipFill>
        <p:spPr>
          <a:xfrm>
            <a:off x="1371600" y="2133720"/>
            <a:ext cx="6781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 запас каз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узей — сто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ча — недругу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62 из 3959"/>
          <p:cNvPicPr/>
          <p:nvPr/>
        </p:nvPicPr>
        <p:blipFill>
          <a:blip r:embed="rId1"/>
          <a:stretch/>
        </p:blipFill>
        <p:spPr>
          <a:xfrm>
            <a:off x="1295280" y="2133720"/>
            <a:ext cx="64771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05740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тебя ли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гатырских с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ны свя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омких подвигов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Картинка 64 из 3959"/>
          <p:cNvPicPr/>
          <p:nvPr/>
        </p:nvPicPr>
        <p:blipFill>
          <a:blip r:embed="rId1"/>
          <a:stretch/>
        </p:blipFill>
        <p:spPr>
          <a:xfrm>
            <a:off x="2895480" y="630360"/>
            <a:ext cx="61722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685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кем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унизи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у в черный 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зко кланялась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Картинка 70 из 3959"/>
          <p:cNvPicPr/>
          <p:nvPr/>
        </p:nvPicPr>
        <p:blipFill>
          <a:blip r:embed="rId1"/>
          <a:stretch/>
        </p:blipFill>
        <p:spPr>
          <a:xfrm>
            <a:off x="4191120" y="228600"/>
            <a:ext cx="460692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28800"/>
            <a:ext cx="6019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лях сво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курга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жила 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тар полчищ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75 из 3959"/>
          <p:cNvPicPr/>
          <p:nvPr/>
        </p:nvPicPr>
        <p:blipFill>
          <a:blip r:embed="rId1"/>
          <a:stretch/>
        </p:blipFill>
        <p:spPr>
          <a:xfrm>
            <a:off x="2438280" y="915840"/>
            <a:ext cx="662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28800"/>
            <a:ext cx="6400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ы на жизнь и смер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а спор с Лит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л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яху гордом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Картинка 95 из 3955"/>
          <p:cNvPicPr/>
          <p:nvPr/>
        </p:nvPicPr>
        <p:blipFill>
          <a:blip r:embed="rId1"/>
          <a:stretch/>
        </p:blipFill>
        <p:spPr>
          <a:xfrm>
            <a:off x="3276720" y="1066680"/>
            <a:ext cx="5715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05120" y="0"/>
            <a:ext cx="487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авно ль бы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 За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егл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ча темная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артинка 94 из 3955"/>
          <p:cNvPicPr/>
          <p:nvPr/>
        </p:nvPicPr>
        <p:blipFill>
          <a:blip r:embed="rId1"/>
          <a:stretch/>
        </p:blipFill>
        <p:spPr>
          <a:xfrm>
            <a:off x="1600200" y="2057400"/>
            <a:ext cx="6705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грозой 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а пад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ь сыра-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ебалася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96 из 3955"/>
          <p:cNvPicPr/>
          <p:nvPr/>
        </p:nvPicPr>
        <p:blipFill>
          <a:blip r:embed="rId1"/>
          <a:stretch/>
        </p:blipFill>
        <p:spPr>
          <a:xfrm>
            <a:off x="4267080" y="76320"/>
            <a:ext cx="47358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 большим ша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убых не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жу — даль сте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лене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6 из 3964"/>
          <p:cNvPicPr/>
          <p:nvPr/>
        </p:nvPicPr>
        <p:blipFill>
          <a:blip r:embed="rId1"/>
          <a:stretch/>
        </p:blipFill>
        <p:spPr>
          <a:xfrm>
            <a:off x="990720" y="2133720"/>
            <a:ext cx="7429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зловещий д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 горевших 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 вста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ым облако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131 из 3953"/>
          <p:cNvPicPr/>
          <p:nvPr/>
        </p:nvPicPr>
        <p:blipFill>
          <a:blip r:embed="rId1"/>
          <a:stretch/>
        </p:blipFill>
        <p:spPr>
          <a:xfrm>
            <a:off x="1600200" y="2211480"/>
            <a:ext cx="6219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лишь кликнул ц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народ на б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со всех ко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ялася Рус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Картинка 140 из 3953"/>
          <p:cNvPicPr/>
          <p:nvPr/>
        </p:nvPicPr>
        <p:blipFill>
          <a:blip r:embed="rId1"/>
          <a:stretch/>
        </p:blipFill>
        <p:spPr>
          <a:xfrm>
            <a:off x="1523880" y="2103480"/>
            <a:ext cx="60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90512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рала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риков и ж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яла г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ровавый п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артинка 27 из 3978"/>
          <p:cNvPicPr/>
          <p:nvPr/>
        </p:nvPicPr>
        <p:blipFill>
          <a:blip r:embed="rId1"/>
          <a:stretch/>
        </p:blipFill>
        <p:spPr>
          <a:xfrm>
            <a:off x="2590920" y="609480"/>
            <a:ext cx="62481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-457200"/>
            <a:ext cx="7010640" cy="31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глухих степя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сугроб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глися сп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ти наве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артинка 120 из 3954"/>
          <p:cNvPicPr/>
          <p:nvPr/>
        </p:nvPicPr>
        <p:blipFill>
          <a:blip r:embed="rId1"/>
          <a:stretch/>
        </p:blipFill>
        <p:spPr>
          <a:xfrm>
            <a:off x="1828800" y="2152800"/>
            <a:ext cx="57150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нили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ьюги снеж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ри се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них плакали!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Картинка 49 из 3975"/>
          <p:cNvPicPr/>
          <p:nvPr/>
        </p:nvPicPr>
        <p:blipFill>
          <a:blip r:embed="rId1"/>
          <a:stretch/>
        </p:blipFill>
        <p:spPr>
          <a:xfrm>
            <a:off x="1371600" y="2057400"/>
            <a:ext cx="662940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76320" y="137160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еперь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одов т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равьем ки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ославный лю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Картинка 53 из 3975"/>
          <p:cNvPicPr/>
          <p:nvPr/>
        </p:nvPicPr>
        <p:blipFill>
          <a:blip r:embed="rId1"/>
          <a:stretch/>
        </p:blipFill>
        <p:spPr>
          <a:xfrm>
            <a:off x="2971800" y="838080"/>
            <a:ext cx="5940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8108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едым мор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далеки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клон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абли ид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Картинка 57 из 3975"/>
          <p:cNvPicPr/>
          <p:nvPr/>
        </p:nvPicPr>
        <p:blipFill>
          <a:blip r:embed="rId1"/>
          <a:stretch/>
        </p:blipFill>
        <p:spPr>
          <a:xfrm>
            <a:off x="2743200" y="762120"/>
            <a:ext cx="624852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67652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ля цве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са шум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жат в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ды зо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152 из 3950"/>
          <p:cNvPicPr/>
          <p:nvPr/>
        </p:nvPicPr>
        <p:blipFill>
          <a:blip r:embed="rId1"/>
          <a:stretch/>
        </p:blipFill>
        <p:spPr>
          <a:xfrm>
            <a:off x="2743200" y="838080"/>
            <a:ext cx="60958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905120"/>
            <a:ext cx="701028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о всех кон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а б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 тебя и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ава громк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79 из 3973"/>
          <p:cNvPicPr/>
          <p:nvPr/>
        </p:nvPicPr>
        <p:blipFill>
          <a:blip r:embed="rId1"/>
          <a:stretch/>
        </p:blipFill>
        <p:spPr>
          <a:xfrm>
            <a:off x="2590920" y="762120"/>
            <a:ext cx="63975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600200"/>
            <a:ext cx="7010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 и есть за ч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ь могуч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юбить теб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вать матер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448 из 3956"/>
          <p:cNvPicPr/>
          <p:nvPr/>
        </p:nvPicPr>
        <p:blipFill>
          <a:blip r:embed="rId1"/>
          <a:stretch/>
        </p:blipFill>
        <p:spPr>
          <a:xfrm>
            <a:off x="2743200" y="228600"/>
            <a:ext cx="631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71800" y="0"/>
            <a:ext cx="3200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а гранях 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ше темных ту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пи гор сто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иканам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Картинка 16 из 3964"/>
          <p:cNvPicPr/>
          <p:nvPr/>
        </p:nvPicPr>
        <p:blipFill>
          <a:blip r:embed="rId1"/>
          <a:stretch/>
        </p:blipFill>
        <p:spPr>
          <a:xfrm>
            <a:off x="1676520" y="2133720"/>
            <a:ext cx="61722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905120"/>
            <a:ext cx="701028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ь за честь т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тив недру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тебя в нуж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ить голов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845 из 3961"/>
          <p:cNvPicPr/>
          <p:nvPr/>
        </p:nvPicPr>
        <p:blipFill>
          <a:blip r:embed="rId1"/>
          <a:stretch/>
        </p:blipFill>
        <p:spPr>
          <a:xfrm>
            <a:off x="3067200" y="741240"/>
            <a:ext cx="60195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209680" y="218268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тепям в м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и катя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лежат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се сторо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17 из 3964"/>
          <p:cNvPicPr/>
          <p:nvPr/>
        </p:nvPicPr>
        <p:blipFill>
          <a:blip r:embed="rId1"/>
          <a:stretch/>
        </p:blipFill>
        <p:spPr>
          <a:xfrm>
            <a:off x="4438800" y="100080"/>
            <a:ext cx="47052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ю на юг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вы зрел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камыш гус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хо движутся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62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рава лу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вром стел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град в са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в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2320920"/>
            <a:ext cx="56581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яну к северу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, в глуши пусты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ег, что белый пу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о кружит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а 63 из 3959"/>
          <p:cNvPicPr/>
          <p:nvPr/>
        </p:nvPicPr>
        <p:blipFill>
          <a:blip r:embed="rId1"/>
          <a:stretch/>
        </p:blipFill>
        <p:spPr>
          <a:xfrm>
            <a:off x="3429000" y="609480"/>
            <a:ext cx="55627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ымает гр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е син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рами 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дит по морю;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68 из 3959"/>
          <p:cNvPicPr/>
          <p:nvPr/>
        </p:nvPicPr>
        <p:blipFill>
          <a:blip r:embed="rId1"/>
          <a:stretch/>
        </p:blipFill>
        <p:spPr>
          <a:xfrm>
            <a:off x="1219320" y="2209680"/>
            <a:ext cx="74674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0"/>
            <a:ext cx="8534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жар неб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рким заре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ещает мг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оглядную..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72 из 3959"/>
          <p:cNvPicPr/>
          <p:nvPr/>
        </p:nvPicPr>
        <p:blipFill>
          <a:blip r:embed="rId1"/>
          <a:stretch/>
        </p:blipFill>
        <p:spPr>
          <a:xfrm>
            <a:off x="685800" y="2114640"/>
            <a:ext cx="8105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5T02:38:4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