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174-1C32-4BF0-948E-6E83C64C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264E-9447-4223-B776-0A702498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370-4DD2-4A35-BA31-71DBC323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78E7-DF3B-4663-AC92-7DE558FD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500-1417-4955-BACF-871944F1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073-1117-4E59-AE30-C25D2CCC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EBE-1A6F-4008-AE2A-8EE2BA2D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42EB-127F-4E19-AF6C-CD83A8E3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C8C-FF94-4112-9D25-3DE1DE9A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891F-32A6-4AFC-A275-0DD22530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FD9-8957-4629-880A-E224A7C3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5BD-AE81-4626-8969-FD6AAE57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8362-A4AD-40C8-9467-54A6C1225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FCD7-23FC-4CF6-96BC-A0CE4687619D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14300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ван Саввич Ники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Ру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2 из 3964"/>
          <p:cNvPicPr/>
          <p:nvPr/>
        </p:nvPicPr>
        <p:blipFill>
          <a:blip r:embed="rId1"/>
          <a:stretch/>
        </p:blipFill>
        <p:spPr>
          <a:xfrm>
            <a:off x="1981080" y="2438280"/>
            <a:ext cx="55627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106720"/>
            <a:ext cx="8534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ты, мо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сь держав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я ро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ославная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Картинка 28 из 3964"/>
          <p:cNvPicPr/>
          <p:nvPr/>
        </p:nvPicPr>
        <p:blipFill>
          <a:blip r:embed="rId1"/>
          <a:stretch/>
        </p:blipFill>
        <p:spPr>
          <a:xfrm>
            <a:off x="2590920" y="515880"/>
            <a:ext cx="647676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981080"/>
            <a:ext cx="8534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око ты, Ру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лицу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расе царст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рнулася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Картинка 2 из 3964"/>
          <p:cNvPicPr/>
          <p:nvPr/>
        </p:nvPicPr>
        <p:blipFill>
          <a:blip r:embed="rId1"/>
          <a:stretch/>
        </p:blipFill>
        <p:spPr>
          <a:xfrm>
            <a:off x="3200400" y="914400"/>
            <a:ext cx="58672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0"/>
            <a:ext cx="8534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тебя ли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я чисто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б разгул наш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ля смела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Картинка 44 из 3961"/>
          <p:cNvPicPr/>
          <p:nvPr/>
        </p:nvPicPr>
        <p:blipFill>
          <a:blip r:embed="rId1"/>
          <a:stretch/>
        </p:blipFill>
        <p:spPr>
          <a:xfrm>
            <a:off x="1371600" y="2133720"/>
            <a:ext cx="67816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0"/>
            <a:ext cx="8534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тебя ли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 запас каз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друзей — сто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ча — недругу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Картинка 62 из 3959"/>
          <p:cNvPicPr/>
          <p:nvPr/>
        </p:nvPicPr>
        <p:blipFill>
          <a:blip r:embed="rId1"/>
          <a:stretch/>
        </p:blipFill>
        <p:spPr>
          <a:xfrm>
            <a:off x="1295280" y="2133720"/>
            <a:ext cx="64771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057400"/>
            <a:ext cx="8534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тебя ли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гатырских си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рины свят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омких подвигов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Картинка 64 из 3959"/>
          <p:cNvPicPr/>
          <p:nvPr/>
        </p:nvPicPr>
        <p:blipFill>
          <a:blip r:embed="rId1"/>
          <a:stretch/>
        </p:blipFill>
        <p:spPr>
          <a:xfrm>
            <a:off x="2895480" y="630360"/>
            <a:ext cx="617220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685800"/>
            <a:ext cx="8534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д кем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ы унизи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у в черны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зко кланялась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Картинка 70 из 3959"/>
          <p:cNvPicPr/>
          <p:nvPr/>
        </p:nvPicPr>
        <p:blipFill>
          <a:blip r:embed="rId1"/>
          <a:stretch/>
        </p:blipFill>
        <p:spPr>
          <a:xfrm>
            <a:off x="4191120" y="228600"/>
            <a:ext cx="460692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28800"/>
            <a:ext cx="6019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олях сво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 курган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жила 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тар полчища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Картинка 75 из 3959"/>
          <p:cNvPicPr/>
          <p:nvPr/>
        </p:nvPicPr>
        <p:blipFill>
          <a:blip r:embed="rId1"/>
          <a:stretch/>
        </p:blipFill>
        <p:spPr>
          <a:xfrm>
            <a:off x="2438280" y="915840"/>
            <a:ext cx="66294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28800"/>
            <a:ext cx="6400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ы на жизнь и смер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ла спор с Лит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дала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яху гордому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Картинка 95 из 3955"/>
          <p:cNvPicPr/>
          <p:nvPr/>
        </p:nvPicPr>
        <p:blipFill>
          <a:blip r:embed="rId1"/>
          <a:stretch/>
        </p:blipFill>
        <p:spPr>
          <a:xfrm>
            <a:off x="3276720" y="1066680"/>
            <a:ext cx="57150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05120" y="0"/>
            <a:ext cx="487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авно ль бы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с Зап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егла теб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ча темная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Картинка 94 из 3955"/>
          <p:cNvPicPr/>
          <p:nvPr/>
        </p:nvPicPr>
        <p:blipFill>
          <a:blip r:embed="rId1"/>
          <a:stretch/>
        </p:blipFill>
        <p:spPr>
          <a:xfrm>
            <a:off x="1600200" y="2057400"/>
            <a:ext cx="670572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1600200"/>
            <a:ext cx="7010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грозой 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а пад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ь сыра-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ебалася,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Картинка 96 из 3955"/>
          <p:cNvPicPr/>
          <p:nvPr/>
        </p:nvPicPr>
        <p:blipFill>
          <a:blip r:embed="rId1"/>
          <a:stretch/>
        </p:blipFill>
        <p:spPr>
          <a:xfrm>
            <a:off x="4267080" y="76320"/>
            <a:ext cx="473580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 большим шат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лубых неб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жу — даль степ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лене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6 из 3964"/>
          <p:cNvPicPr/>
          <p:nvPr/>
        </p:nvPicPr>
        <p:blipFill>
          <a:blip r:embed="rId1"/>
          <a:stretch/>
        </p:blipFill>
        <p:spPr>
          <a:xfrm>
            <a:off x="990720" y="2133720"/>
            <a:ext cx="7429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90720" y="0"/>
            <a:ext cx="7010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зловещий д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 горевших 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око вста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ным облаком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Картинка 131 из 3953"/>
          <p:cNvPicPr/>
          <p:nvPr/>
        </p:nvPicPr>
        <p:blipFill>
          <a:blip r:embed="rId1"/>
          <a:stretch/>
        </p:blipFill>
        <p:spPr>
          <a:xfrm>
            <a:off x="1600200" y="2211480"/>
            <a:ext cx="62197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0"/>
            <a:ext cx="7010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лишь кликнул ц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 народ на б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друг со всех кон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нялася Русь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Картинка 140 из 3953"/>
          <p:cNvPicPr/>
          <p:nvPr/>
        </p:nvPicPr>
        <p:blipFill>
          <a:blip r:embed="rId1"/>
          <a:stretch/>
        </p:blipFill>
        <p:spPr>
          <a:xfrm>
            <a:off x="1523880" y="2103480"/>
            <a:ext cx="609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905120"/>
            <a:ext cx="7010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рала де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риков и ж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яла г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ровавый пи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Картинка 27 из 3978"/>
          <p:cNvPicPr/>
          <p:nvPr/>
        </p:nvPicPr>
        <p:blipFill>
          <a:blip r:embed="rId1"/>
          <a:stretch/>
        </p:blipFill>
        <p:spPr>
          <a:xfrm>
            <a:off x="2590920" y="609480"/>
            <a:ext cx="62481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66680" y="-457200"/>
            <a:ext cx="7010640" cy="31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глухих степя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сугроб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еглися сп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ти наве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Картинка 120 из 3954"/>
          <p:cNvPicPr/>
          <p:nvPr/>
        </p:nvPicPr>
        <p:blipFill>
          <a:blip r:embed="rId1"/>
          <a:stretch/>
        </p:blipFill>
        <p:spPr>
          <a:xfrm>
            <a:off x="1828800" y="2152800"/>
            <a:ext cx="57150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0"/>
            <a:ext cx="7010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ронили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ьюги снеж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ри сев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них плакали!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Картинка 49 из 3975"/>
          <p:cNvPicPr/>
          <p:nvPr/>
        </p:nvPicPr>
        <p:blipFill>
          <a:blip r:embed="rId1"/>
          <a:stretch/>
        </p:blipFill>
        <p:spPr>
          <a:xfrm>
            <a:off x="1371600" y="2057400"/>
            <a:ext cx="662940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76320" y="1371600"/>
            <a:ext cx="7010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еперь с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одов тво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равьем киш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ославный люд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Картинка 53 из 3975"/>
          <p:cNvPicPr/>
          <p:nvPr/>
        </p:nvPicPr>
        <p:blipFill>
          <a:blip r:embed="rId1"/>
          <a:stretch/>
        </p:blipFill>
        <p:spPr>
          <a:xfrm>
            <a:off x="2971800" y="838080"/>
            <a:ext cx="59403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981080"/>
            <a:ext cx="7010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едым мор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далеких ст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оклон к т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абли ид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Картинка 57 из 3975"/>
          <p:cNvPicPr/>
          <p:nvPr/>
        </p:nvPicPr>
        <p:blipFill>
          <a:blip r:embed="rId1"/>
          <a:stretch/>
        </p:blipFill>
        <p:spPr>
          <a:xfrm>
            <a:off x="2743200" y="762120"/>
            <a:ext cx="6248520" cy="44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676520"/>
            <a:ext cx="6858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поля цвет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леса шум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лежат в зем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уды золо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Картинка 152 из 3950"/>
          <p:cNvPicPr/>
          <p:nvPr/>
        </p:nvPicPr>
        <p:blipFill>
          <a:blip r:embed="rId1"/>
          <a:stretch/>
        </p:blipFill>
        <p:spPr>
          <a:xfrm>
            <a:off x="2743200" y="838080"/>
            <a:ext cx="60958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905120"/>
            <a:ext cx="7010280" cy="20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во всех кон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ета б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 тебя ид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ва громк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Картинка 79 из 3973"/>
          <p:cNvPicPr/>
          <p:nvPr/>
        </p:nvPicPr>
        <p:blipFill>
          <a:blip r:embed="rId1"/>
          <a:stretch/>
        </p:blipFill>
        <p:spPr>
          <a:xfrm>
            <a:off x="2590920" y="762120"/>
            <a:ext cx="639756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600200"/>
            <a:ext cx="7010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ж и есть за ч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сь могуч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юбить теб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вать матерь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Картинка 448 из 3956"/>
          <p:cNvPicPr/>
          <p:nvPr/>
        </p:nvPicPr>
        <p:blipFill>
          <a:blip r:embed="rId1"/>
          <a:stretch/>
        </p:blipFill>
        <p:spPr>
          <a:xfrm>
            <a:off x="2743200" y="228600"/>
            <a:ext cx="6316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71800" y="0"/>
            <a:ext cx="3200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а гранях 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ше темных туч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пи гор сто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ликанам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Картинка 16 из 3964"/>
          <p:cNvPicPr/>
          <p:nvPr/>
        </p:nvPicPr>
        <p:blipFill>
          <a:blip r:embed="rId1"/>
          <a:stretch/>
        </p:blipFill>
        <p:spPr>
          <a:xfrm>
            <a:off x="1676520" y="2133720"/>
            <a:ext cx="61722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905120"/>
            <a:ext cx="7010280" cy="31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ть за честь тв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тив недруг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тебя в нуж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ить голов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85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845 из 3961"/>
          <p:cNvPicPr/>
          <p:nvPr/>
        </p:nvPicPr>
        <p:blipFill>
          <a:blip r:embed="rId1"/>
          <a:stretch/>
        </p:blipFill>
        <p:spPr>
          <a:xfrm>
            <a:off x="3067200" y="741240"/>
            <a:ext cx="601956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2209680" y="2182680"/>
            <a:ext cx="8534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тепям в мо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ки катя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лежат п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все сторон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17 из 3964"/>
          <p:cNvPicPr/>
          <p:nvPr/>
        </p:nvPicPr>
        <p:blipFill>
          <a:blip r:embed="rId1"/>
          <a:stretch/>
        </p:blipFill>
        <p:spPr>
          <a:xfrm>
            <a:off x="4438800" y="100080"/>
            <a:ext cx="47052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0"/>
            <a:ext cx="8534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мотрю на юг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вы зрел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камыш густ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хо движутся;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620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рава лу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вром стеле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ноград в са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лив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52480" y="2320920"/>
            <a:ext cx="565812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98108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яну к северу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м, в глуши пусты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ег, что белый пу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ыстро кружит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артинка 63 из 3959"/>
          <p:cNvPicPr/>
          <p:nvPr/>
        </p:nvPicPr>
        <p:blipFill>
          <a:blip r:embed="rId1"/>
          <a:stretch/>
        </p:blipFill>
        <p:spPr>
          <a:xfrm>
            <a:off x="3429000" y="609480"/>
            <a:ext cx="556272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0"/>
            <a:ext cx="8534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ымает гру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ре сине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горами 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дит по морю;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Картинка 68 из 3959"/>
          <p:cNvPicPr/>
          <p:nvPr/>
        </p:nvPicPr>
        <p:blipFill>
          <a:blip r:embed="rId1"/>
          <a:stretch/>
        </p:blipFill>
        <p:spPr>
          <a:xfrm>
            <a:off x="1219320" y="2209680"/>
            <a:ext cx="746748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0"/>
            <a:ext cx="8534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пожар неб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рким заре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вещает мг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роглядную..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72 из 3959"/>
          <p:cNvPicPr/>
          <p:nvPr/>
        </p:nvPicPr>
        <p:blipFill>
          <a:blip r:embed="rId1"/>
          <a:stretch/>
        </p:blipFill>
        <p:spPr>
          <a:xfrm>
            <a:off x="685800" y="2114640"/>
            <a:ext cx="81057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5T02:38:46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