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388-8A15-4B7E-B9E9-047B956C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F6A-ECDA-437B-B645-3ECB061C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654-9632-4F10-8944-58A899B4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288-132F-41C0-ADF1-5E128D52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4A9A-180E-4534-84DF-A80DFF2F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4D3D-B060-449C-A130-0138B5D7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21DD-F5EB-4D62-864B-70E15483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1B98-7077-44CD-9DF3-032C8F40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2F77-A5C9-4835-BC7E-6A6809D5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FB39-11D8-42AF-8C6E-62C74D91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CAFD-53F0-4F6E-A355-A33B870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234-1299-49B4-9E1D-3D99C817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690-4B49-43F4-8184-FF3F13F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BF46-B30B-43C0-9C7A-D3866776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5F7A-A720-4209-A25C-223E3A18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C36F-3085-4390-B23C-DDD52841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8F89-B0B5-49ED-A153-16796A2D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A2A-898E-4C48-B255-53DE1052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796-8804-47EF-B5A2-0D7774E3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83E-D07E-46EB-B17E-EDAC263C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1EA-FB87-4695-8A01-00FBF347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98F-3F60-4FC2-93FE-9AD83612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698-629B-4C2D-AD61-870166C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E3D-5AAE-4D61-AFFA-27870794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22ED-D28B-439D-BFD6-108878C898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7811-4FE3-4843-95B8-5BE40A725AD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i/pedagogika/Formy-vospitatelnoj-raboty/0007-005-Informativnaja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рок русского языка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3 класс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00120" y="3500280"/>
            <a:ext cx="58975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Имя числительно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7840" y="51436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кола Росс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мя числительное- эт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ь речи. Имена числительные обозначают количество предметов или их порядок при счете. К ним можно поставить вопросы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лько? семь, восемь, деся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торый? первый, втор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аница 59 упражнения 103, 1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1. Именем числительным назыв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а) часть речи, которая обозначает признак предме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) часть речи, которая обозначает количество предметов или порядок предметов при счёт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) часть речи, которая обозначает действие предме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2. Найдите имя числительное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а) стуль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) бежа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) девя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3. Найди числительное, обозначающее количество предмет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а) сем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) второ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) десят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4. Найди числительное, обозначающее порядок предметов при счёт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а) тр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)  ше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)  восьм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214200" y="2229120"/>
            <a:ext cx="7215480" cy="3141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Сегодня  я узнал.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У меня получилось…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Я научился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Рисунок 3" descr="http://900igr.net/datai/pedagogika/Formy-vospitatelnoj-raboty/0007-005-Informativnaj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3786120"/>
            <a:ext cx="2714400" cy="29289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68360" y="189000"/>
            <a:ext cx="8246880" cy="81108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1)  Выучить правило на стр. 60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2)  выполнить упр. № 105 с. 6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73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пределите слова по группа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ahoma"/>
              </a:rPr>
              <a:t>Р..сунок, х..роший, пш..ница, р..совать, ж..лтый, вос..мь, р..шать, ч..тыре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одержимое 2"/>
          <p:cNvSpPr/>
          <p:nvPr/>
        </p:nvSpPr>
        <p:spPr>
          <a:xfrm>
            <a:off x="214200" y="1000080"/>
            <a:ext cx="8715600" cy="128592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Группа 3"/>
          <p:cNvGrpSpPr/>
          <p:nvPr/>
        </p:nvGrpSpPr>
        <p:grpSpPr>
          <a:xfrm>
            <a:off x="696960" y="285840"/>
            <a:ext cx="7632720" cy="619200"/>
            <a:chOff x="696960" y="285840"/>
            <a:chExt cx="7632720" cy="619200"/>
          </a:xfrm>
        </p:grpSpPr>
        <p:sp>
          <p:nvSpPr>
            <p:cNvPr id="105" name="Text Box 4"/>
            <p:cNvSpPr/>
            <p:nvPr/>
          </p:nvSpPr>
          <p:spPr>
            <a:xfrm>
              <a:off x="899640" y="332640"/>
              <a:ext cx="743004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Определяем основной вопрос урок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06" name="Рисунок 15" descr="значок новая тема.jpg"/>
            <p:cNvPicPr/>
            <p:nvPr/>
          </p:nvPicPr>
          <p:blipFill>
            <a:blip r:embed="rId1"/>
            <a:stretch/>
          </p:blipFill>
          <p:spPr>
            <a:xfrm>
              <a:off x="696960" y="285840"/>
              <a:ext cx="58896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6"/>
          <p:cNvSpPr/>
          <p:nvPr/>
        </p:nvSpPr>
        <p:spPr>
          <a:xfrm>
            <a:off x="250920" y="119700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очитайте  слова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Что объединяет эти слова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Как вы думаете, по какому признаку эти слова можно  разделить на группы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611280" y="3645000"/>
            <a:ext cx="160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Рисунок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пшениц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643200" y="2924280"/>
            <a:ext cx="2513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324000" y="2708280"/>
            <a:ext cx="263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8a3e"/>
                </a:solidFill>
                <a:latin typeface="Century"/>
              </a:rPr>
              <a:t>Имя существительно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3348000" y="2708280"/>
            <a:ext cx="25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8a3e"/>
                </a:solidFill>
                <a:latin typeface="Century"/>
              </a:rPr>
              <a:t>Имя прилагательно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719280" y="508176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формулируйте основной вопрос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03320" y="575928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3e"/>
                </a:solidFill>
                <a:latin typeface="Calibri"/>
              </a:rPr>
              <a:t>Какой частью речи являются слова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ЕТЫРЕ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ВОСЕМЬ</a:t>
            </a:r>
            <a:r>
              <a:rPr b="0" lang="ru-RU" sz="2400" spc="-1" strike="noStrike">
                <a:solidFill>
                  <a:srgbClr val="008a3e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3348000" y="3645000"/>
            <a:ext cx="25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Хороши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жёлты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6227640" y="3573360"/>
            <a:ext cx="25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Рисоват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решат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6372360" y="278136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8a3e"/>
                </a:solidFill>
                <a:latin typeface="Century"/>
              </a:rPr>
              <a:t>Глаго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826920" y="42926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a3e"/>
                </a:solidFill>
                <a:latin typeface="Century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395280" y="4869000"/>
            <a:ext cx="160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Четыр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Восем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Имя числительно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22046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я числительное. Общее представл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Заголовок 3"/>
          <p:cNvGrpSpPr/>
          <p:nvPr/>
        </p:nvGrpSpPr>
        <p:grpSpPr>
          <a:xfrm>
            <a:off x="457200" y="274680"/>
            <a:ext cx="8229600" cy="1143000"/>
            <a:chOff x="457200" y="274680"/>
            <a:chExt cx="8229600" cy="1143000"/>
          </a:xfrm>
        </p:grpSpPr>
        <p:sp>
          <p:nvSpPr>
            <p:cNvPr id="123" name="Text Box 4"/>
            <p:cNvSpPr/>
            <p:nvPr/>
          </p:nvSpPr>
          <p:spPr>
            <a:xfrm>
              <a:off x="675720" y="361080"/>
              <a:ext cx="8011080" cy="84132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Определяем тему урок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4" name="Рисунок 15" descr="значок новая тема.jpg"/>
            <p:cNvPicPr/>
            <p:nvPr/>
          </p:nvPicPr>
          <p:blipFill>
            <a:blip r:embed="rId1"/>
            <a:stretch/>
          </p:blipFill>
          <p:spPr>
            <a:xfrm>
              <a:off x="457200" y="274680"/>
              <a:ext cx="63504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7"/>
          <p:cNvSpPr/>
          <p:nvPr/>
        </p:nvSpPr>
        <p:spPr>
          <a:xfrm rot="20877600">
            <a:off x="555120" y="3871800"/>
            <a:ext cx="34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Informal Roman"/>
              </a:rPr>
              <a:t>Что в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ff"/>
                </a:solidFill>
                <a:latin typeface="Informal Roman"/>
              </a:rPr>
              <a:t>зн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и</a:t>
            </a:r>
            <a:r>
              <a:rPr b="0" lang="ru-RU" sz="1800" spc="-1" strike="noStrike">
                <a:solidFill>
                  <a:srgbClr val="0000ff"/>
                </a:solidFill>
                <a:latin typeface="Informal Roman"/>
              </a:rPr>
              <a:t> о числительном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 rot="748200">
            <a:off x="5126040" y="2995200"/>
            <a:ext cx="30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Informal Roman"/>
              </a:rPr>
              <a:t>Что еще хотите узнать о числительн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11" descr="question_mark"/>
          <p:cNvPicPr/>
          <p:nvPr/>
        </p:nvPicPr>
        <p:blipFill>
          <a:blip r:embed="rId2"/>
          <a:stretch/>
        </p:blipFill>
        <p:spPr>
          <a:xfrm>
            <a:off x="2916360" y="3789360"/>
            <a:ext cx="2665440" cy="171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EY1"/>
          <p:cNvPicPr/>
          <p:nvPr/>
        </p:nvPicPr>
        <p:blipFill>
          <a:blip r:embed="rId3"/>
          <a:stretch/>
        </p:blipFill>
        <p:spPr>
          <a:xfrm rot="820800">
            <a:off x="6392520" y="554040"/>
            <a:ext cx="26384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мя числительное- эт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часть речи, которая обозначает количество предметов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одержимое 2"/>
          <p:cNvSpPr/>
          <p:nvPr/>
        </p:nvSpPr>
        <p:spPr>
          <a:xfrm>
            <a:off x="0" y="1052640"/>
            <a:ext cx="8317080" cy="149364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" name="Группа 17"/>
          <p:cNvGrpSpPr/>
          <p:nvPr/>
        </p:nvGrpSpPr>
        <p:grpSpPr>
          <a:xfrm>
            <a:off x="142920" y="285840"/>
            <a:ext cx="8786880" cy="714240"/>
            <a:chOff x="142920" y="285840"/>
            <a:chExt cx="8786880" cy="714240"/>
          </a:xfrm>
        </p:grpSpPr>
        <p:sp>
          <p:nvSpPr>
            <p:cNvPr id="133" name="Text Box 4"/>
            <p:cNvSpPr/>
            <p:nvPr/>
          </p:nvSpPr>
          <p:spPr>
            <a:xfrm>
              <a:off x="78588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4" name="Рисунок 7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14292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TextBox 6"/>
          <p:cNvSpPr/>
          <p:nvPr/>
        </p:nvSpPr>
        <p:spPr>
          <a:xfrm>
            <a:off x="285840" y="1143000"/>
            <a:ext cx="87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следование новой части реч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ить, на какой вопрос отвечае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ить, что обозначае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формулируйте выво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5280" y="2924280"/>
          <a:ext cx="7561440" cy="301140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112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обознача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ЕСТНАДЦА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С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95280" y="1484280"/>
          <a:ext cx="8209080" cy="51325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опро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то обознача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12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ЕСТНАДЦА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КАКОЕ 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РЯДОК ПРИ СЧЕ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20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СКОЛЬКО 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ЕСТВ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С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СКОЛЬКО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grpSp>
        <p:nvGrpSpPr>
          <p:cNvPr id="138" name="Группа 17"/>
          <p:cNvGrpSpPr/>
          <p:nvPr/>
        </p:nvGrpSpPr>
        <p:grpSpPr>
          <a:xfrm>
            <a:off x="457200" y="274680"/>
            <a:ext cx="8229600" cy="1143000"/>
            <a:chOff x="457200" y="274680"/>
            <a:chExt cx="8229600" cy="1143000"/>
          </a:xfrm>
        </p:grpSpPr>
        <p:sp>
          <p:nvSpPr>
            <p:cNvPr id="139" name="Text Box 4"/>
            <p:cNvSpPr/>
            <p:nvPr/>
          </p:nvSpPr>
          <p:spPr>
            <a:xfrm>
              <a:off x="1059120" y="503280"/>
              <a:ext cx="7627680" cy="72900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40" name="Рисунок 7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457200" y="274680"/>
              <a:ext cx="6822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s://encrypted-tbn2.gstatic.com/images?q=tbn:ANd9GcSh6mWZ-cu7lt--freLNNyEPYd1WL01dVd9-7JIwsuXFSVFgUZy"/>
          <p:cNvPicPr/>
          <p:nvPr/>
        </p:nvPicPr>
        <p:blipFill>
          <a:blip r:embed="rId1"/>
          <a:stretch/>
        </p:blipFill>
        <p:spPr>
          <a:xfrm>
            <a:off x="5786280" y="5357880"/>
            <a:ext cx="2005200" cy="15001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1928880" y="357120"/>
            <a:ext cx="4929120" cy="7146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мя числительно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714240" y="1714680"/>
            <a:ext cx="2786040" cy="6426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5143680" y="1714680"/>
            <a:ext cx="2928600" cy="6426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лько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785880" y="3214800"/>
            <a:ext cx="2643120" cy="642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ядок при счет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5143680" y="3214800"/>
            <a:ext cx="2928600" cy="642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785880" y="4714920"/>
            <a:ext cx="2643120" cy="642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ЯДКОВ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5143680" y="4714920"/>
            <a:ext cx="2928600" cy="642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ЕН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ая соединительная линия 11"/>
          <p:cNvSpPr/>
          <p:nvPr/>
        </p:nvSpPr>
        <p:spPr>
          <a:xfrm flipH="1">
            <a:off x="2106360" y="1071720"/>
            <a:ext cx="393480" cy="642960"/>
          </a:xfrm>
          <a:prstGeom prst="line">
            <a:avLst/>
          </a:prstGeom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ая соединительная линия 13"/>
          <p:cNvSpPr/>
          <p:nvPr/>
        </p:nvSpPr>
        <p:spPr>
          <a:xfrm>
            <a:off x="6000840" y="1071720"/>
            <a:ext cx="428400" cy="642960"/>
          </a:xfrm>
          <a:prstGeom prst="line">
            <a:avLst/>
          </a:prstGeom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2106720" y="2357280"/>
            <a:ext cx="0" cy="857520"/>
          </a:xfrm>
          <a:prstGeom prst="line">
            <a:avLst/>
          </a:prstGeom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2" name="Прямая со стрелкой 17"/>
          <p:cNvCxnSpPr>
            <a:stCxn id="145" idx="2"/>
            <a:endCxn id="147" idx="0"/>
          </p:cNvCxnSpPr>
          <p:nvPr/>
        </p:nvCxnSpPr>
        <p:spPr>
          <a:xfrm flipH="1">
            <a:off x="2106360" y="3858840"/>
            <a:ext cx="2160" cy="857880"/>
          </a:xfrm>
          <a:prstGeom prst="straightConnector1">
            <a:avLst/>
          </a:prstGeom>
          <a:ln w="9360">
            <a:solidFill>
              <a:srgbClr val="00e4a7"/>
            </a:solidFill>
            <a:miter/>
            <a:tailEnd len="med" type="arrow" w="med"/>
          </a:ln>
        </p:spPr>
      </p:cxnSp>
      <p:sp>
        <p:nvSpPr>
          <p:cNvPr id="153" name="Прямая соединительная линия 19"/>
          <p:cNvSpPr/>
          <p:nvPr/>
        </p:nvSpPr>
        <p:spPr>
          <a:xfrm>
            <a:off x="6608880" y="2357280"/>
            <a:ext cx="0" cy="857520"/>
          </a:xfrm>
          <a:prstGeom prst="line">
            <a:avLst/>
          </a:prstGeom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4" name="Прямая со стрелкой 21"/>
          <p:cNvCxnSpPr>
            <a:stCxn id="146" idx="2"/>
            <a:endCxn id="148" idx="0"/>
          </p:cNvCxnSpPr>
          <p:nvPr/>
        </p:nvCxnSpPr>
        <p:spPr>
          <a:xfrm flipH="1">
            <a:off x="6606360" y="3858840"/>
            <a:ext cx="2520" cy="857880"/>
          </a:xfrm>
          <a:prstGeom prst="straightConnector1">
            <a:avLst/>
          </a:prstGeom>
          <a:ln w="9360">
            <a:solidFill>
              <a:srgbClr val="00e4a7"/>
            </a:solidFill>
            <a:miter/>
            <a:tailEnd len="med" type="arrow" w="med"/>
          </a:ln>
        </p:spPr>
      </p:cxnSp>
      <p:pic>
        <p:nvPicPr>
          <p:cNvPr id="155" name="Picture 2" descr="http://entropiya-blog.ru/wp-content/uploads/2012/03/6312.jpg"/>
          <p:cNvPicPr/>
          <p:nvPr/>
        </p:nvPicPr>
        <p:blipFill>
          <a:blip r:embed="rId2"/>
          <a:stretch/>
        </p:blipFill>
        <p:spPr>
          <a:xfrm>
            <a:off x="1000080" y="542916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06:23:53Z</dcterms:created>
  <dc:creator>user</dc:creator>
  <dc:description/>
  <dc:language>en-US</dc:language>
  <cp:lastModifiedBy>Марина Капустина</cp:lastModifiedBy>
  <dcterms:modified xsi:type="dcterms:W3CDTF">2017-10-15T18:44:22Z</dcterms:modified>
  <cp:revision>24</cp:revision>
  <dc:subject/>
  <dc:title>Урок русского языка в 3 классе в технологии лингвистического исследования</dc:title>
</cp:coreProperties>
</file>