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BC3B-F541-49CA-81DD-BAE765E05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4EDA-D307-4FCE-AC5B-236067CF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834B-AFB7-4E53-8BF9-865BC22DB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79A2-6AC7-4964-856E-49C7D92D7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35E94-BB3F-4F1E-A902-D8EF0F8FD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8DAA-5BDB-449D-8A41-3CE0ED9A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D01F-9DA6-4A8A-9557-3AF640B4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3B73-F591-48F3-838C-8CE2A019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5CF2-BFB6-487F-84C0-D713DFA1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C5B6-3A5C-4E44-B84D-A15C1660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3F5E-CF26-40CC-9069-824D26E6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AA44-9508-46AC-8FC5-808321D4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5DE0E-6020-469B-BCDE-D7263432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3A44-ED30-4713-93B2-D4F4B1F7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AD98-ADA6-46BD-A697-9C5A538E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9886-E329-4B16-BEB9-96D180F62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3A7C-E99A-4894-AE06-4A250EA77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3A85-B6D2-4D22-B5CA-30FE3FAF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597B-2EE1-4395-A818-305500A6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D0DF-800B-491A-B8C1-FF98A611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1EF5-B6A8-4B26-8871-E71886AE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E4FD-F82B-486C-AC0C-2D868F3A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7479-AE45-42BE-A98E-96B3D6E8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9A6B-B63D-428F-A804-FDF63A25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A4FE-A79B-4C06-B4AD-1CD1904CBD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BC4B-5652-4DC1-A018-4A15D4F26B63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900igr.net/datai/pedagogika/Formy-vospitatelnoj-raboty/0007-005-Informativnaja.png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     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Урок русского языка 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             3 класс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500120" y="3500280"/>
            <a:ext cx="5897520" cy="14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«Имя числительное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рямоугольник 5"/>
          <p:cNvSpPr/>
          <p:nvPr/>
        </p:nvSpPr>
        <p:spPr>
          <a:xfrm>
            <a:off x="4857840" y="514368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Школа Росс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мя числительное- это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асть речи. Имена числительные обозначают количество предметов или их порядок при счете. К ним можно поставить вопросы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колько? семь, восемь, деся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торый? первый, второ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по учебник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раница 59 упражнения 103, 1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ес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1. Именем числительным называетс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а) часть речи, которая обозначает признак предмет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б) часть речи, которая обозначает количество предметов или порядок предметов при счёте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в) часть речи, которая обозначает действие предмет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2. Найдите имя числительное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а) стуль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б) бежать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в) девять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3. Найди числительное, обозначающее количество предметов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а) семь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б) второй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в) десяты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4. Найди числительное, обозначающее порядок предметов при счёт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а) тр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б)  шесть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в)  восьмо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оверь себ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5640" y="2017800"/>
            <a:ext cx="783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) 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) 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) 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4) 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"/>
          <p:cNvSpPr/>
          <p:nvPr/>
        </p:nvSpPr>
        <p:spPr>
          <a:xfrm>
            <a:off x="214200" y="2229120"/>
            <a:ext cx="7215480" cy="314136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33"/>
                </a:solidFill>
                <a:latin typeface="Georgia"/>
                <a:ea typeface="Times New Roman"/>
              </a:rPr>
              <a:t>Сегодня  я узнал.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33"/>
                </a:solidFill>
                <a:latin typeface="Georgia"/>
                <a:ea typeface="Times New Roman"/>
              </a:rPr>
              <a:t>Было трудно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33"/>
                </a:solidFill>
                <a:latin typeface="Georgia"/>
                <a:ea typeface="Times New Roman"/>
              </a:rPr>
              <a:t>Я понял, что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33"/>
                </a:solidFill>
                <a:latin typeface="Georgia"/>
                <a:ea typeface="Times New Roman"/>
              </a:rPr>
              <a:t>У меня получилось…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33"/>
                </a:solidFill>
                <a:latin typeface="Georgia"/>
                <a:ea typeface="Times New Roman"/>
              </a:rPr>
              <a:t>Я научился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Рисунок 3" descr="http://900igr.net/datai/pedagogika/Formy-vospitatelnoj-raboty/0007-005-Informativnaja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43760" y="3786120"/>
            <a:ext cx="2714400" cy="29289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468360" y="189000"/>
            <a:ext cx="8246880" cy="811080"/>
          </a:xfrm>
          <a:prstGeom prst="rect">
            <a:avLst/>
          </a:prstGeom>
          <a:solidFill>
            <a:srgbClr val="ffd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тог урок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1)  Выучить правило на стр. 60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2)  выполнить упр. № 105 с. 60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0" y="0"/>
            <a:ext cx="9144000" cy="73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спределите слова по группа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Tahoma"/>
              </a:rPr>
              <a:t>Р..сунок, х..роший, пш..ница, р..совать, ж..лтый, вос..мь, р..шать, ч..тыре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Содержимое 2"/>
          <p:cNvSpPr/>
          <p:nvPr/>
        </p:nvSpPr>
        <p:spPr>
          <a:xfrm>
            <a:off x="214200" y="1000080"/>
            <a:ext cx="8715600" cy="1285920"/>
          </a:xfrm>
          <a:prstGeom prst="rect">
            <a:avLst/>
          </a:prstGeom>
          <a:solidFill>
            <a:srgbClr val="ded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4" name="Группа 3"/>
          <p:cNvGrpSpPr/>
          <p:nvPr/>
        </p:nvGrpSpPr>
        <p:grpSpPr>
          <a:xfrm>
            <a:off x="696960" y="285840"/>
            <a:ext cx="7632720" cy="619200"/>
            <a:chOff x="696960" y="285840"/>
            <a:chExt cx="7632720" cy="619200"/>
          </a:xfrm>
        </p:grpSpPr>
        <p:sp>
          <p:nvSpPr>
            <p:cNvPr id="105" name="Text Box 4"/>
            <p:cNvSpPr/>
            <p:nvPr/>
          </p:nvSpPr>
          <p:spPr>
            <a:xfrm>
              <a:off x="899640" y="332640"/>
              <a:ext cx="7430040" cy="455760"/>
            </a:xfrm>
            <a:prstGeom prst="rect">
              <a:avLst/>
            </a:prstGeom>
            <a:solidFill>
              <a:srgbClr val="ffd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Microsoft YaHei"/>
                </a:rPr>
                <a:t>Определяем основной вопрос урока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106" name="Рисунок 15" descr="значок новая тема.jpg"/>
            <p:cNvPicPr/>
            <p:nvPr/>
          </p:nvPicPr>
          <p:blipFill>
            <a:blip r:embed="rId1"/>
            <a:stretch/>
          </p:blipFill>
          <p:spPr>
            <a:xfrm>
              <a:off x="696960" y="285840"/>
              <a:ext cx="588960" cy="61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TextBox 6"/>
          <p:cNvSpPr/>
          <p:nvPr/>
        </p:nvSpPr>
        <p:spPr>
          <a:xfrm>
            <a:off x="250920" y="1197000"/>
            <a:ext cx="8501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Прочитайте  слова.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Что объединяет эти слова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Как вы думаете, по какому признаку эти слова можно  разделить на группы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611280" y="3645000"/>
            <a:ext cx="160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entury"/>
              </a:rPr>
              <a:t>Рисунок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entury"/>
              </a:rPr>
              <a:t>пшеница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3643200" y="2924280"/>
            <a:ext cx="25131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Box 15"/>
          <p:cNvSpPr/>
          <p:nvPr/>
        </p:nvSpPr>
        <p:spPr>
          <a:xfrm>
            <a:off x="324000" y="2708280"/>
            <a:ext cx="2630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8a3e"/>
                </a:solidFill>
                <a:latin typeface="Century"/>
              </a:rPr>
              <a:t>Имя существительное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Box 16"/>
          <p:cNvSpPr/>
          <p:nvPr/>
        </p:nvSpPr>
        <p:spPr>
          <a:xfrm>
            <a:off x="3348000" y="2708280"/>
            <a:ext cx="258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8a3e"/>
                </a:solidFill>
                <a:latin typeface="Century"/>
              </a:rPr>
              <a:t>Имя прилагательное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TextBox 17"/>
          <p:cNvSpPr/>
          <p:nvPr/>
        </p:nvSpPr>
        <p:spPr>
          <a:xfrm>
            <a:off x="719280" y="5081760"/>
            <a:ext cx="85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формулируйте основной вопрос уро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Box 18"/>
          <p:cNvSpPr/>
          <p:nvPr/>
        </p:nvSpPr>
        <p:spPr>
          <a:xfrm>
            <a:off x="103320" y="575928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a3e"/>
                </a:solidFill>
                <a:latin typeface="Calibri"/>
              </a:rPr>
              <a:t>Какой частью речи являются слова 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ЧЕТЫРЕ </a:t>
            </a: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и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ВОСЕМЬ</a:t>
            </a:r>
            <a:r>
              <a:rPr b="0" lang="ru-RU" sz="2400" spc="-1" strike="noStrike">
                <a:solidFill>
                  <a:srgbClr val="008a3e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3348000" y="3645000"/>
            <a:ext cx="251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entury"/>
              </a:rPr>
              <a:t>Хороший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entury"/>
              </a:rPr>
              <a:t>жёлтый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6227640" y="3573360"/>
            <a:ext cx="251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entury"/>
              </a:rPr>
              <a:t>Рисовать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entury"/>
              </a:rPr>
              <a:t>решать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Box 22"/>
          <p:cNvSpPr/>
          <p:nvPr/>
        </p:nvSpPr>
        <p:spPr>
          <a:xfrm>
            <a:off x="6372360" y="2781360"/>
            <a:ext cx="151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8a3e"/>
                </a:solidFill>
                <a:latin typeface="Century"/>
              </a:rPr>
              <a:t>Глагол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Box 20"/>
          <p:cNvSpPr/>
          <p:nvPr/>
        </p:nvSpPr>
        <p:spPr>
          <a:xfrm>
            <a:off x="826920" y="429264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a3e"/>
                </a:solidFill>
                <a:latin typeface="Century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395280" y="4869000"/>
            <a:ext cx="160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entury"/>
              </a:rPr>
              <a:t>Четыре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entury"/>
              </a:rPr>
              <a:t>Восемь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ема уро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Имя числительное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95280" y="2204640"/>
            <a:ext cx="822960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мя числительное. Общее представлени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2" name="Заголовок 3"/>
          <p:cNvGrpSpPr/>
          <p:nvPr/>
        </p:nvGrpSpPr>
        <p:grpSpPr>
          <a:xfrm>
            <a:off x="457200" y="274680"/>
            <a:ext cx="8229600" cy="1143000"/>
            <a:chOff x="457200" y="274680"/>
            <a:chExt cx="8229600" cy="1143000"/>
          </a:xfrm>
        </p:grpSpPr>
        <p:sp>
          <p:nvSpPr>
            <p:cNvPr id="123" name="Text Box 4"/>
            <p:cNvSpPr/>
            <p:nvPr/>
          </p:nvSpPr>
          <p:spPr>
            <a:xfrm>
              <a:off x="675720" y="361080"/>
              <a:ext cx="8011080" cy="841320"/>
            </a:xfrm>
            <a:prstGeom prst="rect">
              <a:avLst/>
            </a:prstGeom>
            <a:solidFill>
              <a:srgbClr val="ffd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Microsoft YaHei"/>
                </a:rPr>
                <a:t>Определяем тему урока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124" name="Рисунок 15" descr="значок новая тема.jpg"/>
            <p:cNvPicPr/>
            <p:nvPr/>
          </p:nvPicPr>
          <p:blipFill>
            <a:blip r:embed="rId1"/>
            <a:stretch/>
          </p:blipFill>
          <p:spPr>
            <a:xfrm>
              <a:off x="457200" y="274680"/>
              <a:ext cx="635040" cy="11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" name="Text Box 7"/>
          <p:cNvSpPr/>
          <p:nvPr/>
        </p:nvSpPr>
        <p:spPr>
          <a:xfrm rot="20877600">
            <a:off x="555120" y="3871800"/>
            <a:ext cx="343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Informal Roman"/>
              </a:rPr>
              <a:t>Что вы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у</a:t>
            </a:r>
            <a:r>
              <a:rPr b="0" lang="ru-RU" sz="1800" spc="-1" strike="noStrike">
                <a:solidFill>
                  <a:srgbClr val="0000ff"/>
                </a:solidFill>
                <a:latin typeface="Informal Roman"/>
              </a:rPr>
              <a:t>зна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ли</a:t>
            </a:r>
            <a:r>
              <a:rPr b="0" lang="ru-RU" sz="1800" spc="-1" strike="noStrike">
                <a:solidFill>
                  <a:srgbClr val="0000ff"/>
                </a:solidFill>
                <a:latin typeface="Informal Roman"/>
              </a:rPr>
              <a:t> о числительном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8"/>
          <p:cNvSpPr/>
          <p:nvPr/>
        </p:nvSpPr>
        <p:spPr>
          <a:xfrm rot="748200">
            <a:off x="5126040" y="2995200"/>
            <a:ext cx="306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Informal Roman"/>
              </a:rPr>
              <a:t>Что еще хотите узнать о числительном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11" descr="question_mark"/>
          <p:cNvPicPr/>
          <p:nvPr/>
        </p:nvPicPr>
        <p:blipFill>
          <a:blip r:embed="rId2"/>
          <a:stretch/>
        </p:blipFill>
        <p:spPr>
          <a:xfrm>
            <a:off x="2916360" y="3789360"/>
            <a:ext cx="2665440" cy="1711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KEY1"/>
          <p:cNvPicPr/>
          <p:nvPr/>
        </p:nvPicPr>
        <p:blipFill>
          <a:blip r:embed="rId3"/>
          <a:stretch/>
        </p:blipFill>
        <p:spPr>
          <a:xfrm rot="820800">
            <a:off x="6392520" y="554040"/>
            <a:ext cx="263844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мя числительное- это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ahoma"/>
              </a:rPr>
              <a:t>часть речи, которая обозначает количество предметов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Содержимое 2"/>
          <p:cNvSpPr/>
          <p:nvPr/>
        </p:nvSpPr>
        <p:spPr>
          <a:xfrm>
            <a:off x="0" y="1052640"/>
            <a:ext cx="8317080" cy="1493640"/>
          </a:xfrm>
          <a:prstGeom prst="rect">
            <a:avLst/>
          </a:prstGeom>
          <a:solidFill>
            <a:srgbClr val="ded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2" name="Группа 17"/>
          <p:cNvGrpSpPr/>
          <p:nvPr/>
        </p:nvGrpSpPr>
        <p:grpSpPr>
          <a:xfrm>
            <a:off x="142920" y="285840"/>
            <a:ext cx="8786880" cy="714240"/>
            <a:chOff x="142920" y="285840"/>
            <a:chExt cx="8786880" cy="714240"/>
          </a:xfrm>
        </p:grpSpPr>
        <p:sp>
          <p:nvSpPr>
            <p:cNvPr id="133" name="Text Box 4"/>
            <p:cNvSpPr/>
            <p:nvPr/>
          </p:nvSpPr>
          <p:spPr>
            <a:xfrm>
              <a:off x="785880" y="428760"/>
              <a:ext cx="8143920" cy="455760"/>
            </a:xfrm>
            <a:prstGeom prst="rect">
              <a:avLst/>
            </a:prstGeom>
            <a:solidFill>
              <a:srgbClr val="ffd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Microsoft YaHei"/>
                </a:rPr>
                <a:t>Решаем проблему, открываем новые знания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134" name="Рисунок 7" descr="значки - идея.jpg"/>
            <p:cNvPicPr/>
            <p:nvPr/>
          </p:nvPicPr>
          <p:blipFill>
            <a:blip r:embed="rId1"/>
            <a:stretch/>
          </p:blipFill>
          <p:spPr>
            <a:xfrm>
              <a:off x="142920" y="285840"/>
              <a:ext cx="728280" cy="71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TextBox 6"/>
          <p:cNvSpPr/>
          <p:nvPr/>
        </p:nvSpPr>
        <p:spPr>
          <a:xfrm>
            <a:off x="285840" y="1143000"/>
            <a:ext cx="8715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сследование новой части речи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пределить, на какой вопрос отвечает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пределить, что обозначает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формулируйте вывод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95280" y="2924280"/>
          <a:ext cx="7561440" cy="3011400"/>
        </p:xfrm>
        <a:graphic>
          <a:graphicData uri="http://schemas.openxmlformats.org/drawingml/2006/table">
            <a:tbl>
              <a:tblPr/>
              <a:tblGrid>
                <a:gridCol w="2521080"/>
                <a:gridCol w="2519280"/>
                <a:gridCol w="2521080"/>
              </a:tblGrid>
              <a:tr h="1122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опро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то обозначае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ШЕСТНАДЦАТ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Я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ЕСЯ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395280" y="1484280"/>
          <a:ext cx="8209080" cy="513252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737080"/>
              </a:tblGrid>
              <a:tr h="1122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Вопро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Что обозначае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1121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ШЕСТНАДЦАТ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КАКОЕ 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РЯДОК ПРИ СЧЕТ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206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Я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СКОЛЬКО 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ОЛИЧЕСТВО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682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ЕСЯ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СКОЛЬКО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</a:tbl>
          </a:graphicData>
        </a:graphic>
      </p:graphicFrame>
      <p:grpSp>
        <p:nvGrpSpPr>
          <p:cNvPr id="138" name="Группа 17"/>
          <p:cNvGrpSpPr/>
          <p:nvPr/>
        </p:nvGrpSpPr>
        <p:grpSpPr>
          <a:xfrm>
            <a:off x="457200" y="274680"/>
            <a:ext cx="8229600" cy="1143000"/>
            <a:chOff x="457200" y="274680"/>
            <a:chExt cx="8229600" cy="1143000"/>
          </a:xfrm>
        </p:grpSpPr>
        <p:sp>
          <p:nvSpPr>
            <p:cNvPr id="139" name="Text Box 4"/>
            <p:cNvSpPr/>
            <p:nvPr/>
          </p:nvSpPr>
          <p:spPr>
            <a:xfrm>
              <a:off x="1059120" y="503280"/>
              <a:ext cx="7627680" cy="729000"/>
            </a:xfrm>
            <a:prstGeom prst="rect">
              <a:avLst/>
            </a:prstGeom>
            <a:solidFill>
              <a:srgbClr val="ffd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Microsoft YaHei"/>
                </a:rPr>
                <a:t>Решаем проблему, открываем новые знания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140" name="Рисунок 7" descr="значки - идея.jpg"/>
            <p:cNvPicPr/>
            <p:nvPr/>
          </p:nvPicPr>
          <p:blipFill>
            <a:blip r:embed="rId1"/>
            <a:stretch/>
          </p:blipFill>
          <p:spPr>
            <a:xfrm>
              <a:off x="457200" y="274680"/>
              <a:ext cx="682200" cy="1143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https://encrypted-tbn2.gstatic.com/images?q=tbn:ANd9GcSh6mWZ-cu7lt--freLNNyEPYd1WL01dVd9-7JIwsuXFSVFgUZy"/>
          <p:cNvPicPr/>
          <p:nvPr/>
        </p:nvPicPr>
        <p:blipFill>
          <a:blip r:embed="rId1"/>
          <a:stretch/>
        </p:blipFill>
        <p:spPr>
          <a:xfrm>
            <a:off x="5786280" y="5357880"/>
            <a:ext cx="2005200" cy="150012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3"/>
          <p:cNvSpPr/>
          <p:nvPr/>
        </p:nvSpPr>
        <p:spPr>
          <a:xfrm>
            <a:off x="1928880" y="357120"/>
            <a:ext cx="4929120" cy="714600"/>
          </a:xfrm>
          <a:prstGeom prst="rect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Имя числительно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Прямоугольник 4"/>
          <p:cNvSpPr/>
          <p:nvPr/>
        </p:nvSpPr>
        <p:spPr>
          <a:xfrm>
            <a:off x="714240" y="1714680"/>
            <a:ext cx="2786040" cy="642600"/>
          </a:xfrm>
          <a:prstGeom prst="rect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кой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Прямоугольник 5"/>
          <p:cNvSpPr/>
          <p:nvPr/>
        </p:nvSpPr>
        <p:spPr>
          <a:xfrm>
            <a:off x="5143680" y="1714680"/>
            <a:ext cx="2928600" cy="642600"/>
          </a:xfrm>
          <a:prstGeom prst="rect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колько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Прямоугольник 6"/>
          <p:cNvSpPr/>
          <p:nvPr/>
        </p:nvSpPr>
        <p:spPr>
          <a:xfrm>
            <a:off x="785880" y="3214800"/>
            <a:ext cx="2643120" cy="642960"/>
          </a:xfrm>
          <a:prstGeom prst="rect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рядок при счет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Прямоугольник 7"/>
          <p:cNvSpPr/>
          <p:nvPr/>
        </p:nvSpPr>
        <p:spPr>
          <a:xfrm>
            <a:off x="5143680" y="3214800"/>
            <a:ext cx="2928600" cy="642960"/>
          </a:xfrm>
          <a:prstGeom prst="rect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личество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Прямоугольник 8"/>
          <p:cNvSpPr/>
          <p:nvPr/>
        </p:nvSpPr>
        <p:spPr>
          <a:xfrm>
            <a:off x="785880" y="4714920"/>
            <a:ext cx="2643120" cy="642960"/>
          </a:xfrm>
          <a:prstGeom prst="rect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РЯДКОВО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Прямоугольник 9"/>
          <p:cNvSpPr/>
          <p:nvPr/>
        </p:nvSpPr>
        <p:spPr>
          <a:xfrm>
            <a:off x="5143680" y="4714920"/>
            <a:ext cx="2928600" cy="642960"/>
          </a:xfrm>
          <a:prstGeom prst="rect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ЛИЧЕСТВЕННО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Прямая соединительная линия 11"/>
          <p:cNvSpPr/>
          <p:nvPr/>
        </p:nvSpPr>
        <p:spPr>
          <a:xfrm flipH="1">
            <a:off x="2106360" y="1071720"/>
            <a:ext cx="393480" cy="642960"/>
          </a:xfrm>
          <a:prstGeom prst="line">
            <a:avLst/>
          </a:prstGeom>
          <a:ln w="9360">
            <a:solidFill>
              <a:srgbClr val="00e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Прямая соединительная линия 13"/>
          <p:cNvSpPr/>
          <p:nvPr/>
        </p:nvSpPr>
        <p:spPr>
          <a:xfrm>
            <a:off x="6000840" y="1071720"/>
            <a:ext cx="428400" cy="642960"/>
          </a:xfrm>
          <a:prstGeom prst="line">
            <a:avLst/>
          </a:prstGeom>
          <a:ln w="9360">
            <a:solidFill>
              <a:srgbClr val="00e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Прямая соединительная линия 15"/>
          <p:cNvSpPr/>
          <p:nvPr/>
        </p:nvSpPr>
        <p:spPr>
          <a:xfrm>
            <a:off x="2106720" y="2357280"/>
            <a:ext cx="0" cy="857520"/>
          </a:xfrm>
          <a:prstGeom prst="line">
            <a:avLst/>
          </a:prstGeom>
          <a:ln w="9360">
            <a:solidFill>
              <a:srgbClr val="00e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2" name="Прямая со стрелкой 17"/>
          <p:cNvCxnSpPr>
            <a:stCxn id="145" idx="2"/>
            <a:endCxn id="147" idx="0"/>
          </p:cNvCxnSpPr>
          <p:nvPr/>
        </p:nvCxnSpPr>
        <p:spPr>
          <a:xfrm flipH="1">
            <a:off x="2106360" y="3858840"/>
            <a:ext cx="2160" cy="857880"/>
          </a:xfrm>
          <a:prstGeom prst="straightConnector1">
            <a:avLst/>
          </a:prstGeom>
          <a:ln w="9360">
            <a:solidFill>
              <a:srgbClr val="00e4a7"/>
            </a:solidFill>
            <a:miter/>
            <a:tailEnd len="med" type="arrow" w="med"/>
          </a:ln>
        </p:spPr>
      </p:cxnSp>
      <p:sp>
        <p:nvSpPr>
          <p:cNvPr id="153" name="Прямая соединительная линия 19"/>
          <p:cNvSpPr/>
          <p:nvPr/>
        </p:nvSpPr>
        <p:spPr>
          <a:xfrm>
            <a:off x="6608880" y="2357280"/>
            <a:ext cx="0" cy="857520"/>
          </a:xfrm>
          <a:prstGeom prst="line">
            <a:avLst/>
          </a:prstGeom>
          <a:ln w="9360">
            <a:solidFill>
              <a:srgbClr val="00e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4" name="Прямая со стрелкой 21"/>
          <p:cNvCxnSpPr>
            <a:stCxn id="146" idx="2"/>
            <a:endCxn id="148" idx="0"/>
          </p:cNvCxnSpPr>
          <p:nvPr/>
        </p:nvCxnSpPr>
        <p:spPr>
          <a:xfrm flipH="1">
            <a:off x="6606360" y="3858840"/>
            <a:ext cx="2520" cy="857880"/>
          </a:xfrm>
          <a:prstGeom prst="straightConnector1">
            <a:avLst/>
          </a:prstGeom>
          <a:ln w="9360">
            <a:solidFill>
              <a:srgbClr val="00e4a7"/>
            </a:solidFill>
            <a:miter/>
            <a:tailEnd len="med" type="arrow" w="med"/>
          </a:ln>
        </p:spPr>
      </p:cxnSp>
      <p:pic>
        <p:nvPicPr>
          <p:cNvPr id="155" name="Picture 2" descr="http://entropiya-blog.ru/wp-content/uploads/2012/03/6312.jpg"/>
          <p:cNvPicPr/>
          <p:nvPr/>
        </p:nvPicPr>
        <p:blipFill>
          <a:blip r:embed="rId2"/>
          <a:stretch/>
        </p:blipFill>
        <p:spPr>
          <a:xfrm>
            <a:off x="1000080" y="5429160"/>
            <a:ext cx="2143080" cy="1428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06:23:53Z</dcterms:created>
  <dc:creator>user</dc:creator>
  <dc:description/>
  <dc:language>en-US</dc:language>
  <cp:lastModifiedBy>Марина Капустина</cp:lastModifiedBy>
  <dcterms:modified xsi:type="dcterms:W3CDTF">2017-10-15T18:44:22Z</dcterms:modified>
  <cp:revision>24</cp:revision>
  <dc:subject/>
  <dc:title>Урок русского языка в 3 классе в технологии лингвистического исследования</dc:title>
</cp:coreProperties>
</file>