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8E4-9473-4932-8C14-845F717E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DD9-3274-48FD-99A9-5283F2F9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058-33BF-4677-A950-5E7F2216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926-F9CB-41C5-9D22-65503400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F326-0A70-488D-8AEF-C2C4F196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E439-9BD8-43CB-8D55-538CCA29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5D93-B3E3-4EC0-BDEB-1BBEA89E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3D88-96E0-4E1C-86F8-A3408001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8BB9-32AE-4949-87D4-A41A4596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965E-6536-4AA6-9153-7BB18AB1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F78E-82C5-4B31-9140-55655746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8F3-F248-4FB6-856F-C515DD8F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68ED-1BA4-4A1C-AB9B-F859FC17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E6AB-09D8-4099-A755-6351B7DD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F96C-5F9C-47A2-A9C7-F4D55D23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F266-12CD-4C3B-8AFC-CD3363E5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BEB8-7820-4414-A3FB-4715E5C8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465-12AF-453C-8281-1C2C50E5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517-4D0E-4762-8176-E0AC4FBD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6E0-C5B5-40B9-BFA5-B12C1AE5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4B8-E9C2-41D7-9F9E-AFFC557B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4AB-583F-4547-8504-3F30BA23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631-9EF8-4D72-948A-46FD6E83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7FF-04D4-4D6B-9DC0-D289D027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4C36-F8E6-464C-9FAA-70A89FAD65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9710-EFC1-4EFE-A508-FC49996F79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863640" y="549360"/>
            <a:ext cx="4572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4647c"/>
                </a:solidFill>
                <a:latin typeface="Times New Roman"/>
              </a:rPr>
              <a:t>ПОРТФОЛИ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c4e10"/>
                </a:solidFill>
                <a:latin typeface="Times New Roman"/>
              </a:rPr>
              <a:t>Савиной </a:t>
            </a:r>
            <a:br>
              <a:rPr sz="4400"/>
            </a:br>
            <a:r>
              <a:rPr b="1" i="1" lang="ru-RU" sz="4400" spc="-1" strike="noStrike">
                <a:solidFill>
                  <a:srgbClr val="8c4e10"/>
                </a:solidFill>
                <a:latin typeface="Times New Roman"/>
              </a:rPr>
              <a:t>Елены </a:t>
            </a:r>
            <a:br>
              <a:rPr sz="4400"/>
            </a:br>
            <a:r>
              <a:rPr b="1" i="1" lang="ru-RU" sz="4400" spc="-1" strike="noStrike">
                <a:solidFill>
                  <a:srgbClr val="8c4e10"/>
                </a:solidFill>
                <a:latin typeface="Times New Roman"/>
              </a:rPr>
              <a:t>Васильевны</a:t>
            </a:r>
            <a:br>
              <a:rPr sz="4400"/>
            </a:b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Сменовский филиал</a:t>
            </a:r>
            <a:r>
              <a:rPr b="0" lang="ru-RU" sz="4400" spc="-1" strike="noStrike">
                <a:solidFill>
                  <a:srgbClr val="18435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МОУ «Захаровская СОШ № 1»</a:t>
            </a:r>
            <a:br>
              <a:rPr sz="2400"/>
            </a:b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МО – Захаровский муниципальный район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30320" y="296640"/>
            <a:ext cx="78436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82520" indent="-182520">
              <a:spcBef>
                <a:spcPts val="575"/>
              </a:spcBef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  <a:ea typeface="Times New Roman"/>
              </a:rPr>
              <a:t>1994 г. –Клепиковский технологический техникум, специальность - техник – технолог швейного производ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575"/>
              </a:spcBef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  <a:ea typeface="Times New Roman"/>
              </a:rPr>
              <a:t>2016 г. - Рязанский институт развития образования, специальность - «Педагогика. Теория и методика преподавания предмета «Технолог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575"/>
              </a:spcBef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60000"/>
              </a:lnSpc>
              <a:spcBef>
                <a:spcPts val="575"/>
              </a:spcBef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60000"/>
              </a:lnSpc>
              <a:spcBef>
                <a:spcPts val="575"/>
              </a:spcBef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60000"/>
              </a:lnSpc>
              <a:spcBef>
                <a:spcPts val="575"/>
              </a:spcBef>
              <a:buClr>
                <a:srgbClr val="00206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60000"/>
              </a:lnSpc>
              <a:spcBef>
                <a:spcPts val="575"/>
              </a:spcBef>
              <a:buClr>
                <a:srgbClr val="00206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H:\tripod_mix.jpg"/>
          <p:cNvPicPr/>
          <p:nvPr/>
        </p:nvPicPr>
        <p:blipFill>
          <a:blip r:embed="rId1"/>
          <a:stretch/>
        </p:blipFill>
        <p:spPr>
          <a:xfrm>
            <a:off x="7527960" y="2346480"/>
            <a:ext cx="1019160" cy="32558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"/>
          <p:cNvSpPr/>
          <p:nvPr/>
        </p:nvSpPr>
        <p:spPr>
          <a:xfrm>
            <a:off x="1081080" y="2852640"/>
            <a:ext cx="78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Стаж педагогической работы  -  21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Стаж работы в Сменовском филиа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МОУ «Захаровская СОШ № 1» – 21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Должность старшая вожатая, 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8435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Наличие квалификационной категории -  перва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184352"/>
                </a:solidFill>
                <a:latin typeface="Times New Roman"/>
              </a:rPr>
              <a:t>с 25.12.2015 г. по 25.12.2020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143000" y="260280"/>
            <a:ext cx="77565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c4e1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c4e10"/>
                </a:solidFill>
                <a:latin typeface="Times New Roman"/>
              </a:rPr>
              <a:t>Сведения о повышении квалифика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1089000" y="1197000"/>
            <a:ext cx="764388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5 – 16 уч. г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Профессиональные компетентности педагогических кадров системы воспитания и дополнительного образования», 72 часа (РИРО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8 – 19 уч. г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Пути и подходы к организации дополнительного образования, определенные приоритетным проектом «Доступное дополнительное образование для детей», 16 часов (РИРО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8 – 19 уч. г. - «Содержание и технологии дополнительного образования в контексте Федерального проекта «Успех каждого ребенка», 72 часа (РИРО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9 – 20 уч. г. - «Основные направления воспитания в образовательном учреждении, определенные Стратегией развития воспитания в Российской Федерации до 2025 года», 72 часа (РИР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4352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8c4e10"/>
                </a:solidFill>
                <a:latin typeface="Times New Roman"/>
              </a:rPr>
              <a:t>Мои награды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1143000" y="907920"/>
            <a:ext cx="7500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016 г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граждена Дипломом муниципального учреждения дополнительного образования «Дом детского творчества» муниципального образования - Захаровский муниципальный район Рязанской области за конкурс авторской игрушки «Душа моя,  Масленица». Приказ № 9 от26.02.2016 г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016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ъявлена Благодарность муниципального учреждения дополнительного образования «Дом детского творчества» муниципального образования - Захаровский муниципальный район Рязанской области за активное участие в районной торгово-розничной ярмарке. Приказ № 23 от 05.05.2016 г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017 г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граждена Почетной грамотой управления образования и молодежной политики администрации муниципального образования – Захаровский муниципальный район Рязанской области. Приказ № 109 от 02.10.2017г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017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ъявлена Благодарность муниципального учреждения дополнительного образования «Дом детского творчества» муниципального образования - Захаровский муниципальный район Рязанской области за активное участие в районной выставке творческих работ «Эколят – молодых защитников природы «Новогодняя сказка»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4352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8c4e10"/>
                </a:solidFill>
                <a:latin typeface="Times New Roman"/>
              </a:rPr>
              <a:t>Мои награды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1143000" y="907920"/>
            <a:ext cx="75009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017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граждена Почетной грамотой управления образования и молодежной политики администрации муниципального образования – Захаровский муниципальный район Рязанской области. Приказ № 109 от 02.10.2017г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018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ъявлена Благодарность отдела образования и молодежной политики администрации муниципального образования – Захаровский муниципальный район Рязанской области за активное участие в мероприятиях по профилактике детского дорожно-транспортного травматизма. 2018 г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019 г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явлена Благодарность Главы администрации МО - Захаровский муниципальный район Рязанской области. Приказ № 567 от 26.09.2019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61272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c4e10"/>
                </a:solidFill>
                <a:latin typeface="Times New Roman"/>
              </a:rPr>
              <a:t>Мои воспитанники…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1" name="Picture 4" descr="DSCN4508"/>
          <p:cNvPicPr/>
          <p:nvPr/>
        </p:nvPicPr>
        <p:blipFill>
          <a:blip r:embed="rId1"/>
          <a:stretch/>
        </p:blipFill>
        <p:spPr>
          <a:xfrm>
            <a:off x="871560" y="1285920"/>
            <a:ext cx="4595760" cy="4286160"/>
          </a:xfrm>
          <a:prstGeom prst="rect">
            <a:avLst/>
          </a:prstGeom>
          <a:ln w="0">
            <a:noFill/>
          </a:ln>
        </p:spPr>
      </p:pic>
      <p:pic>
        <p:nvPicPr>
          <p:cNvPr id="102" name="Подзаголовок 2" descr=""/>
          <p:cNvPicPr/>
          <p:nvPr/>
        </p:nvPicPr>
        <p:blipFill>
          <a:blip r:embed="rId2"/>
          <a:stretch/>
        </p:blipFill>
        <p:spPr>
          <a:xfrm>
            <a:off x="6497640" y="2236680"/>
            <a:ext cx="2232000" cy="40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User\Рабочий стол\Документы Е.В\кружки\отчет нов\DSCN7669.JPG"/>
          <p:cNvPicPr/>
          <p:nvPr/>
        </p:nvPicPr>
        <p:blipFill>
          <a:blip r:embed="rId3"/>
          <a:stretch/>
        </p:blipFill>
        <p:spPr>
          <a:xfrm>
            <a:off x="5803920" y="2457360"/>
            <a:ext cx="3054240" cy="347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User\Рабочий стол\Документы Е.В\кружки\отчет нов\DSCN7339.JPG"/>
          <p:cNvPicPr/>
          <p:nvPr/>
        </p:nvPicPr>
        <p:blipFill>
          <a:blip r:embed="rId4"/>
          <a:stretch/>
        </p:blipFill>
        <p:spPr>
          <a:xfrm>
            <a:off x="5437080" y="324000"/>
            <a:ext cx="3457800" cy="1962000"/>
          </a:xfrm>
          <a:prstGeom prst="rect">
            <a:avLst/>
          </a:prstGeom>
          <a:ln w="0">
            <a:noFill/>
          </a:ln>
        </p:spPr>
      </p:pic>
      <p:pic>
        <p:nvPicPr>
          <p:cNvPr id="105" name="Подзаголовок 2" descr=""/>
          <p:cNvPicPr/>
          <p:nvPr/>
        </p:nvPicPr>
        <p:blipFill>
          <a:blip r:embed="rId5"/>
          <a:stretch/>
        </p:blipFill>
        <p:spPr>
          <a:xfrm>
            <a:off x="1463760" y="5711760"/>
            <a:ext cx="3211560" cy="566640"/>
          </a:xfrm>
          <a:prstGeom prst="rect">
            <a:avLst/>
          </a:prstGeom>
          <a:ln w="0">
            <a:noFill/>
          </a:ln>
        </p:spPr>
      </p:pic>
      <p:pic>
        <p:nvPicPr>
          <p:cNvPr id="106" name="Подзаголовок 2" descr=""/>
          <p:cNvPicPr/>
          <p:nvPr/>
        </p:nvPicPr>
        <p:blipFill>
          <a:blip r:embed="rId6"/>
          <a:stretch/>
        </p:blipFill>
        <p:spPr>
          <a:xfrm>
            <a:off x="6711840" y="5950080"/>
            <a:ext cx="1511280" cy="3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5075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c4e10"/>
                </a:solidFill>
                <a:latin typeface="Times New Roman"/>
              </a:rPr>
              <a:t>Благодарю за внимание!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00:12:46Z</dcterms:created>
  <dc:creator>Юлия</dc:creator>
  <dc:description/>
  <dc:language>en-US</dc:language>
  <cp:lastModifiedBy>User</cp:lastModifiedBy>
  <cp:lastPrinted>2011-04-27T06:41:00Z</cp:lastPrinted>
  <dcterms:modified xsi:type="dcterms:W3CDTF">2020-11-08T17:07:03Z</dcterms:modified>
  <cp:revision>33</cp:revision>
  <dc:subject/>
  <dc:title>Презентация PowerPoint</dc:title>
</cp:coreProperties>
</file>