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807-641E-4D1F-B88F-7297C232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E6B-4782-4D64-B83F-4D8C9328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3B6-477E-4BD7-B265-590C3555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E7D-3A80-4832-8D2B-931EEA2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E544-408E-474B-A38B-C1DC47AE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E10C-E1FF-4D2C-90D7-DD927D2C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DAB2-D4C1-4357-8ADE-2A27ABF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C3BD-FEC0-4EE4-B9AA-3CE610C6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9A04-1B67-430B-B9C1-62435B22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06D8-AEBD-4628-A0F8-CE617169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91EB-4057-4B63-BDF8-F12B654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638-D699-4996-9596-55FA5499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7E73-15EE-4236-B831-3CA35C6A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EBF0-92E4-480D-9FFF-1E01AE57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D95D-DD96-4954-A109-C9089FB5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E766-0F6D-4BE3-A9BF-66DEC76D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9B6-3F51-4ACA-BEBC-E8D81C7B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B66-2A00-4D80-8DB0-4523B700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9B4-2223-4F58-BBFC-6592D396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032-DCE3-43FC-88A2-18F7C2D2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D7A-A15B-4F7B-9370-2FB1211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955-2948-43D4-AC53-78183A4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F3D-98C3-4AD5-9FCC-0D17C4F8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4FC-3B22-4A6E-A8AF-298E6D2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F35-31C9-4526-B871-3A965A90ED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3E7-8BF4-438C-ABDF-45E9874436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863640" y="549360"/>
            <a:ext cx="457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4647c"/>
                </a:solidFill>
                <a:latin typeface="Times New Roman"/>
              </a:rPr>
              <a:t>ПОРТФОЛИ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Савиной </a:t>
            </a:r>
            <a:br>
              <a:rPr sz="4400"/>
            </a:b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Елены </a:t>
            </a:r>
            <a:br>
              <a:rPr sz="4400"/>
            </a:b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Васильевны</a:t>
            </a:r>
            <a:br>
              <a:rPr sz="4400"/>
            </a:b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меновский филиал</a:t>
            </a:r>
            <a:r>
              <a:rPr b="0" lang="ru-RU" sz="4400" spc="-1" strike="noStrike">
                <a:solidFill>
                  <a:srgbClr val="18435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МОУ «Захаровская СОШ № 1»</a:t>
            </a:r>
            <a:br>
              <a:rPr sz="2400"/>
            </a:b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МО – Захаровский муниципальный район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30320" y="296640"/>
            <a:ext cx="78436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  <a:ea typeface="Times New Roman"/>
              </a:rPr>
              <a:t>1994 г. –Клепиковский технологический техникум, специальность - техник – технолог швейного производ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  <a:ea typeface="Times New Roman"/>
              </a:rPr>
              <a:t>2016 г. - Рязанский институт развития образования, специальность - «Педагогика. Теория и методика преподавания предмета «Технолог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H:\tripod_mix.jpg"/>
          <p:cNvPicPr/>
          <p:nvPr/>
        </p:nvPicPr>
        <p:blipFill>
          <a:blip r:embed="rId1"/>
          <a:stretch/>
        </p:blipFill>
        <p:spPr>
          <a:xfrm>
            <a:off x="7527960" y="2346480"/>
            <a:ext cx="1019160" cy="32558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"/>
          <p:cNvSpPr/>
          <p:nvPr/>
        </p:nvSpPr>
        <p:spPr>
          <a:xfrm>
            <a:off x="1081080" y="2852640"/>
            <a:ext cx="78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таж педагогической работы  -  21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таж работы в Сменовском филиа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МОУ «Захаровская СОШ № 1» – 21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Должность старшая вожатая, 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Наличие квалификационной категории -  перв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 25.12.2015 г. по 25.12.202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143000" y="260280"/>
            <a:ext cx="77565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c4e1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c4e10"/>
                </a:solidFill>
                <a:latin typeface="Times New Roman"/>
              </a:rPr>
              <a:t>Сведения о повышении квалифик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89000" y="1197000"/>
            <a:ext cx="76438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5 – 16 уч. г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рофессиональные компетентности педагогических кадров системы воспитания и дополнительного образования», 72 часа (РИРО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8 – 19 уч. г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ути и подходы к организации дополнительного образования, определенные приоритетным проектом «Доступное дополнительное образование для детей», 16 часов (РИРО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8 – 19 уч. г. - «Содержание и технологии дополнительного образования в контексте Федерального проекта «Успех каждого ребенка», 72 часа (РИРО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9 – 20 уч. г. - «Основные направления воспитания в образовательном учреждении, определенные Стратегией развития воспитания в Российской Федерации до 2025 года», 72 часа (РИР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4352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Мои награды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1143000" y="907920"/>
            <a:ext cx="7500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6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граждена Дипломом муниципального учреждения дополнительного образования «Дом детского творчества» муниципального образования - Захаровский муниципальный район Рязанской области за конкурс авторской игрушки «Душа моя,  Масленица». Приказ № 9 от26.02.2016 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6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ъявлена Благодарность муниципального учреждения дополнительного образования «Дом детского творчества» муниципального образования - Захаровский муниципальный район Рязанской области за активное участие в районной торгово-розничной ярмарке. Приказ № 23 от 05.05.2016 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7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граждена Почетной грамотой управления образования и молодежной политики администрации муниципального образования – Захаровский муниципальный район Рязанской области. Приказ № 109 от 02.10.2017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7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ъявлена Благодарность муниципального учреждения дополнительного образования «Дом детского творчества» муниципального образования - Захаровский муниципальный район Рязанской области за активное участие в районной выставке творческих работ «Эколят – молодых защитников природы «Новогодняя сказка»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4352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Мои награды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143000" y="907920"/>
            <a:ext cx="75009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7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граждена Почетной грамотой управления образования и молодежной политики администрации муниципального образования – Захаровский муниципальный район Рязанской области. Приказ № 109 от 02.10.2017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8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ъявлена Благодарность отдела образования и молодежной политики администрации муниципального образования – Захаровский муниципальный район Рязанской области за активное участие в мероприятиях по профилактике детского дорожно-транспортного травматизма. 2018 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9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а Благодарность Главы администрации МО - Захаровский муниципальный район Рязанской области. Приказ № 567 от 26.09.2019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6127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c4e10"/>
                </a:solidFill>
                <a:latin typeface="Times New Roman"/>
              </a:rPr>
              <a:t>Мои воспитанники…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Picture 4" descr="DSCN4508"/>
          <p:cNvPicPr/>
          <p:nvPr/>
        </p:nvPicPr>
        <p:blipFill>
          <a:blip r:embed="rId1"/>
          <a:stretch/>
        </p:blipFill>
        <p:spPr>
          <a:xfrm>
            <a:off x="871560" y="1285920"/>
            <a:ext cx="4595760" cy="4286160"/>
          </a:xfrm>
          <a:prstGeom prst="rect">
            <a:avLst/>
          </a:prstGeom>
          <a:ln w="0">
            <a:noFill/>
          </a:ln>
        </p:spPr>
      </p:pic>
      <p:pic>
        <p:nvPicPr>
          <p:cNvPr id="102" name="Подзаголовок 2" descr=""/>
          <p:cNvPicPr/>
          <p:nvPr/>
        </p:nvPicPr>
        <p:blipFill>
          <a:blip r:embed="rId2"/>
          <a:stretch/>
        </p:blipFill>
        <p:spPr>
          <a:xfrm>
            <a:off x="6497640" y="2236680"/>
            <a:ext cx="2232000" cy="40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User\Рабочий стол\Документы Е.В\кружки\отчет нов\DSCN7669.JPG"/>
          <p:cNvPicPr/>
          <p:nvPr/>
        </p:nvPicPr>
        <p:blipFill>
          <a:blip r:embed="rId3"/>
          <a:stretch/>
        </p:blipFill>
        <p:spPr>
          <a:xfrm>
            <a:off x="5803920" y="2457360"/>
            <a:ext cx="3054240" cy="347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User\Рабочий стол\Документы Е.В\кружки\отчет нов\DSCN7339.JPG"/>
          <p:cNvPicPr/>
          <p:nvPr/>
        </p:nvPicPr>
        <p:blipFill>
          <a:blip r:embed="rId4"/>
          <a:stretch/>
        </p:blipFill>
        <p:spPr>
          <a:xfrm>
            <a:off x="5437080" y="324000"/>
            <a:ext cx="3457800" cy="1962000"/>
          </a:xfrm>
          <a:prstGeom prst="rect">
            <a:avLst/>
          </a:prstGeom>
          <a:ln w="0">
            <a:noFill/>
          </a:ln>
        </p:spPr>
      </p:pic>
      <p:pic>
        <p:nvPicPr>
          <p:cNvPr id="105" name="Подзаголовок 2" descr=""/>
          <p:cNvPicPr/>
          <p:nvPr/>
        </p:nvPicPr>
        <p:blipFill>
          <a:blip r:embed="rId5"/>
          <a:stretch/>
        </p:blipFill>
        <p:spPr>
          <a:xfrm>
            <a:off x="1463760" y="5711760"/>
            <a:ext cx="3211560" cy="566640"/>
          </a:xfrm>
          <a:prstGeom prst="rect">
            <a:avLst/>
          </a:prstGeom>
          <a:ln w="0">
            <a:noFill/>
          </a:ln>
        </p:spPr>
      </p:pic>
      <p:pic>
        <p:nvPicPr>
          <p:cNvPr id="106" name="Подзаголовок 2" descr=""/>
          <p:cNvPicPr/>
          <p:nvPr/>
        </p:nvPicPr>
        <p:blipFill>
          <a:blip r:embed="rId6"/>
          <a:stretch/>
        </p:blipFill>
        <p:spPr>
          <a:xfrm>
            <a:off x="6711840" y="5950080"/>
            <a:ext cx="1511280" cy="3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5075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c4e10"/>
                </a:solidFill>
                <a:latin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00:12:46Z</dcterms:created>
  <dc:creator>Юлия</dc:creator>
  <dc:description/>
  <dc:language>en-US</dc:language>
  <cp:lastModifiedBy>User</cp:lastModifiedBy>
  <cp:lastPrinted>2011-04-27T06:41:00Z</cp:lastPrinted>
  <dcterms:modified xsi:type="dcterms:W3CDTF">2020-11-08T17:07:03Z</dcterms:modified>
  <cp:revision>33</cp:revision>
  <dc:subject/>
  <dc:title>Презентация PowerPoint</dc:title>
</cp:coreProperties>
</file>