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02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02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6169E-2E92-453B-8AF3-9AF6219199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2C5BE-E4AD-44A6-81C6-DF9882BDFA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7265C-BA8F-47E3-8D3D-7E44172E52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05886-FABE-442E-81AC-29AFAAE217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034C6-76F7-4B5F-AA38-13BF1E8C1C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B5115-76E5-4655-B0E3-45F0F96BA9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3232F-5113-4669-AA1B-EC49C87A54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B6C63-CFF9-48C6-A9AE-35396B5933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8A739-23EB-4F78-A67D-8102773CF5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196BE-D29B-4DD8-A708-C82F019F1A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0134B-2D43-4E40-AB7A-F28A606FBB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3E5F9-883C-443D-9D54-C40508F079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08D97-3873-417E-9FA3-43E491B55A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BC307-3697-48DE-827E-7D2468A21F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AC45C-4641-4D99-816A-1EF600A198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BDDBA-B168-43E0-B5E7-66A0313F47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DCCFD-1261-427A-A716-9C17BCA519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7821B-C40E-4B28-AE03-EF64F5C77A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F8BC0-0A1F-4857-93A4-F26A70990B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D3317-9272-40CA-980A-A06A37C15D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28D2D-4956-4BE0-A2FC-8452B1B965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22E1B-21EF-4450-9A2D-8556F2C63D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FEA68-ECFD-4604-B584-6A68A015C0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49" name="Text Box 2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56DFA-89B6-4363-A9AA-19552E30F5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36616-F2B7-454B-98A4-2D453164D2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BA2C9-7C41-4034-B6BB-02A109D756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0D940-A421-4B85-B122-38937341BA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1"/>
          <p:cNvSpPr/>
          <p:nvPr/>
        </p:nvSpPr>
        <p:spPr>
          <a:xfrm>
            <a:off x="4280040" y="10156680"/>
            <a:ext cx="32702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C3A0C-208E-4C79-B276-7FE5D9DA3C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037-8DBC-49A8-B256-669791A2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396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8D2-A3A0-43C8-9227-A88D4E4B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D06F-EC1A-4FB5-936A-7FADE32B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053960"/>
            <a:ext cx="291744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74F-F185-4D63-BCBD-7843E94E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7BE-6219-49D6-BB0E-E9149E54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2F0-89E6-476F-A017-25A9D033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0CE-D2EA-47AF-8C50-D08B6963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FA6-5F53-4B43-A16D-689E33B7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CC4-4EB1-4D4F-AA87-E2A1C57C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7D0-5460-42DB-A3E9-96319E6A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05396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35F-ABEE-4D36-BFCC-BC886DF4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3960"/>
            <a:ext cx="9061560" cy="208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EF6-C009-45BF-AC58-42D05F4E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44B1A-337F-422F-8FBC-7B531C27859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47280" y="1951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ыты с атмосферным давл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107640"/>
            <a:ext cx="907092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ыт Э.Торричел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6000" y="820800"/>
            <a:ext cx="97200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«В 1643 году Э.Торричелли провел опыт, доказывающий существование атмосферного давления и смог определить его величину. Стеклянную трубку длиной около 1 м запаивали с одного конца и наполняли ртутью. Открытый конец трубки зажимали пальцем, после чего ее переворачивали, опускали зажатым концом в сосуд с ртутью, и палец убирали. Ртуть в трубке немного опускалась и устанавливалась на уровне около 760 мм». Оказывается, атмосферный воздух давит на ртуть в открытом сосуде и не дает ей полностью вылиться из трубки. Этим опытом Э.Торричелли точно определил величину атмосферного д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719280" y="4329000"/>
            <a:ext cx="2257200" cy="3189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4392720" y="4329000"/>
            <a:ext cx="496728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ЭКСПЕРИМЕНТАЛЬН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;serif"/>
              </a:rPr>
              <a:t>Цель опытов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 доказать наличие атмосферного дав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и увидеть результаты его действия на разные предметы и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rcRect l="0" t="0" r="0" b="-55"/>
          <a:stretch/>
        </p:blipFill>
        <p:spPr>
          <a:xfrm>
            <a:off x="360360" y="3527280"/>
            <a:ext cx="904392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Опыт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376280"/>
            <a:ext cx="280836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rcRect l="0" t="0" r="0" b="31"/>
          <a:stretch/>
        </p:blipFill>
        <p:spPr>
          <a:xfrm>
            <a:off x="863640" y="2021040"/>
            <a:ext cx="810108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30240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Ход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0" t="0" r="0" b="-7"/>
          <a:stretch/>
        </p:blipFill>
        <p:spPr>
          <a:xfrm>
            <a:off x="503280" y="1224000"/>
            <a:ext cx="3600360" cy="5433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rcRect l="0" t="0" r="0" b="-20"/>
          <a:stretch/>
        </p:blipFill>
        <p:spPr>
          <a:xfrm>
            <a:off x="5921280" y="1224000"/>
            <a:ext cx="3895920" cy="5472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4022640" y="3311640"/>
            <a:ext cx="2025720" cy="101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662040"/>
            <a:ext cx="2232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горящая свеча поглощает кислород и количество воздуха под банкой уменьшается и давление внутри банки уменьшается. Атмосферное давление снаружи банки выше, чем внутри. Воздух давит на воду, заставляя её втягиваться в ба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Опыт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376280"/>
            <a:ext cx="280836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rcRect l="0" t="0" r="0" b="7"/>
          <a:stretch/>
        </p:blipFill>
        <p:spPr>
          <a:xfrm>
            <a:off x="1152360" y="1871640"/>
            <a:ext cx="784872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29527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Ход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rcRect l="0" t="0" r="-54" b="0"/>
          <a:stretch/>
        </p:blipFill>
        <p:spPr>
          <a:xfrm>
            <a:off x="792000" y="957240"/>
            <a:ext cx="2087640" cy="6243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rcRect l="0" t="0" r="0" b="18"/>
          <a:stretch/>
        </p:blipFill>
        <p:spPr>
          <a:xfrm>
            <a:off x="3959280" y="936720"/>
            <a:ext cx="2160360" cy="626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rcRect l="0" t="0" r="62" b="12"/>
          <a:stretch/>
        </p:blipFill>
        <p:spPr>
          <a:xfrm>
            <a:off x="7199280" y="936720"/>
            <a:ext cx="2405160" cy="633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2808360" y="3743280"/>
            <a:ext cx="1305000" cy="652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5"/>
          <a:stretch/>
        </p:blipFill>
        <p:spPr>
          <a:xfrm>
            <a:off x="5975280" y="3743280"/>
            <a:ext cx="1305000" cy="6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662040"/>
            <a:ext cx="2232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9071280" cy="19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горящая спичка поглощает кислород. Количество воздуха внутри бутылки уменьшается, давление падает. Атмосферное давление снаружи бутылки давит на яйцо и оно проваливается внутрь буты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Опыт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280" y="2023920"/>
            <a:ext cx="280836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63640" y="1008000"/>
            <a:ext cx="8712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320" bIns="45000" anchor="t">
            <a:norm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: достать монету голой рукой, не замочив пальцев и не выливая воду из тарел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rcRect l="0" t="0" r="0" b="17"/>
          <a:stretch/>
        </p:blipFill>
        <p:spPr>
          <a:xfrm>
            <a:off x="1224000" y="2589120"/>
            <a:ext cx="780084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72600"/>
            <a:ext cx="25210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Ход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rcRect l="0" t="0" r="-31" b="7"/>
          <a:stretch/>
        </p:blipFill>
        <p:spPr>
          <a:xfrm>
            <a:off x="428760" y="1224000"/>
            <a:ext cx="3603600" cy="56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rcRect l="0" t="0" r="0" b="-27"/>
          <a:stretch/>
        </p:blipFill>
        <p:spPr>
          <a:xfrm>
            <a:off x="5761080" y="1224000"/>
            <a:ext cx="3743280" cy="561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3"/>
          <a:stretch/>
        </p:blipFill>
        <p:spPr>
          <a:xfrm>
            <a:off x="4032360" y="3456000"/>
            <a:ext cx="172692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08360" y="647640"/>
            <a:ext cx="4535280" cy="160344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510920"/>
            <a:ext cx="907092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емля плавает в воздушном океане; его волны омывают вершины гор, так и их подножия; а мы живем на дне этого океана, со всех сторон им охваченные, насквозь им проникнутые… Он покрывает зеленью наши поля и луга, питает и нежный цветок, которым мы любуемся, и громадное, многовековое дерево, запасающее работу солнечного луча для того, чтобы отдать нам впоследствии» Камил Фламмарион – французский астроном 19 ве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285840"/>
            <a:ext cx="90709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17640" y="635040"/>
            <a:ext cx="8369280" cy="62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662040"/>
            <a:ext cx="2232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52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ный воздух занимает меньше места, чем горячий. Стакан начнет всасывать воду, и вскоре вся она собирается под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Опыт №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079280"/>
            <a:ext cx="280836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rcRect l="0" t="0" r="0" b="7"/>
          <a:stretch/>
        </p:blipFill>
        <p:spPr>
          <a:xfrm>
            <a:off x="917640" y="1655640"/>
            <a:ext cx="822636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372600"/>
            <a:ext cx="2665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Ход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rcRect l="0" t="0" r="0" b="-26"/>
          <a:stretch/>
        </p:blipFill>
        <p:spPr>
          <a:xfrm>
            <a:off x="504720" y="1081080"/>
            <a:ext cx="2448000" cy="568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rcRect l="0" t="0" r="25" b="20"/>
          <a:stretch/>
        </p:blipFill>
        <p:spPr>
          <a:xfrm>
            <a:off x="3816360" y="1079640"/>
            <a:ext cx="6048360" cy="568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3"/>
          <a:stretch/>
        </p:blipFill>
        <p:spPr>
          <a:xfrm>
            <a:off x="2735280" y="3600360"/>
            <a:ext cx="143820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285840"/>
            <a:ext cx="90709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0" t="0" r="-44" b="6"/>
          <a:stretch/>
        </p:blipFill>
        <p:spPr>
          <a:xfrm>
            <a:off x="360360" y="863640"/>
            <a:ext cx="3408480" cy="604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rcRect l="0" t="0" r="15" b="0"/>
          <a:stretch/>
        </p:blipFill>
        <p:spPr>
          <a:xfrm>
            <a:off x="4824360" y="863640"/>
            <a:ext cx="5040360" cy="621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3673440" y="3600360"/>
            <a:ext cx="143820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662040"/>
            <a:ext cx="223200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611360"/>
            <a:ext cx="907092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;serif"/>
                <a:ea typeface="Times New Roman;serif"/>
              </a:rPr>
              <a:t>вода через отверстие в дне бутылки при закрытой крышке не вытекает, так как воздуха внутри бутылки немного и он давит на воду слабо. Воздух снаружи бутылки давит сильнее и не позволяет воде вытекать. Откручивая пробку, мы обеспечили попадание воздуха внутрь бутылки и его количество увеличилось. При этом давление воздуха внутри и снаружи бутылки уравновесилось, и сила тяжести воды заставила воду выт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Заклю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4360" y="1368000"/>
            <a:ext cx="907092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оде своих опытов я установила факт существования атмосферного давления. Атмосферный воздух давит на все предметы на Земле с одинаковой силой. Многие физические явления можно объяснить существованием атмосферного давления. В настоящее время существуют специальные службы, которые следят за изменением атмосферного давления. Большое практическое значение имеет умение измерять атмосферное давление. Эти знания необходимы в прогнозировании погоды, в медицине, в технике и в технологических процессах, в жизнедеятельности живых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285840"/>
            <a:ext cx="90709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41480" y="2987280"/>
            <a:ext cx="439272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85840"/>
            <a:ext cx="907092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71280"/>
            <a:ext cx="907092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31640" y="576360"/>
            <a:ext cx="885672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rm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твердить факт существования атмосферного давления с помощью физических мет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ть и изучить информацию по выбранной тем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оставить большее количество возможных опытов с атмосферным давление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писать поставленные опы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Создать электронную презентацию по данной 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отез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помощью физических опытов можно подтвердить факт существования атмосферного д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ктуальность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иматься вопросами такого природного явления, как атмосферное давление, возникло давно. Люди с древних времен занимались этим, с развитием современной науки появилась потребность изучения таких ситуаций, как воздействие климатических условий и на здоровье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и дни атмосферные давление обязательная часть курса физики 7 класс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лем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 наличия атмосферного д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бор информации и отбор литературы (1-4 феврал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Экспериментальная часть - проведение опытов (5-18 феврал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Описание опытов (19-25 феврал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Создание презентации и написание проектной работы (26-28 феврал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Создание проектного продукта (1-11 март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Редактирование презентации и проектной работы (12-25 мар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Атмосфера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390680"/>
            <a:ext cx="842328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мосфера (от. др.-греч. ἀτμός — пар и σφαῖρα — шар) — газовая оболочка, окружающая планету Земля, одна из геосфер. Внутренняя её поверхность покрывает гидросферу и частично земную кору, внешняя граничит с околоземной частью космическ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rcRect l="0" t="0" r="0" b="59"/>
          <a:stretch/>
        </p:blipFill>
        <p:spPr>
          <a:xfrm>
            <a:off x="1959120" y="3419640"/>
            <a:ext cx="6159240" cy="38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ческий состав атмосферы Зем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011240" y="1871640"/>
            <a:ext cx="80596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49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Атмосферное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6000" y="1510920"/>
            <a:ext cx="907092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мосферное давление — давление атмосферы на все находящиеся в ней предметы и Земную поверхность. Атмосферное давление создаётся гравитационным притяжением воздуха к Зем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rcRect l="0" t="0" r="32" b="0"/>
          <a:stretch/>
        </p:blipFill>
        <p:spPr>
          <a:xfrm>
            <a:off x="1665360" y="3095640"/>
            <a:ext cx="689292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1760" y="108000"/>
            <a:ext cx="907092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крытие атмосферного дав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1760" y="88560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654 г. Отто фон Герике решил показать горожанам силу воздушного давления. Для опыта были изготовлены два металлических полушария («магдебургские»). В опыте использовались две восьмерки лошадей, впряженных в упряжки. Каждая упряжка через прочный крюк соединялась с полушарием. После того, как насосом откачивали воздух из шара, собранного из полушарий, лошади по команде тянули полушария в разные стороны, чтобы оторвать их друг от друга. Но шар только покачивался и оставался целым и невредим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0" t="0" r="-24" b="-296"/>
          <a:stretch/>
        </p:blipFill>
        <p:spPr>
          <a:xfrm>
            <a:off x="1008000" y="3414600"/>
            <a:ext cx="768672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История знакомства человека с атмосферным д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7280" y="1984320"/>
            <a:ext cx="482436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;serif"/>
              </a:rPr>
              <a:t>Наличие атмосферного давления привело людей в замешательство в 1638 году, когда не удалась затея герцога Тосканского украсить сады Флоренции фонтанами — вода не поднималась выше 10 метров. Люди задумались, а почему фонтан не поднялся выше 10 метр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rcRect l="0" t="0" r="-109" b="0"/>
          <a:stretch/>
        </p:blipFill>
        <p:spPr>
          <a:xfrm>
            <a:off x="6119640" y="1836720"/>
            <a:ext cx="2735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4T16:06:02Z</dcterms:created>
  <dc:creator>Админ</dc:creator>
  <dc:description/>
  <cp:keywords/>
  <dc:language>en-US</dc:language>
  <cp:lastModifiedBy>Админ</cp:lastModifiedBy>
  <dcterms:modified xsi:type="dcterms:W3CDTF">2020-11-09T17:13:51Z</dcterms:modified>
  <cp:revision>12</cp:revision>
  <dc:subject/>
  <dc:title>Автор проекта: Воронина Екатерина Павловна Класс 7Б   Наставник: Голдырева Елена Юрьев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c0000000000010290110207f7000400038000</vt:lpwstr>
  </property>
</Properties>
</file>