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38EC-78FE-4496-A084-23AD6490E8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92F13-115A-4FC0-B222-9B2B48C000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EB035-9B85-489F-9C5A-0D87663E5D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1FF34-314E-4E2A-8F6B-C714AA5240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1974-B805-4BF5-9AEE-B3452EBB3D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10608-EA4E-474C-B28B-D5A64C14A4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03FE0-CB52-4A0E-B2BE-6087B699BA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78D8-3070-4F52-A0FF-1939570BF0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3C2FA-F8FD-4347-84D7-AB5E1E536D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56DD-78FE-43D1-B8C7-B9847B413E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6290-92CC-45C3-878B-004441794B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E07B9-54BB-44B2-85FD-048429F598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B8A61-E64A-4E0B-93C3-A4C5A8F35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E4971-6E17-4C55-AF2E-B7C0D9D6EC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67865-4254-43B5-AD87-507D772D3D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696C3-5166-43C9-A8A2-E08A3E85F9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D9E8-9209-4951-B927-399CFE044F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1D2B-0D40-4FEB-AD2D-14655D88E2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ED1B-9EE7-48D8-AD67-626F113072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88616-15AF-4F77-A6CA-603575B5EF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E8589-E858-4CCF-905F-2353EC5500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01C0-8B7C-475E-97B7-922A981663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FECF-0F73-4ECF-AC39-5171E9F969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7E4B-5A30-4E93-862E-BAE2F73DB6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423A-3FD5-4C84-AC24-831574040F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1FE4B-BE60-41F1-B2A1-55B7F8B314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10B7F-D2F8-4F85-89A0-9BD0223583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7A175-B4B0-4E3F-84CE-8E24F94892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E88-C6EE-486A-AE86-486CFD8E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4E7-1BD7-44FE-B138-6CC1C6C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385-F409-4C6A-A91D-452EC5E3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D77-D2CA-4011-BD30-A7BDBF9E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546-7267-45B0-A573-9E559F1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440-97F3-4A5F-8B54-1E9FB462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1A7-BD9D-425B-891B-80063C02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DCF-2A9F-4227-90D7-89E2E981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510-0961-4FAB-8328-D592C981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7AE-DDC7-4D42-8D67-F39842A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E73-D8E0-4B6D-B051-D32DB4B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5B2-A51C-43BD-87DC-8B8D2D1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349F-97FE-4621-8847-7D032D76643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1951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ы с атмосферным давл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076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Э.Торриче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6000" y="820800"/>
            <a:ext cx="97200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«В 1643 году Э.Торричелли провел опыт, доказывающий существование атмосферного давления и смог определить его величину. Стеклянную трубку длиной около 1 м запаивали с одного конца и наполняли ртутью. Открытый конец трубки зажимали пальцем, после чего ее переворачивали, опускали зажатым концом в сосуд с ртутью, и палец убирали. Ртуть в трубке немного опускалась и устанавливалась на уровне около 760 мм». Оказывается, атмосферный воздух давит на ртуть в открытом сосуде и не дает ей полностью вылиться из трубки. Этим опытом Э.Торричелли точно определил величину атмосферного д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19280" y="4329000"/>
            <a:ext cx="2257200" cy="3189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49672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ЭКСПЕРИМЕНТАЛЬ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;serif"/>
              </a:rPr>
              <a:t>Цель опытов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 доказать наличие атмосферного да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и увидеть результаты его действия на разные предметы и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-55"/>
          <a:stretch/>
        </p:blipFill>
        <p:spPr>
          <a:xfrm>
            <a:off x="360360" y="3527280"/>
            <a:ext cx="90439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37628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0" t="0" r="0" b="31"/>
          <a:stretch/>
        </p:blipFill>
        <p:spPr>
          <a:xfrm>
            <a:off x="863640" y="2021040"/>
            <a:ext cx="810108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3024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0" r="0" b="-7"/>
          <a:stretch/>
        </p:blipFill>
        <p:spPr>
          <a:xfrm>
            <a:off x="503280" y="1224000"/>
            <a:ext cx="3600360" cy="543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5921280" y="1224000"/>
            <a:ext cx="3895920" cy="547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022640" y="3311640"/>
            <a:ext cx="202572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горящая свеча поглощает кислород и количество воздуха под банкой уменьшается и давление внутри банки уменьшается. Атмосферное давление снаружи банки выше, чем внутри. Воздух давит на воду, заставляя её втягиваться в б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37628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0" r="0" b="7"/>
          <a:stretch/>
        </p:blipFill>
        <p:spPr>
          <a:xfrm>
            <a:off x="1152360" y="1871640"/>
            <a:ext cx="7848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2952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rcRect l="0" t="0" r="-54" b="0"/>
          <a:stretch/>
        </p:blipFill>
        <p:spPr>
          <a:xfrm>
            <a:off x="792000" y="957240"/>
            <a:ext cx="2087640" cy="624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rcRect l="0" t="0" r="0" b="18"/>
          <a:stretch/>
        </p:blipFill>
        <p:spPr>
          <a:xfrm>
            <a:off x="3959280" y="936720"/>
            <a:ext cx="2160360" cy="626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rcRect l="0" t="0" r="62" b="12"/>
          <a:stretch/>
        </p:blipFill>
        <p:spPr>
          <a:xfrm>
            <a:off x="7199280" y="936720"/>
            <a:ext cx="2405160" cy="633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2808360" y="3743280"/>
            <a:ext cx="1305000" cy="6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5975280" y="3743280"/>
            <a:ext cx="1305000" cy="6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9071280" cy="19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горящая спичка поглощает кислород. Количество воздуха внутри бутылки уменьшается, давление падает. Атмосферное давление снаружи бутылки давит на яйцо и оно проваливается внутрь буты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202392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3640" y="1008000"/>
            <a:ext cx="871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достать монету голой рукой, не замочив пальцев и не выливая воду из таре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0" b="17"/>
          <a:stretch/>
        </p:blipFill>
        <p:spPr>
          <a:xfrm>
            <a:off x="1224000" y="2589120"/>
            <a:ext cx="780084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72600"/>
            <a:ext cx="2521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0" r="-31" b="7"/>
          <a:stretch/>
        </p:blipFill>
        <p:spPr>
          <a:xfrm>
            <a:off x="428760" y="1224000"/>
            <a:ext cx="3603600" cy="56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0" t="0" r="0" b="-27"/>
          <a:stretch/>
        </p:blipFill>
        <p:spPr>
          <a:xfrm>
            <a:off x="5761080" y="1224000"/>
            <a:ext cx="3743280" cy="561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032360" y="3456000"/>
            <a:ext cx="17269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360" y="647640"/>
            <a:ext cx="45352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емля плавает в воздушном океане; его волны омывают вершины гор, так и их подножия; а мы живем на дне этого океана, со всех сторон им охваченные, насквозь им проникнутые… Он покрывает зеленью наши поля и луга, питает и нежный цветок, которым мы любуемся, и громадное, многовековое дерево, запасающее работу солнечного луча для того, чтобы отдать нам впоследствии» Камил Фламмарион – французский астроном 19 ве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17640" y="635040"/>
            <a:ext cx="83692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ный воздух занимает меньше места, чем горячий. Стакан начнет всасывать воду, и вскоре вся она собирается под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280836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0" t="0" r="0" b="7"/>
          <a:stretch/>
        </p:blipFill>
        <p:spPr>
          <a:xfrm>
            <a:off x="917640" y="1655640"/>
            <a:ext cx="822636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2665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504720" y="1081080"/>
            <a:ext cx="2448000" cy="568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rcRect l="0" t="0" r="25" b="20"/>
          <a:stretch/>
        </p:blipFill>
        <p:spPr>
          <a:xfrm>
            <a:off x="3816360" y="1079640"/>
            <a:ext cx="6048360" cy="568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2735280" y="3600360"/>
            <a:ext cx="14382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-44" b="6"/>
          <a:stretch/>
        </p:blipFill>
        <p:spPr>
          <a:xfrm>
            <a:off x="360360" y="863640"/>
            <a:ext cx="3408480" cy="604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rcRect l="0" t="0" r="15" b="0"/>
          <a:stretch/>
        </p:blipFill>
        <p:spPr>
          <a:xfrm>
            <a:off x="4824360" y="863640"/>
            <a:ext cx="5040360" cy="621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673440" y="3600360"/>
            <a:ext cx="14382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611360"/>
            <a:ext cx="907092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serif"/>
                <a:ea typeface="Times New Roman;serif"/>
              </a:rPr>
              <a:t>вода через отверстие в дне бутылки при закрытой крышке не вытекает, так как воздуха внутри бутылки немного и он давит на воду слабо. Воздух снаружи бутылки давит сильнее и не позволяет воде вытекать. Откручивая пробку, мы обеспечили попадание воздуха внутрь бутылки и его количество увеличилось. При этом давление воздуха внутри и снаружи бутылки уравновесилось, и сила тяжести воды заставила воду выт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Заклю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1368000"/>
            <a:ext cx="907092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своих опытов я установила факт существования атмосферного давления. Атмосферный воздух давит на все предметы на Земле с одинаковой силой. Многие физические явления можно объяснить существованием атмосферного давления. В настоящее время существуют специальные службы, которые следят за изменением атмосферного давления. Большое практическое значение имеет умение измерять атмосферное давление. Эти знания необходимы в прогнозировании погоды, в медицине, в технике и в технологических процессах, в жизнедеятельности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1480" y="2987280"/>
            <a:ext cx="439272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71280"/>
            <a:ext cx="90709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31640" y="576360"/>
            <a:ext cx="885672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твердить факт существования атмосферного давления с помощью физических мет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ь и изучить информацию по выбр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ставить большее количество возможных опытов с атмосферным давле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писать поставленные опы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оздать электронную презентацию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физических опытов можно подтвердить факт существования атмосфер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ться вопросами такого природного явления, как атмосферное давление, возникло давно. Люди с древних времен занимались этим, с развитием современной науки появилась потребность изучения таких ситуаций, как воздействие климатических условий и на здоровье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и дни атмосферные давление обязательная часть курса физики 7 клас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наличия атмосфер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бор информации и отбор литературы (1-4 феврал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Экспериментальная часть - проведение опытов (5-18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писание опытов (19-25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здание презентации и написание проектной работы (26-28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Создание проектного продукта (1-11 март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Редактирование презентации и проектной работы (12-25 мар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Атмосфер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390680"/>
            <a:ext cx="842328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 (от. др.-греч. ἀτμός — пар и σφαῖρα — шар) — газовая оболочка, окружающая планету Земля, одна из геосфер. Внутренняя её поверхность покрывает гидросферу и частично земную кору, внешняя граничит с околоземной частью космическ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0" t="0" r="0" b="59"/>
          <a:stretch/>
        </p:blipFill>
        <p:spPr>
          <a:xfrm>
            <a:off x="1959120" y="3419640"/>
            <a:ext cx="61592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ий состав атмосферы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011240" y="1871640"/>
            <a:ext cx="80596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510920"/>
            <a:ext cx="90709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ное давление — давление атмосферы на все находящиеся в ней предметы и Земную поверхность. Атмосферное давление создаётся гравитационным притяжением воздуха к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32" b="0"/>
          <a:stretch/>
        </p:blipFill>
        <p:spPr>
          <a:xfrm>
            <a:off x="1665360" y="3095640"/>
            <a:ext cx="68929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108000"/>
            <a:ext cx="90709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ие атмосферного да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1760" y="8856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54 г. Отто фон Герике решил показать горожанам силу воздушного давления. Для опыта были изготовлены два металлических полушария («магдебургские»). В опыте использовались две восьмерки лошадей, впряженных в упряжки. Каждая упряжка через прочный крюк соединялась с полушарием. После того, как насосом откачивали воздух из шара, собранного из полушарий, лошади по команде тянули полушария в разные стороны, чтобы оторвать их друг от друга. Но шар только покачивался и оставался целым и невред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-24" b="-296"/>
          <a:stretch/>
        </p:blipFill>
        <p:spPr>
          <a:xfrm>
            <a:off x="1008000" y="3414600"/>
            <a:ext cx="7686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История знакомства человека с атмосферным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280" y="1984320"/>
            <a:ext cx="48243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Наличие атмосферного давления привело людей в замешательство в 1638 году, когда не удалась затея герцога Тосканского украсить сады Флоренции фонтанами — вода не поднималась выше 10 метров. Люди задумались, а почему фонтан не поднялся выше 10 мет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0" t="0" r="-109" b="0"/>
          <a:stretch/>
        </p:blipFill>
        <p:spPr>
          <a:xfrm>
            <a:off x="6119640" y="1836720"/>
            <a:ext cx="2735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6:06:02Z</dcterms:created>
  <dc:creator>Админ</dc:creator>
  <dc:description/>
  <cp:keywords/>
  <dc:language>en-US</dc:language>
  <cp:lastModifiedBy>Админ</cp:lastModifiedBy>
  <dcterms:modified xsi:type="dcterms:W3CDTF">2020-11-09T17:13:51Z</dcterms:modified>
  <cp:revision>12</cp:revision>
  <dc:subject/>
  <dc:title>Автор проекта: Воронина Екатерина Павловна Класс 7Б   Наставник: Голдырева Елена Юрье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90110207f7000400038000</vt:lpwstr>
  </property>
</Properties>
</file>