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07F-F1DB-4A61-8D72-B3AFAEDB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B98-38F2-4B16-B6CB-C936FDF9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B3A-4306-4470-BA27-7DAFEEE8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F6C-9779-478B-B1E8-2BDFB6E5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096F-F526-4013-8B0E-C792837A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AC25-68F9-401F-A5C2-134A05D3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5BAA-B08A-4845-B1F6-83C5785C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5217-17C0-48A0-B895-8A7BFDA6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9684-9C0D-4F43-9E78-7B8493E8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42EB-E021-4678-81D3-E3E09633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E530-207F-4C71-AC7E-322E72C8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8ED-3084-4D2D-9863-DE1BE482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7F9D-A98D-4F43-98F4-7C71CE97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5A11-5063-4A25-807B-F3E44BBC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3170-AF50-4557-9238-A58FE719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5541-18D4-424C-9F17-C51508BF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0E62-C482-4A2A-96DF-4D55E9BC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4977E-3527-4AEA-828C-8AB8CEEF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56F14-B58F-4992-98F4-17489C7D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F21D9-D1E3-4619-A1BE-52EE2D4E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9B639-96E1-4EEB-A712-21254683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0D64A-C0A2-4351-998B-A4ACCF6D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68D-A7F9-4BCF-9FA9-E1ACAD86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04CE4-9113-4159-A117-D4AC65F0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49B47-4ABC-4CBA-AD38-07BCD8FF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27041-4542-4FCE-A187-F1501466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A5493-9363-4858-A886-53184A1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F8C3D-B43C-4196-9970-F2C7C2C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CB71F-C551-4431-BFA1-5895D55B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FD893-5643-4809-8090-CFAEF911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5C25-5E82-4104-8A20-9212910E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07F5-C81C-4CD5-82AE-D733F250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26D68-20DB-48B0-9022-8DFF90DC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020-C050-4EBF-92DD-37CB9551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43C9C-A213-4DCB-B314-A364DD5E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A512-66BC-4DBB-86BC-29B18CB3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CBB6B-93C7-4651-B0AC-B5CE9253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178A-DE01-4E40-8434-CBAD096C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9B300-7A61-4DF3-BB5C-5E11FC5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5BAE-5426-4786-91E9-CC79391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F614D-F955-4C96-877E-2A266C8F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61CC-3202-4451-B79E-2D5559C3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2D37-30D0-4BED-BF33-F68A9AA8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747-F9A3-4CDB-AF2A-9F009C51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405-1BE6-4AED-95EE-F687B40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324-5205-407B-B0C7-9AC0ED7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048-99B4-48C3-91B3-332AD85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6E4-7826-4A3D-B138-24CBFDA0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30C2-1456-4A16-AB87-CD8C52A3781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9b2d1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9b2d1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9b2d1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E74-FB09-46B3-B55A-EBAB72B3951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047B-19D0-48E5-8B72-6863413EB067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b2d1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28e6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9b2d1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28e6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b2d1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b2d1f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FF9A-B368-492A-9473-26F078821CD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1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rebuchet MS"/>
              </a:rPr>
              <a:t>Интерьер жилого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1\Desktop\6 класс\дин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43280" y="2627280"/>
            <a:ext cx="4176720" cy="389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1\Desktop\6 класс\ас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50920" y="2924280"/>
            <a:ext cx="5021280" cy="362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7" name="TextBox 2"/>
          <p:cNvSpPr/>
          <p:nvPr/>
        </p:nvSpPr>
        <p:spPr>
          <a:xfrm>
            <a:off x="395280" y="765000"/>
            <a:ext cx="835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Асимметричная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– достигается применением в декоре жилой комнаты противопоставления крупной и небольшой мебели, сочетанием темных и светлых поверхностей, ярких и приглушенных цветов. Обязательное условие – выделение центра компози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Users\1\Desktop\6 класс\ритм.jpe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43280" y="3411360"/>
            <a:ext cx="4248360" cy="319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324000" y="90792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Ритм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задается повторением элементов интерьера. Горизонтальный ритм – полки, расположенные одна над другой, картины в два ряда; вертикальный ритм – высокие узкие шкафы, вертикальный рисунок обое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C:\Users\1\Desktop\products_libby_langdon_for_braxton_culler_color_libby langdon_5722-001-b2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50920" y="3397320"/>
            <a:ext cx="40338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1\Desktop\6 класс\доминанта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24000" y="2924280"/>
            <a:ext cx="4791240" cy="359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TextBox 2"/>
          <p:cNvSpPr/>
          <p:nvPr/>
        </p:nvSpPr>
        <p:spPr>
          <a:xfrm>
            <a:off x="324000" y="83664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оминанта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визуальный центр композиции, который сразу притягивает взгляд. Доминанта может быть цветовой или масштабной, обязательно связанной с другими элементами композиции в интерье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50920" y="692280"/>
            <a:ext cx="8680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потолка, стен, пола имеет важное значение в оформлении интерь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потол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двесные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потолки применяются в высоких помещениях. Они могут быть многоуровневыми, сложной конфигур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" descr="C:\Users\1\Desktop\6 кл\п-подвесные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116000" y="2924280"/>
            <a:ext cx="6913440" cy="360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5076720" y="1197000"/>
            <a:ext cx="381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тяжные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потолки используются как в высоких, так и в обычных, стандартных жилых помеще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" descr="C:\Users\1\Desktop\6 кл\п натяжные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50920" y="692280"/>
            <a:ext cx="4465440" cy="29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Picture 2" descr="C:\Users\1\Desktop\6 кл\п-окрашен.jpg"/>
          <p:cNvPicPr/>
          <p:nvPr/>
        </p:nvPicPr>
        <p:blipFill>
          <a:blip r:embed="rId2"/>
          <a:stretch/>
        </p:blipFill>
        <p:spPr>
          <a:xfrm>
            <a:off x="3914640" y="3860640"/>
            <a:ext cx="4953240" cy="275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TextBox 4"/>
          <p:cNvSpPr/>
          <p:nvPr/>
        </p:nvSpPr>
        <p:spPr>
          <a:xfrm>
            <a:off x="250920" y="465300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крашенные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потолки подходят для всех типов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250920" y="76500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ст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 современном интерьере стены являются основным элементом фона, от которого зависит общий вид помещения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" descr="C:\Users\1\Desktop\6 кл\с-штукат.jpg"/>
          <p:cNvPicPr/>
          <p:nvPr/>
        </p:nvPicPr>
        <p:blipFill>
          <a:blip r:embed="rId1"/>
          <a:stretch/>
        </p:blipFill>
        <p:spPr>
          <a:xfrm>
            <a:off x="250920" y="2781360"/>
            <a:ext cx="388944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TextBox 4"/>
          <p:cNvSpPr/>
          <p:nvPr/>
        </p:nvSpPr>
        <p:spPr>
          <a:xfrm>
            <a:off x="250920" y="5805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екоративная штукату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Users\1\Desktop\6 кл\с-покраска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367160" y="2349360"/>
            <a:ext cx="4525920" cy="33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3" name="TextBox 6"/>
          <p:cNvSpPr/>
          <p:nvPr/>
        </p:nvSpPr>
        <p:spPr>
          <a:xfrm>
            <a:off x="4572000" y="6165720"/>
            <a:ext cx="40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стен краск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C:\Users\1\Desktop\6 кл\с-обои.jpg"/>
          <p:cNvPicPr/>
          <p:nvPr/>
        </p:nvPicPr>
        <p:blipFill>
          <a:blip r:embed="rId1"/>
          <a:stretch/>
        </p:blipFill>
        <p:spPr>
          <a:xfrm>
            <a:off x="901800" y="2411280"/>
            <a:ext cx="7342200" cy="413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5" name="TextBox 2"/>
          <p:cNvSpPr/>
          <p:nvPr/>
        </p:nvSpPr>
        <p:spPr>
          <a:xfrm>
            <a:off x="324000" y="90792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ыбирая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бои для отделки стен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, следует учитывать, что от их рисунка и цвета зависят освещенность и ощущение объема комн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324000" y="98100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интерьере для отделки стен используют натуральный и искусственный камень, а также вагон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C:\Users\1\Desktop\6 кл\с-вагонка.jpg"/>
          <p:cNvPicPr/>
          <p:nvPr/>
        </p:nvPicPr>
        <p:blipFill>
          <a:blip r:embed="rId1"/>
          <a:stretch/>
        </p:blipFill>
        <p:spPr>
          <a:xfrm>
            <a:off x="4356000" y="2781360"/>
            <a:ext cx="446400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8" name="Picture 3" descr="C:\Users\1\Desktop\6 кл\с-камень.jpg"/>
          <p:cNvPicPr/>
          <p:nvPr/>
        </p:nvPicPr>
        <p:blipFill>
          <a:blip r:embed="rId2"/>
          <a:stretch/>
        </p:blipFill>
        <p:spPr>
          <a:xfrm>
            <a:off x="250920" y="2781360"/>
            <a:ext cx="3744720" cy="37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324000" y="76500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тделка п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овременные напольные покрытия разнообразны по материалу, фактуре, рисунку и цве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Ламинат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многослойный материал на основе древесно-волокнистой плиты. Верхние слои – защитные пленки с различным рисунк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" descr="C:\Users\1\Desktop\6 кл\пол-ламинат.jpg"/>
          <p:cNvPicPr/>
          <p:nvPr/>
        </p:nvPicPr>
        <p:blipFill>
          <a:blip r:embed="rId1"/>
          <a:stretch/>
        </p:blipFill>
        <p:spPr>
          <a:xfrm>
            <a:off x="1547640" y="3141720"/>
            <a:ext cx="6042240" cy="3397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C:\Users\1\Desktop\6 кл\пол-паркет.jpg"/>
          <p:cNvPicPr/>
          <p:nvPr/>
        </p:nvPicPr>
        <p:blipFill>
          <a:blip r:embed="rId1"/>
          <a:stretch/>
        </p:blipFill>
        <p:spPr>
          <a:xfrm>
            <a:off x="250920" y="1484280"/>
            <a:ext cx="4811760" cy="481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2" name="TextBox 2"/>
          <p:cNvSpPr/>
          <p:nvPr/>
        </p:nvSpPr>
        <p:spPr>
          <a:xfrm>
            <a:off x="5364000" y="1989000"/>
            <a:ext cx="35290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Паркетная доск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остоит из нескольких слоев натурального дерева.  Верхний слой изготавливается из красивых, ценных пород: бука, вишни, дуба и др., который покрывается несколькими слоями влагостойкого ла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rebuchet MS"/>
              </a:rPr>
              <a:t>Планирование жилого дома</a:t>
            </a:r>
            <a:endParaRPr b="0" lang="en-US" sz="3600" spc="-1" strike="noStrike">
              <a:solidFill>
                <a:srgbClr val="696464"/>
              </a:solidFill>
              <a:latin typeface="Trebuchet MS"/>
            </a:endParaRPr>
          </a:p>
        </p:txBody>
      </p:sp>
      <p:pic>
        <p:nvPicPr>
          <p:cNvPr id="217" name="Picture 3" descr="C:\Users\1\Desktop\interer_stil_dizayn_dom_villa_zhilaya_komnata_68248_1280x800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132000" y="2997360"/>
            <a:ext cx="5651640" cy="353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250920" y="76500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ля отделки пола используют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вровое покрытие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(ковролин) – ковер, который устилает вес пол комнаты. Популярным износостойким напольным покрытием является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линолеум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.  Разнообразие цвета и рисунка, гладкая или тисненая поверхность этого материала позволяют поддерживать определенный стиль интерь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" descr="C:\Users\1\Desktop\6 кл\пол-ковровое....jpg"/>
          <p:cNvPicPr/>
          <p:nvPr/>
        </p:nvPicPr>
        <p:blipFill>
          <a:blip r:embed="rId1"/>
          <a:stretch/>
        </p:blipFill>
        <p:spPr>
          <a:xfrm>
            <a:off x="250920" y="3068640"/>
            <a:ext cx="4236840" cy="351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icture 2" descr="C:\Users\1\Desktop\6 кл\пол-линолем 2.jpg"/>
          <p:cNvPicPr/>
          <p:nvPr/>
        </p:nvPicPr>
        <p:blipFill>
          <a:blip r:embed="rId2"/>
          <a:stretch/>
        </p:blipFill>
        <p:spPr>
          <a:xfrm>
            <a:off x="4968720" y="4005360"/>
            <a:ext cx="3803760" cy="253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250920" y="83664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екоративное оформление интерь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амый распространенный способ – применение текстиля в обивке мебели, занавесей, ковров и паласов на полу. С их помощью интерьеру придается атмосфера тепла, ую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Users\1\Desktop\6 кл\з-драпировка 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716360" y="2421000"/>
            <a:ext cx="4138560" cy="413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8" name="TextBox 3"/>
          <p:cNvSpPr/>
          <p:nvPr/>
        </p:nvSpPr>
        <p:spPr>
          <a:xfrm>
            <a:off x="324000" y="3357720"/>
            <a:ext cx="410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Основные виды занавесей для окон следующ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рапировка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– Свободно ниспадающая ткань, образующая красивые склад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324000" y="836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Шторы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занавеси разнообразных моделей из различных тканей. Могут быть раздвижными или подъем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1\Desktop\6 кл\шторы франц.jpg"/>
          <p:cNvPicPr/>
          <p:nvPr/>
        </p:nvPicPr>
        <p:blipFill>
          <a:blip r:embed="rId1"/>
          <a:stretch/>
        </p:blipFill>
        <p:spPr>
          <a:xfrm>
            <a:off x="395280" y="1844640"/>
            <a:ext cx="3672000" cy="36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1" name="Picture 3" descr="C:\Users\1\Desktop\6 кл\шторы японские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788000" y="1844640"/>
            <a:ext cx="3968640" cy="361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2" name="TextBox 4"/>
          <p:cNvSpPr/>
          <p:nvPr/>
        </p:nvSpPr>
        <p:spPr>
          <a:xfrm>
            <a:off x="324000" y="57326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Французск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имеют многочисленные складки - фес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716360" y="587700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Японские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– состоят из прямых полотни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C:\Users\1\Desktop\6 кл\шторы римские.jpg"/>
          <p:cNvPicPr/>
          <p:nvPr/>
        </p:nvPicPr>
        <p:blipFill>
          <a:blip r:embed="rId1"/>
          <a:stretch/>
        </p:blipFill>
        <p:spPr>
          <a:xfrm>
            <a:off x="324000" y="2071800"/>
            <a:ext cx="3887640" cy="449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5" name="Picture 3" descr="C:\Users\1\Desktop\6 кл\шторы кантри 1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932360" y="2060640"/>
            <a:ext cx="3781440" cy="451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6" name="TextBox 3"/>
          <p:cNvSpPr/>
          <p:nvPr/>
        </p:nvSpPr>
        <p:spPr>
          <a:xfrm>
            <a:off x="324000" y="90792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Римские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поднимаются вверх крупными склад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4859280" y="76500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Кантри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– состоит из двух частей: короткой нижней  торы и ламбрек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C:\Users\1\Desktop\6 кл\з-драпировка.jpg"/>
          <p:cNvPicPr/>
          <p:nvPr/>
        </p:nvPicPr>
        <p:blipFill>
          <a:blip r:embed="rId1"/>
          <a:stretch/>
        </p:blipFill>
        <p:spPr>
          <a:xfrm>
            <a:off x="324000" y="2257560"/>
            <a:ext cx="4319280" cy="4321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1\Desktop\6 кл\шторы портьеры дверь.jpg"/>
          <p:cNvPicPr/>
          <p:nvPr/>
        </p:nvPicPr>
        <p:blipFill>
          <a:blip r:embed="rId2"/>
          <a:stretch/>
        </p:blipFill>
        <p:spPr>
          <a:xfrm>
            <a:off x="5292720" y="2276640"/>
            <a:ext cx="3541680" cy="43084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324000" y="836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ртьеры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термин французского происхождения. Это шторы из плотных легких или тяжелых тканей, способных хорошо держать форму, разнообразных расцветок и фа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250920" y="8366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оформлении интерьера можно использовать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аксессуары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, сделанные своими руками – декоративные подушки, коврики, лампы, рамки для фотографий, картины и фотоколла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1\Desktop\6 кл\подушки.jpg"/>
          <p:cNvPicPr/>
          <p:nvPr/>
        </p:nvPicPr>
        <p:blipFill>
          <a:blip r:embed="rId1"/>
          <a:stretch/>
        </p:blipFill>
        <p:spPr>
          <a:xfrm>
            <a:off x="324000" y="2924280"/>
            <a:ext cx="3649680" cy="364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3" name="Picture 3" descr="C:\Users\1\Desktop\6 кл\коврик.jpg"/>
          <p:cNvPicPr/>
          <p:nvPr/>
        </p:nvPicPr>
        <p:blipFill>
          <a:blip r:embed="rId2"/>
          <a:stretch/>
        </p:blipFill>
        <p:spPr>
          <a:xfrm>
            <a:off x="4427640" y="2133720"/>
            <a:ext cx="446544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1"/>
          <p:cNvSpPr/>
          <p:nvPr/>
        </p:nvSpPr>
        <p:spPr>
          <a:xfrm>
            <a:off x="324000" y="98100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Украшением комнаты могут стать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ллекции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керамика, декоративные маски, бабочки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1\Desktop\6 кл\к-статуэтки 1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50920" y="2565360"/>
            <a:ext cx="4019400" cy="401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6" name="Picture 3" descr="C:\Users\1\Desktop\6 кл\к-маски 2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572000" y="2565360"/>
            <a:ext cx="4321080" cy="395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Заголовок 1"/>
          <p:cNvSpPr/>
          <p:nvPr/>
        </p:nvSpPr>
        <p:spPr>
          <a:xfrm>
            <a:off x="324000" y="1143000"/>
            <a:ext cx="8362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rebuchet MS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1\Desktop\6 кл\с-камень 2.jpg"/>
          <p:cNvPicPr/>
          <p:nvPr/>
        </p:nvPicPr>
        <p:blipFill>
          <a:blip r:embed="rId1"/>
          <a:stretch/>
        </p:blipFill>
        <p:spPr>
          <a:xfrm>
            <a:off x="3684600" y="2781360"/>
            <a:ext cx="5135400" cy="37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250920" y="83664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1. Выпишите лишние понят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Жилой дом, квартира, офис, комната, многоквартирный д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сна и отдыха, зона досуга, учебная зона, зона хранения, зона куп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2. Как вы понимаете смысл следующих послови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сякий дом хозяином держи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Что на месте лежит, то само в руки беж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Каково на дому, таково и само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ли изба крива – хозяйка плох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250920" y="9079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3. Запишите в соответствующей колонке таблицы материалы для отделки следующих поверх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95280" y="2060640"/>
          <a:ext cx="8424720" cy="2592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отоло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Стен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Bookman Old Style"/>
                        </a:rPr>
                        <a:t>По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92" name="TextBox 3"/>
          <p:cNvSpPr/>
          <p:nvPr/>
        </p:nvSpPr>
        <p:spPr>
          <a:xfrm>
            <a:off x="250920" y="522936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. Штукатурка. 2. Паркет. 3. Краска. 4. Обои. 5. Керамическая плитка. 6. Ковролин. 7. Пластик. 8. Натуральный и искусственный камень. 9. Гипсокартон. 10. Ламинат. 11. Доска. 12. Линолеум. 13. Побелка. 14. Ваг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684360" y="9079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3128"/>
                </a:solidFill>
                <a:latin typeface="Bookman Old Style"/>
              </a:rPr>
              <a:t>Жилой дом – это отдельное здание, состоящее из комнат, вспомогательных помещений и предназначенное для проживания люде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2" descr="C:\Users\1\Desktop\6 класс\жилой дом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908000" y="2492280"/>
            <a:ext cx="5256360" cy="40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250920" y="6922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4. Установите соответствие: найдите описание каждого вида оформления оконных проё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44440" y="1687680"/>
          <a:ext cx="8640720" cy="5089320"/>
        </p:xfrm>
        <a:graphic>
          <a:graphicData uri="http://schemas.openxmlformats.org/drawingml/2006/table">
            <a:tbl>
              <a:tblPr/>
              <a:tblGrid>
                <a:gridCol w="2438280"/>
                <a:gridCol w="6202440"/>
              </a:tblGrid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ид оформления оконных проём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пис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  Што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 Занавеси из тонкой прозрачной ткани: тюля, органзы и т.д. Служат для рассеивания солнечных луч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Б  Ламбрек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 Занавеси на окне или двери из не просвечивающейся плотной тк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 Гард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. Ряд горизонтальных или вертикальных пластин, соединённых между соб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  Порть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. Занавеси разнообразных моделей из различных тка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  Жалюз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. Отделка в виде оборки или детали сложной формы, расположенной в верхней части ок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Е  Драпир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. Свободно ниспадающая ткань, образующая красивые округлые скла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250920" y="1052640"/>
            <a:ext cx="8642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5. Верны ли следующие утвержд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. К жилым помещениям относят жилой дом, многоквартирный дом, квартиру, комнату 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2. Ритм в композиции интерьера задается сочетанием темных и светлых поверхностей, ярких и приглушенных тонов 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3. Небольшую комнату нужно оклеивать обоями с крупным рисунком 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4. Римские шторы поднимаются вверх крупными склад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5. Ковролин – это небольшой ковер возле дивана (да /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Users\1\Desktop\6 класс\планировка.jpg"/>
          <p:cNvPicPr/>
          <p:nvPr/>
        </p:nvPicPr>
        <p:blipFill>
          <a:blip r:embed="rId1"/>
          <a:stretch/>
        </p:blipFill>
        <p:spPr>
          <a:xfrm>
            <a:off x="0" y="357120"/>
            <a:ext cx="89089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Заголовок 1"/>
          <p:cNvSpPr/>
          <p:nvPr/>
        </p:nvSpPr>
        <p:spPr>
          <a:xfrm>
            <a:off x="324000" y="1484280"/>
            <a:ext cx="8362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Trebuchet MS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250920" y="907920"/>
            <a:ext cx="8642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мимо жилого дома, существуют другие жилые помещения – это помещения, которые предназначены для постоянного проживания в нём люде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кварт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C:\Users\1\Desktop\6 класс\квартира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39760" y="2793960"/>
            <a:ext cx="2747880" cy="221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2" name="Picture 2" descr="C:\Users\1\Desktop\6 класс\Комната.jpg"/>
          <p:cNvPicPr/>
          <p:nvPr/>
        </p:nvPicPr>
        <p:blipFill>
          <a:blip r:embed="rId2"/>
          <a:stretch/>
        </p:blipFill>
        <p:spPr>
          <a:xfrm>
            <a:off x="3203640" y="3584520"/>
            <a:ext cx="2889360" cy="207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3" name="Picture 3" descr="C:\Users\1\Desktop\6 класс\Многоквартирный.jpg"/>
          <p:cNvPicPr/>
          <p:nvPr/>
        </p:nvPicPr>
        <p:blipFill>
          <a:blip r:embed="rId3"/>
          <a:stretch/>
        </p:blipFill>
        <p:spPr>
          <a:xfrm>
            <a:off x="6315120" y="4292640"/>
            <a:ext cx="2674800" cy="2398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4" name="TextBox 5"/>
          <p:cNvSpPr/>
          <p:nvPr/>
        </p:nvSpPr>
        <p:spPr>
          <a:xfrm>
            <a:off x="3276720" y="2924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ком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6300720" y="3357720"/>
            <a:ext cx="28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многоквартирный д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50920" y="76500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Для комфортного проживания пространство жилого дома делится на отдельные зоны – зонирует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Если жилое помещение имеет большую площадь, то для каждой зоны выделяют отдельное помещение. При не большой площади для зонирования в пределах одной комнаты используют мебель и элементы оборуд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3" descr="Зонирование Это разделение пространства жилого дома на отдельные зоны (одной комнате). Для этого используют мебель и элементы оборудования.  "/>
          <p:cNvPicPr/>
          <p:nvPr/>
        </p:nvPicPr>
        <p:blipFill>
          <a:blip r:embed="rId1"/>
          <a:stretch/>
        </p:blipFill>
        <p:spPr>
          <a:xfrm>
            <a:off x="2700360" y="3141720"/>
            <a:ext cx="3720960" cy="344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324000" y="620640"/>
            <a:ext cx="8496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приготовления пищи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приёма пищи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с большим столом, стульями, шкафом для посу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отдыха, общения членов семьи, приема гостей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с мягким диваном, креслами, журнальным столиком, телевизором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сна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анитарно-гигиеническая зона – это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?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1\Desktop\6 класс\планировка.jpg"/>
          <p:cNvPicPr/>
          <p:nvPr/>
        </p:nvPicPr>
        <p:blipFill>
          <a:blip r:embed="rId1"/>
          <a:stretch/>
        </p:blipFill>
        <p:spPr>
          <a:xfrm>
            <a:off x="2050920" y="3616200"/>
            <a:ext cx="51134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250920" y="836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В комнате девочки-подростка совмещены несколько з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сна и отды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учебная зо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зона дос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- зона хра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1\Desktop\6 класс\девочки.jpg"/>
          <p:cNvPicPr/>
          <p:nvPr/>
        </p:nvPicPr>
        <p:blipFill>
          <a:blip r:embed="rId1"/>
          <a:stretch/>
        </p:blipFill>
        <p:spPr>
          <a:xfrm>
            <a:off x="3598920" y="3141720"/>
            <a:ext cx="5184720" cy="34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324000" y="90792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нутреннее пространство жилого дома, его интерьер складываются из планировки помещений, отделки поверхностей, цветового решения, подбора мебели декоративного оформления. Все это составляет единое целое в соответствии с определенной идеей – композицией в интерье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1\Desktop\6 класс\симм.jpg"/>
          <p:cNvPicPr/>
          <p:nvPr/>
        </p:nvPicPr>
        <p:blipFill>
          <a:blip r:embed="rId1"/>
          <a:stretch/>
        </p:blipFill>
        <p:spPr>
          <a:xfrm>
            <a:off x="1763640" y="3141720"/>
            <a:ext cx="5616720" cy="343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324000" y="836640"/>
            <a:ext cx="8424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При создании интерьера учитывают общие правила компози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Виды компози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Симметричная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  <a:ea typeface="Arial"/>
              </a:rPr>
              <a:t> – имеет ярко выраженный центр, предметы расположены почти зеркаль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1\Desktop\6 класс\симмет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050920" y="2781360"/>
            <a:ext cx="5113440" cy="38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8T17:32:57Z</dcterms:created>
  <dc:creator>1</dc:creator>
  <dc:description/>
  <dc:language>en-US</dc:language>
  <cp:lastModifiedBy>Иван</cp:lastModifiedBy>
  <dcterms:modified xsi:type="dcterms:W3CDTF">2020-11-09T09:30:52Z</dcterms:modified>
  <cp:revision>87</cp:revision>
  <dc:subject/>
  <dc:title>Планировка жилого дома. Интерьер жилого дома</dc:title>
</cp:coreProperties>
</file>