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466C-AA9F-429B-AE51-EC5A6B1F3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7DD6-B3B6-441B-AC71-DD805AE2D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AD8B-BFD6-4819-B86C-7924ECC73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A0CA-A5FB-4F72-BE05-8A4E474D1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D0A87-172F-4165-A965-05B436A6E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DF1C6-6049-4582-B684-AA525B5E0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84AC9-879C-44CC-8AEC-8A8A3EA41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6E076-DC9E-4BD0-BA84-88BF07CCD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DCE36-C86F-41CA-B973-5F623F930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CEB3F-3FAC-4850-A1BC-0E6DAF270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78645-AA1D-43F4-B5EF-895347B2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1D20-7096-4740-8D67-C3838D940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77C2F-A1D6-4E28-9165-7E9DEFCC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567FC-FFE2-47C6-8DB7-02AB3E97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52DDB-D2AF-4B03-9EBF-0A0FEBFE0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72179-3CCB-4017-B1B6-0611C9602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1A44B-6825-4606-8C39-3D4C3AE7C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94DA99-763B-4F68-B52A-AFE8784BA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20C4A6-12D5-405A-9E7B-6FA775FC6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9AC5C8-56DC-452A-8AF1-072D0BAE8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5B5547-8636-439C-99DA-3F016893D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51B63E-CFED-4173-96CD-3390C4F06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1430-D4CA-4AF0-A931-92551369F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284B2B-048F-4509-953B-394CC91B3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74DCCA-5AEA-4592-B528-175E7CBF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6D50C6-1AE9-4A83-97D7-7FE02C1F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4B534E-BB57-40B8-AA74-911EA825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F8CA7C-A9DF-4C52-9463-DFC25FC81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8A6799-8521-418D-B293-9E9EAEF0F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022D3B-C5F4-4B72-A86F-AC7766498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79232-B512-4AD9-940E-B8FC0F593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30C34-ADA9-4BDF-9DA6-669905DDC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57616-B0EE-4AB7-A4BE-9F6E13306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9160-9F7C-4AEC-A808-BBD372C41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13423-A90B-460F-B4DE-837BDFE20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59745-3DD0-498A-88A1-98D0539C1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53A5B-4DA9-4D44-859F-E16DB1AE3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63BFF-EDC4-4603-A448-9E81FDE2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F5ABE-62B0-457C-A4D3-B08173AF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33A55-0591-4327-9FF4-BD3AF6A8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2DD19-A802-4A74-92BD-E1F816856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397CC-F30A-430E-A17E-4A58A9703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2AB0F-53A9-4376-82B2-0D3B01222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C9B3-96A2-415C-B3AB-D035BA60C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8CC5-9E8A-413B-A7A5-A5FB4887C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55C1-FD30-4E84-803F-FEFF4C08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5AD1-C1CC-4A29-81BE-1695C884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3146-7128-47A0-8C07-63634CC4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9b2d1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69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9b2d1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28e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9b2d1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28e6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9b2d1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9b2d1f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9D76D-D451-40DD-A152-B3F553ECE2D9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9b2d1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9b2d1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9b2d1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9b2d1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9b2d1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69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28e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9b2d1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28e6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9b2d1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9b2d1f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F1843-6A7F-48D7-8060-F2B7E9C627BB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9b2d1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69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9b2d1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28e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9b2d1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28e6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9b2d1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9b2d1f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D2ED1-E4EB-41B7-B5AC-4269C6106C13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9b2d1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69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9b2d1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28e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9b2d1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28e6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9b2d1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9b2d1f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C19B0-2E10-4E49-AA9B-ACA9682CC07B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Заголовок 1"/>
          <p:cNvSpPr/>
          <p:nvPr/>
        </p:nvSpPr>
        <p:spPr>
          <a:xfrm>
            <a:off x="457200" y="11430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96464"/>
                </a:solidFill>
                <a:latin typeface="Trebuchet MS"/>
              </a:rPr>
              <a:t>Интерьер жилого до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C:\Users\1\Desktop\6 класс\дин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4643280" y="2627280"/>
            <a:ext cx="4176720" cy="389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C:\Users\1\Desktop\6 класс\ас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2050920" y="2924280"/>
            <a:ext cx="5021280" cy="3622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37" name="TextBox 2"/>
          <p:cNvSpPr/>
          <p:nvPr/>
        </p:nvSpPr>
        <p:spPr>
          <a:xfrm>
            <a:off x="395280" y="765000"/>
            <a:ext cx="83534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Асимметричная </a:t>
            </a: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– достигается применением в декоре жилой комнаты противопоставления крупной и небольшой мебели, сочетанием темных и светлых поверхностей, ярких и приглушенных цветов. Обязательное условие – выделение центра компози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C:\Users\1\Desktop\6 класс\ритм.jpe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4643280" y="3411360"/>
            <a:ext cx="4248360" cy="3191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39" name="TextBox 2"/>
          <p:cNvSpPr/>
          <p:nvPr/>
        </p:nvSpPr>
        <p:spPr>
          <a:xfrm>
            <a:off x="324000" y="907920"/>
            <a:ext cx="849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Ритм</a:t>
            </a: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 задается повторением элементов интерьера. Горизонтальный ритм – полки, расположенные одна над другой, картины в два ряда; вертикальный ритм – высокие узкие шкафы, вертикальный рисунок обоев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4" descr="C:\Users\1\Desktop\products_libby_langdon_for_braxton_culler_color_libby langdon_5722-001-b2.jpg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250920" y="3397320"/>
            <a:ext cx="4033800" cy="3200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C:\Users\1\Desktop\6 класс\доминанта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2124000" y="2924280"/>
            <a:ext cx="4791240" cy="3593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42" name="TextBox 2"/>
          <p:cNvSpPr/>
          <p:nvPr/>
        </p:nvSpPr>
        <p:spPr>
          <a:xfrm>
            <a:off x="324000" y="836640"/>
            <a:ext cx="849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Доминанта</a:t>
            </a: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 – визуальный центр композиции, который сразу притягивает взгляд. Доминанта может быть цветовой или масштабной, обязательно связанной с другими элементами композиции в интерьер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Box 1"/>
          <p:cNvSpPr/>
          <p:nvPr/>
        </p:nvSpPr>
        <p:spPr>
          <a:xfrm>
            <a:off x="250920" y="692280"/>
            <a:ext cx="86803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Отделка потолка, стен, пола имеет важное значение в оформлении интерье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Отделка потол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Подвесные</a:t>
            </a: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 потолки применяются в высоких помещениях. Они могут быть многоуровневыми, сложной конфигураци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" descr="C:\Users\1\Desktop\6 кл\п-подвесные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1116000" y="2924280"/>
            <a:ext cx="6913440" cy="3601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Box 1"/>
          <p:cNvSpPr/>
          <p:nvPr/>
        </p:nvSpPr>
        <p:spPr>
          <a:xfrm>
            <a:off x="5076720" y="1197000"/>
            <a:ext cx="38163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Натяжные</a:t>
            </a: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 потолки используются как в высоких, так и в обычных, стандартных жилых помещения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" descr="C:\Users\1\Desktop\6 кл\п натяжные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250920" y="692280"/>
            <a:ext cx="4465440" cy="2957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47" name="Picture 2" descr="C:\Users\1\Desktop\6 кл\п-окрашен.jpg"/>
          <p:cNvPicPr/>
          <p:nvPr/>
        </p:nvPicPr>
        <p:blipFill>
          <a:blip r:embed="rId2"/>
          <a:stretch/>
        </p:blipFill>
        <p:spPr>
          <a:xfrm>
            <a:off x="3914640" y="3860640"/>
            <a:ext cx="4953240" cy="2754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48" name="TextBox 4"/>
          <p:cNvSpPr/>
          <p:nvPr/>
        </p:nvSpPr>
        <p:spPr>
          <a:xfrm>
            <a:off x="250920" y="4653000"/>
            <a:ext cx="345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Окрашенные</a:t>
            </a: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 потолки подходят для всех типов помеще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2"/>
          <p:cNvSpPr/>
          <p:nvPr/>
        </p:nvSpPr>
        <p:spPr>
          <a:xfrm>
            <a:off x="250920" y="765000"/>
            <a:ext cx="8642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Отделка сте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В современном интерьере стены являются основным элементом фона, от которого зависит общий вид помещения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" descr="C:\Users\1\Desktop\6 кл\с-штукат.jpg"/>
          <p:cNvPicPr/>
          <p:nvPr/>
        </p:nvPicPr>
        <p:blipFill>
          <a:blip r:embed="rId1"/>
          <a:stretch/>
        </p:blipFill>
        <p:spPr>
          <a:xfrm>
            <a:off x="250920" y="2781360"/>
            <a:ext cx="3889440" cy="2592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51" name="TextBox 4"/>
          <p:cNvSpPr/>
          <p:nvPr/>
        </p:nvSpPr>
        <p:spPr>
          <a:xfrm>
            <a:off x="250920" y="580536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Декоративная штукатур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2" descr="C:\Users\1\Desktop\6 кл\с-покраска.jpg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4367160" y="2349360"/>
            <a:ext cx="4525920" cy="3394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53" name="TextBox 6"/>
          <p:cNvSpPr/>
          <p:nvPr/>
        </p:nvSpPr>
        <p:spPr>
          <a:xfrm>
            <a:off x="4572000" y="6165720"/>
            <a:ext cx="403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Отделка стен краск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1" descr="C:\Users\1\Desktop\6 кл\с-обои.jpg"/>
          <p:cNvPicPr/>
          <p:nvPr/>
        </p:nvPicPr>
        <p:blipFill>
          <a:blip r:embed="rId1"/>
          <a:stretch/>
        </p:blipFill>
        <p:spPr>
          <a:xfrm>
            <a:off x="901800" y="2411280"/>
            <a:ext cx="7342200" cy="4130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55" name="TextBox 2"/>
          <p:cNvSpPr/>
          <p:nvPr/>
        </p:nvSpPr>
        <p:spPr>
          <a:xfrm>
            <a:off x="324000" y="907920"/>
            <a:ext cx="849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Выбирая </a:t>
            </a: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обои для отделки стен</a:t>
            </a: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 , следует учитывать, что от их рисунка и цвета зависят освещенность и ощущение объема комна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1"/>
          <p:cNvSpPr/>
          <p:nvPr/>
        </p:nvSpPr>
        <p:spPr>
          <a:xfrm>
            <a:off x="324000" y="981000"/>
            <a:ext cx="84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В интерьере для отделки стен используют натуральный и искусственный камень, а также вагонк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2" descr="C:\Users\1\Desktop\6 кл\с-вагонка.jpg"/>
          <p:cNvPicPr/>
          <p:nvPr/>
        </p:nvPicPr>
        <p:blipFill>
          <a:blip r:embed="rId1"/>
          <a:stretch/>
        </p:blipFill>
        <p:spPr>
          <a:xfrm>
            <a:off x="4356000" y="2781360"/>
            <a:ext cx="4464000" cy="3743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58" name="Picture 3" descr="C:\Users\1\Desktop\6 кл\с-камень.jpg"/>
          <p:cNvPicPr/>
          <p:nvPr/>
        </p:nvPicPr>
        <p:blipFill>
          <a:blip r:embed="rId2"/>
          <a:stretch/>
        </p:blipFill>
        <p:spPr>
          <a:xfrm>
            <a:off x="250920" y="2781360"/>
            <a:ext cx="3744720" cy="3743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Box 1"/>
          <p:cNvSpPr/>
          <p:nvPr/>
        </p:nvSpPr>
        <p:spPr>
          <a:xfrm>
            <a:off x="324000" y="765000"/>
            <a:ext cx="8496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Отделка по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Современные напольные покрытия разнообразны по материалу, фактуре, рисунку и цвет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Ламинат</a:t>
            </a: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 – многослойный материал на основе древесно-волокнистой плиты. Верхние слои – защитные пленки с различным рисунк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1" descr="C:\Users\1\Desktop\6 кл\пол-ламинат.jpg"/>
          <p:cNvPicPr/>
          <p:nvPr/>
        </p:nvPicPr>
        <p:blipFill>
          <a:blip r:embed="rId1"/>
          <a:stretch/>
        </p:blipFill>
        <p:spPr>
          <a:xfrm>
            <a:off x="1547640" y="3141720"/>
            <a:ext cx="6042240" cy="3397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1" descr="C:\Users\1\Desktop\6 кл\пол-паркет.jpg"/>
          <p:cNvPicPr/>
          <p:nvPr/>
        </p:nvPicPr>
        <p:blipFill>
          <a:blip r:embed="rId1"/>
          <a:stretch/>
        </p:blipFill>
        <p:spPr>
          <a:xfrm>
            <a:off x="250920" y="1484280"/>
            <a:ext cx="4811760" cy="4811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62" name="TextBox 2"/>
          <p:cNvSpPr/>
          <p:nvPr/>
        </p:nvSpPr>
        <p:spPr>
          <a:xfrm>
            <a:off x="5364000" y="1989000"/>
            <a:ext cx="352908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Паркетная доска </a:t>
            </a: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состоит из нескольких слоев натурального дерева.  Верхний слой изготавливается из красивых, ценных пород: бука, вишни, дуба и др., который покрывается несколькими слоями влагостойкого ла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96464"/>
                </a:solidFill>
                <a:latin typeface="Trebuchet MS"/>
              </a:rPr>
              <a:t>Планирование жилого дома</a:t>
            </a:r>
            <a:endParaRPr b="0" lang="en-US" sz="3600" spc="-1" strike="noStrike">
              <a:solidFill>
                <a:srgbClr val="696464"/>
              </a:solidFill>
              <a:latin typeface="Trebuchet MS"/>
            </a:endParaRPr>
          </a:p>
        </p:txBody>
      </p:sp>
      <p:pic>
        <p:nvPicPr>
          <p:cNvPr id="217" name="Picture 3" descr="C:\Users\1\Desktop\interer_stil_dizayn_dom_villa_zhilaya_komnata_68248_1280x800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3132000" y="2997360"/>
            <a:ext cx="5651640" cy="3531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Box 1"/>
          <p:cNvSpPr/>
          <p:nvPr/>
        </p:nvSpPr>
        <p:spPr>
          <a:xfrm>
            <a:off x="250920" y="765000"/>
            <a:ext cx="8642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Для отделки пола используют </a:t>
            </a: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ковровое покрытие </a:t>
            </a: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(ковролин) – ковер, который устилает вес пол комнаты. Популярным износостойким напольным покрытием является </a:t>
            </a: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линолеум</a:t>
            </a: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.  Разнообразие цвета и рисунка, гладкая или тисненая поверхность этого материала позволяют поддерживать определенный стиль интерье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" descr="C:\Users\1\Desktop\6 кл\пол-ковровое....jpg"/>
          <p:cNvPicPr/>
          <p:nvPr/>
        </p:nvPicPr>
        <p:blipFill>
          <a:blip r:embed="rId1"/>
          <a:stretch/>
        </p:blipFill>
        <p:spPr>
          <a:xfrm>
            <a:off x="250920" y="3068640"/>
            <a:ext cx="4236840" cy="3513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65" name="Picture 2" descr="C:\Users\1\Desktop\6 кл\пол-линолем 2.jpg"/>
          <p:cNvPicPr/>
          <p:nvPr/>
        </p:nvPicPr>
        <p:blipFill>
          <a:blip r:embed="rId2"/>
          <a:stretch/>
        </p:blipFill>
        <p:spPr>
          <a:xfrm>
            <a:off x="4968720" y="4005360"/>
            <a:ext cx="3803760" cy="2536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Box 1"/>
          <p:cNvSpPr/>
          <p:nvPr/>
        </p:nvSpPr>
        <p:spPr>
          <a:xfrm>
            <a:off x="250920" y="836640"/>
            <a:ext cx="8642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Декоративное оформление интерье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Самый распространенный способ – применение текстиля в обивке мебели, занавесей, ковров и паласов на полу. С их помощью интерьеру придается атмосфера тепла, ую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2" descr="C:\Users\1\Desktop\6 кл\з-драпировка 1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4716360" y="2421000"/>
            <a:ext cx="4138560" cy="4138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68" name="TextBox 3"/>
          <p:cNvSpPr/>
          <p:nvPr/>
        </p:nvSpPr>
        <p:spPr>
          <a:xfrm>
            <a:off x="324000" y="3357720"/>
            <a:ext cx="4103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Основные виды занавесей для окон следующ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Драпировка </a:t>
            </a: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– Свободно ниспадающая ткань, образующая красивые склад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Box 1"/>
          <p:cNvSpPr/>
          <p:nvPr/>
        </p:nvSpPr>
        <p:spPr>
          <a:xfrm>
            <a:off x="324000" y="836640"/>
            <a:ext cx="84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Шторы</a:t>
            </a: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 – занавеси разнообразных моделей из различных тканей. Могут быть раздвижными или подъемны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C:\Users\1\Desktop\6 кл\шторы франц.jpg"/>
          <p:cNvPicPr/>
          <p:nvPr/>
        </p:nvPicPr>
        <p:blipFill>
          <a:blip r:embed="rId1"/>
          <a:stretch/>
        </p:blipFill>
        <p:spPr>
          <a:xfrm>
            <a:off x="395280" y="1844640"/>
            <a:ext cx="3672000" cy="3672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71" name="Picture 3" descr="C:\Users\1\Desktop\6 кл\шторы японские.jpg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4788000" y="1844640"/>
            <a:ext cx="3968640" cy="3610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72" name="TextBox 4"/>
          <p:cNvSpPr/>
          <p:nvPr/>
        </p:nvSpPr>
        <p:spPr>
          <a:xfrm>
            <a:off x="324000" y="5732640"/>
            <a:ext cx="38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Французские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 – имеют многочисленные складки - фесто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5"/>
          <p:cNvSpPr/>
          <p:nvPr/>
        </p:nvSpPr>
        <p:spPr>
          <a:xfrm>
            <a:off x="4716360" y="5877000"/>
            <a:ext cx="410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Японские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– состоят из прямых полотни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C:\Users\1\Desktop\6 кл\шторы римские.jpg"/>
          <p:cNvPicPr/>
          <p:nvPr/>
        </p:nvPicPr>
        <p:blipFill>
          <a:blip r:embed="rId1"/>
          <a:stretch/>
        </p:blipFill>
        <p:spPr>
          <a:xfrm>
            <a:off x="324000" y="2071800"/>
            <a:ext cx="3887640" cy="4498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75" name="Picture 3" descr="C:\Users\1\Desktop\6 кл\шторы кантри 1.jpg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4932360" y="2060640"/>
            <a:ext cx="3781440" cy="4511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76" name="TextBox 3"/>
          <p:cNvSpPr/>
          <p:nvPr/>
        </p:nvSpPr>
        <p:spPr>
          <a:xfrm>
            <a:off x="324000" y="907920"/>
            <a:ext cx="38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Римские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 – поднимаются вверх крупными склад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4"/>
          <p:cNvSpPr/>
          <p:nvPr/>
        </p:nvSpPr>
        <p:spPr>
          <a:xfrm>
            <a:off x="4859280" y="765000"/>
            <a:ext cx="388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Кантри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– состоит из двух частей: короткой нижней  торы и ламбрек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C:\Users\1\Desktop\6 кл\з-драпировка.jpg"/>
          <p:cNvPicPr/>
          <p:nvPr/>
        </p:nvPicPr>
        <p:blipFill>
          <a:blip r:embed="rId1"/>
          <a:stretch/>
        </p:blipFill>
        <p:spPr>
          <a:xfrm>
            <a:off x="324000" y="2257560"/>
            <a:ext cx="4319280" cy="43210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3" descr="C:\Users\1\Desktop\6 кл\шторы портьеры дверь.jpg"/>
          <p:cNvPicPr/>
          <p:nvPr/>
        </p:nvPicPr>
        <p:blipFill>
          <a:blip r:embed="rId2"/>
          <a:stretch/>
        </p:blipFill>
        <p:spPr>
          <a:xfrm>
            <a:off x="5292720" y="2276640"/>
            <a:ext cx="3541680" cy="4308480"/>
          </a:xfrm>
          <a:prstGeom prst="rect">
            <a:avLst/>
          </a:prstGeom>
          <a:ln w="0">
            <a:noFill/>
          </a:ln>
        </p:spPr>
      </p:pic>
      <p:sp>
        <p:nvSpPr>
          <p:cNvPr id="280" name="TextBox 5"/>
          <p:cNvSpPr/>
          <p:nvPr/>
        </p:nvSpPr>
        <p:spPr>
          <a:xfrm>
            <a:off x="324000" y="83664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Портьеры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 – термин французского происхождения. Это шторы из плотных легких или тяжелых тканей, способных хорошо держать форму, разнообразных расцветок и фак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Box 1"/>
          <p:cNvSpPr/>
          <p:nvPr/>
        </p:nvSpPr>
        <p:spPr>
          <a:xfrm>
            <a:off x="250920" y="836640"/>
            <a:ext cx="85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В оформлении интерьера можно использовать </a:t>
            </a: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аксессуары</a:t>
            </a: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, сделанные своими руками – декоративные подушки, коврики, лампы, рамки для фотографий, картины и фотоколлаж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C:\Users\1\Desktop\6 кл\подушки.jpg"/>
          <p:cNvPicPr/>
          <p:nvPr/>
        </p:nvPicPr>
        <p:blipFill>
          <a:blip r:embed="rId1"/>
          <a:stretch/>
        </p:blipFill>
        <p:spPr>
          <a:xfrm>
            <a:off x="324000" y="2924280"/>
            <a:ext cx="3649680" cy="3649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83" name="Picture 3" descr="C:\Users\1\Desktop\6 кл\коврик.jpg"/>
          <p:cNvPicPr/>
          <p:nvPr/>
        </p:nvPicPr>
        <p:blipFill>
          <a:blip r:embed="rId2"/>
          <a:stretch/>
        </p:blipFill>
        <p:spPr>
          <a:xfrm>
            <a:off x="4427640" y="2133720"/>
            <a:ext cx="4465440" cy="4464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Box 1"/>
          <p:cNvSpPr/>
          <p:nvPr/>
        </p:nvSpPr>
        <p:spPr>
          <a:xfrm>
            <a:off x="324000" y="981000"/>
            <a:ext cx="84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Украшением комнаты могут стать </a:t>
            </a: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коллекции</a:t>
            </a: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 – керамика, декоративные маски, бабочки и т.п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" descr="C:\Users\1\Desktop\6 кл\к-статуэтки 1.jp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250920" y="2565360"/>
            <a:ext cx="4019400" cy="4019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86" name="Picture 3" descr="C:\Users\1\Desktop\6 кл\к-маски 2.jpg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4572000" y="2565360"/>
            <a:ext cx="4321080" cy="395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Заголовок 1"/>
          <p:cNvSpPr/>
          <p:nvPr/>
        </p:nvSpPr>
        <p:spPr>
          <a:xfrm>
            <a:off x="324000" y="1143000"/>
            <a:ext cx="8362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96464"/>
                </a:solidFill>
                <a:latin typeface="Trebuchet MS"/>
              </a:rPr>
              <a:t>Проверь себ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2" descr="C:\Users\1\Desktop\6 кл\с-камень 2.jpg"/>
          <p:cNvPicPr/>
          <p:nvPr/>
        </p:nvPicPr>
        <p:blipFill>
          <a:blip r:embed="rId1"/>
          <a:stretch/>
        </p:blipFill>
        <p:spPr>
          <a:xfrm>
            <a:off x="3684600" y="2781360"/>
            <a:ext cx="5135400" cy="3782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Box 1"/>
          <p:cNvSpPr/>
          <p:nvPr/>
        </p:nvSpPr>
        <p:spPr>
          <a:xfrm>
            <a:off x="250920" y="836640"/>
            <a:ext cx="856908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1. Выпишите лишние понят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Жилой дом, квартира, офис, комната, многоквартирный д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Зона сна и отдыха, зона досуга, учебная зона, зона хранения, зона куп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2. Как вы понимаете смысл следующих пословиц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Всякий дом хозяином держитс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Что на месте лежит, то само в руки беж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Каково на дому, таково и самом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Коли изба крива – хозяйка плох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Box 1"/>
          <p:cNvSpPr/>
          <p:nvPr/>
        </p:nvSpPr>
        <p:spPr>
          <a:xfrm>
            <a:off x="250920" y="907920"/>
            <a:ext cx="864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3. Запишите в соответствующей колонке таблицы материалы для отделки следующих поверхност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395280" y="2060640"/>
          <a:ext cx="8424720" cy="2592360"/>
        </p:xfrm>
        <a:graphic>
          <a:graphicData uri="http://schemas.openxmlformats.org/drawingml/2006/table">
            <a:tbl>
              <a:tblPr/>
              <a:tblGrid>
                <a:gridCol w="2808360"/>
                <a:gridCol w="2808360"/>
                <a:gridCol w="2808000"/>
              </a:tblGrid>
              <a:tr h="431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c00000"/>
                          </a:solidFill>
                          <a:latin typeface="Bookman Old Style"/>
                        </a:rPr>
                        <a:t>Потоло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c00000"/>
                          </a:solidFill>
                          <a:latin typeface="Bookman Old Style"/>
                        </a:rPr>
                        <a:t>Стен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c00000"/>
                          </a:solidFill>
                          <a:latin typeface="Bookman Old Style"/>
                        </a:rPr>
                        <a:t>По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43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433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3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sp>
        <p:nvSpPr>
          <p:cNvPr id="292" name="TextBox 3"/>
          <p:cNvSpPr/>
          <p:nvPr/>
        </p:nvSpPr>
        <p:spPr>
          <a:xfrm>
            <a:off x="250920" y="5229360"/>
            <a:ext cx="8642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1. Штукатурка. 2. Паркет. 3. Краска. 4. Обои. 5. Керамическая плитка. 6. Ковролин. 7. Пластик. 8. Натуральный и искусственный камень. 9. Гипсокартон. 10. Ламинат. 11. Доска. 12. Линолеум. 13. Побелка. 14. Ваго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Box 1"/>
          <p:cNvSpPr/>
          <p:nvPr/>
        </p:nvSpPr>
        <p:spPr>
          <a:xfrm>
            <a:off x="684360" y="90792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3128"/>
                </a:solidFill>
                <a:latin typeface="Bookman Old Style"/>
              </a:rPr>
              <a:t>Жилой дом – это отдельное здание, состоящее из комнат, вспомогательных помещений и предназначенное для проживания людей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Рисунок 2" descr="C:\Users\1\Desktop\6 класс\жилой дом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1908000" y="2492280"/>
            <a:ext cx="5256360" cy="4032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Box 1"/>
          <p:cNvSpPr/>
          <p:nvPr/>
        </p:nvSpPr>
        <p:spPr>
          <a:xfrm>
            <a:off x="250920" y="692280"/>
            <a:ext cx="864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4. Установите соответствие: найдите описание каждого вида оформления оконных проём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244440" y="1687680"/>
          <a:ext cx="8640720" cy="5089320"/>
        </p:xfrm>
        <a:graphic>
          <a:graphicData uri="http://schemas.openxmlformats.org/drawingml/2006/table">
            <a:tbl>
              <a:tblPr/>
              <a:tblGrid>
                <a:gridCol w="2438280"/>
                <a:gridCol w="6202440"/>
              </a:tblGrid>
              <a:tr h="578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Вид оформления оконных проём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1848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Опис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18485"/>
                    </a:solidFill>
                  </a:tcPr>
                </a:tc>
              </a:tr>
              <a:tr h="1006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А  Штор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. Занавеси из тонкой прозрачной ткани: тюля, органзы и т.д. Служат для рассеивания солнечных луч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Б  Ламбреке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. Занавеси на окне или двери из не просвечивающейся плотной тка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  Гарди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. Ряд горизонтальных или вертикальных пластин, соединённых между соб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Г  Портье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. Занавеси разнообразных моделей из различных ткан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Д  Жалюз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. Отделка в виде оборки или детали сложной формы, расположенной в верхней части ок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Е  Драпиров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. Свободно ниспадающая ткань, образующая красивые округлые склад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Box 1"/>
          <p:cNvSpPr/>
          <p:nvPr/>
        </p:nvSpPr>
        <p:spPr>
          <a:xfrm>
            <a:off x="250920" y="1052640"/>
            <a:ext cx="86421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5. Верны ли следующие утвержде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1. К жилым помещениям относят жилой дом, многоквартирный дом, квартиру, комнату (да / нет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2. Ритм в композиции интерьера задается сочетанием темных и светлых поверхностей, ярких и приглушенных тонов (да / нет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3. Небольшую комнату нужно оклеивать обоями с крупным рисунком (да / нет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4. Римские шторы поднимаются вверх крупными складка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(да / нет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5. Ковролин – это небольшой ковер возле дивана (да / нет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2" descr="C:\Users\1\Desktop\6 класс\планировка.jpg"/>
          <p:cNvPicPr/>
          <p:nvPr/>
        </p:nvPicPr>
        <p:blipFill>
          <a:blip r:embed="rId1"/>
          <a:stretch/>
        </p:blipFill>
        <p:spPr>
          <a:xfrm>
            <a:off x="0" y="357120"/>
            <a:ext cx="8908920" cy="62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Заголовок 1"/>
          <p:cNvSpPr/>
          <p:nvPr/>
        </p:nvSpPr>
        <p:spPr>
          <a:xfrm>
            <a:off x="324000" y="1484280"/>
            <a:ext cx="83628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96464"/>
                </a:solidFill>
                <a:latin typeface="Trebuchet MS"/>
              </a:rPr>
              <a:t>Спасибо за работу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Box 1"/>
          <p:cNvSpPr/>
          <p:nvPr/>
        </p:nvSpPr>
        <p:spPr>
          <a:xfrm>
            <a:off x="250920" y="907920"/>
            <a:ext cx="864216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Помимо жилого дома, существуют другие жилые помещения – это помещения, которые предназначены для постоянного проживания в нём людей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кварт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Рисунок 2" descr="C:\Users\1\Desktop\6 класс\квартира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239760" y="2793960"/>
            <a:ext cx="2747880" cy="2219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22" name="Picture 2" descr="C:\Users\1\Desktop\6 класс\Комната.jpg"/>
          <p:cNvPicPr/>
          <p:nvPr/>
        </p:nvPicPr>
        <p:blipFill>
          <a:blip r:embed="rId2"/>
          <a:stretch/>
        </p:blipFill>
        <p:spPr>
          <a:xfrm>
            <a:off x="3203640" y="3584520"/>
            <a:ext cx="2889360" cy="2076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23" name="Picture 3" descr="C:\Users\1\Desktop\6 класс\Многоквартирный.jpg"/>
          <p:cNvPicPr/>
          <p:nvPr/>
        </p:nvPicPr>
        <p:blipFill>
          <a:blip r:embed="rId3"/>
          <a:stretch/>
        </p:blipFill>
        <p:spPr>
          <a:xfrm>
            <a:off x="6315120" y="4292640"/>
            <a:ext cx="2674800" cy="2398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24" name="TextBox 5"/>
          <p:cNvSpPr/>
          <p:nvPr/>
        </p:nvSpPr>
        <p:spPr>
          <a:xfrm>
            <a:off x="3276720" y="29242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комн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6"/>
          <p:cNvSpPr/>
          <p:nvPr/>
        </p:nvSpPr>
        <p:spPr>
          <a:xfrm>
            <a:off x="6300720" y="3357720"/>
            <a:ext cx="284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многоквартирный д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1"/>
          <p:cNvSpPr/>
          <p:nvPr/>
        </p:nvSpPr>
        <p:spPr>
          <a:xfrm>
            <a:off x="250920" y="765000"/>
            <a:ext cx="8497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Для комфортного проживания пространство жилого дома делится на отдельные зоны – зонируетс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Если жилое помещение имеет большую площадь, то для каждой зоны выделяют отдельное помещение. При не большой площади для зонирования в пределах одной комнаты используют мебель и элементы оборудов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Рисунок 3" descr="Зонирование Это разделение пространства жилого дома на отдельные зоны (одной комнате). Для этого используют мебель и элементы оборудования.  "/>
          <p:cNvPicPr/>
          <p:nvPr/>
        </p:nvPicPr>
        <p:blipFill>
          <a:blip r:embed="rId1"/>
          <a:stretch/>
        </p:blipFill>
        <p:spPr>
          <a:xfrm>
            <a:off x="2700360" y="3141720"/>
            <a:ext cx="3720960" cy="3440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1"/>
          <p:cNvSpPr/>
          <p:nvPr/>
        </p:nvSpPr>
        <p:spPr>
          <a:xfrm>
            <a:off x="324000" y="620640"/>
            <a:ext cx="849600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Зона приготовления пищи – это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?</a:t>
            </a: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Зона приёма пищи – это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?</a:t>
            </a: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 с большим столом, стульями, шкафом для посуд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Зона отдыха, общения членов семьи, приема гостей – это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?</a:t>
            </a: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 с мягким диваном, креслами, журнальным столиком, телевизором и т.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Зона сна – это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?</a:t>
            </a: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Санитарно-гигиеническая зона – это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?</a:t>
            </a: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" descr="C:\Users\1\Desktop\6 класс\планировка.jpg"/>
          <p:cNvPicPr/>
          <p:nvPr/>
        </p:nvPicPr>
        <p:blipFill>
          <a:blip r:embed="rId1"/>
          <a:stretch/>
        </p:blipFill>
        <p:spPr>
          <a:xfrm>
            <a:off x="2050920" y="3616200"/>
            <a:ext cx="5113440" cy="30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2"/>
          <p:cNvSpPr/>
          <p:nvPr/>
        </p:nvSpPr>
        <p:spPr>
          <a:xfrm>
            <a:off x="250920" y="836640"/>
            <a:ext cx="85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В комнате девочки-подростка совмещены несколько зо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зона сна и отдых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учебная зон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зона досуг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- зона хра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" descr="C:\Users\1\Desktop\6 класс\девочки.jpg"/>
          <p:cNvPicPr/>
          <p:nvPr/>
        </p:nvPicPr>
        <p:blipFill>
          <a:blip r:embed="rId1"/>
          <a:stretch/>
        </p:blipFill>
        <p:spPr>
          <a:xfrm>
            <a:off x="3598920" y="3141720"/>
            <a:ext cx="5184720" cy="345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Box 1"/>
          <p:cNvSpPr/>
          <p:nvPr/>
        </p:nvSpPr>
        <p:spPr>
          <a:xfrm>
            <a:off x="324000" y="907920"/>
            <a:ext cx="8496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Внутреннее пространство жилого дома, его интерьер складываются из планировки помещений, отделки поверхностей, цветового решения, подбора мебели декоративного оформления. Все это составляет единое целое в соответствии с определенной идеей – композицией в интерьер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" descr="C:\Users\1\Desktop\6 класс\симм.jpg"/>
          <p:cNvPicPr/>
          <p:nvPr/>
        </p:nvPicPr>
        <p:blipFill>
          <a:blip r:embed="rId1"/>
          <a:stretch/>
        </p:blipFill>
        <p:spPr>
          <a:xfrm>
            <a:off x="1763640" y="3141720"/>
            <a:ext cx="5616720" cy="3430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1"/>
          <p:cNvSpPr/>
          <p:nvPr/>
        </p:nvSpPr>
        <p:spPr>
          <a:xfrm>
            <a:off x="324000" y="836640"/>
            <a:ext cx="84247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При создании интерьера учитывают общие правила компози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Виды компози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Симметричная</a:t>
            </a: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 – имеет ярко выраженный центр, предметы расположены почти зеркальн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2" descr="C:\Users\1\Desktop\6 класс\симмет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2050920" y="2781360"/>
            <a:ext cx="5113440" cy="3833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08T17:32:57Z</dcterms:created>
  <dc:creator>1</dc:creator>
  <dc:description/>
  <dc:language>en-US</dc:language>
  <cp:lastModifiedBy>Иван</cp:lastModifiedBy>
  <dcterms:modified xsi:type="dcterms:W3CDTF">2020-11-09T09:30:52Z</dcterms:modified>
  <cp:revision>87</cp:revision>
  <dc:subject/>
  <dc:title>Планировка жилого дома. Интерьер жилого дома</dc:title>
</cp:coreProperties>
</file>