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219-3EF3-4EED-A48D-334B4A9D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5F9-1FF2-451E-A5CE-DFBCD206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5DE-91B8-4727-8E77-7D019AD7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8BF-16C6-48C2-94D6-8753CAC4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879-1196-4FF9-BC2D-9BC1DB8C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D6D-99E0-4D92-B330-5217F3D2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EF9-AB82-4454-AC51-1AF23245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30B-CF45-4D5A-8FEA-A91A2360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E73-979C-4F58-9B1B-C5730734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D8F-D77A-4DB1-9605-CC00F91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F9B-1820-4CB9-82FD-CBB0D4F8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885-09A1-477E-AD07-699D9336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CA4C-A91A-4C8D-8CC5-B3D4D5CCD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1676520" y="1378080"/>
            <a:ext cx="6381720" cy="135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379160" y="3143160"/>
            <a:ext cx="69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ntiqua"/>
              </a:rPr>
              <a:t>Цель: развивать умение ориентироваться на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j49379_1246858299.png"/>
          <p:cNvPicPr/>
          <p:nvPr/>
        </p:nvPicPr>
        <p:blipFill>
          <a:blip r:embed="rId3"/>
          <a:stretch/>
        </p:blipFill>
        <p:spPr>
          <a:xfrm>
            <a:off x="3286080" y="3357720"/>
            <a:ext cx="2457360" cy="3071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14920" y="407196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j54190_1231180876.png"/>
          <p:cNvPicPr/>
          <p:nvPr/>
        </p:nvPicPr>
        <p:blipFill>
          <a:blip r:embed="rId6"/>
          <a:stretch/>
        </p:blipFill>
        <p:spPr>
          <a:xfrm>
            <a:off x="1643040" y="3643200"/>
            <a:ext cx="2935440" cy="29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верх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j49379_1246858299.png"/>
          <p:cNvPicPr/>
          <p:nvPr/>
        </p:nvPicPr>
        <p:blipFill>
          <a:blip r:embed="rId1"/>
          <a:stretch/>
        </p:blipFill>
        <p:spPr>
          <a:xfrm>
            <a:off x="2928960" y="2000160"/>
            <a:ext cx="3386160" cy="42325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267264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j54190_1231180876.png"/>
          <p:cNvPicPr/>
          <p:nvPr/>
        </p:nvPicPr>
        <p:blipFill>
          <a:blip r:embed="rId6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правом верхне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j68067_123451977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86040" y="23572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856600" y="128592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3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j54190_1231180876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j54190_1231180876.png"/>
          <p:cNvPicPr/>
          <p:nvPr/>
        </p:nvPicPr>
        <p:blipFill>
          <a:blip r:embed="rId1"/>
          <a:stretch/>
        </p:blipFill>
        <p:spPr>
          <a:xfrm>
            <a:off x="2357280" y="2143080"/>
            <a:ext cx="4149720" cy="4149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2286000" y="1071720"/>
            <a:ext cx="48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91ed58879d0f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j49379_1246858299.png"/>
          <p:cNvPicPr/>
          <p:nvPr/>
        </p:nvPicPr>
        <p:blipFill>
          <a:blip r:embed="rId3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post-30397-1234556612.png"/>
          <p:cNvPicPr/>
          <p:nvPr/>
        </p:nvPicPr>
        <p:blipFill>
          <a:blip r:embed="rId4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j68067_123451977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j54190_1231180876.png"/>
          <p:cNvPicPr/>
          <p:nvPr/>
        </p:nvPicPr>
        <p:blipFill>
          <a:blip r:embed="rId7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пра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91ed58879d0f.png"/>
          <p:cNvPicPr/>
          <p:nvPr/>
        </p:nvPicPr>
        <p:blipFill>
          <a:blip r:embed="rId1"/>
          <a:stretch/>
        </p:blipFill>
        <p:spPr>
          <a:xfrm>
            <a:off x="3000240" y="1643040"/>
            <a:ext cx="2648160" cy="46148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458440" y="50004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серед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post-30397-1234556612.png"/>
          <p:cNvPicPr/>
          <p:nvPr/>
        </p:nvPicPr>
        <p:blipFill>
          <a:blip r:embed="rId1"/>
          <a:stretch/>
        </p:blipFill>
        <p:spPr>
          <a:xfrm>
            <a:off x="2857680" y="1928880"/>
            <a:ext cx="4485960" cy="44863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7442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42:25Z</dcterms:created>
  <dc:creator>storm</dc:creator>
  <dc:description/>
  <dc:language>en-US</dc:language>
  <cp:lastModifiedBy>ОЕМ</cp:lastModifiedBy>
  <dcterms:modified xsi:type="dcterms:W3CDTF">2010-01-21T07:09:26Z</dcterms:modified>
  <cp:revision>5</cp:revision>
  <dc:subject/>
  <dc:title>Слайд 1</dc:title>
</cp:coreProperties>
</file>