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B1C-08FF-458D-8CB5-6C544AA6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BBF-0019-45EA-9357-A2270DD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003-47AD-437D-8000-669044C5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ADF-B7D6-4070-A07B-F0C9F8D3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140-5319-4B66-98B2-EB23D30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87D-5FBD-4800-AA41-E31CEFC0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B3B-30A7-41D6-B3DE-4BD4FD3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2E1-AC7C-4EC8-B6D3-CFCAC8D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289-74FC-4C88-BCDA-EBB7447C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86B-DAC2-4F1F-AE85-C074E7C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E66-29D9-4CF8-B83C-949FACE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6C0-5825-46AF-9F8C-92DF260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1BF-28DD-4305-9BB2-2E7571B23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676520" y="1378080"/>
            <a:ext cx="638172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79160" y="3143160"/>
            <a:ext cx="69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ntiqua"/>
              </a:rPr>
              <a:t>Цель: развивать умение ориентироваться 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j49379_1246858299.png"/>
          <p:cNvPicPr/>
          <p:nvPr/>
        </p:nvPicPr>
        <p:blipFill>
          <a:blip r:embed="rId3"/>
          <a:stretch/>
        </p:blipFill>
        <p:spPr>
          <a:xfrm>
            <a:off x="3286080" y="3357720"/>
            <a:ext cx="2457360" cy="307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4920" y="4071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j54190_1231180876.png"/>
          <p:cNvPicPr/>
          <p:nvPr/>
        </p:nvPicPr>
        <p:blipFill>
          <a:blip r:embed="rId6"/>
          <a:stretch/>
        </p:blipFill>
        <p:spPr>
          <a:xfrm>
            <a:off x="1643040" y="3643200"/>
            <a:ext cx="2935440" cy="29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верх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j49379_1246858299.png"/>
          <p:cNvPicPr/>
          <p:nvPr/>
        </p:nvPicPr>
        <p:blipFill>
          <a:blip r:embed="rId1"/>
          <a:stretch/>
        </p:blipFill>
        <p:spPr>
          <a:xfrm>
            <a:off x="2928960" y="2000160"/>
            <a:ext cx="33861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67264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правом верхне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j68067_123451977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23572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6600" y="1285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j54190_1231180876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j54190_1231180876.png"/>
          <p:cNvPicPr/>
          <p:nvPr/>
        </p:nvPicPr>
        <p:blipFill>
          <a:blip r:embed="rId1"/>
          <a:stretch/>
        </p:blipFill>
        <p:spPr>
          <a:xfrm>
            <a:off x="2357280" y="2143080"/>
            <a:ext cx="4149720" cy="4149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2286000" y="1071720"/>
            <a:ext cx="48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91ed58879d0f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j49379_1246858299.png"/>
          <p:cNvPicPr/>
          <p:nvPr/>
        </p:nvPicPr>
        <p:blipFill>
          <a:blip r:embed="rId3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post-30397-1234556612.png"/>
          <p:cNvPicPr/>
          <p:nvPr/>
        </p:nvPicPr>
        <p:blipFill>
          <a:blip r:embed="rId4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j68067_123451977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j54190_1231180876.png"/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пра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91ed58879d0f.png"/>
          <p:cNvPicPr/>
          <p:nvPr/>
        </p:nvPicPr>
        <p:blipFill>
          <a:blip r:embed="rId1"/>
          <a:stretch/>
        </p:blipFill>
        <p:spPr>
          <a:xfrm>
            <a:off x="3000240" y="1643040"/>
            <a:ext cx="2648160" cy="4614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458440" y="50004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серед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ost-30397-1234556612.png"/>
          <p:cNvPicPr/>
          <p:nvPr/>
        </p:nvPicPr>
        <p:blipFill>
          <a:blip r:embed="rId1"/>
          <a:stretch/>
        </p:blipFill>
        <p:spPr>
          <a:xfrm>
            <a:off x="2857680" y="1928880"/>
            <a:ext cx="4485960" cy="4486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7442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42:25Z</dcterms:created>
  <dc:creator>storm</dc:creator>
  <dc:description/>
  <dc:language>en-US</dc:language>
  <cp:lastModifiedBy>ОЕМ</cp:lastModifiedBy>
  <dcterms:modified xsi:type="dcterms:W3CDTF">2010-01-21T07:09:26Z</dcterms:modified>
  <cp:revision>5</cp:revision>
  <dc:subject/>
  <dc:title>Слайд 1</dc:title>
</cp:coreProperties>
</file>