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18C0-3DD8-4BB9-8F6F-D529B50C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DE5-F509-42AC-B737-CB193F87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632-F0B8-4032-8344-75B7A5A9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0C6-C2E9-4896-8548-FB11A55E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FF6-ACD1-4100-A749-AF8C3891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4F3-0563-4D32-98D0-BF34C9F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403-EFBE-45A4-A12A-7D2B322C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133-EF07-4814-B3C2-D3346682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951-3E57-466A-A2D3-34D93F34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8D0-D9D8-46E0-8BCA-C4C44684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DD6-5457-476E-BFB3-EB856A77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1EC-F6B2-4A52-B153-8AB43FBC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895E-3DC9-4C0B-88E3-E9F25F859B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000680" y="1428840"/>
            <a:ext cx="46432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зыв на рассказ Л. Н. Толст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осле ба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толстой1.jpg"/>
          <p:cNvPicPr/>
          <p:nvPr/>
        </p:nvPicPr>
        <p:blipFill>
          <a:blip r:embed="rId1"/>
          <a:stretch/>
        </p:blipFill>
        <p:spPr>
          <a:xfrm>
            <a:off x="285840" y="714240"/>
            <a:ext cx="37148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 можете использовать следующие синонимы и выражени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нига (произведение, рассказ, история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а книга понравилась (запомнилась, привлекла моё внимание, оставила впечатление, глубоко тронула, обратила на себя внимание, очень впечатлила, берет за душу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тересная книга (увлекательная, захватывающая, занимательная, впечатляющая, любопытная, врезающаяся в память, чарующая и т. 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р рассказывает (показывает, описывает, говорит, изображает жизнь, иллюстрирует, знакомит с …, очерчивает круг таких вопросов, как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обенно мне нравится главный герой истории (дорог, интересен, симпатичен, интригует, привлекательный, тронул меня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обенности жанра «отзы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развернутое высказывание эмоционально-оценочного характера о произведении искусства, содержаще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нение и аргументацию пишущего отзы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отзы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елиться впечатлением о прочитанн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лечь внимание к понравившемуся произведени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вовать в обсужд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обенности подх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отзыва объясняет свой интерес к произведению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личными пристрасти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а также общественной значимостью поднятых в произведении проблем, их актуаль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аргументации основ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 личном опыте, вкусе и предпочтения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обенности подх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тературные герои, как правило, рассматриваютс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к человеческие характеры, тип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ается оценка с морально-этических, нравственных позиц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заимоотношений персонажей, их по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обенности подх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од отража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жизненную позицию автора сочин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его личностные каче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тношение к тем или иным сторонам жиз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шедшим воплощение в литературном произвед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строение отзы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котором кратко формулиру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ка прочита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овествование (рассказ) о читательск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страсти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вкусах) автора сочинения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рии его знакомст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данным произведением, процессе чтения и т.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имер: Недавно я прочитал рассказ Л. Н. Толстого «После бала». Никогда я раньше бы не поверил, что меня может так захватить произведение, написанное еще 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еке. С нетерпением я ждал момента, когда начнется самое главное – то, о чем говорится в заголовке, - что-то важное после бал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строение отзы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buClr>
                <a:srgbClr val="000000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казательство. Рассуждение, в котором обосновывается, аргументируется высказанная оцен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) указывается важность затронутой автором (писателем) темы и поднятых в произведении пробле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: События происходят в прошлом веке, но проблемы, поставленные в произведении Л. Н. Толстым, по-прежнему актуальны до сих пор. Это и отношения между людьми, и возможность изменения жизни за один вечер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) обзор (не пересказ!) изображенных автором (писателем) событий, наиболее важных эпизод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: Казалось бы, жизнь главного героя складывается очень удачно: благополучие, взаимная любовь. Но утренняя сцена на плацу меняет все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) оценка поведения персонажей, их участия в изображаемых событиях, отношение к персонажам, их судьба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: Та жестокость, которую проявил отец Вареньки, меня просто потрясла до глубины души…ИЛИ Главный герой  после сцены на плацу круто меняет свою жизнь: отказывается и от военной службы, и от своей любви. Он не хочет быть с теми людьми, которые проявляют двуличие, жестокость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) итог рассуждения (мысли и чувства автора сочинения в связи с прочитанным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: Я понимаю главного героя, принимаю его желание изменить жизнь, причем не только свою, но и жизнь окружающих, сделав ее более честной и чистой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строение отзы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. Обобщение, в котором оценка данного произведения дается в сопоставлении с другими произведениями того же автора, высказывается намерение продолжить знакомство с его творчеством, содержится обращение к потенциальным читателям и т. 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: Конечно, рассказ Л.Н. Толстого  произвел на меня сильное впечатление. Советую всем прочитать его, чтобы научиться лучше разбираться в людях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3:23:54Z</dcterms:created>
  <dc:creator>Демонстрационная версия</dc:creator>
  <dc:description/>
  <dc:language>en-US</dc:language>
  <cp:lastModifiedBy>gr</cp:lastModifiedBy>
  <dcterms:modified xsi:type="dcterms:W3CDTF">2020-11-08T22:17:08Z</dcterms:modified>
  <cp:revision>83</cp:revision>
  <dc:subject/>
  <dc:title>Тема урока.</dc:title>
</cp:coreProperties>
</file>