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02F-14F8-40EC-B35C-41DCD4CA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262-A1CA-4711-853C-615BFD57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FA9-6E58-4544-9E73-A0280406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53E-9F57-47DA-BCE5-1BC58B10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7F4-68FE-497A-95B0-35EDE22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FBA-D6C5-454B-ADCF-7C4827A7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6E1-1EDD-49DC-BA5C-69E944F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F50-C659-435B-9A6C-1453DDE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AED-D7F2-404E-89EE-62EB4FD4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309-8BEA-49FC-B585-A0C91C89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CAF-020F-4196-906C-EB0669A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A1F-0065-46FD-A8CC-2C47DB32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8343-7D66-41AD-BE32-72F8DDD5C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000680" y="1428840"/>
            <a:ext cx="46432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зыв на рассказ Л. Н. Толст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ле ба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толстой1.jpg"/>
          <p:cNvPicPr/>
          <p:nvPr/>
        </p:nvPicPr>
        <p:blipFill>
          <a:blip r:embed="rId1"/>
          <a:stretch/>
        </p:blipFill>
        <p:spPr>
          <a:xfrm>
            <a:off x="285840" y="714240"/>
            <a:ext cx="3714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можете использовать следующие синонимы и выраже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нига (произведение, рассказ, истор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а книга понравилась (запомнилась, привлекла моё внимание, оставила впечатление, глубоко тронула, обратила на себя внимание, очень впечатлила, берет за душу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есная книга (увлекательная, захватывающая, занимательная, впечатляющая, любопытная, врезающаяся в память, чарующая и т. 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р рассказывает (показывает, описывает, говорит, изображает жизнь, иллюстрирует, знакомит с …, очерчивает круг таких вопросов, как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обенно мне нравится главный герой истории (дорог, интересен, симпатичен, интригует, привлекательный, тронул меня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жанра «отзы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развернутое высказывание эмоционально-оценочного характера о произведении искусства, содержащ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ение и аргументацию пишущего отзы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отзы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елиться впечатлением о прочитанн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ь внимание к понравившемуся произведени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вовать в обсуж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отзыва объясняет свой интерес к произведен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личными пристраст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также общественной значимостью поднятых в произведении проблем, их актуа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аргументации основ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личном опыте, вкусе и предпочтения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тературные герои, как правило, рассматриваю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 человеческие характеры, ти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ается оценка с морально-этических, нравственных позиц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заимоотношений персонажей, их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 отраж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жизненную позицию автора сочин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го личностные кач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ношение к тем или иным сторонам жи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шедшим воплощение в литературном произ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роение отзы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м кратко формул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а прочита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овествование (рассказ) о читательск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страст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вкусах) автора сочинения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и его знаком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анным произведением, процессе чтения и т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: Недавно я прочитал рассказ Л. Н. Толстого «После бала». Никогда я раньше бы не поверил, что меня может так захватить произведение, написанное еще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еке. С нетерпением я ждал момента, когда начнется самое главное – то, о чем говорится в заголовке, - что-то важное после бал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роение отзы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buClr>
                <a:srgbClr val="00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 Рассуждение, в котором обосновывается, аргументируется высказанная оцен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 указывается важность затронутой автором (писателем) темы и поднятых в произведении пробле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События происходят в прошлом веке, но проблемы, поставленные в произведении Л. Н. Толстым, по-прежнему актуальны до сих пор. Это и отношения между людьми, и возможность изменения жизни за один вечер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обзор (не пересказ!) изображенных автором (писателем) событий, наиболее важных эпизод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Казалось бы, жизнь главного героя складывается очень удачно: благополучие, взаимная любовь. Но утренняя сцена на плацу меняет все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 оценка поведения персонажей, их участия в изображаемых событиях, отношение к персонажам, их судьб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Та жестокость, которую проявил отец Вареньки, меня просто потрясла до глубины души…ИЛИ Главный герой  после сцены на плацу круто меняет свою жизнь: отказывается и от военной службы, и от своей любви. Он не хочет быть с теми людьми, которые проявляют двуличие, жестокость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) итог рассуждения (мысли и чувства автора сочинения в связи с прочитанным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Я понимаю главного героя, принимаю его желание изменить жизнь, причем не только свою, но и жизнь окружающих, сделав ее более честной и чисто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роение отзы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. Обобщение, в котором оценка данного произведения дается в сопоставлении с другими произведениями того же автора, высказывается намерение продолжить знакомство с его творчеством, содержится обращение к потенциальным читателям и т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: Конечно, рассказ Л.Н. Толстого  произвел на меня сильное впечатление. Советую всем прочитать его, чтобы научиться лучше разбираться в людях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23:54Z</dcterms:created>
  <dc:creator>Демонстрационная версия</dc:creator>
  <dc:description/>
  <dc:language>en-US</dc:language>
  <cp:lastModifiedBy>gr</cp:lastModifiedBy>
  <dcterms:modified xsi:type="dcterms:W3CDTF">2020-11-08T22:17:08Z</dcterms:modified>
  <cp:revision>83</cp:revision>
  <dc:subject/>
  <dc:title>Тема урока.</dc:title>
</cp:coreProperties>
</file>