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3E6-5C85-461D-B33F-81456DD3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D28-B362-4546-9D25-BBB8B7B8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DB0D3-18F8-4E44-B0D2-A40EBFB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C3B54-46AF-4B22-B61D-307F921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9DEA9-7E1A-4AC8-A24C-AC99B4F1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F5C91-DC8B-471F-805A-B6F0E05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33794-8943-4707-BEE1-DF5FD8F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79176B-6DBE-4F03-A8D5-DDE16E33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8BB8A-5B3D-42D2-8DE2-8BE518D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CDE45-A7CC-4D0C-8CD3-27EF1615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48F778-EA7F-4A59-B59B-13F0FCC7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F1F883-DC15-434C-ADDF-645A99F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F44-7CB4-4D22-BD09-F68EF846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2669A5-8F78-4DEF-B038-A82B0A2C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B038DF-4F84-4235-9DB1-55026AB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951483-E9BB-4689-852E-E16171A2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0E398A-AE09-4A8A-B0DD-5B58A757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14373E-8248-4356-8DE0-C5066F3B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6A73EF-354E-4CB9-81D1-F57FF00B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9CF54-3A19-4D13-AF00-5CCAEAB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82B03-A4E1-4C2C-BAD5-F095CBD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92B74-073A-4255-8F18-2CA50BD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377F93-6E81-42DE-AB03-60A4527E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98D-FADC-4D7F-B6B4-672A267F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4437A2-6E1D-48A8-A69A-C80A3E0C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5E44-C35A-4268-ACB0-98E91BAE44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C3850-FA7F-45BA-B034-A6BF2B897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B215-8B3C-47E6-B619-270D33499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A79A0-9246-4BDB-9B77-431C448A95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FD19-9BF9-4005-AA6F-C380F18185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5AE91-23F2-422F-A79F-98A906EE2F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EB26F-D6C9-4456-BE96-3184E65C6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61A-678A-4745-91E2-9EE138CA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27C69-D274-4E22-8666-769663553D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56A6D-87B6-4EA1-92E1-0AB6374D9F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23AD-973D-43F2-92A8-860FA55D6D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5E047-9823-4B01-BCCA-244729EEF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7D560-A690-422B-B1D3-880E73B308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C0711-A705-4396-8556-F96280E6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D1C90-C5BD-43DC-9A55-96BE60D6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B26EF-9A5F-46E3-9614-B66BE23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C337B-2991-463A-9ED2-0572B178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256DB-BBFD-40E7-B54F-6761231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6BB-8BB0-4B51-8167-BD324DAA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C4C0B-28AF-4191-BA6C-29F3C4A8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453CB-E5C9-4183-AAD2-E85D3E7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5F604-C332-4175-B527-F60F816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104C9-80C7-4892-B894-31E1B1A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ED37C-F60B-482E-95E6-9BD1C15A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6D455-D89A-4575-B77D-728878F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6D07E-2B96-48A1-94EA-9ED8AE34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FC8AD-4896-485C-B0BB-99C253FB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00DA6-C7C0-4118-9A0E-37DA726B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EB7D9-B4E8-4B54-B810-D80F0F8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3F1-1BD3-49B6-9BD0-8918CAE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58CE0-E664-4784-A969-D812D9C5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10E74-D046-4B80-9D04-FD2C8045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2274C-D14C-4BAA-86D6-B014ED86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7F3CB-B80B-4905-8E4C-E9AA275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B2776-96B5-4FDB-94CC-3B55778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EF152-3008-4352-BC3A-5F10520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5D8B8-946E-4F2B-824F-4E68A0F5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4332E-9322-48AB-AB5C-38315F1C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725A2-6EF6-4FB4-93A4-D8FD303B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BA155-E022-487C-B8F5-04153F9F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46B-7B85-4474-BD2F-47B59645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1080F-9D33-47FF-8CEB-C202C11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E7D4E-E448-4E8C-A5E6-A112FAB2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50189-6C89-45BA-B240-D493EBB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4B5A2-616E-43FC-B237-D0E5FB8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BA70B-4724-4FE8-91EA-C31D094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15264-FD10-47AE-B94D-F1E11B96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C78D1-CD96-4364-AB8D-EF95694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FB774-BF7E-41CE-828F-821BC16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38653-040A-49C1-88CF-6A36152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B5BE8-369A-42BE-9158-8E42BFD7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B78-6D63-4C5D-8F49-AEB1724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A3BA7-59BE-487A-AF2C-DE615261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1DD65-899C-4640-8018-5ABDEBFB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A9C84-C241-4ECC-A380-BBB908DB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78140-62F6-47EA-8416-2FBF4E7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A4F8E-ED16-4492-AD60-1D0D409C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F4104-C9C2-4079-8B31-BD622202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3945E-DC7B-4D57-99DB-79ADF08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519EF-940E-456A-BC0B-EBBCD4B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CAC0C-A8CD-4C21-A0C8-4C95B6C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86442-C3BF-409F-BECF-64BDC57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6EF-1FB6-4411-95A5-E16C8181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A44EA-1CEB-47F7-9554-6C15AC1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12245-38ED-4319-8B64-59A03137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FBFBC-B914-45A8-8CB1-005491AD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953B0-2E16-429B-8086-C9A05D8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96841-13CA-4C2C-A149-E21CFF00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A6D71-B307-442E-8C14-6CE8EA1A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32B41-303C-44D2-AECB-D258EAE0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58B86-3174-451D-ADEA-0052F612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7121D-2A44-46FE-AB56-3CD6F0C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E8514-984C-4839-A277-B6C2023F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146-2BF1-489C-98B8-E4EE0DE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1174E-F5AF-4649-8E8D-20FABF0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77692-E2E7-4E27-B985-1673601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62BEF-AC47-4D1D-AE6E-08A83809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7065E-088F-4DFD-ADFC-4D39382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2C4D3-1682-44BF-AAA9-3DD10F73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A0946-CDD1-4FA1-98D6-9495E42D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5A51D-552D-4F94-858D-7EA0910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BBB91A-ED11-44C0-80A6-9EB11CB5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37489-60A4-4ED4-AAF9-C306F6FC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58873-CA40-4EF5-A42B-A6D1A83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E97-A195-4E42-9DB1-64EB5C19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14611-B3CA-4892-A562-FFD3369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849E2B-AAAE-488B-915A-1A19B54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60469E-6511-4A4C-A97F-58F93B6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06C4F-908E-451C-83CE-175A7D2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DF2B6-0163-4FE4-861F-517E2F6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ADF6F-FDC5-4D92-AF69-E43F0AC1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C12350-85CB-4A96-81EA-71F9C29B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FD32A-8C1C-442E-9C68-1D9E5227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5D9330-9402-4114-B31C-F8C0FED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80BE9-5147-417D-B4FF-0B3C8972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3AB-0B76-4CB6-9BCF-479F2027B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888-04FF-46CA-AE97-055ED9ED3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396-51E6-4A65-874F-84F6AF7DC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F02-EA86-4809-924F-FC786BF0E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F9A2-61F0-4753-8F63-234769D07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0A55-96E4-4082-B2B3-0461434EE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26E7-E465-4DF5-B58A-87953EEAE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D61E-6126-4CAC-800A-7FC46BBAB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8F8-B4BA-44CC-89CF-CB5DBCCF4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C1ED-46EA-4EFC-9891-CF1E4C263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ейзаж родной зем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0000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 изобразительного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3582360" y="51436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Calibri"/>
              </a:rPr>
              <a:t>ИСТОКИ РОДНОГО ИСКУС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600200"/>
          <a:ext cx="8329680" cy="4971960"/>
        </p:xfrm>
        <a:graphic>
          <a:graphicData uri="http://schemas.openxmlformats.org/drawingml/2006/table">
            <a:tbl>
              <a:tblPr/>
              <a:tblGrid>
                <a:gridCol w="4165560"/>
                <a:gridCol w="4164120"/>
              </a:tblGrid>
              <a:tr h="49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накомство с истоками родного искусства – это знакомство со своей  Родиной. В предметах быта, в постройках, в том, как люди одеваются и украшают одежду, раскрывается их представление о мире, о красоте человека. В искусстве люди выражают свою душу, свой склад ума и характе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71" name="Рисунок 4" descr="0002-002-Istina.jpg"/>
          <p:cNvPicPr/>
          <p:nvPr/>
        </p:nvPicPr>
        <p:blipFill>
          <a:blip r:embed="rId1"/>
          <a:stretch/>
        </p:blipFill>
        <p:spPr>
          <a:xfrm>
            <a:off x="428760" y="1585800"/>
            <a:ext cx="421452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C:\Documents and Settings\вадик\Рабочий стол\Растения\НОВЫЕ КОНКУРСЫ\209.jpg"/>
          <p:cNvPicPr/>
          <p:nvPr/>
        </p:nvPicPr>
        <p:blipFill>
          <a:blip r:embed="rId1"/>
          <a:stretch/>
        </p:blipFill>
        <p:spPr>
          <a:xfrm>
            <a:off x="785880" y="1643040"/>
            <a:ext cx="3286080" cy="43545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1928880" y="42876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хаил Пришви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3929040" y="1857240"/>
            <a:ext cx="44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Охранять природу – значит охранять Родин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C:\Documents and Settings\вадик\Рабочий стол\Растения\НОВЫЕ КОНКУРСЫ\Шишкин_Берёзовая роща.jpg"/>
          <p:cNvPicPr/>
          <p:nvPr/>
        </p:nvPicPr>
        <p:blipFill>
          <a:blip r:embed="rId1"/>
          <a:stretch/>
        </p:blipFill>
        <p:spPr>
          <a:xfrm>
            <a:off x="571680" y="285840"/>
            <a:ext cx="238104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6" name="Picture 5" descr="C:\Documents and Settings\вадик\Рабочий стол\Растения\НОВЫЕ КОНКУРСЫ\зол.ос.jpg"/>
          <p:cNvPicPr/>
          <p:nvPr/>
        </p:nvPicPr>
        <p:blipFill>
          <a:blip r:embed="rId2"/>
          <a:stretch/>
        </p:blipFill>
        <p:spPr>
          <a:xfrm>
            <a:off x="1500120" y="4214880"/>
            <a:ext cx="3714840" cy="2381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7" name="Picture 6" descr="C:\Documents and Settings\вадик\Рабочий стол\Растения\НОВЫЕ КОНКУРСЫ\grachi_prileteli.jpg"/>
          <p:cNvPicPr/>
          <p:nvPr/>
        </p:nvPicPr>
        <p:blipFill>
          <a:blip r:embed="rId3"/>
          <a:stretch/>
        </p:blipFill>
        <p:spPr>
          <a:xfrm>
            <a:off x="6286680" y="285840"/>
            <a:ext cx="240480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8" name="Picture 3" descr="C:\Documents and Settings\вадик\Рабочий стол\Растения\НОВЫЕ КОНКУРСЫ\На озере Грабарь.jpg"/>
          <p:cNvPicPr/>
          <p:nvPr/>
        </p:nvPicPr>
        <p:blipFill>
          <a:blip r:embed="rId4"/>
          <a:stretch/>
        </p:blipFill>
        <p:spPr>
          <a:xfrm>
            <a:off x="3500280" y="285840"/>
            <a:ext cx="231012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79" name="TextBox 9"/>
          <p:cNvSpPr/>
          <p:nvPr/>
        </p:nvSpPr>
        <p:spPr>
          <a:xfrm>
            <a:off x="357120" y="33577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Шишкин «Берёзовая рощ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3571920" y="3357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Грабарь         «На оз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6215040" y="335772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.Саврасов       «Грачи приле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5214960" y="50007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Левитан                 «Золотая 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4"/>
          <p:cNvSpPr/>
          <p:nvPr/>
        </p:nvSpPr>
        <p:spPr>
          <a:xfrm>
            <a:off x="1143000" y="1643040"/>
            <a:ext cx="7215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ейзаж</a:t>
            </a: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исунок, картина, изображающая виды природы, а также описание природы в литературном произве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С.И.Оже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2146320" y="285840"/>
            <a:ext cx="1481040" cy="1164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5297400" y="365040"/>
            <a:ext cx="1609920" cy="1201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1962000" y="5310360"/>
            <a:ext cx="1567080" cy="12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4"/>
          <a:stretch/>
        </p:blipFill>
        <p:spPr>
          <a:xfrm>
            <a:off x="5376960" y="5237280"/>
            <a:ext cx="1646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4"/>
          <p:cNvSpPr/>
          <p:nvPr/>
        </p:nvSpPr>
        <p:spPr>
          <a:xfrm>
            <a:off x="785880" y="10000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285920" y="2000160"/>
            <a:ext cx="742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 Изобразите красками на бумаге пейзаж родной приро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1285920" y="3143160"/>
            <a:ext cx="735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 По возможности не используйте простой карандаш, пишите сразу крас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1285920" y="4714920"/>
            <a:ext cx="721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3) При необходимости смешивайте краски прямо в изобра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500040" y="2858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сть в осени первоначаль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Documents and Settings\вадик\Рабочий стол\Растения\НОВЫЕ КОНКУРСЫ\Урок 2\uuvyargnfwchpx_preview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7"/>
          <p:cNvSpPr/>
          <p:nvPr/>
        </p:nvSpPr>
        <p:spPr>
          <a:xfrm>
            <a:off x="-500040" y="2858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Лес, точно тер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распис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7:14:16Z</dcterms:created>
  <dc:creator>Admin</dc:creator>
  <dc:description/>
  <dc:language>en-US</dc:language>
  <cp:lastModifiedBy>Лена</cp:lastModifiedBy>
  <dcterms:modified xsi:type="dcterms:W3CDTF">2013-09-17T19:04:29Z</dcterms:modified>
  <cp:revision>63</cp:revision>
  <dc:subject/>
  <dc:title>Интегрированный урок как средство развития универсальных учебных действ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70000000000010280400207e700052003a000</vt:lpwstr>
  </property>
</Properties>
</file>