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chimes.wav" ContentType="audio/x-wav"/>
  <Override PartName="/ppt/media/type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724E-A7B3-43A2-A9D8-F956C740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25E-25D4-492D-B338-9D2D310F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0E5F6-23D9-4DE7-A0BB-0CDDEC09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81FD2-181B-4237-B26E-A32D8D97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1FC1C-BAA1-44C8-A775-439E7954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B3C9C-458C-48AC-BB45-E3D71DC7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5BF50-8023-4320-AC17-34C821AE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B7DF1-31E7-473D-81A6-8E1B26E4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BD2FE-1A33-46AD-BCED-C8DF1836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BD2EC-070A-495F-8C7A-85D29BF4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AD997-9520-481A-9F4A-5171FA37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12A46-DF6E-4A4A-87DF-8C4C408A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877-8103-40BE-88F6-624A4817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E1F2C-9D30-491E-819B-DC9B4968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F2C4F-263C-405E-B048-A840F883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7ACC1-949A-4F2F-B7D3-CE1C2014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094A6-3C67-4613-8AA3-9668D157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F7B3A-C97A-4677-A71D-22733D70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97AF2-A2E9-439D-A597-1BCBA0A3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C1D3B-D4AF-4BC2-A862-A66E76C5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E9D89-3B99-48C3-BC58-ACB88E25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0CE95-B179-410C-9169-2C5D15B4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C7A25-3ACC-4C15-9322-19957A08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902-0524-4C12-91CE-B45ACCC4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2851F-2392-40E6-80A5-1E08072D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C4AE5-2FDB-476E-9385-0571D664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D197A-62C7-47F2-B31A-AF584A4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46C2D-5710-4773-A077-19D7D3BD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5E32F-38EB-44CE-A36C-D7C591A3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CC8B3-A816-4187-8155-DEBD43E4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55FE8-B76B-49D5-AD3A-2E2F1907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A798A-7642-49B5-AF33-169E52A0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598E7-8F21-498A-BF13-2497D19E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8E475-1B5B-4F5F-8D14-F12BF4F2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A3FC-D05A-4902-B06E-6DBD126F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BC7CE-4E65-43F2-9E27-857534C2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5BD90-5714-43E6-B150-E737DC6C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7AB68-61D1-419E-9F0B-F0CE3BB2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08E91-64FC-43D0-BCBC-DB7FDA9B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33940-43D9-42BD-BCB1-658017E9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07026-F2C2-4941-972B-14C414CA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09483-B9A7-4D1C-A6A9-8370428C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D13DD-B6AD-40E2-A3B2-59E5636A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64D21-4E34-4D9B-9FDB-874891DF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61577-AF60-44E8-ABAF-074EA9B8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B577-9DAC-4247-9825-D84ADE50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7078EF-7458-458C-BB3B-7B6AB221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6FA24-538A-478D-B592-5F0706A8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20EEB-D7B1-4E3A-9656-5EF82A02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AA6F2-F4F9-4927-B77D-491946DB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B2579-C118-4F7A-BE21-7E55EAE5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ADED-E764-44B3-B8D8-D667721F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E839-8194-4BD2-BE3F-D030711E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730D-A66C-4E59-A6BC-CEF00753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1FF0-C502-4BA5-8A3A-E3EC118B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6E08-9D7C-4968-AB15-21BFF0D0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5AA-E770-4F3B-8365-5338DAF5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E548-DDF4-4D39-9E9E-2459DA1B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A25C-828A-44BE-AA58-5DA60D44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19EB-16B3-4FA2-870F-E0C43EA0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94C5-757D-423F-8BB4-8C54B06D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BD15-5669-46CF-991C-F536B0E7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0781A-122D-4475-A41D-F2483DBA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B0E3-EE03-4E7C-BB4F-63FD5A8A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6F0FE-0F95-4E1C-9D61-93335B12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2B4B-1299-40D9-AB03-381AC23F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C2EE-3B01-45DE-AEF7-33216FF7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4BE-E10F-495A-9084-76ADCBBB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DB37-8E15-4339-AEC3-1D2D925A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8A6E6-EF3D-4FB6-BFE3-33506BAD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3C94-94F7-4278-8F59-9DD3286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74B72-21C7-41FE-95C8-DADF65A4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4127-7E31-4098-AF3D-CCEDDF29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DD3A-EBAF-44F9-8AF3-DCD7B12B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6800D-3BEB-418F-A499-AE5345C1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D952E-2B72-49DB-BB59-01D84CDE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F125F-75C8-4591-B5FC-5DDFB8BB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FF857-9E71-47A5-9577-82E49DBC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552-CF91-4FFE-BA43-64C8700C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EE188-6A76-4931-B0B6-ACF87C98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4AB9E-0CC4-4707-B534-437E9450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83164-C2E4-4298-BA05-26D9D896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FD336-448B-4593-AB6A-A1D7FF58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10030-2FEF-40BC-83DD-7D3C021B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83B2-E755-4F73-A410-2C74282C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CCF3A-4073-4633-933D-9AA0C793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D2A26-6EB4-4F92-96C4-A995EF71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CF568-2E7D-45E0-AD28-E192724E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DAB88-2579-4450-A547-559294C3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6B4-E697-4ED8-AFD1-FF37AF0E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5B4A-D60A-4813-BDDD-9E4D2155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29F4C-2D0D-4B40-A045-B48DD68F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8CFEB-91BB-420C-8040-3BA583A8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C6476-38F0-4694-B743-F828671B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E3F25-CD3E-4FF2-A492-E9619D22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553C-EAAC-443D-933D-86A61EE5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199E4-E254-48A6-ACDB-B6E97F74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B647F-7817-4908-B343-DA02BBD7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EDDE9-3DCE-4A38-BA4D-4544AF8F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BBDB1-E575-4FD2-92ED-FA673E46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170-C805-4DE4-9BC7-463E40CD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022CC-FB0C-4563-9F7F-6F3F2824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D3ECC-DB6E-462D-A76E-50683374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AD792-AC85-4144-A0A8-D0EA7D44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DF67F-98FD-4144-ABC8-97C4CCDE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95F66-E3A1-4D2E-81C3-AFE232EF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7FB04-2F8C-41CB-B8F3-8F2B3F34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D168A-1027-4FC7-89F5-6A6FFFC4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05B42-4012-4289-B05B-24BA8FB9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09DD8-908D-4A12-B131-B98B0CC3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BC286-618F-468C-8482-A06AD2C9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33C-C3AA-40A4-8A6B-9EC8539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0B2C5-B15B-4282-BB2E-5C5D429A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3F9EE-33C6-41BD-8339-C4E3B6F9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FF51E-4597-431B-A77B-D2705601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C0D0C-0738-441B-BF99-DA608551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185CD-8519-44F6-AC51-0CF3D0AF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54F89-A0C8-42F5-8309-A236EA33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42581-5C5F-4D45-A40C-F29C283F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1E18E-A9B7-4682-A0E1-16C9825B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D5865-4F8B-4E94-83A0-0D55DC9B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65B5E-8B32-49A1-B278-FF95DDEA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FDC-F2C8-4D20-8270-2E926CF1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CD2A5-12CA-4BB5-839F-9A6C0378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17CEC-DB00-499F-AF47-DCEA4ADC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B3597-4951-4A80-88C4-F04DD0A3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57C8A-EFB3-4B1C-B9C1-68A357EF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40983-90E9-47FA-AE90-8FE0AD6C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8B281-0F3D-40CF-9F9C-A59A3033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50A03-1B3E-4E18-8B30-3F88A2BE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2A967-E247-4734-B761-136C4A8F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C982A-F951-4001-A397-7FB812D1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C384E-F20D-42B8-9196-703B549E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A97-276D-4E80-8816-EB13EBA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F8147-3F42-4EEE-8549-E32E9A58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7BA1E-4F24-4D77-8ED1-C511A060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02599-AFBE-4125-9EEE-7348C527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86F01-651D-4BF1-9733-9C79B3F8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58576-7A01-4407-9EF8-E506DED4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49C97-BA93-4AF9-A56A-1AF016EE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F62F2-69E3-4D9A-A71C-2A22532F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B94CD-BC7A-47F5-BC43-1A6C9314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72812-17C0-4FF6-8B62-D4361925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720B4-2342-4B00-A6DA-9C6CF87E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8ABB-DB63-42F5-8D3F-8A54C7E4BD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02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03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04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05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06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07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08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09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10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11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12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514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15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8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9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0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715B-F95C-40C3-9466-3FA593116E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58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59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60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61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62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63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64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65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66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67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68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69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570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71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A7D5-6047-4AC3-A856-7CE65E2363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14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15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16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7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18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19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20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22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23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24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25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626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27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8B67-FD3E-46A9-A0E8-6B996E190D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BB77-5E6B-442D-B9AF-5C05071983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10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11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12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13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16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19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22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23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E4A4-7AC5-4EBD-B7F1-3DC4F44D4D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66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67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68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69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71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72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74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75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76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177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78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E2EF-052B-4A01-B606-CA40C4B68E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22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24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25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27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28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30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31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33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234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35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6600-76F9-4670-A646-E9B7CE5573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78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79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80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81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83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84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85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86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87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88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289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290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291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743F-EA5C-4C39-A96B-A86FBC0603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34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35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36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37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38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39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40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41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43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45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346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E2DB-EE01-414B-A34F-6E52C76521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90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91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92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93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95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96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398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99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00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402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03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4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F408-B448-42FA-A61C-E007BEB8F6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46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47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448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49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50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5c201"/>
                </a:gs>
                <a:gs pos="100000">
                  <a:srgbClr val="d12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451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52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7a7a7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53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d1282e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454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455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56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grpSp>
        <p:nvGrpSpPr>
          <p:cNvPr id="457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458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  <p:sp>
          <p:nvSpPr>
            <p:cNvPr id="459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7a7a7a"/>
                </a:gs>
                <a:gs pos="100000">
                  <a:srgbClr val="d12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cc0099"/>
                </a:solidFill>
                <a:latin typeface="Tahoma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c8b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a7a7a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2BDD-511A-4DA6-97A6-2E1E2F2034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57160" y="2428560"/>
            <a:ext cx="8056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тельно - творческий проект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гражданской грамотности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его и старшего дошкольного возрас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ой дом, мой посёлок, моя страна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br>
              <a:rPr sz="2400"/>
            </a:br>
            <a:endParaRPr b="0" lang="en-US" sz="24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899640" y="4365720"/>
            <a:ext cx="7643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.В. Буди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В.  Килев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.В. Качесов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571680" y="36360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Муниципальное бюджетное дошкольное образовательное</a:t>
            </a:r>
            <a:endParaRPr b="1" lang="en-US" sz="2400" spc="-1" strike="noStrike">
              <a:solidFill>
                <a:srgbClr val="cc00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учреждение </a:t>
            </a:r>
            <a:r>
              <a:rPr b="1" lang="ru-RU" sz="2400" spc="-1" strike="noStrike">
                <a:solidFill>
                  <a:srgbClr val="cc0099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Полтавский детский сад </a:t>
            </a:r>
            <a:r>
              <a:rPr b="1" lang="ru-RU" sz="2400" spc="-1" strike="noStrike">
                <a:solidFill>
                  <a:srgbClr val="cc0099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Солнышко</a:t>
            </a:r>
            <a:r>
              <a:rPr b="1" lang="ru-RU" sz="2400" spc="-1" strike="noStrike">
                <a:solidFill>
                  <a:srgbClr val="cc0099"/>
                </a:solidFill>
                <a:latin typeface="Calibri"/>
                <a:ea typeface="Calibri"/>
              </a:rPr>
              <a:t>»</a:t>
            </a:r>
            <a:endParaRPr b="1" lang="en-US" sz="2400" spc="-1" strike="noStrike">
              <a:solidFill>
                <a:srgbClr val="cc00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Calibri"/>
              </a:rPr>
              <a:t>Полтавского района Омской области</a:t>
            </a:r>
            <a:endParaRPr b="1" lang="en-US" sz="2400" spc="-1" strike="noStrike">
              <a:solidFill>
                <a:srgbClr val="cc0099"/>
              </a:solidFill>
              <a:latin typeface="Tahoma"/>
            </a:endParaRPr>
          </a:p>
        </p:txBody>
      </p:sp>
    </p:spTree>
  </p:cSld>
  <p:transition spd="slow">
    <p:pull dir="l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8c8b1"/>
                </a:solidFill>
                <a:latin typeface="Times New Roman"/>
                <a:ea typeface="Times New Roman"/>
              </a:rPr>
              <a:t>Цель - Воспитание гражданской грамотности у детей среднего и  старшего дошкольного возраста через систематизацию знаний    о своей семье, о детском саде, об улице на которой ребенок живет, родном посёлке, о своей стране. Ориентировать родителей воспитанников на патриотическое воспитание детей в семье</a:t>
            </a:r>
            <a:r>
              <a:rPr b="0" lang="ru-RU" sz="2400" spc="-1" strike="noStrike">
                <a:solidFill>
                  <a:srgbClr val="c8c8b1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c8c8b1"/>
              </a:solidFill>
              <a:latin typeface="Tahom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56760" y="2786040"/>
            <a:ext cx="821556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a7a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ть у детей представления о семье, доме, детском саде, районе и посёлке в котором они живут, о стране на  основе приобщения к родной природе, культуре и традиция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a7a7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воение   системы знаний, умений и навыков, обеспечивающих становление ребенка как субъекта разнообразных видов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a7a7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спитывать гражданско-патриотические чувства через изучение государственной символики Рос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a7a7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ивлекать родителей к активному участию в деятельности Д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a7a7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r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Line 7"/>
          <p:cNvSpPr/>
          <p:nvPr/>
        </p:nvSpPr>
        <p:spPr>
          <a:xfrm>
            <a:off x="7451640" y="6093000"/>
            <a:ext cx="609840" cy="0"/>
          </a:xfrm>
          <a:prstGeom prst="line">
            <a:avLst/>
          </a:prstGeom>
          <a:ln w="284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643520" cy="50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8c8b1"/>
                </a:solidFill>
                <a:latin typeface="Times New Roman"/>
                <a:ea typeface="Times New Roman"/>
              </a:rPr>
              <a:t>Проект адресован широкому кругу читателей: педагогам дополнительного образования, воспитателям детских садов, а также всем, кто интересуется вопросами гражданской грамотности подрастающего поколения.</a:t>
            </a:r>
            <a:endParaRPr b="0" lang="en-US" sz="4000" spc="-1" strike="noStrike">
              <a:solidFill>
                <a:srgbClr val="c8c8b1"/>
              </a:solidFill>
              <a:latin typeface="Tahoma"/>
            </a:endParaRPr>
          </a:p>
        </p:txBody>
      </p:sp>
    </p:spTree>
  </p:cSld>
  <p:transition spd="slow">
    <p:pull dir="rd"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Рисунок 12" descr="C:\Users\user\Desktop\проект\Открытка 3.jpg"/>
          <p:cNvPicPr/>
          <p:nvPr/>
        </p:nvPicPr>
        <p:blipFill>
          <a:blip r:embed="rId1"/>
          <a:stretch/>
        </p:blipFill>
        <p:spPr>
          <a:xfrm>
            <a:off x="4857840" y="3857760"/>
            <a:ext cx="3314520" cy="2485800"/>
          </a:xfrm>
          <a:prstGeom prst="rect">
            <a:avLst/>
          </a:prstGeom>
          <a:ln w="0">
            <a:noFill/>
          </a:ln>
        </p:spPr>
      </p:pic>
      <p:pic>
        <p:nvPicPr>
          <p:cNvPr id="677" name="Рисунок 9" descr="C:\Users\user\Desktop\проект\ДЛЯ ПРОЕКТА\i (5).jpg"/>
          <p:cNvPicPr/>
          <p:nvPr/>
        </p:nvPicPr>
        <p:blipFill>
          <a:blip r:embed="rId2"/>
          <a:stretch/>
        </p:blipFill>
        <p:spPr>
          <a:xfrm>
            <a:off x="500040" y="428760"/>
            <a:ext cx="2428920" cy="3219480"/>
          </a:xfrm>
          <a:prstGeom prst="rect">
            <a:avLst/>
          </a:prstGeom>
          <a:ln w="0">
            <a:noFill/>
          </a:ln>
        </p:spPr>
      </p:pic>
      <p:pic>
        <p:nvPicPr>
          <p:cNvPr id="678" name="Рисунок 10" descr="http://dssoln.pol.obr55.ru/files/2019/11/i-9.jpg"/>
          <p:cNvPicPr/>
          <p:nvPr/>
        </p:nvPicPr>
        <p:blipFill>
          <a:blip r:embed="rId3"/>
          <a:stretch/>
        </p:blipFill>
        <p:spPr>
          <a:xfrm>
            <a:off x="1928880" y="2714760"/>
            <a:ext cx="3305160" cy="2476440"/>
          </a:xfrm>
          <a:prstGeom prst="rect">
            <a:avLst/>
          </a:prstGeom>
          <a:ln w="0">
            <a:noFill/>
          </a:ln>
        </p:spPr>
      </p:pic>
      <p:pic>
        <p:nvPicPr>
          <p:cNvPr id="679" name="Рисунок 11" descr="http://dssoln.pol.obr55.ru/files/2020/02/i-9.jpg"/>
          <p:cNvPicPr/>
          <p:nvPr/>
        </p:nvPicPr>
        <p:blipFill>
          <a:blip r:embed="rId4"/>
          <a:stretch/>
        </p:blipFill>
        <p:spPr>
          <a:xfrm>
            <a:off x="5072040" y="500040"/>
            <a:ext cx="3381480" cy="2257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  <p:sndAc>
      <p:stSnd>
        <p:snd r:embed="rId5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6:00:47Z</dcterms:created>
  <dc:creator>Ирина</dc:creator>
  <dc:description/>
  <dc:language>en-US</dc:language>
  <cp:lastModifiedBy>user</cp:lastModifiedBy>
  <dcterms:modified xsi:type="dcterms:W3CDTF">2020-09-22T09:45:48Z</dcterms:modified>
  <cp:revision>114</cp:revision>
  <dc:subject/>
  <dc:title>Презентация PowerPoint</dc:title>
</cp:coreProperties>
</file>