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himes.wav" ContentType="audio/x-wav"/>
  <Override PartName="/ppt/media/typ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060-C70E-4330-8FC1-9CF84080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018-56C2-4955-8CDF-C70DF8BE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1C8CA-A39F-44FE-BFB2-71325A90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352BB-7B48-481D-8195-2B61BBFC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99CAF-B4B4-4886-BEF0-38D2E179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3B67E-6292-4034-B57F-04E86A9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E5E53-69A4-46CE-BD98-9723402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662C8-74A6-4E6A-834E-E00FE01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E037B-DA2B-4432-ABCF-EB43267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AE57E-ADD4-4C6C-851B-BAD03DF4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1BC6A-283F-4372-9C09-801FD73F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53FD8-8930-4775-9392-B1D7B846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848-4B56-439D-B776-36EF830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BD827-DAF6-4AFC-A0CB-E304F24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C318-94F3-48BC-A4FE-E77DB80A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14B8F-5959-433B-83F8-3835A6E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6D132-BD8F-4183-A00F-8B6F95A3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6138D-B521-49E5-AEB9-BF7393CB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052A0-B700-46A2-9CAE-9C6915B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9D489-F67F-481C-B39B-0813C8D2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490A8-30EE-48F9-B64E-7B5E321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F62DF-CF62-4F32-83BB-38F2DB2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DDBA7-06F9-4880-8E56-9438A624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E72-3179-4B4D-BAE1-EFEEAD41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DA542-96B6-4F5F-BBC2-FA2C83BC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4122-79EC-4EFF-9FB9-336A73B5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A9435-1193-4850-818C-D8AD704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161B-33F6-43CD-819F-3EC6409B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5CA51-65B4-47EE-92B7-791C648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03A0-3DF4-443D-BEC7-B785329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316A-9340-4578-82CA-1295BEAB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E083-FCAD-4ED5-BBC6-D62C4A2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826F8-CF9C-425F-A01C-342C2AD8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C428-A5FD-49F1-A397-950D6DB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52E4-023E-4328-95F8-F15D4793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17324-CB86-4ABA-A83D-78CCCE9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1DA3-0646-4B47-94F2-86EB3BCD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392C8-A489-44C2-9B99-C28395B3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28B6F-8848-476E-9327-E6FFA75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549B8-2E7A-425B-84E0-33A4165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0621B-5098-4A78-92C6-65EA2E4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1CE8D-0AE2-4A69-A2C4-D062E494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D34AA-8578-4EC8-B514-057007D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6C6BB-110B-46A0-B8DA-EBCC15C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7717-4CE1-439B-BF9A-DD0AD13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57F-6343-45AD-A1B6-2F1FC3B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C2CE4-F662-421B-BC4D-F18FFDED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7B1AB-0189-4E90-A64D-06A2686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8F415-F088-43EA-8C90-FF3FD25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E88AA-2B2A-442C-AB61-AA5CDB22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1A232-C04A-4528-B2F0-389D3415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1980-2477-4F75-8CB3-64A836F1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32D-B304-4C70-8AAE-37F4C7C4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2119-6298-4709-8372-9DB074C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B9D9-E7D4-4202-ADF6-BB1D73E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2544-9A2A-47AE-B727-DCCCBB2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2CD-7969-4FB0-89E2-8D46CC7C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936C-9329-41FE-A9A1-360B3BA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B777-AD84-4DAA-9A7A-2989E749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1084-BACE-4952-94D6-F92F9F2F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2DB3-A223-493B-9500-23B46FDE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143A-D3B8-47CD-A0C5-0AEFBF3F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600F-864E-43C6-8A84-1BF115E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F03B-50B0-4CC9-B96F-39881B0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A6DA-FFC9-4AB8-BA1C-4B9A303D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EB46-B2F3-4875-B01B-A6D4E9B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C018-0D69-40A9-AB13-BA2C45F1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3E2-0188-4DF1-89C3-F6637D90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884F-3126-4F4A-9A20-CE6C03E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C8E9-75A7-4652-A241-25C760C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A3DC-37E5-4DE7-91B1-67C707D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F108-CB60-41DC-8FF1-CFECE05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D4FC-BEE6-4C00-B7F2-DCBC2DF3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05E7-4CA5-43A0-9EF9-2BE3E5CA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7E24-D962-4B3F-8B97-8E312969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AF53-B09C-499A-8DAB-728135E6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1330-C6BF-4730-8274-0F965059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30A1-3256-4FC5-8BD8-19DD57EE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83C-4351-4318-9C18-D771CE2A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8EBC-5816-4EFD-AC82-31A9167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7952-00FA-433A-A5F2-D999C5B2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BEB1-A840-4AE9-B584-AFAE337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5E47-CD8D-4A25-AE94-2976506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647D-601C-4311-96D6-34B572F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5F7E-DAE2-47F4-9201-5F3B89F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7F379-0AAE-414B-B644-5D53370A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E527-027E-45E0-8391-F1D16DD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4312-996D-481C-B092-FFBD1F29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AB77A-9645-43F4-B29E-295E56BE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75C-F28A-4560-9C5A-C5C6E0B1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A6B7-CA02-4EBA-8950-924340D4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9E0A-5CAE-42AB-9B05-1180DE1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81FB-18D4-4BC4-8CE8-B8F8515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D0AC-064C-480C-8072-4381BB2D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E1F1-E25C-42D6-9020-3B08496A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C38A-4CE4-46F4-92E9-C4B03A4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DC48-FD9A-4895-831B-573D9FA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AA3C8-082C-4E5A-9CEC-4FF0330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4F20-6BB9-4F0C-AC88-96D829C0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960E-B5B1-4DF3-A484-2F4BFC26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0F7-0374-465A-B777-C415B23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BD9E-AB72-4F43-A369-76E1E9AE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126C-666A-4B4F-B7B6-2F3C59F9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B492-F116-42E4-A010-698E063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CBCF-3280-4BAD-A6E3-A3D5C03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3A11-C64C-4F34-ADF9-AA64D4D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D086-E9A3-452F-8972-E554710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07078-9521-4D80-9A77-8E2BD8F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AD76-25A3-43B8-9F37-2421CA38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E4D3-1848-4B73-9E8B-C99B70D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845C-B0B2-4B32-8C4C-6812A54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170-15A7-43F6-BB5C-A668899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6B4F8-BD58-4716-B3EE-02AB7B5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742D-C482-4DB9-97AC-6B96528C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9C29-9102-44BA-841C-98AEB95A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5F95-1C5C-4C62-A2C4-119C444C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6F32-0B21-41C4-9DBF-3D55B3C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11B8-7EDE-4B5F-ACD4-8E4D5D8C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1D9A-F4F2-480E-8CE1-5897B2F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4FB9-BD72-4B15-A86B-A30711DE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03E7-7B0E-4612-9E27-0E865287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06F0-1A58-48CF-AC98-887B353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58A-5E5F-4609-AC8D-A82089B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91AA-9C65-4CEF-B097-137AE78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9C12-AF67-4716-9243-3B201DA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80AA7-EFFA-481B-BE1D-22D0FE4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B2EA-328F-4F97-8B2E-F241AB1F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429B-0E00-4087-89AD-A4793A83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89B2-01E9-4E4A-A7B4-F920C41E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CAEB3-2B4D-43F9-84D2-5F8C3511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B0B9A-7A86-460C-8B8F-8CE1AE4C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52F5-791F-43A9-AA4B-893F3D83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E6B4-B2C5-4D72-9D93-CF9D8761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EAB-B65B-4F18-8CE5-E3C1490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9F9C4-74C7-4A3B-A9CD-E92F9B95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9844-7F20-4AA9-B9C6-1CB72AB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4EAD-8E98-441F-8C78-40EDA28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73C28-E157-4857-A312-8972E08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7A225-9143-44C1-AF65-8DCE59A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5676-1904-498D-9476-6EEDDE50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049B0-122C-492C-A4D7-3CBC82AE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2E31-CEF7-4F64-BBB0-FA28C322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ADEEB-66AD-498D-91E3-F5A6CC6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A2B58-910B-4A82-A1E7-27C8BFD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F545-4FAE-4CC1-92EA-C6C258F200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0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0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0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1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1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514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15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B28-1EAD-4E7E-A2F3-AF9351F864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5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6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6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6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7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8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9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570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71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E5EE-5BA2-4CAC-B3EF-730E52849B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14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5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16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7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20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23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626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16A2-429A-426A-A3A6-EF6E4F3A0E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7A1F-B41F-4656-8ED5-77B3AF77E4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19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2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5B39-E176-4B74-AF27-BFD5C2F945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6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68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69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1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2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75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78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F6D-3BE4-48B9-A918-4DA977AC56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2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234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BC2C-EB23-4BD2-880F-7261ACFFAF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7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7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8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8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6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87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9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290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91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77F-7423-4006-91CC-872ED3AD44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34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36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37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39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40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43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346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2F35-85AE-4BD3-9FAF-F725E5645E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9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9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9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8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99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40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0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518F-CA34-40E9-A89D-4F7B2556E3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46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48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49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0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1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52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3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4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55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6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7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458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6F4-7209-4F96-B777-DFFA6B4223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57160" y="2428560"/>
            <a:ext cx="805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о - творческий проек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гражданской грамотности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го и старшего дошкольного возрас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ой дом, мой посёлок, моя страна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br>
              <a:rPr sz="2400"/>
            </a:br>
            <a:endParaRPr b="0" lang="en-US" sz="24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99640" y="436572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В. Буди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В.  Килев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.В. Качесов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571680" y="3636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Муниципальное бюджетное дошкольное образовательное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учреждение 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Полтавский детский сад 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Солнышко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»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Полтавского района Омской области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c8b1"/>
                </a:solidFill>
                <a:latin typeface="Times New Roman"/>
                <a:ea typeface="Times New Roman"/>
              </a:rPr>
              <a:t>Цель - Воспитание гражданской грамотности у детей среднего и  старшего дошкольного возраста через систематизацию знаний    о своей семье, о детском саде, об улице на которой ребенок живет, родном посёлке, о своей стране. Ориентировать родителей воспитанников на патриотическое воспитание детей в семье</a:t>
            </a:r>
            <a:r>
              <a:rPr b="0" lang="ru-RU" sz="2400" spc="-1" strike="noStrike">
                <a:solidFill>
                  <a:srgbClr val="c8c8b1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56760" y="2786040"/>
            <a:ext cx="82155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у детей представления о семье, доме, детском саде, районе и посёлке в котором они живут, о стране на  основе приобщения к родной природе, культуре и традици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воение   системы знаний, умений и навыков, обеспечивающих становление ребенка как субъекта разнообразных видов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гражданско-патриотические чувства через изучение государственной символики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влекать родителей к активному участию в деятельности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ine 7"/>
          <p:cNvSpPr/>
          <p:nvPr/>
        </p:nvSpPr>
        <p:spPr>
          <a:xfrm>
            <a:off x="7451640" y="6093000"/>
            <a:ext cx="609840" cy="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64352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c8b1"/>
                </a:solidFill>
                <a:latin typeface="Times New Roman"/>
                <a:ea typeface="Times New Roman"/>
              </a:rPr>
              <a:t>Проект адресован широкому кругу читателей: педагогам дополнительного образования, воспитателям детских садов, а также всем, кто интересуется вопросами гражданской грамотности подрастающего поколения.</a:t>
            </a:r>
            <a:endParaRPr b="0" lang="en-US" sz="4000" spc="-1" strike="noStrike">
              <a:solidFill>
                <a:srgbClr val="c8c8b1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Рисунок 12" descr="C:\Users\user\Desktop\проект\Открытка 3.jpg"/>
          <p:cNvPicPr/>
          <p:nvPr/>
        </p:nvPicPr>
        <p:blipFill>
          <a:blip r:embed="rId1"/>
          <a:stretch/>
        </p:blipFill>
        <p:spPr>
          <a:xfrm>
            <a:off x="4857840" y="3857760"/>
            <a:ext cx="3314520" cy="2485800"/>
          </a:xfrm>
          <a:prstGeom prst="rect">
            <a:avLst/>
          </a:prstGeom>
          <a:ln w="0">
            <a:noFill/>
          </a:ln>
        </p:spPr>
      </p:pic>
      <p:pic>
        <p:nvPicPr>
          <p:cNvPr id="677" name="Рисунок 9" descr="C:\Users\user\Desktop\проект\ДЛЯ ПРОЕКТА\i (5).jpg"/>
          <p:cNvPicPr/>
          <p:nvPr/>
        </p:nvPicPr>
        <p:blipFill>
          <a:blip r:embed="rId2"/>
          <a:stretch/>
        </p:blipFill>
        <p:spPr>
          <a:xfrm>
            <a:off x="500040" y="428760"/>
            <a:ext cx="2428920" cy="3219480"/>
          </a:xfrm>
          <a:prstGeom prst="rect">
            <a:avLst/>
          </a:prstGeom>
          <a:ln w="0">
            <a:noFill/>
          </a:ln>
        </p:spPr>
      </p:pic>
      <p:pic>
        <p:nvPicPr>
          <p:cNvPr id="678" name="Рисунок 10" descr="http://dssoln.pol.obr55.ru/files/2019/11/i-9.jpg"/>
          <p:cNvPicPr/>
          <p:nvPr/>
        </p:nvPicPr>
        <p:blipFill>
          <a:blip r:embed="rId3"/>
          <a:stretch/>
        </p:blipFill>
        <p:spPr>
          <a:xfrm>
            <a:off x="1928880" y="2714760"/>
            <a:ext cx="3305160" cy="2476440"/>
          </a:xfrm>
          <a:prstGeom prst="rect">
            <a:avLst/>
          </a:prstGeom>
          <a:ln w="0">
            <a:noFill/>
          </a:ln>
        </p:spPr>
      </p:pic>
      <p:pic>
        <p:nvPicPr>
          <p:cNvPr id="679" name="Рисунок 11" descr="http://dssoln.pol.obr55.ru/files/2020/02/i-9.jpg"/>
          <p:cNvPicPr/>
          <p:nvPr/>
        </p:nvPicPr>
        <p:blipFill>
          <a:blip r:embed="rId4"/>
          <a:stretch/>
        </p:blipFill>
        <p:spPr>
          <a:xfrm>
            <a:off x="5072040" y="500040"/>
            <a:ext cx="338148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6:00:47Z</dcterms:created>
  <dc:creator>Ирина</dc:creator>
  <dc:description/>
  <dc:language>en-US</dc:language>
  <cp:lastModifiedBy>user</cp:lastModifiedBy>
  <dcterms:modified xsi:type="dcterms:W3CDTF">2020-09-22T09:45:48Z</dcterms:modified>
  <cp:revision>114</cp:revision>
  <dc:subject/>
  <dc:title>Презентация PowerPoint</dc:title>
</cp:coreProperties>
</file>