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1F36-D0EB-42B1-AC38-D60EB6D2D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0610-61A7-47A2-B580-6B1BB1091B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39B-A330-45D3-A84D-57D01A99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A1F-FA36-47A9-8E51-5A1309C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09A-DCA4-44A2-BD54-A0822C3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77C-C66E-4054-852F-ECE1C0F6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CB1-D99B-483D-A3EA-F3714E15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98D-4053-4E0E-A817-2E4FFB18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8EA-2A12-43F3-8BD6-27CB0AFD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B52-BBC9-454F-A383-5EFCAFD3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F17-5546-4884-958C-F969B89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71A-488E-4031-A12E-08EC707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EBC-993A-42CE-A8D9-5A05A87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0B4-43B6-485A-8597-99531B1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5803-5A4E-43DD-946C-09CE15886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ega-math.narod.ru/Quant/Smilga1.gif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lobanovaoe.narod.ru/posle_ur/matturnir_7.files/image014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71760" y="4214880"/>
            <a:ext cx="6400800" cy="1752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Работу выполнила Кравцова Мария , 7 класс, МБОУ  ЯОШ №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tle 3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2560" y="2011320"/>
            <a:ext cx="7785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19080"/>
            <a:ext cx="8242560" cy="398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gy_71_2"/>
          <p:cNvPicPr/>
          <p:nvPr/>
        </p:nvPicPr>
        <p:blipFill>
          <a:blip r:embed="rId2">
            <a:alphaModFix amt="75000"/>
          </a:blip>
          <a:stretch/>
        </p:blipFill>
        <p:spPr>
          <a:xfrm>
            <a:off x="7358040" y="3643200"/>
            <a:ext cx="140004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"/>
          <p:cNvPicPr/>
          <p:nvPr/>
        </p:nvPicPr>
        <p:blipFill>
          <a:blip r:embed="rId3"/>
          <a:stretch/>
        </p:blipFill>
        <p:spPr>
          <a:xfrm>
            <a:off x="642960" y="3500280"/>
            <a:ext cx="3143160" cy="132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Картинка 22 из 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3500280"/>
            <a:ext cx="1571760" cy="290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Картинка 7 из 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7760" y="3571920"/>
            <a:ext cx="17049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4040280" cy="1500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ссмотрим частные случаи: а)Пусть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=14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тогда смежный с ним угол равен 4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Поэтому угол между биссектрисами равен: 2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+ 7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= 9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5440" y="1357560"/>
            <a:ext cx="4041720" cy="14288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Пусть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7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огда смежный с ним угол равен 1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этому угол между биссектрисами равен: 3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5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6" descr=""/>
          <p:cNvPicPr/>
          <p:nvPr/>
        </p:nvPicPr>
        <p:blipFill>
          <a:blip r:embed="rId2"/>
          <a:stretch/>
        </p:blipFill>
        <p:spPr>
          <a:xfrm>
            <a:off x="457200" y="3500280"/>
            <a:ext cx="404352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"/>
          <p:cNvPicPr/>
          <p:nvPr/>
        </p:nvPicPr>
        <p:blipFill>
          <a:blip r:embed="rId3"/>
          <a:stretch/>
        </p:blipFill>
        <p:spPr>
          <a:xfrm>
            <a:off x="4645080" y="3487680"/>
            <a:ext cx="4041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176040"/>
            <a:ext cx="830268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" descr=""/>
          <p:cNvPicPr/>
          <p:nvPr/>
        </p:nvPicPr>
        <p:blipFill>
          <a:blip r:embed="rId2"/>
          <a:stretch/>
        </p:blipFill>
        <p:spPr>
          <a:xfrm>
            <a:off x="357120" y="2500200"/>
            <a:ext cx="4138560" cy="23148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"/>
          <p:cNvPicPr/>
          <p:nvPr/>
        </p:nvPicPr>
        <p:blipFill>
          <a:blip r:embed="rId3"/>
          <a:stretch/>
        </p:blipFill>
        <p:spPr>
          <a:xfrm>
            <a:off x="4714920" y="25002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57200" y="1600200"/>
          <a:ext cx="8229600" cy="282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гол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гол между биссектри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им один из смежных угло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тогда другой угол –    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1=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так как биссектриса делит угол попола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2=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)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надо найти угол между биссектрисами, значи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)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90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90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овательно, угол между биссектрисами  2-х смежных углов действительно равен 90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2500200" y="414324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ходе исследования данной задачи я убедилась в том, угол между биссектрисами любых смежных углов равен 90°.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 основе полученных данных мы можем решать задачи, используя  свойства прямоугольного треугольника, построенного на биссектрисах смежных углов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°.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30°, равен половине гипотенузы.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гипотенузы, то угол, лежащий против этого катета, равен 30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акже другие задачи, где используются свойства прямоугольного треугольника, построенного на биссектрисах смежных уг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59:44Z</dcterms:created>
  <dc:creator>Kollegaev</dc:creator>
  <dc:description>Корпорация Майкрософт</dc:description>
  <cp:keywords>Корпорация Майкрософт</cp:keywords>
  <dc:language>en-US</dc:language>
  <cp:lastModifiedBy>USER</cp:lastModifiedBy>
  <dcterms:modified xsi:type="dcterms:W3CDTF">2020-11-09T17:22:21Z</dcterms:modified>
  <cp:revision>10</cp:revision>
  <dc:subject/>
  <dc:title>Угол между биссектрисами двух смежных угл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11049</vt:lpwstr>
  </property>
</Properties>
</file>