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AF8C-70AC-4598-B5B3-440EA471F0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C441-F533-41A1-B3A3-FDF8860055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D6F-AD03-4575-A142-C21A7762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C95-C26B-4AEC-8541-1DB667A4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109-8621-4998-931D-4D29CD19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D39-BD3E-4FD8-9908-3A7BCA33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923-E5C8-421A-9069-65BEB67A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D5A-7BE8-40CA-A958-817165D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E52-5474-4268-B7CB-5ED582F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475-2B0A-4407-8E19-5C400AE5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DFD-64F5-4F31-98CF-D7287196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B22-563B-458B-BF6E-932EE95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0DC-6843-4635-BC63-D85484BB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376-E411-4BDE-A545-8A148B95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D153-05CA-43E3-A551-312D69DFE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ega-math.narod.ru/Quant/Smilga1.gif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lobanovaoe.narod.ru/posle_ur/matturnir_7.files/image014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71760" y="4214880"/>
            <a:ext cx="6400800" cy="17524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Calibri"/>
              </a:rPr>
              <a:t>Работу выполнила Кравцова Мария , 7 класс, МБОУ  ЯОШ №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itle 3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2560" y="2011320"/>
            <a:ext cx="7785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93560" y="19080"/>
            <a:ext cx="8242560" cy="398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gy_71_2"/>
          <p:cNvPicPr/>
          <p:nvPr/>
        </p:nvPicPr>
        <p:blipFill>
          <a:blip r:embed="rId2">
            <a:alphaModFix amt="75000"/>
          </a:blip>
          <a:stretch/>
        </p:blipFill>
        <p:spPr>
          <a:xfrm>
            <a:off x="7358040" y="3643200"/>
            <a:ext cx="140004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"/>
          <p:cNvPicPr/>
          <p:nvPr/>
        </p:nvPicPr>
        <p:blipFill>
          <a:blip r:embed="rId3"/>
          <a:stretch/>
        </p:blipFill>
        <p:spPr>
          <a:xfrm>
            <a:off x="642960" y="3500280"/>
            <a:ext cx="3143160" cy="132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Картинка 22 из 6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72080" y="3500280"/>
            <a:ext cx="1571760" cy="290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Картинка 7 из 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57760" y="3571920"/>
            <a:ext cx="17049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4040280" cy="15004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ссмотрим частные случаи: а)Пусть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=14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тогда смежный с ним угол равен 4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 Поэтому угол между биссектрисами равен: 2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+ 7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= 90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5440" y="1357560"/>
            <a:ext cx="4041720" cy="14288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b">
            <a:normAutofit fontScale="60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Пусть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7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тогда смежный с ним угол равен 1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оэтому угол между биссектрисами равен: 3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5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6" descr=""/>
          <p:cNvPicPr/>
          <p:nvPr/>
        </p:nvPicPr>
        <p:blipFill>
          <a:blip r:embed="rId2"/>
          <a:stretch/>
        </p:blipFill>
        <p:spPr>
          <a:xfrm>
            <a:off x="457200" y="3500280"/>
            <a:ext cx="4043520" cy="192888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"/>
          <p:cNvPicPr/>
          <p:nvPr/>
        </p:nvPicPr>
        <p:blipFill>
          <a:blip r:embed="rId3"/>
          <a:stretch/>
        </p:blipFill>
        <p:spPr>
          <a:xfrm>
            <a:off x="4645080" y="3487680"/>
            <a:ext cx="4041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93560" y="176040"/>
            <a:ext cx="8302680" cy="175608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4" descr=""/>
          <p:cNvPicPr/>
          <p:nvPr/>
        </p:nvPicPr>
        <p:blipFill>
          <a:blip r:embed="rId2"/>
          <a:stretch/>
        </p:blipFill>
        <p:spPr>
          <a:xfrm>
            <a:off x="357120" y="2500200"/>
            <a:ext cx="4138560" cy="231480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"/>
          <p:cNvPicPr/>
          <p:nvPr/>
        </p:nvPicPr>
        <p:blipFill>
          <a:blip r:embed="rId3"/>
          <a:stretch/>
        </p:blipFill>
        <p:spPr>
          <a:xfrm>
            <a:off x="4714920" y="25002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57200" y="1600200"/>
          <a:ext cx="8229600" cy="2828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гол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гол между биссектри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значим один из смежных угло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тогда другой угол –    180°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ол1=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так как биссектриса делит угол пополам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ол2=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0°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)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м надо найти угол между биссектрисами, значи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0°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)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/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+ 90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 90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овательно, угол между биссектрисами  2-х смежных углов действительно равен 90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2500200" y="4143240"/>
            <a:ext cx="3714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ходе исследования данной задачи я убедилась в том, угол между биссектрисами любых смежных углов равен 90°.                 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 основе полученных данных мы можем решать задачи, используя  свойства прямоугольного треугольника, построенного на биссектрисах смежных углов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Сумма острых углов прямоугольного треугольника равна 90°.</a:t>
            </a:r>
            <a:endParaRPr b="0" i="1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30°, равен половине гипотенузы.</a:t>
            </a:r>
            <a:endParaRPr b="0" i="1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</a:t>
            </a:r>
            <a:endParaRPr b="0" i="1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гипотенузы, то угол, лежащий против этого катета, равен 30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также другие задачи, где используются свойства прямоугольного треугольника, построенного на биссектрисах смежных уг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8:59:44Z</dcterms:created>
  <dc:creator>Kollegaev</dc:creator>
  <dc:description>Корпорация Майкрософт</dc:description>
  <cp:keywords>Корпорация Майкрософт</cp:keywords>
  <dc:language>en-US</dc:language>
  <cp:lastModifiedBy>USER</cp:lastModifiedBy>
  <dcterms:modified xsi:type="dcterms:W3CDTF">2020-11-09T17:22:21Z</dcterms:modified>
  <cp:revision>10</cp:revision>
  <dc:subject/>
  <dc:title>Угол между биссектрисами двух смежных угл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811049</vt:lpwstr>
  </property>
</Properties>
</file>