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E00-176A-4647-9C67-FC909A69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688-2618-452E-886D-4E5B4528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19D-22C7-44C8-8174-E00E62B8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AEE-19B8-4439-8D5B-00015A02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FE0-CD19-4280-B0A5-E64764FF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463-93D3-41EC-8E62-E1AB8E2F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BD6-D04F-4DA6-BA35-3926355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280-AE26-433A-BAB0-681C93FE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740-A804-4D15-B639-354BD8D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EE2-6A3D-4CE8-AF8A-BB4DDBC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020-2533-4E5D-95D8-EF5A599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F72-ACD9-4D05-86A3-5E283087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73A-35E4-4633-9FB0-9A51BDD3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екст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ля проверки техники чт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 1 класс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7617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 что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очему в рассказе сосну назвал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ем помог шишкам с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6094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рощ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 пришли в рощу. Там весело и шумно. Пчела брала мед с цветка. Муравей тащил травинку. Голубь строил гнездо для голубят. Зайчик бежал к ручью. Ручей журчал по камням. Он работал. Ручей поил чистой водой людей и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0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уда пошл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 живет в ро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Зачем ручей в роще, что он дел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орож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утки были пушистые утята. Однажды лисица утащила утку. Мы научили собаку водить к реке утят. Вот собака важно идет к реке. Утята спешат за ней. Утята ныряют в воде. Потом они гуляют на лугу. Собака сидит и зорко охраняет у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1 слов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утащил ут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уда собака водила утя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де гуляют утята с соб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Почему так назван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шка и ёж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шли дети домой из леса и принесли домой ежа. Кошка Мурка цап его лапой. Ёж быстро спрятал голову и выставил свои острые иголки. Уколола кошка лапу и ушла в угол. Мурка стала лизать лапу, а на ежа не смотрел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2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го принесли дети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ак звали кош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Что случилось с лапкой у ко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Летучие мы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тучие мыши очень полезные зверь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поедают вредных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ем летучие мыши заворачиваются в свои широкие крылья, как в плащи, и висят в темных местах вниз гол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упает ночь. Вылетают они на охоту. Многие вредные насекомые летают ночью. Почти все птицы спят в это время. Поэтому «работа» летучих мышей особенно важн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53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очему летучие мыши полезные зверь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ем занимаются летучие мыши днём и ноч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30492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ец взял Колю и Ваню ловить рыбу. Коле было девять лет, а Ване десять. Отец взял удочки и сеть. Коля вбил колья и растянул сеть по реке. Ваня сел подальше в тень и закинул удочки. На одну удочку попался карась. На другую - окунь. Отец стал тащить сеть. Коля помогал отцу. В сеть попалось десять рыбок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Рыбаки были доволь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60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учен день до вече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 делать не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ригорка Егорка объегорил во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уда взял отец Колю и Ва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Чем занимались мальчики на рыбал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акую рыбу поймали рыба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Храбрый ё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ыл в лесу старый пень. Тут в дупле ёж сделал гнездо. В гнездо он натаскал травы. Стало тепло и мягко. Днем ёж спал, а вечером выходил на охот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Вот наступил вечер. Еж проснулся и пошёл искать пищу. Не нашёл ничего и идёт домой. Вдруг он увидел змею. Ёж бросился не неё. Змея зашипела и бросилась на ежа. Ёж не боится змей. Он разорвал змею и стал ужин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69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сделал гнездо в дуп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ого встретил ёж, когда возвращалс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то победил в схват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бака и ёж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я пошёл в лес за орехами. С ним побежала его собака Трезор. Сеня нашёл много орехов и собирал их в сумку. Вдруг Сеня услышал, что его Трезор жалобно воет, Сеня подошёл к Трезору и увидел, что Трезор лижет лапу. Около Трезора лежал какой-то комочек с иголками. Это был ёжик. Сеня понял, что Трезор уколол лапу об иголки ёж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61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да пошёл С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звали собаку, которая побежала с н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произошло в ле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меля-ох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Емели был маленький внучек Гришутка. Гришутка был болен. Он стал просить деда принести ему из леса маленького оленён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 ходил Емеля по лесу и искал оленёнка. Наконец, он увидел недалеко от себя большого оленя и рядом маленького оленёнка. Емеля прицелился в оленя и хотел выстрелить. Но не выстрелил. Он пожалел маленького оленёнка. Емеля опустил ружьё и пошёл дом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 дед рассказал Гришутке о том, как он пожалел маленького оленёнка. Гришутка не стал больше просить у деда маленького оленё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81 сло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04560" y="533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го просил принести дедушку Гришутк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ле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чему Емеля не выстрелил в ол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тичий двор.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На ферме большой птичий дв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дворе гуляют гуси и гусята, утки и утята, куры и цыплята. Птиц кормит птичница бабушка Настя. Ей помогают Таня и Катя. Они кормят гусят, утят и цыпл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35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акие птицы были на фер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 кормит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то помогает бабуш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ш сад.</a:t>
            </a:r>
            <a:br>
              <a:rPr sz="3200"/>
            </a:b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нашим домом есть сад. В саду растут яблони, груши, сливы и вишни. Есть кусты малины. На грядках растёт клубника. Перед домом клумбы с цветами. На клумбах цветут розы, лилии, пионы, анютины глаз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35 с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Что растёт в са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акие цветы растут на клумб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120" y="533160"/>
            <a:ext cx="80773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Огурец и кап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жды кочан капусты и огурец пошли вместе купаться на ре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урец сразу в воду бросился. А кочан капусты как стал на бережку раздеваться – раздевался до самого вечера. Огурец его дожидался, дожидался и от холода весь покрылся пупырышкам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0 слов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838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то пошёл вместе купаться на ре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 первым бросился в в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чему огурец весь покрыл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пырыш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Шишки-малы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опушки стоит старушка-сосна. Лапы сосны поникли. Иголки растут густо. Они укрыли шишки. Сосна, как мама приласкала шишки, и они уснули. К малышкам-шишкам пришли 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утром сосна распушила иголки, смотрит: а шишки растут. Сон помог расти шиш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42 сл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2T15:18:18Z</dcterms:created>
  <dc:creator>Администратор</dc:creator>
  <dc:description/>
  <dc:language>en-US</dc:language>
  <cp:lastModifiedBy>XTreme.ws</cp:lastModifiedBy>
  <dcterms:modified xsi:type="dcterms:W3CDTF">2020-05-13T01:51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