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BD9-BDC3-4E80-807E-43D8FD37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F11-42CB-4F86-B0E8-6A966EF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C3B-D5E2-4399-A24C-C7F9928F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FFE-8A99-490B-9FB9-14A13508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161D-7AA6-4F53-AD36-676CBAD0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FCA4-AAB1-4239-8DCB-8529B871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5125-1189-4019-963E-34B7EA0F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4406-279A-4892-A9DF-A32FB6C9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A4BF-CCC9-42BA-AC48-DABB8488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17E2-E042-4EC8-9A55-2444F9FE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08A9-5B66-4C37-B8AD-E4ACCDC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79F-0996-4162-B8A0-338975C8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A812-12FA-47AF-9191-22B1A36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4990-EBD6-4BD9-B30A-A73E8F8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11B8-0312-4FC8-B72D-943AC5B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D503-48FB-45C3-8A16-DCE1594A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9C8E-1572-4D2E-B934-E3B2CFB1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057-B7DD-43FE-9C96-58424D9A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AAD-D423-4BCA-A78D-57F6A45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CE1-AB33-4EE3-A2AE-D7B24280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860-BFDA-4B16-A391-FE910E9D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675-12D1-46D2-9BF1-B7DE4C11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153-5859-47E0-BF22-CFC8FF0D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0A5-3299-402C-9EBF-18DF03D7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64C3-1216-4BD8-9FEA-9FB6322962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279-A4A8-4B88-BA7B-EA5C8BD420D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Franklin Gothic Heavy"/>
              </a:rPr>
              <a:t>Трудности подросткового возраст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7" descr="1"/>
          <p:cNvPicPr/>
          <p:nvPr/>
        </p:nvPicPr>
        <p:blipFill>
          <a:blip r:embed="rId1"/>
          <a:stretch/>
        </p:blipFill>
        <p:spPr>
          <a:xfrm rot="20374200">
            <a:off x="539640" y="2636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1cda"/>
                </a:solidFill>
                <a:latin typeface="Garamond"/>
              </a:rPr>
              <a:t>СОВЕТЫ РОДИТЕЛЯМ: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СЛУШИВАЙТЕСЬ К МНЕНИЮ ПОДРОСТ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ИМАЙТЕ СВОИХ ДЕ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БЕЙТЕ  СВОИХ ДЕ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ВЕРЯЙТЕ И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ТАРАЙТЕСЬ БЫТЬ ДОБРЕ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ДАВИТЕ НА ПОДРОСТ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ЧИТАЙТЕ ЛИЧНЫЕ ЗАПИ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ВАЖАЙТЕ СВОЕГО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МОГАЙТЕ С ДОМАШНИМ ЗАДАНИ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НЬТЕ ЛУЧШИМ ДРУГ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НАДОЕДАЙТЕ С РАССПРОСАМИ, НЕ НАКАЗАВЫЙТЕ ЗА ОПОЗД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ОДИТЕ БОЛЬШЕ ВРЕМЕНИ С ДЕТЬ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СЛУШИВАЕТЕ ПРОБЛЕМЫ ДЕ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3d04"/>
                </a:solidFill>
                <a:latin typeface="Garamond"/>
              </a:rPr>
              <a:t>ЛЮБИТЕ СВОИХ ДЕТЕ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Picture 7" descr="52280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41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images (2)"/>
          <p:cNvPicPr/>
          <p:nvPr/>
        </p:nvPicPr>
        <p:blipFill>
          <a:blip r:embed="rId2"/>
          <a:stretch/>
        </p:blipFill>
        <p:spPr>
          <a:xfrm>
            <a:off x="5292720" y="2276640"/>
            <a:ext cx="32716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0df07"/>
                </a:solidFill>
                <a:latin typeface="Garamond"/>
              </a:rPr>
              <a:t>Наградой вам будут доверие, уважение и любовь.</a:t>
            </a:r>
            <a:br>
              <a:rPr sz="4000"/>
            </a:br>
            <a:r>
              <a:rPr b="1" lang="ru-RU" sz="4000" spc="-1" strike="noStrike">
                <a:solidFill>
                  <a:srgbClr val="d0df07"/>
                </a:solidFill>
                <a:latin typeface="Garamond"/>
              </a:rPr>
              <a:t> А это так важно…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5" descr="\\MICROSOF-05BCCC\User (D)\Семейная\Ирина\Анимашки\13 (1).gif"/>
          <p:cNvPicPr/>
          <p:nvPr/>
        </p:nvPicPr>
        <p:blipFill>
          <a:blip r:embed="rId1"/>
          <a:stretch/>
        </p:blipFill>
        <p:spPr>
          <a:xfrm>
            <a:off x="2484360" y="2349360"/>
            <a:ext cx="4464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ill Sans Ultra Bold Condensed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2aefa"/>
                </a:solidFill>
                <a:latin typeface="French Script MT"/>
              </a:rPr>
              <a:t>Подростковый возраст-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Это особенный и очень важный для дальнейшего становления личности возраст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это время происходит существенная перестройка всего организма подростка. Это период бурного, и в то же время неравномерного физического развития: ускоренно растет тело и изменяются его пропорции, совершенствуется мускульный аппарат. Это вызывает и некоторые психологические проявления – подросток осознает и переживает свою угловатость, несклад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Для подросткового возраста характерны раздражительность, вспыльчивость, повышенная возбудимость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Picture 7" descr="main-2131a51b3b1f59f85048087bfd6b3a7b"/>
          <p:cNvPicPr/>
          <p:nvPr/>
        </p:nvPicPr>
        <p:blipFill>
          <a:blip r:embed="rId1"/>
          <a:stretch/>
        </p:blipFill>
        <p:spPr>
          <a:xfrm>
            <a:off x="457200" y="2489040"/>
            <a:ext cx="4038480" cy="271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images"/>
          <p:cNvPicPr/>
          <p:nvPr/>
        </p:nvPicPr>
        <p:blipFill>
          <a:blip r:embed="rId2"/>
          <a:stretch/>
        </p:blipFill>
        <p:spPr>
          <a:xfrm>
            <a:off x="4643280" y="1916280"/>
            <a:ext cx="396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Franklin Gothic Medium"/>
              </a:rPr>
              <a:t>Соединение  бурной энергии и активности при недостаточной выдержке приводит, зачастую, к нежелательным поступкам, нарушениям дисциплины и даже правовым нарушения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6" descr="images (1)"/>
          <p:cNvPicPr/>
          <p:nvPr/>
        </p:nvPicPr>
        <p:blipFill>
          <a:blip r:embed="rId1"/>
          <a:stretch/>
        </p:blipFill>
        <p:spPr>
          <a:xfrm>
            <a:off x="4510080" y="620640"/>
            <a:ext cx="4103640" cy="252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1297455732_2"/>
          <p:cNvPicPr/>
          <p:nvPr/>
        </p:nvPicPr>
        <p:blipFill>
          <a:blip r:embed="rId2"/>
          <a:stretch/>
        </p:blipFill>
        <p:spPr>
          <a:xfrm rot="1989000">
            <a:off x="5162040" y="3452760"/>
            <a:ext cx="3313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3d04"/>
                </a:solidFill>
                <a:latin typeface="Garamond"/>
              </a:rPr>
              <a:t>ИМПУЛЬСИВНОСТЬ-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Georgia"/>
              </a:rPr>
              <a:t>Это особенность  поведения человека (в устойчивых формах – черта характера), заключающийся в склонности действовать по первому побуждению, под влиянием внешних обстоятельств или эмоци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1cda"/>
                </a:solidFill>
                <a:latin typeface="Garamond"/>
              </a:rPr>
              <a:t>Восемь «НЕТ!» для мамы с папой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запугивайте, не угрожайте ребенку-  полученное таким способом послушание подрывает веру ребенка в себя и вашу любов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прибегайте к насилию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провоцируйте, не шантажируйте, не подкупайте ребенка – вы даете тем самым ему наглядный урок манипулирования людьми и чувства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064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Не сравнивайте ребенка с другими – принимайте его таким, какой он е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Не сдерживайте своих чувств – старайтесь следовать при этом принципу «здесь и сейчас», выраженные потом или авансом, редко оказываются подлинны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6. Не замалчивайте проблемы и конфликты – высказывайте сами и непременно выслушайте дет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7. Не приносите жертв- ребенку не может быть хорошо, если плохо ва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8. Не отвергайте ребенка, как бы тяжело он ни провинил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ем подросток отличается от взрослого человек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тственн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рах за дет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веренн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аведлив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рог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емь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7" descr="6"/>
          <p:cNvPicPr/>
          <p:nvPr/>
        </p:nvPicPr>
        <p:blipFill>
          <a:blip r:embed="rId1"/>
          <a:stretch/>
        </p:blipFill>
        <p:spPr>
          <a:xfrm rot="1436400">
            <a:off x="4211280" y="177336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Трудно ли быть подростком?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удно, т.к. часто меняется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росток очень раздражите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няется поведение, споры со старши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удно, всегда надо, что то дел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3"/>
          <p:cNvPicPr/>
          <p:nvPr/>
        </p:nvPicPr>
        <p:blipFill>
          <a:blip r:embed="rId1"/>
          <a:stretch/>
        </p:blipFill>
        <p:spPr>
          <a:xfrm>
            <a:off x="5940360" y="1557360"/>
            <a:ext cx="3024360" cy="17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podrostok-strogo-po-pravilam"/>
          <p:cNvPicPr/>
          <p:nvPr/>
        </p:nvPicPr>
        <p:blipFill>
          <a:blip r:embed="rId2"/>
          <a:stretch/>
        </p:blipFill>
        <p:spPr>
          <a:xfrm rot="1230000">
            <a:off x="5219280" y="3573360"/>
            <a:ext cx="3384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4:07:11Z</dcterms:created>
  <dc:creator>user123</dc:creator>
  <dc:description/>
  <dc:language>en-US</dc:language>
  <cp:lastModifiedBy>Иван</cp:lastModifiedBy>
  <dcterms:modified xsi:type="dcterms:W3CDTF">2020-11-09T10:51:00Z</dcterms:modified>
  <cp:revision>4</cp:revision>
  <dc:subject/>
  <dc:title>Трудности подросткового возраста</dc:title>
</cp:coreProperties>
</file>