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553-FE61-43E8-A8DE-2C85EF42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C0E-73C1-4131-9EF0-6FBB0C29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2893-2C46-4508-BEA8-61179264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2B5-D6C5-4598-85C2-6E61C911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86A7-41CC-4719-8C4F-A9067033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6468-A9B7-411B-AEA2-8C03987F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693-B854-4F4F-92F7-F833BC7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57B3-27EA-4002-BE8A-67AD6058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3E81-E940-4A24-B6C5-635674F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ADCC-EF46-4364-B8C8-7ED624C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600-FA49-4E56-89A1-0A8B1953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A96-7080-4DA5-BC5F-808C4BC8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B72E-49EB-4292-B456-494B09B0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3E2B-9631-4535-9E95-FED5DF4A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2504-0DB2-4363-879C-11D9EE4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6FD0-0E63-44F8-A128-26F33811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FB53-11E2-46A6-824B-DCD8104A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C7E-9F25-4452-BEF3-066E8A6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A90-1154-411C-A442-A2C320A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45D-347A-43B2-AE15-AA2D80D8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80D-0AA4-44E5-AF39-69845D8B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6A6-1CF7-4666-93A2-3277A2D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D6D-0FD2-4E96-B9F1-E5F48D62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1A5-611E-4FD1-8AD3-8B0722F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30E5-71C0-4400-BED3-8718DA1501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47E8-333A-4CBA-839E-153F5C6F716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Franklin Gothic Heavy"/>
              </a:rPr>
              <a:t>Трудности подросткового возраст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7" descr="1"/>
          <p:cNvPicPr/>
          <p:nvPr/>
        </p:nvPicPr>
        <p:blipFill>
          <a:blip r:embed="rId1"/>
          <a:stretch/>
        </p:blipFill>
        <p:spPr>
          <a:xfrm rot="20374200">
            <a:off x="539640" y="2636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1cda"/>
                </a:solidFill>
                <a:latin typeface="Garamond"/>
              </a:rPr>
              <a:t>СОВЕТЫ РОДИТЕЛЯМ: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СЛУШИВАЙТЕСЬ К МНЕНИЮ ПОДРОСТ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ИМАЙТЕ СВОИХ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ЕЙТЕ  СВОИХ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ВЕРЯЙТЕ 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ТАРАЙТЕСЬ БЫТЬ ДОБРЕ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ДАВИТЕ НА ПОДРОСТ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ЧИТАЙТЕ ЛИЧНЫЕ ЗАПИ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ВАЖАЙТЕ СВОЕГО РЕБЕН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МОГАЙТЕ С ДОМАШНИМ ЗАДАНИ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АНЬТЕ ЛУЧШИМ ДРУГ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АДОЕДАЙТЕ С РАССПРОСАМИ, НЕ НАКАЗАВЫЙТЕ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ОДИТЕ БОЛЬШЕ ВРЕМЕНИ С ДЕТЬ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СЛУШИВАЕТЕ ПРОБЛЕМЫ ДЕ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3d04"/>
                </a:solidFill>
                <a:latin typeface="Garamond"/>
              </a:rPr>
              <a:t>ЛЮБИТЕ СВОИХ ДЕТЕ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Picture 7" descr="52280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images (2)"/>
          <p:cNvPicPr/>
          <p:nvPr/>
        </p:nvPicPr>
        <p:blipFill>
          <a:blip r:embed="rId2"/>
          <a:stretch/>
        </p:blipFill>
        <p:spPr>
          <a:xfrm>
            <a:off x="5292720" y="2276640"/>
            <a:ext cx="32716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0df07"/>
                </a:solidFill>
                <a:latin typeface="Garamond"/>
              </a:rPr>
              <a:t>Наградой вам будут доверие, уважение и любовь.</a:t>
            </a:r>
            <a:br>
              <a:rPr sz="4000"/>
            </a:br>
            <a:r>
              <a:rPr b="1" lang="ru-RU" sz="4000" spc="-1" strike="noStrike">
                <a:solidFill>
                  <a:srgbClr val="d0df07"/>
                </a:solidFill>
                <a:latin typeface="Garamond"/>
              </a:rPr>
              <a:t> А это так важно…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5" descr="\\MICROSOF-05BCCC\User (D)\Семейная\Ирина\Анимашки\13 (1).gif"/>
          <p:cNvPicPr/>
          <p:nvPr/>
        </p:nvPicPr>
        <p:blipFill>
          <a:blip r:embed="rId1"/>
          <a:stretch/>
        </p:blipFill>
        <p:spPr>
          <a:xfrm>
            <a:off x="2484360" y="2349360"/>
            <a:ext cx="44640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Gill Sans Ultra Bold Condensed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aefa"/>
                </a:solidFill>
                <a:latin typeface="French Script MT"/>
              </a:rPr>
              <a:t>Подростковый возраст-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то особенный и очень важный для дальнейшего становления личности возраст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это время происходит существенная перестройка всего организма подростка. Это период бурного, и в то же время неравномерного физического развития: ускоренно растет тело и изменяются его пропорции, совершенствуется мускульный аппарат. Это вызывает и некоторые психологические проявления – подросток осознает и переживает свою угловатость, нескладнос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Для подросткового возраста характерны раздражительность, вспыльчивость, повышенная возбудимость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Picture 7" descr="main-2131a51b3b1f59f85048087bfd6b3a7b"/>
          <p:cNvPicPr/>
          <p:nvPr/>
        </p:nvPicPr>
        <p:blipFill>
          <a:blip r:embed="rId1"/>
          <a:stretch/>
        </p:blipFill>
        <p:spPr>
          <a:xfrm>
            <a:off x="457200" y="2489040"/>
            <a:ext cx="4038480" cy="271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ages"/>
          <p:cNvPicPr/>
          <p:nvPr/>
        </p:nvPicPr>
        <p:blipFill>
          <a:blip r:embed="rId2"/>
          <a:stretch/>
        </p:blipFill>
        <p:spPr>
          <a:xfrm>
            <a:off x="4643280" y="1916280"/>
            <a:ext cx="396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Franklin Gothic Medium"/>
              </a:rPr>
              <a:t>Соединение  бурной энергии и активности при недостаточной выдержке приводит, зачастую, к нежелательным поступкам, нарушениям дисциплины и даже правовым нарушения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images (1)"/>
          <p:cNvPicPr/>
          <p:nvPr/>
        </p:nvPicPr>
        <p:blipFill>
          <a:blip r:embed="rId1"/>
          <a:stretch/>
        </p:blipFill>
        <p:spPr>
          <a:xfrm>
            <a:off x="4510080" y="620640"/>
            <a:ext cx="4103640" cy="252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1297455732_2"/>
          <p:cNvPicPr/>
          <p:nvPr/>
        </p:nvPicPr>
        <p:blipFill>
          <a:blip r:embed="rId2"/>
          <a:stretch/>
        </p:blipFill>
        <p:spPr>
          <a:xfrm rot="1989000">
            <a:off x="5162040" y="3452760"/>
            <a:ext cx="3313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3d04"/>
                </a:solidFill>
                <a:latin typeface="Garamond"/>
              </a:rPr>
              <a:t>ИМПУЛЬСИВНОСТЬ-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Georgia"/>
              </a:rPr>
              <a:t>Это особенность  поведения человека (в устойчивых формах – черта характера), заключающийся в склонности действовать по первому побуждению, под влиянием внешних обстоятельств или эмоци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41cda"/>
                </a:solidFill>
                <a:latin typeface="Garamond"/>
              </a:rPr>
              <a:t>Восемь «НЕТ!» для мамы с папо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запугивайте, не угрожайте ребенку-  полученное таким способом послушание подрывает веру ребенка в себя и вашу любов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рибегайте к насили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провоцируйте, не шантажируйте, не подкупайте ребенка – вы даете тем самым ему наглядный урок манипулирования людьми и чувствам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064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Не сравнивайте ребенка с другими – принимайте его таким, какой он есть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Не сдерживайте своих чувств – старайтесь следовать при этом принципу «здесь и сейчас», выраженные потом или авансом, редко оказываются подлинным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. Не замалчивайте проблемы и конфликты – высказывайте сами и непременно выслушайте дет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7. Не приносите жертв- ребенку не может быть хорошо, если плохо ва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8. Не отвергайте ребенка, как бы тяжело он ни провинил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ем подросток отличается от взрослого человек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ствен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рах за дет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веренн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аведливы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рогос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емь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6"/>
          <p:cNvPicPr/>
          <p:nvPr/>
        </p:nvPicPr>
        <p:blipFill>
          <a:blip r:embed="rId1"/>
          <a:stretch/>
        </p:blipFill>
        <p:spPr>
          <a:xfrm rot="1436400">
            <a:off x="4211280" y="1773360"/>
            <a:ext cx="345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Трудно ли быть подростком?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удно, т.к. часто меняется настро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росток очень раздражите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няется поведение, споры со старши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удно, всегда надо, что то дел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3"/>
          <p:cNvPicPr/>
          <p:nvPr/>
        </p:nvPicPr>
        <p:blipFill>
          <a:blip r:embed="rId1"/>
          <a:stretch/>
        </p:blipFill>
        <p:spPr>
          <a:xfrm>
            <a:off x="5940360" y="1557360"/>
            <a:ext cx="3024360" cy="17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podrostok-strogo-po-pravilam"/>
          <p:cNvPicPr/>
          <p:nvPr/>
        </p:nvPicPr>
        <p:blipFill>
          <a:blip r:embed="rId2"/>
          <a:stretch/>
        </p:blipFill>
        <p:spPr>
          <a:xfrm rot="1230000">
            <a:off x="5219280" y="3573360"/>
            <a:ext cx="3384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07:11Z</dcterms:created>
  <dc:creator>user123</dc:creator>
  <dc:description/>
  <dc:language>en-US</dc:language>
  <cp:lastModifiedBy>Иван</cp:lastModifiedBy>
  <dcterms:modified xsi:type="dcterms:W3CDTF">2020-11-09T10:51:00Z</dcterms:modified>
  <cp:revision>4</cp:revision>
  <dc:subject/>
  <dc:title>Трудности подросткового возраста</dc:title>
</cp:coreProperties>
</file>