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DFE-EC92-4A58-BD5C-984EEA22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EA1-A034-465B-B5BD-EAEEFAB5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834-4315-426A-98AE-EC1FB689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A39-82AD-41A2-8F26-E87D0785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6534-283D-4A34-8A76-C7346A11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49CE-D184-459B-86C7-D2E19E33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BF46-039F-47CA-A25C-F8D56015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39C2-4560-4BEE-A848-F80629F5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F4DF-17DA-4862-908E-A10B96C7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7467-DFD7-4793-8F5D-44EB93A8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C03E-01B9-4077-83A5-FC65D650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167-5D53-47A3-8AFF-89675696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24AB-D382-468F-901B-B7FAD483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78E9-134D-4911-83E1-84124B8C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8B3D-69D6-4DC7-8EBF-7EF7C7DA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7CF7-990D-4E85-A5F1-F7659AE8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9A5C-B720-419F-B101-735B7ACE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F9394-8F2C-4158-960E-04D2FCA3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B6062-E2D2-4AB0-BF89-87411A0B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84D94-5A6D-4231-8603-74ABC8DB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F286B-ED24-43BB-A452-D4A488A5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20FEA-9345-40B1-BEDF-1353B40D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1CFC-57E6-46AA-BB24-E199CA41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68F44-1E31-4B13-B914-FFD9BB32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E4400-8364-435F-BF1F-C3D9E25D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E4E0C-AB41-4BCA-8FA1-2A9C8B9D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7B791-7C55-49D6-BD00-B3759C7E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BDC68-7E91-4A6B-8F51-A3EAA2B3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8E374-9069-46C8-8A97-AAA560E8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2DEEE-E5FD-4AC0-B43A-EEDF7138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5473B-0927-43DF-9308-3F15F641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06CC1-A9F3-4106-8083-D33A71BD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64E96-1673-4198-AB86-51152BC9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291A-C4F0-4283-83D1-BA0DCA3C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C7230-BCE6-4A83-929E-4AF3CBB0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D2577-2819-4C76-83F7-DAA1A415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9363F-5629-4BC7-94B1-9359707C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8D3F0-EBE4-4749-B2F9-4CE2A197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0D1CC-DC53-436C-A0CC-AB8E141D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12FE0-B529-4229-8C93-A3AF1F01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D4269-FFD7-44A8-928B-B2060AAC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01107-3ACA-488E-86E2-96CC3EF3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77D01-10B8-41C6-8C12-78EDB122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41E17-285B-403B-BD74-67D31B59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50F-818A-4AC8-85EF-6CA5A93A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4AA4FA-9D84-4799-8A87-0B235FF0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FB38C-550D-48F6-9B01-DEA6AF80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FC292-07B5-42F9-AC14-01423537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83FAB-8C68-49F8-B06D-F6D5A56B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A11552-86C9-478C-BB07-9F8DAB65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86DF8-4F0A-46F3-B695-E08D8244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6721F-510A-44B4-BE3E-1AF22686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9322D-9A23-4F4F-8470-0856B926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33D18-BFA3-4CAA-964B-29C18A4D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0C357F-143B-4590-A02E-F913C367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B1C-9CC0-418A-8382-0C43A434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B8CF2-5F4D-4090-8D2D-9833C462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0EA22-4D7F-4DCA-BAB8-2E7EF289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9DAB6-BCBC-4DE3-A288-4BD475C9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DF9B5-881C-41AB-AD3A-882ECD9A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5BF74-88F2-45D4-A5A3-92899B1F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6A6BEE-1461-4E40-BE3D-119261A7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0B0E9E-AD50-402A-AA1E-C0D1B3A9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8D983-3DA7-44E1-9557-158358C1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E514B-447A-4279-A5B0-61E395BA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9D77D-F67D-497F-8C5B-DB24F3D0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17F-F582-4E67-8962-872AA080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F0622-7BC7-432C-8FE4-174FFCD9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132301-77D7-484F-A2A9-1A4685F4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44704A-E41E-4F40-B361-B46B9EB4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2EFDB1-CC03-48A4-9BBA-76B28308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1728AD-6528-4CEA-9E64-0C832BC2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B78E3F-C7F9-4322-850F-F17F9257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1ABE0-7A67-4244-937C-7268C012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7699B0-DB4A-4C5D-9B61-E92B2E0E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DEFA9-F4D9-4F16-A58A-EF6F9CDF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C2DD6-1720-495E-BDAF-F2B8DBFF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89A-65F6-463D-8CE9-0464A3B4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408521-84E0-43E0-A0FD-9FB86F14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934A49-4C2E-437B-A526-D84210E7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E6AA3-1902-4609-9176-1F6024FA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80EB4-6EE2-45C4-8996-11AC6E86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F67E4-A936-4232-862C-51E28DF2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468-8BF2-4D38-A650-8D6FA926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1B24-639B-42C2-9172-D164D34D0F7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4B5B-E82F-47C9-B07F-7D137C8872A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F4A0-9AEE-4355-9374-B69D6BFE948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622C-6970-4515-88F2-A527E61F3F9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E8DD-3A62-405D-9F24-0568E3D1961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1CEB-0606-4EAE-952E-877FD6A5718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43D5-00F9-478A-BAFC-0BA78A9A815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a-kantata.ru/sutochnyie-biologicheskie-ritmyi-spim-nochyu/" TargetMode="External"/><Relationship Id="rId2" Type="http://schemas.openxmlformats.org/officeDocument/2006/relationships/hyperlink" Target="http://sna-kantata.ru/snyatsya-li-detyam-snyi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856800"/>
            <a:ext cx="61722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НЯТИЕ С ЭЛЕМЕНТАМИ ТРЕНИНГА ДЛЯ УЧАЩИХСЯ</a:t>
            </a:r>
            <a:br>
              <a:rPr sz="3000"/>
            </a:b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11-ГО КЛАССА "ПСИХОЛОГИЧЕСКАЯ ПОДГОТОВКА К ЕГЭ"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214600"/>
            <a:ext cx="617220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С  МОУ СОШ № 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99840" y="428400"/>
            <a:ext cx="61722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КОМЕНДАЦИИ ПРИ ПОДГОТОВКИ ЕГЭ</a:t>
            </a:r>
            <a:br>
              <a:rPr sz="27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2285640" y="1428840"/>
            <a:ext cx="617220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й режим жизнедеятельности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ай и ложись, принимай пищу, трудись и отдыхай в одно и то же врем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величивай время подготовки к экзаменам за счет с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й в пищу фрукты и овощи, каши, молочные продукты, рыбу, птицу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 используй периоды устойчивой работоспособности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0.00 до 13.00 и с 17.00 до 20.0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й паузы: 10 минут отдыха каждые 45 минут работы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й роль спокойного, уверенного в себе человек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 словами «Все будет хорошо!» окружающих тебя людей:  родителей, педагогов, однокласснико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5640" y="499680"/>
            <a:ext cx="61722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СТ НА ОПРЕДЕЛЕНИЕ ВЕДУЩЕГО, ЛЕВОГО ИЛИ ПРАВОГО ПОЛУШАРИЯ МОЗГА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286000" y="2000160"/>
            <a:ext cx="65721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четыре несложные манипуляц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плетите пальцы рук. Какой палец оказался сверху: правой или левой руки? Запишите результат — Л или 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делайте в листе бумаги небольшое отверстие и посмотрите сквозь него двумя глазами на какой-либо предмет. Поочередно закрывайте то один глаз, то другой. Предмет смещается, если вы закрыли правый глаз или левый? Запишите результа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5640" y="2142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СТ НА ОПРЕДЕЛЕНИЕ ВЕДУЩЕГО, ЛЕВОГО ИЛИ ПРАВОГО ПОЛУШАРИЯ МОЗГ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356920" y="2071800"/>
            <a:ext cx="62154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четыре несложные манипуляц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аньте в «позу Наполеона», скрестив руки на груди. Какая рука оказалась сверху: запишите результа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пробуйте изобразить бурные аплодисменты. Какая ладонь сверху. Запишите результа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 ГОЛУБЬ, ЖАВОРОНОК  ИЛИ СОВА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2285640" y="1428840"/>
            <a:ext cx="617220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с одной из многочисленных теорий, биологические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/>
              </a:rPr>
              <a:t>ритмы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скаются в организме человека в момент рождения и только в исключительных случаях претерпевают изменение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аворонки» — с 4:00 до 11:00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вы» — с 16:00 до 24:00, именно в эти часы у них наблюдается подъем работоспособности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луби» — с 11:00 до 16:00 и с 00:00 до 4:00, этим людям легко подстраиваться под любой ритм и стиль жизн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эта теория «работает» в большей степени для определения биоритмов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2"/>
              </a:rPr>
              <a:t>ребенка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74674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СИХОЛОГИЧЕСКИЙ ТЕСТ ОСТБЕРГА (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ЫЙ</a:t>
            </a:r>
            <a:r>
              <a:rPr b="0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: КТО ВЫ???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ам по утрам трудно просыпаться: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, почти постоянно (3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ногда (2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редко (1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чень редко (0).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какое время вы предпочтете ложиться спать при возможности выбора: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очью, после 01:00 (3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23:00 01:00 (2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22:00 23:00 (1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до 22:00 (0)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втрак, предпочитаемый Вами в первый час после подъема: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лотный (0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 очень плотный (1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огу ограничиться одним вареным яйцом (2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мне достаточно чашки кофе или чая (3).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какое время чаще всего у Вас случаются возможные размолвки и конфликты дома и на работе?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первую половину дня (1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о вторую половину дня (о)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СИХОЛОГИЧЕСКИЙ ТЕСТ ОСТБЕРГА (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ЫЙ</a:t>
            </a: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: КТО ВЫ??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 легко откажетесь: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т утреннего кофе или чая (2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т чая или кофе вечером (0).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очность отсчитывания времени для 1 минуты: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 меня получается меньше минуты (0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я отсчитываю больше минуты (2)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о время поездок и отпуска Вы легко изменяете своим привычкам, связанным с едой?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чень легко (0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без особых проблем (1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 трудом (2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икогда не меняю (3).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ам предстоят утром важные мероприятия, насколько раньше Вы ляжете спать: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больше, чем на 2 часа (3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лягу на 1-2 часа раньше (2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енее часа (1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лягу как обычно (0)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5640" y="428760"/>
            <a:ext cx="6172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СИХОЛОГИЧЕСКИЙ ТЕСТ ОСТБЕРГА (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ЫЙ</a:t>
            </a: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: КТО ВЫ???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285640" y="2857680"/>
            <a:ext cx="61722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ТО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аллы суммируются по всем вопросам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0-7 - баллов испытуемый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воронк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3  - балло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4-20  - балло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5640" y="428400"/>
            <a:ext cx="61722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МОДЕЛЬ УСПЕШНОЙ СДАЧИ ЭКЗАМЕНА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2285640" y="2285640"/>
            <a:ext cx="617220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пался.  Правильно! позавтракал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т на экзамен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 конверт с заданием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получает доступ к ресурсам памят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ет четкие ответы на вопрос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чего уверенно, и со знанием дела, все     проверяет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ет работу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 желаемую оценку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СТ О ПРАВИЛАХ И ПРОЦЕДУРЕ ЕГЭ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 Чем нельзя пользоваться на экзамене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обильным телефоно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Гелевой ручко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Тестовым материалом (КИМ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2 На экзамен необходимо принест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чебник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аспорт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ерсональный компьютер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3 При нарушении требований, предусмотренных правилами проведения экзамена, учащий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стает в уго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даляется с экзаме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латит штраф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4. Для выхода из аудитории во время экзамена необходимо обратить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 организатор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 президенту РФ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 друг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СТ О ПРАВИЛАХ И ПРОЦЕДУРЕ ЕГЭ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5 Во избежание ошибок лучше сначала записать номера ответов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 ладон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 полях бланк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На черновике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6 После выполнения задания группы «А» необходимо выбрать номер правильного ответа и поставить в клеточку с номером правильного ответа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алочку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Звездочку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рестик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7 Если при заполнении бланков у учащегося возникнет какое-либо сомнение, то надо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Хлопнуть в ладош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опнуть ногой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днять руку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8  Для подачи апелляции необходимо обратить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 ответственному организатору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 дежурному по этажу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 министру образования РФ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5640" y="500040"/>
            <a:ext cx="6172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ПРАЖНЕНИЕ – ДИСКУССИЯ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285640" y="2285640"/>
            <a:ext cx="617220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юсы и минусы в поведении во время экзамена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осредоточиться во время экзамена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бежать неудачи во время экзамен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0:20:56Z</dcterms:created>
  <dc:creator>User</dc:creator>
  <dc:description/>
  <dc:language>en-US</dc:language>
  <cp:lastModifiedBy>User</cp:lastModifiedBy>
  <dcterms:modified xsi:type="dcterms:W3CDTF">2016-03-02T08:08:41Z</dcterms:modified>
  <cp:revision>13</cp:revision>
  <dc:subject/>
  <dc:title>Занятие с элементами тренинга для учащихся  11-го класса "Психологическая подготовка к ЕГЭ" </dc:title>
</cp:coreProperties>
</file>