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085-CB90-43C8-A9A5-81A75E82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244-452E-42D7-81D7-42FFE1A9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324-E438-4A30-A564-C5DD251B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C75-6DAF-496F-A30D-5F62E1ED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6742-23B5-4FF0-9146-8E010CAB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B8B0-8FB3-43D0-90DA-E6E822BF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C844-1710-4E93-8E03-1F5451F2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68DF-3928-4E7A-BC9E-BD2CDC98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F605-64CB-46A4-B29D-18276A84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12CC-FBA7-4203-B2B4-6997C86B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131B-B1F7-4F33-8CCD-2FD66344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4EF-BD46-4C23-9268-1264234A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300F-EA52-4464-82A8-AEEFCFF0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42A4-80FE-4D0B-AC7B-542CDD92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B97D-919F-42BE-96E2-1B5092CA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2FC5-B955-48A2-A94E-0C64A1F4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1831-391F-49DA-BB2C-C2EC390E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53DC3-B1C8-4F1E-83FE-D9509740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E044E-666E-429F-8AEA-B30A440E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649B3-998F-4971-BB99-8D003877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BF5419-7436-4F5C-82FA-C1ED9A35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1A387-1CFB-4FD3-AB3A-B2C3785F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792-ECCF-4638-B23D-F67CC03D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76E6A-7156-43C5-8189-9B9F7711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1B28A-DD0A-44B4-850D-5A03B7AB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8CD5D-70BF-444B-BC8F-3866A334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13EDA-2237-422D-87C1-E749879A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F89DA-62EB-46AA-8E8D-A005BC75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D7A05-20A9-41BF-86FA-5E476A9F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78EBF-BD39-4D01-991F-1C19579E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B4742-5F29-47BC-8CA4-6C7E4399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21914-9067-4C34-A5F5-CF9AF841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359FE-BEA9-4D71-A9A9-D0B27738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A216-8FE5-4B74-B151-1EE3BDFF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5078C-049B-4799-A32A-640A2350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A4E01-52D6-481E-AD14-874B110B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94B4D-05B1-4F33-810C-A4D87E57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8EC2A-C9CF-428D-AD92-E453DB28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9DD27-8D48-4B02-B0A1-AA041244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91B72-8A9B-48E5-9BBD-FD797E70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AE6D1-4112-4123-A0D3-1A80B096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D5223-7226-4422-A1FD-FD00D126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943A3-3EEE-4068-B65C-E720347C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CD3DF1-214D-4B09-878C-466DF690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B2E-1185-451B-9333-2965C470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99BE00-F528-4CD5-A18C-00369235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50CFE6-9402-4773-8F60-1C365AE7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E798EF-D97A-479D-AF6F-B0EEB6C2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7F0727-8140-495B-B326-5CCAF7CD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510C82-2982-4813-9E8A-4306C4EA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92273E-4325-4A76-B6E2-C8708EF3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3FB30C-1E3B-4E0A-BA17-DC636186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C92C0-1E72-4250-B1FE-9B51539B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71983C-16A0-4436-A79F-BBF3E34A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1A3F58-86D8-4D8E-8F21-A1920E0D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DAB-0B49-4116-8903-B9F1492D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06143C-1FEC-4924-AB1C-BA3B1F78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7E81FE-4345-492B-9728-C7F0BB2B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B5144C-B959-471F-8DB4-5037422B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D56A95-57CB-46FC-819B-5D72B7CE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9392A2-9C8E-46F1-8157-74E780F2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3D63DA-779B-46E1-9BE2-539C2D9B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6E8594-0F25-4AA6-961C-9C6D5616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460B9D-213C-4DE8-BAF8-B13248EE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FA2E8F-4D45-44AA-87F7-11D3E3F2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1CBEF-B970-4F72-8C60-6CC980FF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581-32BA-4119-8512-492C4378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11F6C-9FDA-4699-8C69-803CF9C4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C19AFB-192A-47A1-A6FA-EB5B2B4F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F663E9-97A1-4D62-BE89-A953943F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C4B350-A453-4C1C-870B-D81CD66B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37E370-54E3-4C09-8912-8AC8466A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BA6CD3-7C33-4A0E-A99A-C8561526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521761-7788-4872-87D3-088C105A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613EF-9D08-44DE-90F5-1D1CA865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F7CA8B-97ED-4B38-808F-C0A9DE16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F97D02-BFEF-43F9-8172-E628DBF1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1CE6-7349-4B05-93C7-9FC2033E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0E2CD8-B92E-4F8F-8ED6-F6632864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366E8-1A4D-4E2B-9319-15DBB165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E05A47-08AA-4D85-94FC-D67FC346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0A6FC2-1FDF-44B2-90AD-779732A8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698391-4C31-428E-B93E-88EDFACB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922E-C3CF-4D17-9C4E-8D4D2EF5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8877-A55E-48EB-AA8F-53F9843DBD7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BE09-9A99-418B-8AC0-168F96F6B6F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88DB-57BC-4DF0-B0F7-204F89D332D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633E-445E-4FD1-8F93-DEDFFE9674C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B16D-3EF8-4375-AA84-A3A6954D86D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A508-DA18-4F82-A524-191D60FA8D0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4E23-B2D9-436D-B82D-8CD92E9B45E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a-kantata.ru/sutochnyie-biologicheskie-ritmyi-spim-nochyu/" TargetMode="External"/><Relationship Id="rId2" Type="http://schemas.openxmlformats.org/officeDocument/2006/relationships/hyperlink" Target="http://sna-kantata.ru/snyatsya-li-detyam-snyi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856800"/>
            <a:ext cx="617220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НЯТИЕ С ЭЛЕМЕНТАМИ ТРЕНИНГА ДЛЯ УЧАЩИХСЯ</a:t>
            </a:r>
            <a:br>
              <a:rPr sz="3000"/>
            </a:b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11-ГО КЛАССА "ПСИХОЛОГИЧЕСКАЯ ПОДГОТОВКА К ЕГЭ"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214600"/>
            <a:ext cx="6172200" cy="11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С  МОУ СОШ № 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99840" y="428400"/>
            <a:ext cx="61722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КОМЕНДАЦИИ ПРИ ПОДГОТОВКИ ЕГЭ</a:t>
            </a:r>
            <a:br>
              <a:rPr sz="27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2285640" y="1428840"/>
            <a:ext cx="617220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й режим жизнедеятельности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ай и ложись, принимай пищу, трудись и отдыхай в одно и то же врем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величивай время подготовки к экзаменам за счет с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яй в пищу фрукты и овощи, каши, молочные продукты, рыбу, птицу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 используй периоды устойчивой работоспособности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0.00 до 13.00 и с 17.00 до 20.0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й паузы: 10 минут отдыха каждые 45 минут работы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й роль спокойного, уверенного в себе человек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 словами «Все будет хорошо!» окружающих тебя людей:  родителей, педагогов, однокласснико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5640" y="499680"/>
            <a:ext cx="61722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СТ НА ОПРЕДЕЛЕНИЕ ВЕДУЩЕГО, ЛЕВОГО ИЛИ ПРАВОГО ПОЛУШАРИЯ МОЗГА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286000" y="2000160"/>
            <a:ext cx="65721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четыре несложные манипуляци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плетите пальцы рук. Какой палец оказался сверху: правой или левой руки? Запишите результат — Л или П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делайте в листе бумаги небольшое отверстие и посмотрите сквозь него двумя глазами на какой-либо предмет. Поочередно закрывайте то один глаз, то другой. Предмет смещается, если вы закрыли правый глаз или левый? Запишите результа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5640" y="2142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СТ НА ОПРЕДЕЛЕНИЕ ВЕДУЩЕГО, ЛЕВОГО ИЛИ ПРАВОГО ПОЛУШАРИЯ МОЗГ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356920" y="2071800"/>
            <a:ext cx="62154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четыре несложные манипуляци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таньте в «позу Наполеона», скрестив руки на груди. Какая рука оказалась сверху: запишите результа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пробуйте изобразить бурные аплодисменты. Какая ладонь сверху. Запишите результа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 ГОЛУБЬ, ЖАВОРОНОК  ИЛИ СОВА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2285640" y="1428840"/>
            <a:ext cx="617220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с одной из многочисленных теорий, биологические</a:t>
            </a: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1"/>
              </a:rPr>
              <a:t>ритмы</a:t>
            </a: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ускаются в организме человека в момент рождения и только в исключительных случаях претерпевают изменение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аворонки» — с 4:00 до 11:00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вы» — с 16:00 до 24:00, именно в эти часы у них наблюдается подъем работоспособности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олуби» — с 11:00 до 16:00 и с 00:00 до 4:00, этим людям легко подстраиваться под любой ритм и стиль жизн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эта теория «работает» в большей степени для определения биоритмов</a:t>
            </a: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2"/>
              </a:rPr>
              <a:t>ребенка</a:t>
            </a:r>
            <a:r>
              <a:rPr b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74674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СИХОЛОГИЧЕСКИЙ ТЕСТ ОСТБЕРГА (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ЫЙ</a:t>
            </a:r>
            <a:r>
              <a:rPr b="0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: КТО ВЫ???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ам по утрам трудно просыпаться: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а, почти постоянно (3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ногда (2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редко (1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чень редко (0).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какое время вы предпочтете ложиться спать при возможности выбора: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очью, после 01:00 (3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23:00 01:00 (2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 22:00 23:00 (1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до 22:00 (0)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втрак, предпочитаемый Вами в первый час после подъема: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лотный (0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е очень плотный (1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могу ограничиться одним вареным яйцом (2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мне достаточно чашки кофе или чая (3).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какое время чаще всего у Вас случаются возможные размолвки и конфликты дома и на работе?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 первую половину дня (1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о вторую половину дня (о)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СИХОЛОГИЧЕСКИЙ ТЕСТ ОСТБЕРГА (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ЫЙ</a:t>
            </a: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: КТО ВЫ??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ы легко откажетесь: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т утреннего кофе или чая (2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т чая или кофе вечером (0).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очность отсчитывания времени для 1 минуты: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 меня получается меньше минуты (0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я отсчитываю больше минуты (2)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о время поездок и отпуска Вы легко изменяете своим привычкам, связанным с едой?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чень легко (0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без особых проблем (1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 трудом (2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никогда не меняю (3).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ам предстоят утром важные мероприятия, насколько раньше Вы ляжете спать: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больше, чем на 2 часа (3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лягу на 1-2 часа раньше (2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менее часа (1), 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лягу как обычно (0)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5640" y="428760"/>
            <a:ext cx="6172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СИХОЛОГИЧЕСКИЙ ТЕСТ ОСТБЕРГА (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ЫЙ</a:t>
            </a: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: КТО ВЫ???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2285640" y="2857680"/>
            <a:ext cx="61722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ТОГ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аллы суммируются по всем вопросам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0-7 - баллов испытуемый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воронк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13  - баллов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4-20  - баллов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5640" y="428400"/>
            <a:ext cx="61722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МОДЕЛЬ УСПЕШНОЙ СДАЧИ ЭКЗАМЕНА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2285640" y="2285640"/>
            <a:ext cx="617220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пался.  Правильно! позавтракал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ит на экзамен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т конверт с заданием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получает доступ к ресурсам памят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ет четкие ответы на вопросы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чего уверенно, и со знанием дела, все     проверяет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ает работу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т желаемую оценку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СТ О ПРАВИЛАХ И ПРОЦЕДУРЕ ЕГЭ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 Чем нельзя пользоваться на экзамене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обильным телефоно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Гелевой ручко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Тестовым материалом (КИМ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2 На экзамен необходимо принест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чебник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аспорт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ерсональный компьютер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3 При нарушении требований, предусмотренных правилами проведения экзамена, учащийс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стает в уго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даляется с экзамен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латит штраф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4. Для выхода из аудитории во время экзамена необходимо обратитьс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 организатор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 президенту РФ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 друг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СТ О ПРАВИЛАХ И ПРОЦЕДУРЕ ЕГЭ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5 Во избежание ошибок лучше сначала записать номера ответов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 ладон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а полях бланк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На черновике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6 После выполнения задания группы «А» необходимо выбрать номер правильного ответа и поставить в клеточку с номером правильного ответа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Галочку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Звездочку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рестик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7 Если при заполнении бланков у учащегося возникнет какое-либо сомнение, то надо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Хлопнуть в ладош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опнуть ногой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однять руку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8  Для подачи апелляции необходимо обратить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 ответственному организатору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 дежурному по этажу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 министру образования РФ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5640" y="500040"/>
            <a:ext cx="6172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ПРАЖНЕНИЕ – ДИСКУССИЯ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2285640" y="2285640"/>
            <a:ext cx="617220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юсы и минусы в поведении во время экзамена;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осредоточиться во время экзамена;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бежать неудачи во время экзамен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0:20:56Z</dcterms:created>
  <dc:creator>User</dc:creator>
  <dc:description/>
  <dc:language>en-US</dc:language>
  <cp:lastModifiedBy>User</cp:lastModifiedBy>
  <dcterms:modified xsi:type="dcterms:W3CDTF">2016-03-02T08:08:41Z</dcterms:modified>
  <cp:revision>13</cp:revision>
  <dc:subject/>
  <dc:title>Занятие с элементами тренинга для учащихся  11-го класса "Психологическая подготовка к ЕГЭ" </dc:title>
</cp:coreProperties>
</file>