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EAE-8E47-4C98-AFD3-D186FB7C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884-D0D2-42FF-B385-7F24C6BF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F00-03DF-4356-8A90-567970F6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30F-4763-440F-93B5-AF2A9207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6AF5-2504-4C71-9490-228B4B19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5D72-71D7-416E-8D67-9A4A7C50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F20E-B501-47A5-855E-B72FF15A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3267-30CD-4106-9F58-15AC37B0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79E1-D524-40F0-8DE5-18CC1BBD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9587-A6D0-4531-888C-E3BEF839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0882-718E-4E54-A944-AF68B946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DC6-E248-4CD4-96C3-D8CF5270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1E91-123E-4A3C-8628-01EC6FA9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A26D-0700-4466-A060-3A0CC97D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323A-372B-4954-AC19-5C813459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1850-7039-45C5-968B-D6B3895F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EBA3-DFA7-407D-9764-9A983C36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E9865-B18D-4B69-B244-48FFA017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E72E-01A1-4009-84DD-DF9F7DC4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E89A3-801B-4CC2-B5A4-872DDC89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B685E-ED74-45DD-BCC8-9B799CDC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A78A-B2EF-45A9-BF70-6D61CC5A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E57-FC83-4C8F-92A8-E7574A1C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341F-4574-4940-9464-A036E344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09FDE-35FA-4B4C-8C40-0F621B61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214C8-9443-4BBD-B663-E52FC914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56BA3-1788-439C-BDC1-789BBBC9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692F6-9215-4CA0-888C-B5D0C234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3994-56EB-4892-804D-D9C7CCEC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AA198-9F68-4135-B24F-5423D27F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DF94D-6590-4685-B348-DF59645E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37886-7A4F-4BBA-ACE7-C9411C8F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AFFC-557D-4F45-94DC-0652EA15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03F-39C1-4FE3-9448-F480B277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A0C6-BF17-47F5-A229-937702E2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DA9C2-57EF-43C1-99D5-AF6C9B3A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220F6-1EDE-4A94-9A28-1D51329D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2AFB-2422-4E4B-B875-B15CCCA5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A439-0C62-4BFD-BDEF-F8771202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FB9B2-75C8-4D81-BD3A-0D8FB754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17A56-0672-4793-B212-EE9C54F1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3DDBF-0827-4DF4-BCBE-195D1C1E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83437-976A-46C7-8B7C-6785A003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BA2C1-AD49-498F-BB22-0A1A5A07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516-CAFB-4592-A5A7-E06CEA57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E3187-77A7-44DD-97A0-1ECE42E2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18782-4073-43EF-9274-BD2E1822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BC8E4-2D2A-428E-884D-3D15DAA8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0E2C1-9415-4F8C-A6C6-3D3BB2D7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B01AF-C5EC-4DD0-A42E-39130DB9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C24FA-6986-42A9-A2CA-513364D5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D5298-B13E-4CBC-BB0A-0534FA95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ECCB8-EA81-4067-8B0C-CB94B5BD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81FB5-BC6D-48B3-B8B0-6D170774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83186-0AE0-4474-AB32-772F7A5C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D50-C75B-431D-BB60-48C836B7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77DD5-2517-461A-8C56-C87E981B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1DDA-11A8-4B83-8E25-1A362D75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064-07B1-4FF5-8FA0-5F58492C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3F2-BF83-431F-9A0F-73FE310B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7C50-F78F-429C-978E-17DFE0130DC9}" type="slidenum">
              <a:rPr b="0" lang="ru-RU" sz="1000" spc="-1" strike="noStrike">
                <a:solidFill>
                  <a:srgbClr val="595959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5e04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6ED6-31D8-4CE9-96F7-C0AAB45DE71F}" type="slidenum">
              <a:rPr b="0" lang="ru-RU" sz="1000" spc="-1" strike="noStrike">
                <a:solidFill>
                  <a:srgbClr val="895e04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560" y="0"/>
              <a:ext cx="123516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3f2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81CA-43B5-4273-9D48-5D04B58FD23F}" type="slidenum">
              <a:rPr b="0" lang="ru-RU" sz="1000" spc="-1" strike="noStrike">
                <a:solidFill>
                  <a:srgbClr val="f3f3f2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E6B4-DEC5-4AE5-B222-61D50EEEE446}" type="slidenum">
              <a:rPr b="0" lang="ru-RU" sz="1000" spc="-1" strike="noStrike">
                <a:solidFill>
                  <a:srgbClr val="595959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369D-C8E3-4151-B45B-8F87BC819C3E}" type="slidenum">
              <a:rPr b="0" lang="ru-RU" sz="1000" spc="-1" strike="noStrike">
                <a:solidFill>
                  <a:srgbClr val="595959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7080" y="663480"/>
            <a:ext cx="817272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ОР ТИКО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23" name="Picture 6" descr="обложка ТИКО"/>
          <p:cNvPicPr/>
          <p:nvPr/>
        </p:nvPicPr>
        <p:blipFill>
          <a:blip r:embed="rId1"/>
          <a:stretch/>
        </p:blipFill>
        <p:spPr>
          <a:xfrm>
            <a:off x="1428840" y="1857240"/>
            <a:ext cx="4981320" cy="39862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5214960" y="5214960"/>
            <a:ext cx="371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зентацию подготовила: 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спитатель Иванова Анна Алексеевна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КОНСТРУКТОР ТИКО И РАЗВИТИЕ ПРОСТРАНСТВЕННОГО МЫШЛЕНИЯ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71360" y="1000080"/>
            <a:ext cx="76150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Corbel"/>
              </a:rPr>
              <a:t>Диктанты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26920" y="1571760"/>
          <a:ext cx="7959960" cy="5211720"/>
        </p:xfrm>
        <a:graphic>
          <a:graphicData uri="http://schemas.openxmlformats.org/drawingml/2006/table">
            <a:tbl>
              <a:tblPr/>
              <a:tblGrid>
                <a:gridCol w="4496040"/>
                <a:gridCol w="3463920"/>
              </a:tblGrid>
              <a:tr h="521172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ве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тали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вадрат большой - 1, шестиугольник - 1, треугольник равносторонний маленький - 2, квадрат маленький - 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да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 большому квадрату сверху по центру прикрепите шестиугольник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 шестиугольнику сверху слева и справа прикрепите по одному треугольник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 квадрату слева и справа прикрепите по одному маленькому квадрат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 нижней стороне большого квадрата прикрепите два маленьких квадрата – не скрепляйте их между соб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9" name="Picture 1" descr="Медведь1"/>
          <p:cNvPicPr/>
          <p:nvPr/>
        </p:nvPicPr>
        <p:blipFill>
          <a:blip r:embed="rId1"/>
          <a:stretch/>
        </p:blipFill>
        <p:spPr>
          <a:xfrm>
            <a:off x="5357880" y="2143080"/>
            <a:ext cx="3349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1314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нструируй фигуру и раскрась схему.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зу нарисуй ТИКО-детали, из которых собрана конструкция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61" name="Picture 1" descr="Вертолёт"/>
          <p:cNvPicPr/>
          <p:nvPr/>
        </p:nvPicPr>
        <p:blipFill>
          <a:blip r:embed="rId1"/>
          <a:stretch/>
        </p:blipFill>
        <p:spPr>
          <a:xfrm>
            <a:off x="2143080" y="2571840"/>
            <a:ext cx="50832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Impact"/>
              </a:rPr>
              <a:t>РАБОТА С ЛОГИЧЕСКИМИ ЗАДАНИЯМИ</a:t>
            </a:r>
            <a:br>
              <a:rPr sz="3200"/>
            </a:br>
            <a:endParaRPr b="0" lang="en-US" sz="32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500040" y="1418400"/>
            <a:ext cx="807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ди листочки, слетевшие с дерева. Все ромбы – это берёзовые листья. Раскрась берёзовые листочки жёлтым и красным цветами так, чтобы их количество было равным. Дорисуй стебельки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65" name="Picture 4" descr="Трапеция"/>
          <p:cNvPicPr/>
          <p:nvPr/>
        </p:nvPicPr>
        <p:blipFill>
          <a:blip r:embed="rId1"/>
          <a:stretch/>
        </p:blipFill>
        <p:spPr>
          <a:xfrm>
            <a:off x="4500720" y="3071880"/>
            <a:ext cx="1123920" cy="1371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ромб"/>
          <p:cNvPicPr/>
          <p:nvPr/>
        </p:nvPicPr>
        <p:blipFill>
          <a:blip r:embed="rId2"/>
          <a:stretch/>
        </p:blipFill>
        <p:spPr>
          <a:xfrm rot="20535600">
            <a:off x="6722640" y="3286080"/>
            <a:ext cx="641520" cy="1092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ромб"/>
          <p:cNvPicPr/>
          <p:nvPr/>
        </p:nvPicPr>
        <p:blipFill>
          <a:blip r:embed="rId3"/>
          <a:stretch/>
        </p:blipFill>
        <p:spPr>
          <a:xfrm rot="2227200">
            <a:off x="2408040" y="3225960"/>
            <a:ext cx="641160" cy="1091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ромб"/>
          <p:cNvPicPr/>
          <p:nvPr/>
        </p:nvPicPr>
        <p:blipFill>
          <a:blip r:embed="rId4"/>
          <a:stretch/>
        </p:blipFill>
        <p:spPr>
          <a:xfrm>
            <a:off x="6000840" y="4429080"/>
            <a:ext cx="641160" cy="1092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квадрат"/>
          <p:cNvPicPr/>
          <p:nvPr/>
        </p:nvPicPr>
        <p:blipFill>
          <a:blip r:embed="rId5"/>
          <a:stretch/>
        </p:blipFill>
        <p:spPr>
          <a:xfrm>
            <a:off x="3286080" y="4214880"/>
            <a:ext cx="714600" cy="685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треугольник прямоугольный"/>
          <p:cNvPicPr/>
          <p:nvPr/>
        </p:nvPicPr>
        <p:blipFill>
          <a:blip r:embed="rId6"/>
          <a:stretch/>
        </p:blipFill>
        <p:spPr>
          <a:xfrm>
            <a:off x="1143000" y="4286160"/>
            <a:ext cx="685800" cy="663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ромб"/>
          <p:cNvPicPr/>
          <p:nvPr/>
        </p:nvPicPr>
        <p:blipFill>
          <a:blip r:embed="rId7"/>
          <a:stretch/>
        </p:blipFill>
        <p:spPr>
          <a:xfrm>
            <a:off x="3071880" y="5500800"/>
            <a:ext cx="1092240" cy="641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ромб"/>
          <p:cNvPicPr/>
          <p:nvPr/>
        </p:nvPicPr>
        <p:blipFill>
          <a:blip r:embed="rId8"/>
          <a:stretch/>
        </p:blipFill>
        <p:spPr>
          <a:xfrm>
            <a:off x="1785960" y="5357880"/>
            <a:ext cx="641160" cy="1092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ромб"/>
          <p:cNvPicPr/>
          <p:nvPr/>
        </p:nvPicPr>
        <p:blipFill>
          <a:blip r:embed="rId9"/>
          <a:stretch/>
        </p:blipFill>
        <p:spPr>
          <a:xfrm rot="20281800">
            <a:off x="4966920" y="5367240"/>
            <a:ext cx="64152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Impact"/>
              </a:rPr>
              <a:t>ЗАДАНИЯ НА ЗАМЕЩЕНИЕ </a:t>
            </a:r>
            <a:endParaRPr b="0" lang="en-US" sz="3200" spc="-1" strike="noStrike">
              <a:solidFill>
                <a:srgbClr val="2a1a00"/>
              </a:solidFill>
              <a:latin typeface="Impact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00080" y="1500120"/>
          <a:ext cx="7286760" cy="2643120"/>
        </p:xfrm>
        <a:graphic>
          <a:graphicData uri="http://schemas.openxmlformats.org/drawingml/2006/table">
            <a:tbl>
              <a:tblPr/>
              <a:tblGrid>
                <a:gridCol w="3643200"/>
                <a:gridCol w="3643560"/>
              </a:tblGrid>
              <a:tr h="2643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нструируйте  квадрат из двух прямоугольников и восьми  прямоугольных треугольни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6" name="Picture 1" descr="Квадрат8"/>
          <p:cNvPicPr/>
          <p:nvPr/>
        </p:nvPicPr>
        <p:blipFill>
          <a:blip r:embed="rId1"/>
          <a:srcRect l="11654" t="13418" r="13196" b="12745"/>
          <a:stretch/>
        </p:blipFill>
        <p:spPr>
          <a:xfrm>
            <a:off x="5429160" y="1643040"/>
            <a:ext cx="2333880" cy="225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1000080" y="4000680"/>
          <a:ext cx="7286760" cy="2500200"/>
        </p:xfrm>
        <a:graphic>
          <a:graphicData uri="http://schemas.openxmlformats.org/drawingml/2006/table">
            <a:tbl>
              <a:tblPr/>
              <a:tblGrid>
                <a:gridCol w="3643200"/>
                <a:gridCol w="3643560"/>
              </a:tblGrid>
              <a:tr h="250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конструируйте шестиугольник из двух ромбов и двух равносторонних треугольник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8" name="Picture 2" descr="Шестиугольник 3"/>
          <p:cNvPicPr/>
          <p:nvPr/>
        </p:nvPicPr>
        <p:blipFill>
          <a:blip r:embed="rId2"/>
          <a:srcRect l="8259" t="11417" r="7894" b="14877"/>
          <a:stretch/>
        </p:blipFill>
        <p:spPr>
          <a:xfrm>
            <a:off x="5429160" y="4214880"/>
            <a:ext cx="23194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80" name="Объект 3" descr=""/>
          <p:cNvPicPr/>
          <p:nvPr/>
        </p:nvPicPr>
        <p:blipFill>
          <a:blip r:embed="rId1"/>
          <a:srcRect l="33240" t="4990" r="32987" b="8002"/>
          <a:stretch/>
        </p:blipFill>
        <p:spPr>
          <a:xfrm>
            <a:off x="0" y="341280"/>
            <a:ext cx="4425840" cy="652608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2"/>
          <a:srcRect l="32676" t="5178" r="32676" b="7980"/>
          <a:stretch/>
        </p:blipFill>
        <p:spPr>
          <a:xfrm>
            <a:off x="4543560" y="318960"/>
            <a:ext cx="463068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83" name="Объект 3" descr=""/>
          <p:cNvPicPr/>
          <p:nvPr/>
        </p:nvPicPr>
        <p:blipFill>
          <a:blip r:embed="rId1"/>
          <a:srcRect l="33091" t="6552" r="33118" b="8600"/>
          <a:stretch/>
        </p:blipFill>
        <p:spPr>
          <a:xfrm>
            <a:off x="257040" y="404640"/>
            <a:ext cx="4283280" cy="60469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4" descr=""/>
          <p:cNvPicPr/>
          <p:nvPr/>
        </p:nvPicPr>
        <p:blipFill>
          <a:blip r:embed="rId2"/>
          <a:srcRect l="33155" t="8404" r="37563" b="13472"/>
          <a:stretch/>
        </p:blipFill>
        <p:spPr>
          <a:xfrm>
            <a:off x="5003640" y="385920"/>
            <a:ext cx="4032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86" name="Объект 3" descr=""/>
          <p:cNvPicPr/>
          <p:nvPr/>
        </p:nvPicPr>
        <p:blipFill>
          <a:blip r:embed="rId1"/>
          <a:srcRect l="32667" t="6009" r="33541" b="7840"/>
          <a:stretch/>
        </p:blipFill>
        <p:spPr>
          <a:xfrm>
            <a:off x="4665600" y="189000"/>
            <a:ext cx="4370400" cy="626436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4" descr=""/>
          <p:cNvPicPr/>
          <p:nvPr/>
        </p:nvPicPr>
        <p:blipFill>
          <a:blip r:embed="rId2"/>
          <a:srcRect l="32676" t="5178" r="32676" b="7980"/>
          <a:stretch/>
        </p:blipFill>
        <p:spPr>
          <a:xfrm>
            <a:off x="158760" y="203040"/>
            <a:ext cx="448632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100" spc="-1" strike="noStrike">
                <a:solidFill>
                  <a:srgbClr val="6600ff"/>
                </a:solidFill>
                <a:latin typeface="Impact"/>
              </a:rPr>
              <a:t>БЛАГОДАРИМ ЗА ВНИМАНИЕ!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89" name="Объект 2" descr=""/>
          <p:cNvPicPr/>
          <p:nvPr/>
        </p:nvPicPr>
        <p:blipFill>
          <a:blip r:embed="rId1"/>
          <a:stretch/>
        </p:blipFill>
        <p:spPr>
          <a:xfrm>
            <a:off x="5000760" y="1413000"/>
            <a:ext cx="3593880" cy="35938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3" descr=""/>
          <p:cNvPicPr/>
          <p:nvPr/>
        </p:nvPicPr>
        <p:blipFill>
          <a:blip r:embed="rId2"/>
          <a:stretch/>
        </p:blipFill>
        <p:spPr>
          <a:xfrm>
            <a:off x="317520" y="2997360"/>
            <a:ext cx="46753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40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ИВНЫЕ ОСОБЕННОСТИ ТИКО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656a59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771480" y="144288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Конструктор для объемного моделирования «ТИКО» представляет собой скомплектованные в наборы многоугольники, которые соединяются между собой, создавая двух- и трехмерные фигуры и тела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28" name="Объект 2" descr=""/>
          <p:cNvPicPr/>
          <p:nvPr/>
        </p:nvPicPr>
        <p:blipFill>
          <a:blip r:embed="rId1"/>
          <a:stretch/>
        </p:blipFill>
        <p:spPr>
          <a:xfrm>
            <a:off x="4797360" y="184320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ИВНЫЕ ОСОБЕННОСТИ ТИКО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8276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Можно сначала собрать плоскую фигуру, например, развертку куба, а затем перейти в пространство или объем. Поднимая грани-квадраты и соединяя их, собираем куб. 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1" name="Объект 2" descr=""/>
          <p:cNvPicPr/>
          <p:nvPr/>
        </p:nvPicPr>
        <p:blipFill>
          <a:blip r:embed="rId1"/>
          <a:stretch/>
        </p:blipFill>
        <p:spPr>
          <a:xfrm>
            <a:off x="4788000" y="1989000"/>
            <a:ext cx="4038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ИВНЫЕ ОСОБЕННОСТИ ТИКО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4720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Шарнирное соединение ТИКО-деталей позволяет скреплять многоугольники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под любым углом 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и вращать их один относительно другого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4" name="Объект 2" descr=""/>
          <p:cNvPicPr/>
          <p:nvPr/>
        </p:nvPicPr>
        <p:blipFill>
          <a:blip r:embed="rId1"/>
          <a:stretch/>
        </p:blipFill>
        <p:spPr>
          <a:xfrm>
            <a:off x="4992840" y="1600200"/>
            <a:ext cx="334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ИВНЫЕ ОСОБЕННОСТИ ТИКО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152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Наличие дополнительных креплений на некоторых деталях ТИКО делает возможным их перпендикулярное соединение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0384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ИВНЫЕ ОСОБЕННОСТИ ТИКО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11120" y="1887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Отверстия внутри больших фигур конструктора можно использовать как «окошко» или «дверной проем» при сборе игровых форм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0" name="Picture 13" descr="домик"/>
          <p:cNvPicPr/>
          <p:nvPr/>
        </p:nvPicPr>
        <p:blipFill>
          <a:blip r:embed="rId1"/>
          <a:stretch/>
        </p:blipFill>
        <p:spPr>
          <a:xfrm>
            <a:off x="4427640" y="1557360"/>
            <a:ext cx="3684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6840" y="4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500" spc="-1" strike="noStrike">
                <a:solidFill>
                  <a:srgbClr val="cc0066"/>
                </a:solidFill>
                <a:latin typeface="Bookman Old Style"/>
              </a:rPr>
              <a:t>КОНСТРУКТОР ТИКО И ЕГО ВОЗМОЖНОСТИ: </a:t>
            </a:r>
            <a:br>
              <a:rPr sz="2500"/>
            </a:br>
            <a:endParaRPr b="0" lang="en-US" sz="25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1267920"/>
            <a:ext cx="939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u="sng">
                <a:solidFill>
                  <a:srgbClr val="cc0066"/>
                </a:solidFill>
                <a:uFillTx/>
                <a:latin typeface="Bookman Old Style"/>
              </a:rPr>
              <a:t>Наборы «Школьник», «Геометрия»</a:t>
            </a:r>
            <a:r>
              <a:rPr b="1" lang="en-US" sz="2400" spc="-1" strike="noStrike">
                <a:solidFill>
                  <a:srgbClr val="656a59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Bookman Old Style"/>
              </a:rPr>
              <a:t>Педагогам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 конструктор полезен, 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как средство для быстрого</a:t>
            </a:r>
            <a:r>
              <a:rPr b="1" lang="en-US" sz="2400" spc="-1" strike="noStrike">
                <a:solidFill>
                  <a:srgbClr val="656a59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создания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наглядных пособий. 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    </a:t>
            </a: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Из ТИКО-деталей можно сконструировать практически весь спектр геометрических  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 marL="228600" indent="-22860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656a59"/>
                </a:solidFill>
                <a:latin typeface="Bookman Old Style"/>
              </a:rPr>
              <a:t>фигур и тел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3" name="Picture 4" descr="1"/>
          <p:cNvPicPr/>
          <p:nvPr/>
        </p:nvPicPr>
        <p:blipFill>
          <a:blip r:embed="rId1"/>
          <a:stretch/>
        </p:blipFill>
        <p:spPr>
          <a:xfrm>
            <a:off x="4932360" y="3357720"/>
            <a:ext cx="1828800" cy="1417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14"/>
          <p:cNvPicPr/>
          <p:nvPr/>
        </p:nvPicPr>
        <p:blipFill>
          <a:blip r:embed="rId2"/>
          <a:stretch/>
        </p:blipFill>
        <p:spPr>
          <a:xfrm>
            <a:off x="450720" y="2913120"/>
            <a:ext cx="1828800" cy="1663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16"/>
          <p:cNvPicPr/>
          <p:nvPr/>
        </p:nvPicPr>
        <p:blipFill>
          <a:blip r:embed="rId3"/>
          <a:stretch/>
        </p:blipFill>
        <p:spPr>
          <a:xfrm>
            <a:off x="7308720" y="2637000"/>
            <a:ext cx="1597320" cy="1828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равностор а"/>
          <p:cNvPicPr/>
          <p:nvPr/>
        </p:nvPicPr>
        <p:blipFill>
          <a:blip r:embed="rId4"/>
          <a:stretch/>
        </p:blipFill>
        <p:spPr>
          <a:xfrm>
            <a:off x="2556000" y="3284640"/>
            <a:ext cx="182880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ОР ТИКО И ЕГО ВОЗМОЖНОСТИ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844200" y="2060640"/>
            <a:ext cx="76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Bookman Old Style"/>
              </a:rPr>
              <a:t>Изучение чисел</a:t>
            </a:r>
            <a:r>
              <a:rPr b="1" lang="en-US" sz="2800" spc="-1" strike="noStrike">
                <a:solidFill>
                  <a:srgbClr val="6600ff"/>
                </a:solidFill>
                <a:latin typeface="Bookman Old Style"/>
              </a:rPr>
              <a:t> – </a:t>
            </a:r>
            <a:r>
              <a:rPr b="1" lang="ru-RU" sz="2800" spc="-1" strike="noStrike">
                <a:solidFill>
                  <a:srgbClr val="6600ff"/>
                </a:solidFill>
                <a:latin typeface="Bookman Old Style"/>
              </a:rPr>
              <a:t>набор «Арифметика»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49" name="Picture 8" descr="двузначные числа"/>
          <p:cNvPicPr/>
          <p:nvPr/>
        </p:nvPicPr>
        <p:blipFill>
          <a:blip r:embed="rId1"/>
          <a:stretch/>
        </p:blipFill>
        <p:spPr>
          <a:xfrm>
            <a:off x="4716360" y="2852640"/>
            <a:ext cx="4213440" cy="3210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однозначные числа"/>
          <p:cNvPicPr/>
          <p:nvPr/>
        </p:nvPicPr>
        <p:blipFill>
          <a:blip r:embed="rId2"/>
          <a:stretch/>
        </p:blipFill>
        <p:spPr>
          <a:xfrm>
            <a:off x="179280" y="2852640"/>
            <a:ext cx="42483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Bookman Old Style"/>
              </a:rPr>
              <a:t>КОНСТРУКТОР ТИКО И ЕГО ВОЗМОЖНОСТИ </a:t>
            </a:r>
            <a:endParaRPr b="0" lang="en-US" sz="2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2900160" y="1484280"/>
            <a:ext cx="26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Bookman Old Style"/>
              </a:rPr>
              <a:t>Состав чисел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53" name="Picture 9" descr="4"/>
          <p:cNvPicPr/>
          <p:nvPr/>
        </p:nvPicPr>
        <p:blipFill>
          <a:blip r:embed="rId1"/>
          <a:stretch/>
        </p:blipFill>
        <p:spPr>
          <a:xfrm>
            <a:off x="6659640" y="2565360"/>
            <a:ext cx="2163600" cy="3405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7"/>
          <p:cNvPicPr/>
          <p:nvPr/>
        </p:nvPicPr>
        <p:blipFill>
          <a:blip r:embed="rId2"/>
          <a:stretch/>
        </p:blipFill>
        <p:spPr>
          <a:xfrm>
            <a:off x="3780000" y="2133720"/>
            <a:ext cx="2239920" cy="4503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10"/>
          <p:cNvPicPr/>
          <p:nvPr/>
        </p:nvPicPr>
        <p:blipFill>
          <a:blip r:embed="rId3"/>
          <a:stretch/>
        </p:blipFill>
        <p:spPr>
          <a:xfrm>
            <a:off x="611280" y="1413000"/>
            <a:ext cx="17953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20:32:34Z</dcterms:created>
  <dc:creator>Admin</dc:creator>
  <dc:description/>
  <dc:language>en-US</dc:language>
  <cp:lastModifiedBy>Анюта</cp:lastModifiedBy>
  <dcterms:modified xsi:type="dcterms:W3CDTF">2020-11-10T15:30:48Z</dcterms:modified>
  <cp:revision>231</cp:revision>
  <dc:subject/>
  <dc:title>Слайд 1</dc:title>
</cp:coreProperties>
</file>