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6F2-9C82-4D29-B634-BDC7251C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D49-88B9-400A-A237-44959A78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633-6F96-4B3F-A83C-C064B986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705-65AE-4E75-8286-ADB558BC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0B01-6683-4415-B96D-882525B5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1477-B2C8-4D14-B8D5-37D36AD8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B68E-288E-495D-9072-E2C3F6CD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63B1-91A0-4C5F-B56D-4B3970CF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FF16-EF2E-44C1-8577-A090D300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C534-74AB-4A47-B67B-6FEE8042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E212-BA57-4AD6-9CFE-1ED8E78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B93-1258-47AE-8ABA-E410B4F0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769E-C494-4A64-93DB-4579F803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BB72-0E18-42E0-87DD-7A01977C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F14C-363A-4FE8-A2B5-7E01156D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5D67-90CF-4BF9-9DFD-A81AA28E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BD87-7847-44B9-9914-BE738394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127E-CC43-408B-B6E5-D3750F07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71CB-4C86-4ECF-8979-8F7B99C3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8D42-8BD8-42B8-BD27-07724283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1926B-D603-4CA4-B935-6E568DA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767B-315D-4648-AAB1-A28B207B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648-4970-4ECD-8928-06CEE954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5C48-7C0B-4A5C-BD6E-B016B14F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60CD-0B9E-4F02-AAF4-0C34795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501F-3E35-4FD4-9394-7624C252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8C7E8-0216-4E3F-BA56-29141F6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EA3A2-27F6-4572-BF66-7E76FAAD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632A-59CB-4601-AC7E-8907B162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2939-E47D-49BB-93D0-E7ED35B4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0EDBD-4C88-4069-ABD7-5E0523E3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C3CB-C340-44D9-97E9-D47493D8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EAC6E-2258-45E8-9610-F6215D4E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B87-62EE-4CD0-8CC0-D9DA70CE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4C168-F2CE-4606-81ED-EF9271F5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6672-6882-40A2-B865-9703BA53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BC01-80A7-429B-9B20-705E797E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7DB14-25FD-4FC4-AA37-8735C74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6786-5033-4770-9E7D-8165DF6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7394-A080-4CC3-9CA0-EDCF678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5D67-038C-46AC-90AB-F5B8D19B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62D3-F46F-481E-AD84-E3E4400B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DFAE1-7CA5-4913-AAEB-2B548236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AED6-565B-4E2C-A64D-7B0D1E84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353-B315-4B7C-B2B9-22FD5F2C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64344-7D01-42AD-BFBD-D48C6D28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CDDBF-E8B8-448A-989D-59918734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74EFF-0956-4019-A333-27289432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9D44-3984-4C7E-B4FA-886302D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10827-21C4-4FDF-848B-3B36A31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8F0BF-33AC-4168-8335-EC834933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51709-445C-47C3-8E72-B4D819F6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2ACB-76D3-4126-BEE8-C208B64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7625F-42DD-4097-9438-50FFFA56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5637C-77DF-4E69-B1B2-B0AA1E8A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D8A-90C9-435C-98D9-A341F121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B95F6-1B97-4CD4-8238-5AFFE6E2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0F5-4D52-4B96-BF59-1C56FB52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F77-61AC-414D-992A-E1E34C4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9BA-DE66-4DCE-B314-15B0825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1B57-7BEA-4ECD-8555-B31D6C9E9957}" type="slidenum">
              <a:rPr b="0" lang="ru-RU" sz="1000" spc="-1" strike="noStrike">
                <a:solidFill>
                  <a:srgbClr val="595959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DC57-215E-4736-804D-AF4E2EF28F5D}" type="slidenum">
              <a:rPr b="0" lang="ru-RU" sz="1000" spc="-1" strike="noStrike">
                <a:solidFill>
                  <a:srgbClr val="895e04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8AB9-BC75-4BC5-BE33-EE66A4B6DFEC}" type="slidenum">
              <a:rPr b="0" lang="ru-RU" sz="1000" spc="-1" strike="noStrike">
                <a:solidFill>
                  <a:srgbClr val="f3f3f2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49B-3DAE-414C-B92B-1DEF4613FF6F}" type="slidenum">
              <a:rPr b="0" lang="ru-RU" sz="1000" spc="-1" strike="noStrike">
                <a:solidFill>
                  <a:srgbClr val="595959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3F0C-AC47-438E-96A7-963EF5C87B5F}" type="slidenum">
              <a:rPr b="0" lang="ru-RU" sz="1000" spc="-1" strike="noStrike">
                <a:solidFill>
                  <a:srgbClr val="595959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7080" y="663480"/>
            <a:ext cx="81727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ОР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23" name="Picture 6" descr="обложка ТИКО"/>
          <p:cNvPicPr/>
          <p:nvPr/>
        </p:nvPicPr>
        <p:blipFill>
          <a:blip r:embed="rId1"/>
          <a:stretch/>
        </p:blipFill>
        <p:spPr>
          <a:xfrm>
            <a:off x="1428840" y="1857240"/>
            <a:ext cx="4981320" cy="39862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5214960" y="5214960"/>
            <a:ext cx="37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зентацию подготовила: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спитатель Иванова Анна Алексеевна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КОНСТРУКТОР ТИКО И РАЗВИТИЕ ПРОСТРАНСТВЕННОГО МЫШЛЕНИЯ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71360" y="1000080"/>
            <a:ext cx="76150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Corbel"/>
              </a:rPr>
              <a:t>Диктанты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26920" y="1571760"/>
          <a:ext cx="7959960" cy="5211720"/>
        </p:xfrm>
        <a:graphic>
          <a:graphicData uri="http://schemas.openxmlformats.org/drawingml/2006/table">
            <a:tbl>
              <a:tblPr/>
              <a:tblGrid>
                <a:gridCol w="4496040"/>
                <a:gridCol w="3463920"/>
              </a:tblGrid>
              <a:tr h="521172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в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тали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адрат большой - 1, шестиугольник - 1, треугольник равносторонний маленький - 2, квадрат маленький - 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да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 большому квадрату сверху по центру прикрепите шестиугольни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 шестиугольнику сверху слева и справа прикрепите по одному треугольник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 квадрату слева и справа прикрепите по одному маленькому квадра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 нижней стороне большого квадрата прикрепите два маленьких квадрата – не скрепляйте их между соб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Picture 1" descr="Медведь1"/>
          <p:cNvPicPr/>
          <p:nvPr/>
        </p:nvPicPr>
        <p:blipFill>
          <a:blip r:embed="rId1"/>
          <a:stretch/>
        </p:blipFill>
        <p:spPr>
          <a:xfrm>
            <a:off x="5357880" y="2143080"/>
            <a:ext cx="3349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1314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нструируй фигуру и раскрась схему.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зу нарисуй ТИКО-детали, из которых собрана конструкция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61" name="Picture 1" descr="Вертолёт"/>
          <p:cNvPicPr/>
          <p:nvPr/>
        </p:nvPicPr>
        <p:blipFill>
          <a:blip r:embed="rId1"/>
          <a:stretch/>
        </p:blipFill>
        <p:spPr>
          <a:xfrm>
            <a:off x="2143080" y="2571840"/>
            <a:ext cx="508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Impact"/>
              </a:rPr>
              <a:t>РАБОТА С ЛОГИЧЕСКИМИ ЗАДАНИЯМИ</a:t>
            </a:r>
            <a:br>
              <a:rPr sz="3200"/>
            </a:br>
            <a:endParaRPr b="0" lang="en-US" sz="32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500040" y="1418400"/>
            <a:ext cx="807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 листочки, слетевшие с дерева. Все ромбы – это берёзовые листья. Раскрась берёзовые листочки жёлтым и красным цветами так, чтобы их количество было равным. Дорисуй стебельки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65" name="Picture 4" descr="Трапеция"/>
          <p:cNvPicPr/>
          <p:nvPr/>
        </p:nvPicPr>
        <p:blipFill>
          <a:blip r:embed="rId1"/>
          <a:stretch/>
        </p:blipFill>
        <p:spPr>
          <a:xfrm>
            <a:off x="4500720" y="3071880"/>
            <a:ext cx="1123920" cy="1371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ромб"/>
          <p:cNvPicPr/>
          <p:nvPr/>
        </p:nvPicPr>
        <p:blipFill>
          <a:blip r:embed="rId2"/>
          <a:stretch/>
        </p:blipFill>
        <p:spPr>
          <a:xfrm rot="20535600">
            <a:off x="6722640" y="3286080"/>
            <a:ext cx="641520" cy="1092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ромб"/>
          <p:cNvPicPr/>
          <p:nvPr/>
        </p:nvPicPr>
        <p:blipFill>
          <a:blip r:embed="rId3"/>
          <a:stretch/>
        </p:blipFill>
        <p:spPr>
          <a:xfrm rot="2227200">
            <a:off x="2408040" y="3225960"/>
            <a:ext cx="641160" cy="1091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ромб"/>
          <p:cNvPicPr/>
          <p:nvPr/>
        </p:nvPicPr>
        <p:blipFill>
          <a:blip r:embed="rId4"/>
          <a:stretch/>
        </p:blipFill>
        <p:spPr>
          <a:xfrm>
            <a:off x="6000840" y="4429080"/>
            <a:ext cx="641160" cy="1092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квадрат"/>
          <p:cNvPicPr/>
          <p:nvPr/>
        </p:nvPicPr>
        <p:blipFill>
          <a:blip r:embed="rId5"/>
          <a:stretch/>
        </p:blipFill>
        <p:spPr>
          <a:xfrm>
            <a:off x="3286080" y="4214880"/>
            <a:ext cx="714600" cy="68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треугольник прямоугольный"/>
          <p:cNvPicPr/>
          <p:nvPr/>
        </p:nvPicPr>
        <p:blipFill>
          <a:blip r:embed="rId6"/>
          <a:stretch/>
        </p:blipFill>
        <p:spPr>
          <a:xfrm>
            <a:off x="1143000" y="4286160"/>
            <a:ext cx="685800" cy="663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ромб"/>
          <p:cNvPicPr/>
          <p:nvPr/>
        </p:nvPicPr>
        <p:blipFill>
          <a:blip r:embed="rId7"/>
          <a:stretch/>
        </p:blipFill>
        <p:spPr>
          <a:xfrm>
            <a:off x="3071880" y="5500800"/>
            <a:ext cx="1092240" cy="641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ромб"/>
          <p:cNvPicPr/>
          <p:nvPr/>
        </p:nvPicPr>
        <p:blipFill>
          <a:blip r:embed="rId8"/>
          <a:stretch/>
        </p:blipFill>
        <p:spPr>
          <a:xfrm>
            <a:off x="1785960" y="5357880"/>
            <a:ext cx="641160" cy="1092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ромб"/>
          <p:cNvPicPr/>
          <p:nvPr/>
        </p:nvPicPr>
        <p:blipFill>
          <a:blip r:embed="rId9"/>
          <a:stretch/>
        </p:blipFill>
        <p:spPr>
          <a:xfrm rot="20281800">
            <a:off x="4966920" y="5367240"/>
            <a:ext cx="6415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Impact"/>
              </a:rPr>
              <a:t>ЗАДАНИЯ НА ЗАМЕЩЕНИЕ </a:t>
            </a:r>
            <a:endParaRPr b="0" lang="en-US" sz="3200" spc="-1" strike="noStrike">
              <a:solidFill>
                <a:srgbClr val="2a1a00"/>
              </a:solidFill>
              <a:latin typeface="Impact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00080" y="1500120"/>
          <a:ext cx="7286760" cy="264312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</a:tblGrid>
              <a:tr h="2643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нструируйте  квадрат из двух прямоугольников и восьми  прямоугольных треугольни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Picture 1" descr="Квадрат8"/>
          <p:cNvPicPr/>
          <p:nvPr/>
        </p:nvPicPr>
        <p:blipFill>
          <a:blip r:embed="rId1"/>
          <a:srcRect l="11654" t="13418" r="13196" b="12745"/>
          <a:stretch/>
        </p:blipFill>
        <p:spPr>
          <a:xfrm>
            <a:off x="5429160" y="1643040"/>
            <a:ext cx="2333880" cy="22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1000080" y="4000680"/>
          <a:ext cx="7286760" cy="250020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</a:tblGrid>
              <a:tr h="25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конструируйте шестиугольник из двух ромбов и двух равносторонних треугольни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Picture 2" descr="Шестиугольник 3"/>
          <p:cNvPicPr/>
          <p:nvPr/>
        </p:nvPicPr>
        <p:blipFill>
          <a:blip r:embed="rId2"/>
          <a:srcRect l="8259" t="11417" r="7894" b="14877"/>
          <a:stretch/>
        </p:blipFill>
        <p:spPr>
          <a:xfrm>
            <a:off x="5429160" y="4214880"/>
            <a:ext cx="23194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80" name="Объект 3" descr=""/>
          <p:cNvPicPr/>
          <p:nvPr/>
        </p:nvPicPr>
        <p:blipFill>
          <a:blip r:embed="rId1"/>
          <a:srcRect l="33240" t="4990" r="32987" b="8002"/>
          <a:stretch/>
        </p:blipFill>
        <p:spPr>
          <a:xfrm>
            <a:off x="0" y="341280"/>
            <a:ext cx="4425840" cy="6526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2"/>
          <a:srcRect l="32676" t="5178" r="32676" b="7980"/>
          <a:stretch/>
        </p:blipFill>
        <p:spPr>
          <a:xfrm>
            <a:off x="4543560" y="318960"/>
            <a:ext cx="463068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83" name="Объект 3" descr=""/>
          <p:cNvPicPr/>
          <p:nvPr/>
        </p:nvPicPr>
        <p:blipFill>
          <a:blip r:embed="rId1"/>
          <a:srcRect l="33091" t="6552" r="33118" b="8600"/>
          <a:stretch/>
        </p:blipFill>
        <p:spPr>
          <a:xfrm>
            <a:off x="257040" y="404640"/>
            <a:ext cx="4283280" cy="60469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4" descr=""/>
          <p:cNvPicPr/>
          <p:nvPr/>
        </p:nvPicPr>
        <p:blipFill>
          <a:blip r:embed="rId2"/>
          <a:srcRect l="33155" t="8404" r="37563" b="13472"/>
          <a:stretch/>
        </p:blipFill>
        <p:spPr>
          <a:xfrm>
            <a:off x="5003640" y="385920"/>
            <a:ext cx="4032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86" name="Объект 3" descr=""/>
          <p:cNvPicPr/>
          <p:nvPr/>
        </p:nvPicPr>
        <p:blipFill>
          <a:blip r:embed="rId1"/>
          <a:srcRect l="32667" t="6009" r="33541" b="7840"/>
          <a:stretch/>
        </p:blipFill>
        <p:spPr>
          <a:xfrm>
            <a:off x="4665600" y="189000"/>
            <a:ext cx="4370400" cy="626436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4" descr=""/>
          <p:cNvPicPr/>
          <p:nvPr/>
        </p:nvPicPr>
        <p:blipFill>
          <a:blip r:embed="rId2"/>
          <a:srcRect l="32676" t="5178" r="32676" b="7980"/>
          <a:stretch/>
        </p:blipFill>
        <p:spPr>
          <a:xfrm>
            <a:off x="158760" y="203040"/>
            <a:ext cx="448632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100" spc="-1" strike="noStrike">
                <a:solidFill>
                  <a:srgbClr val="6600ff"/>
                </a:solidFill>
                <a:latin typeface="Impact"/>
              </a:rPr>
              <a:t>БЛАГОДАРИМ ЗА ВНИМАНИЕ!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89" name="Объект 2" descr=""/>
          <p:cNvPicPr/>
          <p:nvPr/>
        </p:nvPicPr>
        <p:blipFill>
          <a:blip r:embed="rId1"/>
          <a:stretch/>
        </p:blipFill>
        <p:spPr>
          <a:xfrm>
            <a:off x="5000760" y="1413000"/>
            <a:ext cx="3593880" cy="35938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3" descr=""/>
          <p:cNvPicPr/>
          <p:nvPr/>
        </p:nvPicPr>
        <p:blipFill>
          <a:blip r:embed="rId2"/>
          <a:stretch/>
        </p:blipFill>
        <p:spPr>
          <a:xfrm>
            <a:off x="317520" y="2997360"/>
            <a:ext cx="46753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4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656a59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771480" y="144288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Конструктор для объемного моделирования «ТИКО» представляет собой скомплектованные в наборы многоугольники, которые соединяются между собой, создавая двух- и трехмерные фигуры и тел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8" name="Объект 2" descr=""/>
          <p:cNvPicPr/>
          <p:nvPr/>
        </p:nvPicPr>
        <p:blipFill>
          <a:blip r:embed="rId1"/>
          <a:stretch/>
        </p:blipFill>
        <p:spPr>
          <a:xfrm>
            <a:off x="4797360" y="184320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27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Можно сначала собрать плоскую фигуру, например, развертку куба, а затем перейти в пространство или объем. Поднимая грани-квадраты и соединяя их, собираем куб.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1" name="Объект 2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038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4720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Шарнирное соединение ТИКО-деталей позволяет скреплять многоугольники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под любым углом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и вращать их один относительно другого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4" name="Объект 2" descr=""/>
          <p:cNvPicPr/>
          <p:nvPr/>
        </p:nvPicPr>
        <p:blipFill>
          <a:blip r:embed="rId1"/>
          <a:stretch/>
        </p:blipFill>
        <p:spPr>
          <a:xfrm>
            <a:off x="4992840" y="1600200"/>
            <a:ext cx="334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15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Наличие дополнительных креплений на некоторых деталях ТИКО делает возможным их перпендикулярное соединение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0384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1120" y="1887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Отверстия внутри больших фигур конструктора можно использовать как «окошко» или «дверной проем» при сборе игровых форм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0" name="Picture 13" descr="домик"/>
          <p:cNvPicPr/>
          <p:nvPr/>
        </p:nvPicPr>
        <p:blipFill>
          <a:blip r:embed="rId1"/>
          <a:stretch/>
        </p:blipFill>
        <p:spPr>
          <a:xfrm>
            <a:off x="4427640" y="1557360"/>
            <a:ext cx="3684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684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500" spc="-1" strike="noStrike">
                <a:solidFill>
                  <a:srgbClr val="cc0066"/>
                </a:solidFill>
                <a:latin typeface="Bookman Old Style"/>
              </a:rPr>
              <a:t>КОНСТРУКТОР ТИКО И ЕГО ВОЗМОЖНОСТИ: </a:t>
            </a:r>
            <a:br>
              <a:rPr sz="2500"/>
            </a:br>
            <a:endParaRPr b="0" lang="en-US" sz="2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1267920"/>
            <a:ext cx="93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cc0066"/>
                </a:solidFill>
                <a:uFillTx/>
                <a:latin typeface="Bookman Old Style"/>
              </a:rPr>
              <a:t>Наборы «Школьник», «Геометрия»</a:t>
            </a: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Bookman Old Style"/>
              </a:rPr>
              <a:t>Педагогам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 конструктор полезен,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как средство для быстрого</a:t>
            </a: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создани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наглядных пособий.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    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Из ТИКО-деталей можно сконструировать практически весь спектр геометрических 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фигур и тел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Picture 4" descr="1"/>
          <p:cNvPicPr/>
          <p:nvPr/>
        </p:nvPicPr>
        <p:blipFill>
          <a:blip r:embed="rId1"/>
          <a:stretch/>
        </p:blipFill>
        <p:spPr>
          <a:xfrm>
            <a:off x="4932360" y="3357720"/>
            <a:ext cx="1828800" cy="1417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14"/>
          <p:cNvPicPr/>
          <p:nvPr/>
        </p:nvPicPr>
        <p:blipFill>
          <a:blip r:embed="rId2"/>
          <a:stretch/>
        </p:blipFill>
        <p:spPr>
          <a:xfrm>
            <a:off x="450720" y="2913120"/>
            <a:ext cx="1828800" cy="1663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16"/>
          <p:cNvPicPr/>
          <p:nvPr/>
        </p:nvPicPr>
        <p:blipFill>
          <a:blip r:embed="rId3"/>
          <a:stretch/>
        </p:blipFill>
        <p:spPr>
          <a:xfrm>
            <a:off x="7308720" y="2637000"/>
            <a:ext cx="1597320" cy="1828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равностор а"/>
          <p:cNvPicPr/>
          <p:nvPr/>
        </p:nvPicPr>
        <p:blipFill>
          <a:blip r:embed="rId4"/>
          <a:stretch/>
        </p:blipFill>
        <p:spPr>
          <a:xfrm>
            <a:off x="2556000" y="3284640"/>
            <a:ext cx="182880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ОР ТИКО И ЕГО ВОЗМОЖНОСТИ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844200" y="2060640"/>
            <a:ext cx="76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Bookman Old Style"/>
              </a:rPr>
              <a:t>Изучение чисел</a:t>
            </a:r>
            <a:r>
              <a:rPr b="1" lang="en-US" sz="2800" spc="-1" strike="noStrike">
                <a:solidFill>
                  <a:srgbClr val="6600ff"/>
                </a:solidFill>
                <a:latin typeface="Bookman Old Style"/>
              </a:rPr>
              <a:t> – </a:t>
            </a:r>
            <a:r>
              <a:rPr b="1" lang="ru-RU" sz="2800" spc="-1" strike="noStrike">
                <a:solidFill>
                  <a:srgbClr val="6600ff"/>
                </a:solidFill>
                <a:latin typeface="Bookman Old Style"/>
              </a:rPr>
              <a:t>набор «Арифметика»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49" name="Picture 8" descr="двузначные числа"/>
          <p:cNvPicPr/>
          <p:nvPr/>
        </p:nvPicPr>
        <p:blipFill>
          <a:blip r:embed="rId1"/>
          <a:stretch/>
        </p:blipFill>
        <p:spPr>
          <a:xfrm>
            <a:off x="4716360" y="2852640"/>
            <a:ext cx="4213440" cy="3210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однозначные числа"/>
          <p:cNvPicPr/>
          <p:nvPr/>
        </p:nvPicPr>
        <p:blipFill>
          <a:blip r:embed="rId2"/>
          <a:stretch/>
        </p:blipFill>
        <p:spPr>
          <a:xfrm>
            <a:off x="179280" y="2852640"/>
            <a:ext cx="42483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ОР ТИКО И ЕГО ВОЗМОЖНОСТИ 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900160" y="148428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Bookman Old Style"/>
              </a:rPr>
              <a:t>Состав чисел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53" name="Picture 9" descr="4"/>
          <p:cNvPicPr/>
          <p:nvPr/>
        </p:nvPicPr>
        <p:blipFill>
          <a:blip r:embed="rId1"/>
          <a:stretch/>
        </p:blipFill>
        <p:spPr>
          <a:xfrm>
            <a:off x="6659640" y="2565360"/>
            <a:ext cx="2163600" cy="3405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7"/>
          <p:cNvPicPr/>
          <p:nvPr/>
        </p:nvPicPr>
        <p:blipFill>
          <a:blip r:embed="rId2"/>
          <a:stretch/>
        </p:blipFill>
        <p:spPr>
          <a:xfrm>
            <a:off x="3780000" y="2133720"/>
            <a:ext cx="2239920" cy="4503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10"/>
          <p:cNvPicPr/>
          <p:nvPr/>
        </p:nvPicPr>
        <p:blipFill>
          <a:blip r:embed="rId3"/>
          <a:stretch/>
        </p:blipFill>
        <p:spPr>
          <a:xfrm>
            <a:off x="611280" y="1413000"/>
            <a:ext cx="17953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0:32:34Z</dcterms:created>
  <dc:creator>Admin</dc:creator>
  <dc:description/>
  <dc:language>en-US</dc:language>
  <cp:lastModifiedBy>Анюта</cp:lastModifiedBy>
  <dcterms:modified xsi:type="dcterms:W3CDTF">2020-11-10T15:30:48Z</dcterms:modified>
  <cp:revision>231</cp:revision>
  <dc:subject/>
  <dc:title>Слайд 1</dc:title>
</cp:coreProperties>
</file>