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247E-5723-4DEB-9900-26161587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51AA-1C51-4789-A6C1-796F2A2D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4EA4-6082-4EE4-967D-A67A118C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7924-58D8-4ED6-A0FE-7E8F0851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3E4A-89DF-49AE-88B2-CF495EF0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1DEC-F2A0-46B1-AD0E-5C46C68C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32A8-BEB7-44BE-91E9-52F5A054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D3B5-A0BF-4D63-A1C7-B6647035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79DE-9710-4D75-9CE3-786CBF9B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65D9-F637-49E4-A62B-F3BA331C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5B9C-5195-4258-89D6-72AD2E1F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4FE3-5DB3-47AF-96ED-1A50B10B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D9B9-CDF1-43C9-B599-C0BC0C1B03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371600" y="457200"/>
            <a:ext cx="7772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ahoma"/>
              </a:rPr>
              <a:t>Изменение положения в России в 17 век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04920" y="58672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полнила О.Б.Турова педагог-организатор, в 21 веке второго тысячелетия н.э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9" descr="https://histrf.ru/uploads/media/default/0001/55/e6175acb96148f6d4bfea25f7daa71e33028b1f1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жнейшими внешнеполитическими задачами России было ослабить давление со стороны Речи Посполитой и Швеции - основных геополитических соперников России - и получить выход к морю. Кроме того, важной задачей было присоединение и освоение Сибири, которую на протяжении всего столетия исследовали русские землепроходцы. Если в начало столетия Россия вошла, владея Западной Сибирью и Северо-Западной (Югрой), то к 1700 году русские землепроходцы дошли до Тихого океана, исследовали Чукотку, Камчатку, Приамурье, побережье Охотского мор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560" y="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ожение России в мире менялось слабо; по причине консерватизма первых Романовых и их ориентированности прежде всего на внутренние ресурсы страны Россия не укрепляла связей с Европой, сравнительно мало заимствовала у нее культуру, не участвовала в соперничестве с другими державами, кроме Швеции и Речи Посполитой - непосредственных соседей. Однако в середине XVII века к России присоединилась вышедшая из-под власти Речи Посполитой Левобережная Украина, что отодвинула западную границу страны далее на запа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8" descr="http://uslide.ru/images/8/15108/960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533520" y="457200"/>
            <a:ext cx="792468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Учите историю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80880" y="457200"/>
            <a:ext cx="8382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17 век- век смуты и начала династии Романовых. В это время произошли большие изменения внутри страны и в мире.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Изменение политической жизни России  17 ве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нижается значение Земских собо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цветают опричн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здан тайный приказ (политическая полици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682 отменено местниче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чало создания регулярной арм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рестьяне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295280" y="1828800"/>
            <a:ext cx="7467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сновную массу населения составляли крестьяне. Их положение ухудшилось в 17 веке. Именно на их плечи легло тяжёлое время смуты и многочисленных войн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яду с развитием внутренней торговли росла и внешняя. До середины века огромные выгоды из внешней торговли извлекали иностранные купцы, вывозившие из России лес, меха, пеньку, поташ и т.д. Достаточно сказать, что английский флот был построен из русского леса, а канаты для его кораблей были сделаны из русской пеньки. Центром русской торговли с Западной Европой являлся Архангельск. Здесь имелись Английский и Голландский торговые дворы. Тесные связи устанавливались со странами Востока через Астрахань, где находились индийский и персидский торговые двор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основе мелкотоварного производства формируются круп­ные предприятия, основанное на разделении труда и ручной ремесленной технике —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ануфактур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В отличие от Западной Европы, где становление мануфактурного производства происходило в частновладельчес­ком секторе, по мере накопления капиталов у собственников, в России инициатором создания мануфактур выступило государ­ство. В XVII в. в России насчитывалось приблизительно 30 мануфактур. Первые казенные мануфактуры возникли еще в XVI 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мутное врем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самом начале XVII века страну поразил глубокий духовный, экономический, социальный, политический и внешнеполитический кризис. Он совпал с династическим кризисом и борьбой боярских группировок за власть. Все это поставило страну на грань катастрофы. Толчком для начала Cмуты стало пресечение царской династии Рюриковичей после смерти Федора I Иоанновича и не очень понятная политика новой царской династии Годунов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авители в смуту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981080"/>
          <a:ext cx="8229600" cy="4265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ит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ы правлени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жедмитрий I (предположительно – Григорий Отрепьев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июня 1605 – 17 мая 160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силий IV Иванович Шуй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 мая 1606 – 17 июля 16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авители после смуты 17 ве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2127240"/>
          <a:ext cx="11277720" cy="4730760"/>
        </p:xfrm>
        <a:graphic>
          <a:graphicData uri="http://schemas.openxmlformats.org/drawingml/2006/table">
            <a:tbl>
              <a:tblPr/>
              <a:tblGrid>
                <a:gridCol w="2874960"/>
                <a:gridCol w="6421320"/>
                <a:gridCol w="1981440"/>
              </a:tblGrid>
              <a:tr h="569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ит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ы прав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хаил Федорови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 февраля 1613 – 13 июля 16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триарх Филар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июля 1619 – 1 октября 16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ексей Михайлови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 июля 1645 – 29 января 16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дор III Алексееви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 января 1676 – 27 апреля 16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 V Алексееви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 апреля 1682 – 29 января 16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91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тр I Вели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 апреля 1682 – 22 октября 17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10000"/>
                      </a:solidFill>
                    </a:lnL>
                    <a:lnR w="576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8T09:32:21Z</dcterms:created>
  <dc:creator>Егор</dc:creator>
  <dc:description/>
  <dc:language>en-US</dc:language>
  <cp:lastModifiedBy>Windows 10</cp:lastModifiedBy>
  <dcterms:modified xsi:type="dcterms:W3CDTF">2020-11-10T07:27:3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