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374-F96A-4FA8-A24C-BB7CF059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F5A-A5C5-4EDF-A5F1-73611712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25F-A2CB-4CAD-86CD-9DD9FF2C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CBC-0C6A-4E0D-BE81-C98E2198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CD1-0AA0-4853-B4B3-B948561C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142-DC97-446B-B321-9BDB94A5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CF1-F834-4759-B5AD-6138D2A0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6A2-D81D-4F9A-A382-D6AF8CE4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252-E67F-4DEF-A489-58D69A75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F55-EF2B-4FB3-8515-14AA93CE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D0F-F30B-4EE4-9CFF-A86276A7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05F-396A-4415-B367-08C0816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141B-FBEF-4014-B642-4E7D7AC5CB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71600" y="457200"/>
            <a:ext cx="7772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Изменение положения в России в 17 ве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867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 О.Б.Турова педагог-организатор, в 21 веке второго тысячелетия н.э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9" descr="https://histrf.ru/uploads/media/default/0001/55/e6175acb96148f6d4bfea25f7daa71e33028b1f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жнейшими внешнеполитическими задачами России было ослабить давление со стороны Речи Посполитой и Швеции - основных геополитических соперников России - и получить выход к морю. Кроме того, важной задачей было присоединение и освоение Сибири, которую на протяжении всего столетия исследовали русские землепроходцы. Если в начало столетия Россия вошла, владея Западной Сибирью и Северо-Западной (Югрой), то к 1700 году русские землепроходцы дошли до Тихого океана, исследовали Чукотку, Камчатку, Приамурье, побережье Охотского мо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жение России в мире менялось слабо; по причине консерватизма первых Романовых и их ориентированности прежде всего на внутренние ресурсы страны Россия не укрепляла связей с Европой, сравнительно мало заимствовала у нее культуру, не участвовала в соперничестве с другими державами, кроме Швеции и Речи Посполитой - непосредственных соседей. Однако в середине XVII века к России присоединилась вышедшая из-под власти Речи Посполитой Левобережная Украина, что отодвинула западную границу страны далее на запа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8" descr="http://uslide.ru/images/8/15108/960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33520" y="457200"/>
            <a:ext cx="7924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Учите историю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80880" y="45720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17 век- век смуты и начала династии Романовых. В это время произошли большие изменения внутри страны и в мире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зменение политической жизни России  17 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ижается значение Земских собо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цветают опричн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 тайный приказ (политическая полиц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82 отменено мест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чало создания регулярной ар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рестьяне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95280" y="182880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новную массу населения составляли крестьяне. Их положение ухудшилось в 17 веке. Именно на их плечи легло тяжёлое время смуты и многочисленных вой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яду с развитием внутренней торговли росла и внешняя. До середины века огромные выгоды из внешней торговли извлекали иностранные купцы, вывозившие из России лес, меха, пеньку, поташ и т.д. Достаточно сказать, что английский флот был построен из русского леса, а канаты для его кораблей были сделаны из русской пеньки. Центром русской торговли с Западной Европой являлся Архангельск. Здесь имелись Английский и Голландский торговые дворы. Тесные связи устанавливались со странами Востока через Астрахань, где находились индийский и персидский торговые двор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снове мелкотоварного производства формируются круп­ные предприятия, основанное на разделении труда и ручной ремесленной технике —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ануфакту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В отличие от Западной Европы, где становление мануфактурного производства происходило в частновладельчес­ком секторе, по мере накопления капиталов у собственников, в России инициатором создания мануфактур выступило государ­ство. В XVII в. в России насчитывалось приблизительно 30 мануфактур. Первые казенные мануфактуры возникли еще в XVI 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мутно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амом начале XVII века страну поразил глубокий духовный, экономический, социальный, политический и внешнеполитический кризис. Он совпал с династическим кризисом и борьбой боярских группировок за власть. Все это поставило страну на грань катастрофы. Толчком для начала Cмуты стало пресечение царской династии Рюриковичей после смерти Федора I Иоанновича и не очень понятная политика новой царской династии Годунов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авители в смуту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981080"/>
          <a:ext cx="8229600" cy="426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ы правлени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жедмитрий I (предположительно – Григорий Отрепьев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июня 1605 – 17 мая 160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силий IV Иванович Шуй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 мая 1606 – 17 июля 16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тели после смуты 17 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127240"/>
          <a:ext cx="11277720" cy="4730760"/>
        </p:xfrm>
        <a:graphic>
          <a:graphicData uri="http://schemas.openxmlformats.org/drawingml/2006/table">
            <a:tbl>
              <a:tblPr/>
              <a:tblGrid>
                <a:gridCol w="2874960"/>
                <a:gridCol w="6421320"/>
                <a:gridCol w="1981440"/>
              </a:tblGrid>
              <a:tr h="56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ы 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хаил Федорови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февраля 1613 – 13 июля 16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триарх Филар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июля 1619 – 1 октября 16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ексей Михайлови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июля 1645 – 29 января 16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 III Алексееви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 января 1676 – 27 апреля 16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 V Алексееви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 апреля 1682 – 29 января 16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тр I Вели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 апреля 1682 – 22 октября 17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8T09:32:21Z</dcterms:created>
  <dc:creator>Егор</dc:creator>
  <dc:description/>
  <dc:language>en-US</dc:language>
  <cp:lastModifiedBy>Windows 10</cp:lastModifiedBy>
  <dcterms:modified xsi:type="dcterms:W3CDTF">2020-11-10T07:27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