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1A9-DA72-4E88-AB55-9C6C08D9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6BC-F5C9-4E34-9625-75610098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34D-FCCB-4D32-9304-AE4D432A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0A4-AC0A-413D-BE50-61771116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DDD0-3A43-443C-8AA3-AC5AD06A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6A0-7DBE-422F-B391-FE95E97C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ECD-52AC-472B-947E-E3A80C80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AF8-8E21-4A83-BD93-DEFA771C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9D0-C154-42AF-A9D5-A892E762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2638-06DA-43F6-91FC-32050026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4AD-8353-4715-BF8D-14155BC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985-37A1-4D10-8143-28196F15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BF3A-DC5A-4D60-8096-A003CAE28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9 общеразвивающего вида с приоритетным осуществлением деятельности по художественно-эстетическому направлению развития воспитанников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5"/>
          <p:cNvSpPr/>
          <p:nvPr/>
        </p:nvSpPr>
        <p:spPr>
          <a:xfrm>
            <a:off x="3733920" y="1752480"/>
            <a:ext cx="5029200" cy="289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деревянных предмет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4419720" y="5257800"/>
            <a:ext cx="426708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лыкальнова Ирин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C:\Documents and Settings\User\Рабочий стол\проект Деревянные предметы\фото к проекту дерев предметы\IMG_1169.JPG"/>
          <p:cNvPicPr/>
          <p:nvPr/>
        </p:nvPicPr>
        <p:blipFill>
          <a:blip r:embed="rId3"/>
          <a:stretch/>
        </p:blipFill>
        <p:spPr>
          <a:xfrm>
            <a:off x="457200" y="1752480"/>
            <a:ext cx="3200400" cy="449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ыт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пускаем карандаш в воду. Что происходит? Он не тонет, значит он лег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C:\Documents and Settings\User\Рабочий стол\проект Деревянные предметы\фото к проекту дерев предметы\IMG_1210.JPG"/>
          <p:cNvPicPr/>
          <p:nvPr/>
        </p:nvPicPr>
        <p:blipFill>
          <a:blip r:embed="rId3"/>
          <a:stretch/>
        </p:blipFill>
        <p:spPr>
          <a:xfrm>
            <a:off x="685800" y="2514600"/>
            <a:ext cx="265896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Рисунок 4" descr="C:\Documents and Settings\User\Рабочий стол\проект Деревянные предметы\фото к проекту дерев предметы\IMG_1211.JPG"/>
          <p:cNvPicPr/>
          <p:nvPr/>
        </p:nvPicPr>
        <p:blipFill>
          <a:blip r:embed="rId4"/>
          <a:stretch/>
        </p:blipFill>
        <p:spPr>
          <a:xfrm>
            <a:off x="2895480" y="4191120"/>
            <a:ext cx="275292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Овал 5"/>
          <p:cNvSpPr/>
          <p:nvPr/>
        </p:nvSpPr>
        <p:spPr>
          <a:xfrm>
            <a:off x="5410080" y="2438280"/>
            <a:ext cx="3353040" cy="3276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сё – эксперименты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ые момен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, всё, всё хотим узн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всё зарисов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ш опыт получи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ремени он дли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ляемся вс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? Зачем? И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ыт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дем карандаш на солнце, он не нагревается, потому что деревя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C:\Documents and Settings\User\Рабочий стол\проект Деревянные предметы\фото к проекту дерев предметы\IMG_1245.JPG"/>
          <p:cNvPicPr/>
          <p:nvPr/>
        </p:nvPicPr>
        <p:blipFill>
          <a:blip r:embed="rId3"/>
          <a:stretch/>
        </p:blipFill>
        <p:spPr>
          <a:xfrm>
            <a:off x="3048120" y="2286000"/>
            <a:ext cx="261612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Рисунок 4" descr="C:\Documents and Settings\User\Рабочий стол\проект Деревянные предметы\фото к проекту дерев предметы\IMG_1248.JPG"/>
          <p:cNvPicPr/>
          <p:nvPr/>
        </p:nvPicPr>
        <p:blipFill>
          <a:blip r:embed="rId4"/>
          <a:stretch/>
        </p:blipFill>
        <p:spPr>
          <a:xfrm>
            <a:off x="6095880" y="2286000"/>
            <a:ext cx="239868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Рисунок 5" descr="C:\Documents and Settings\User\Рабочий стол\проект Деревянные предметы\фото к проекту дерев предметы\IMG_1247.JPG"/>
          <p:cNvPicPr/>
          <p:nvPr/>
        </p:nvPicPr>
        <p:blipFill>
          <a:blip r:embed="rId5"/>
          <a:stretch/>
        </p:blipFill>
        <p:spPr>
          <a:xfrm>
            <a:off x="4648320" y="4267080"/>
            <a:ext cx="242388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Овал 6"/>
          <p:cNvSpPr/>
          <p:nvPr/>
        </p:nvSpPr>
        <p:spPr>
          <a:xfrm>
            <a:off x="457200" y="3048120"/>
            <a:ext cx="3429000" cy="3124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природе другом ст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йны все её узн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гадки разгад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наблюд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месте развивать – качество внима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может всё узн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наблюда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иров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ыт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буем разломать, разбить (не ломается, не бьется), значит проч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C:\Documents and Settings\User\Рабочий стол\проект Деревянные предметы\фото к проекту дерев предметы\IMG_1214.JPG"/>
          <p:cNvPicPr/>
          <p:nvPr/>
        </p:nvPicPr>
        <p:blipFill>
          <a:blip r:embed="rId3"/>
          <a:stretch/>
        </p:blipFill>
        <p:spPr>
          <a:xfrm>
            <a:off x="5715000" y="2286000"/>
            <a:ext cx="2865600" cy="231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Рисунок 5" descr="C:\Documents and Settings\User\Рабочий стол\проект Деревянные предметы\фото к проекту дерев предметы\IMG_1218.JPG"/>
          <p:cNvPicPr/>
          <p:nvPr/>
        </p:nvPicPr>
        <p:blipFill>
          <a:blip r:embed="rId4"/>
          <a:srcRect l="0" t="0" r="0" b="-46"/>
          <a:stretch/>
        </p:blipFill>
        <p:spPr>
          <a:xfrm>
            <a:off x="3276720" y="3962520"/>
            <a:ext cx="2817720" cy="234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Рисунок 6" descr="C:\Documents and Settings\User\Рабочий стол\проект Деревянные предметы\фото к проекту дерев предметы\IMG_1217.JPG"/>
          <p:cNvPicPr/>
          <p:nvPr/>
        </p:nvPicPr>
        <p:blipFill>
          <a:blip r:embed="rId5"/>
          <a:stretch/>
        </p:blipFill>
        <p:spPr>
          <a:xfrm>
            <a:off x="762120" y="2590920"/>
            <a:ext cx="2705040" cy="228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676160"/>
            <a:ext cx="8229600" cy="46782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амостоятельно разыгрывают  р.н.с. «Волк и семеро козлят» с помощью настольного деревян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C:\Documents and Settings\User\Рабочий стол\проект Деревянные предметы\фото к проекту дерев предметы\IMG_1240.JPG"/>
          <p:cNvPicPr/>
          <p:nvPr/>
        </p:nvPicPr>
        <p:blipFill>
          <a:blip r:embed="rId3"/>
          <a:stretch/>
        </p:blipFill>
        <p:spPr>
          <a:xfrm>
            <a:off x="3200400" y="2514600"/>
            <a:ext cx="302724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Рисунок 4" descr="C:\Documents and Settings\User\Рабочий стол\проект Деревянные предметы\фото к проекту дерев предметы\IMG_1239.JPG"/>
          <p:cNvPicPr/>
          <p:nvPr/>
        </p:nvPicPr>
        <p:blipFill>
          <a:blip r:embed="rId4"/>
          <a:stretch/>
        </p:blipFill>
        <p:spPr>
          <a:xfrm>
            <a:off x="5486400" y="4343400"/>
            <a:ext cx="2968560" cy="19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Рисунок 5" descr="C:\Documents and Settings\User\Рабочий стол\проект Деревянные предметы\фото к проекту дерев предметы\IMG_1233.JPG"/>
          <p:cNvPicPr/>
          <p:nvPr/>
        </p:nvPicPr>
        <p:blipFill>
          <a:blip r:embed="rId5"/>
          <a:srcRect l="0" t="0" r="0" b="-59"/>
          <a:stretch/>
        </p:blipFill>
        <p:spPr>
          <a:xfrm>
            <a:off x="762120" y="4419720"/>
            <a:ext cx="284292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Овал 6"/>
          <p:cNvSpPr/>
          <p:nvPr/>
        </p:nvSpPr>
        <p:spPr>
          <a:xfrm>
            <a:off x="685800" y="2438280"/>
            <a:ext cx="2362320" cy="1600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е много приключ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достных волн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8"/>
          <p:cNvSpPr/>
          <p:nvPr/>
        </p:nvSpPr>
        <p:spPr>
          <a:xfrm>
            <a:off x="6400800" y="2438280"/>
            <a:ext cx="2286000" cy="1600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дает в ней добр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, оно сильней, чем з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овая деятельность детей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C:\Documents and Settings\User\Рабочий стол\проект Деревянные предметы\фото к проекту дерев предметы\DSC_0135.JPG"/>
          <p:cNvPicPr/>
          <p:nvPr/>
        </p:nvPicPr>
        <p:blipFill>
          <a:blip r:embed="rId3"/>
          <a:stretch/>
        </p:blipFill>
        <p:spPr>
          <a:xfrm>
            <a:off x="685800" y="1905120"/>
            <a:ext cx="2744640" cy="200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Рисунок 5" descr="C:\Documents and Settings\User\Рабочий стол\проект Деревянные предметы\фото к проекту дерев предметы\DSC_0157.JPG"/>
          <p:cNvPicPr/>
          <p:nvPr/>
        </p:nvPicPr>
        <p:blipFill>
          <a:blip r:embed="rId4"/>
          <a:stretch/>
        </p:blipFill>
        <p:spPr>
          <a:xfrm>
            <a:off x="1523880" y="4191120"/>
            <a:ext cx="269712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Рисунок 6" descr="C:\Documents and Settings\User\Рабочий стол\проект Деревянные предметы\фото к проекту дерев предметы\DSC_0145.JPG"/>
          <p:cNvPicPr/>
          <p:nvPr/>
        </p:nvPicPr>
        <p:blipFill>
          <a:blip r:embed="rId5"/>
          <a:stretch/>
        </p:blipFill>
        <p:spPr>
          <a:xfrm>
            <a:off x="4724280" y="4267080"/>
            <a:ext cx="2745000" cy="208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Рисунок 7" descr="C:\Documents and Settings\User\Рабочий стол\проект Деревянные предметы\фото к проекту дерев предметы\DSC_0146.JPG"/>
          <p:cNvPicPr/>
          <p:nvPr/>
        </p:nvPicPr>
        <p:blipFill>
          <a:blip r:embed="rId6"/>
          <a:stretch/>
        </p:blipFill>
        <p:spPr>
          <a:xfrm>
            <a:off x="5867280" y="1981080"/>
            <a:ext cx="2740320" cy="21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Выноска-облако 8"/>
          <p:cNvSpPr/>
          <p:nvPr/>
        </p:nvSpPr>
        <p:spPr>
          <a:xfrm>
            <a:off x="3276720" y="1905120"/>
            <a:ext cx="2895480" cy="2133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банит снег по крыша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ускает нас гуля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кучать нам не придё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есело игр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гровая деятельность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C:\Documents and Settings\User\Рабочий стол\проект Деревянные предметы\фото к проекту дерев предметы\IMG_1083.JPG"/>
          <p:cNvPicPr/>
          <p:nvPr/>
        </p:nvPicPr>
        <p:blipFill>
          <a:blip r:embed="rId3"/>
          <a:stretch/>
        </p:blipFill>
        <p:spPr>
          <a:xfrm>
            <a:off x="914400" y="1981080"/>
            <a:ext cx="2917800" cy="215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2" name="Рисунок 4" descr="C:\Documents and Settings\User\Рабочий стол\проект Деревянные предметы\фото к проекту дерев предметы\IMG_1149.JPG"/>
          <p:cNvPicPr/>
          <p:nvPr/>
        </p:nvPicPr>
        <p:blipFill>
          <a:blip r:embed="rId4"/>
          <a:stretch/>
        </p:blipFill>
        <p:spPr>
          <a:xfrm>
            <a:off x="5105520" y="1981080"/>
            <a:ext cx="3084480" cy="221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5" descr="C:\Documents and Settings\User\Рабочий стол\проект Деревянные предметы\фото к проекту дерев предметы\IMG_1161.JPG"/>
          <p:cNvPicPr/>
          <p:nvPr/>
        </p:nvPicPr>
        <p:blipFill>
          <a:blip r:embed="rId5"/>
          <a:srcRect l="0" t="0" r="0" b="-164"/>
          <a:stretch/>
        </p:blipFill>
        <p:spPr>
          <a:xfrm>
            <a:off x="3124080" y="3962520"/>
            <a:ext cx="262728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шивание доще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3" descr="C:\Documents and Settings\User\Рабочий стол\проект Деревянные предметы\фото к проекту дерев предметы\IMG_1230.JPG"/>
          <p:cNvPicPr/>
          <p:nvPr/>
        </p:nvPicPr>
        <p:blipFill>
          <a:blip r:embed="rId3"/>
          <a:stretch/>
        </p:blipFill>
        <p:spPr>
          <a:xfrm>
            <a:off x="685800" y="1905120"/>
            <a:ext cx="350532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Рисунок 6" descr="C:\Documents and Settings\User\Рабочий стол\проект Деревянные предметы\фото к проекту дерев предметы\IMG_1226.JPG"/>
          <p:cNvPicPr/>
          <p:nvPr/>
        </p:nvPicPr>
        <p:blipFill>
          <a:blip r:embed="rId4"/>
          <a:stretch/>
        </p:blipFill>
        <p:spPr>
          <a:xfrm>
            <a:off x="4724280" y="1905120"/>
            <a:ext cx="292752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Рисунок 7" descr="C:\Documents and Settings\User\Рабочий стол\проект Деревянные предметы\фото к проекту дерев предметы\IMG_1223.JPG"/>
          <p:cNvPicPr/>
          <p:nvPr/>
        </p:nvPicPr>
        <p:blipFill>
          <a:blip r:embed="rId5"/>
          <a:srcRect l="0" t="0" r="-50" b="0"/>
          <a:stretch/>
        </p:blipFill>
        <p:spPr>
          <a:xfrm>
            <a:off x="5486400" y="4114800"/>
            <a:ext cx="2909880" cy="20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9" name="Овал 8"/>
          <p:cNvSpPr/>
          <p:nvPr/>
        </p:nvSpPr>
        <p:spPr>
          <a:xfrm>
            <a:off x="1447920" y="4419720"/>
            <a:ext cx="3886200" cy="1904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дощечкой деревя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ет кисточка хвос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осто маш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ощечку ма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 в разные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,  какая красо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удесный мешочек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загадывает загадки о разных предметах из дерева, которые лежат в мешочке. Кто правильно ответит, достает этот предмет и рассказывает, для чего он предназна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C:\Documents and Settings\User\Рабочий стол\проект Деревянные предметы\фото к проекту дерев предметы\125___03\IMG_1251.JPG"/>
          <p:cNvPicPr/>
          <p:nvPr/>
        </p:nvPicPr>
        <p:blipFill>
          <a:blip r:embed="rId3"/>
          <a:stretch/>
        </p:blipFill>
        <p:spPr>
          <a:xfrm>
            <a:off x="609480" y="2819520"/>
            <a:ext cx="250524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Рисунок 4" descr="C:\Documents and Settings\User\Рабочий стол\проект Деревянные предметы\фото к проекту дерев предметы\125___03\IMG_1254.JPG"/>
          <p:cNvPicPr/>
          <p:nvPr/>
        </p:nvPicPr>
        <p:blipFill>
          <a:blip r:embed="rId4"/>
          <a:stretch/>
        </p:blipFill>
        <p:spPr>
          <a:xfrm>
            <a:off x="6019920" y="2895480"/>
            <a:ext cx="263988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Рисунок 5" descr="C:\Documents and Settings\User\Рабочий стол\проект Деревянные предметы\фото к проекту дерев предметы\125___03\IMG_1253.JPG"/>
          <p:cNvPicPr/>
          <p:nvPr/>
        </p:nvPicPr>
        <p:blipFill>
          <a:blip r:embed="rId5"/>
          <a:stretch/>
        </p:blipFill>
        <p:spPr>
          <a:xfrm>
            <a:off x="3276720" y="3962520"/>
            <a:ext cx="2584440" cy="227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5" name="Овал 6"/>
          <p:cNvSpPr/>
          <p:nvPr/>
        </p:nvSpPr>
        <p:spPr>
          <a:xfrm>
            <a:off x="838080" y="4952880"/>
            <a:ext cx="2210040" cy="129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ё обедать буд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лубокой или мел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7"/>
          <p:cNvSpPr/>
          <p:nvPr/>
        </p:nvSpPr>
        <p:spPr>
          <a:xfrm>
            <a:off x="6019920" y="5029200"/>
            <a:ext cx="2209680" cy="1295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акая вот посу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(тарелк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сувениров ветеранам войн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C:\Documents and Settings\User\Рабочий стол\проект Деревянные предметы\фото к проекту дерев предметы\IMG_1177.JPG"/>
          <p:cNvPicPr/>
          <p:nvPr/>
        </p:nvPicPr>
        <p:blipFill>
          <a:blip r:embed="rId3"/>
          <a:stretch/>
        </p:blipFill>
        <p:spPr>
          <a:xfrm>
            <a:off x="685800" y="1981080"/>
            <a:ext cx="2884320" cy="216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Рисунок 6" descr="C:\Documents and Settings\User\Рабочий стол\проект Деревянные предметы\фото к проекту дерев предметы\IMG_1181.JPG"/>
          <p:cNvPicPr/>
          <p:nvPr/>
        </p:nvPicPr>
        <p:blipFill>
          <a:blip r:embed="rId4"/>
          <a:stretch/>
        </p:blipFill>
        <p:spPr>
          <a:xfrm>
            <a:off x="4038480" y="3886200"/>
            <a:ext cx="2129040" cy="24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" name="Рисунок 7" descr="C:\Documents and Settings\User\Рабочий стол\проект Деревянные предметы\фото к проекту дерев предметы\IMG_1185.JPG"/>
          <p:cNvPicPr/>
          <p:nvPr/>
        </p:nvPicPr>
        <p:blipFill>
          <a:blip r:embed="rId5"/>
          <a:srcRect l="0" t="0" r="0" b="-84"/>
          <a:stretch/>
        </p:blipFill>
        <p:spPr>
          <a:xfrm>
            <a:off x="6248520" y="1981080"/>
            <a:ext cx="2174760" cy="258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2" name="Овал 8"/>
          <p:cNvSpPr/>
          <p:nvPr/>
        </p:nvSpPr>
        <p:spPr>
          <a:xfrm>
            <a:off x="609480" y="4267080"/>
            <a:ext cx="3200400" cy="1981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мы взяли краски в руки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стало в группе ск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было весел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й краски не жал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C:\Documents and Settings\User\Рабочий стол\проект Деревянные предметы\фото к проекту дерев предметы\125___03\IMG_1260.JPG"/>
          <p:cNvPicPr/>
          <p:nvPr/>
        </p:nvPicPr>
        <p:blipFill>
          <a:blip r:embed="rId1"/>
          <a:stretch/>
        </p:blipFill>
        <p:spPr>
          <a:xfrm>
            <a:off x="609480" y="457200"/>
            <a:ext cx="312444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Рисунок 2" descr="C:\Documents and Settings\User\Рабочий стол\проект Деревянные предметы\фото к проекту дерев предметы\125___03\IMG_1266.JPG"/>
          <p:cNvPicPr/>
          <p:nvPr/>
        </p:nvPicPr>
        <p:blipFill>
          <a:blip r:embed="rId2"/>
          <a:stretch/>
        </p:blipFill>
        <p:spPr>
          <a:xfrm>
            <a:off x="5486400" y="457200"/>
            <a:ext cx="30891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Рисунок 3" descr="C:\Documents and Settings\User\Рабочий стол\проект Деревянные предметы\фото к проекту дерев предметы\125___03\IMG_1269.JPG"/>
          <p:cNvPicPr/>
          <p:nvPr/>
        </p:nvPicPr>
        <p:blipFill>
          <a:blip r:embed="rId3"/>
          <a:stretch/>
        </p:blipFill>
        <p:spPr>
          <a:xfrm>
            <a:off x="685800" y="3962520"/>
            <a:ext cx="3124080" cy="236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Рисунок 4" descr="C:\Documents and Settings\User\Рабочий стол\проект Деревянные предметы\фото к проекту дерев предметы\125___03\IMG_1272.JPG"/>
          <p:cNvPicPr/>
          <p:nvPr/>
        </p:nvPicPr>
        <p:blipFill>
          <a:blip r:embed="rId4"/>
          <a:stretch/>
        </p:blipFill>
        <p:spPr>
          <a:xfrm>
            <a:off x="5486400" y="3962520"/>
            <a:ext cx="3173400" cy="23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Овал 5"/>
          <p:cNvSpPr/>
          <p:nvPr/>
        </p:nvSpPr>
        <p:spPr>
          <a:xfrm>
            <a:off x="3200400" y="1905120"/>
            <a:ext cx="2819520" cy="2590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любим рисов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только краски вз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ем, всё что хочешь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пойдём игра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порт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п проект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навательно-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овой, кратк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ок реализации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недели (2.02. – 16.02.2015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астники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, родители, воспит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C:\Documents and Settings\User\Рабочий стол\фото к проекту дерев предметы\DSC_0159.JPG"/>
          <p:cNvPicPr/>
          <p:nvPr/>
        </p:nvPicPr>
        <p:blipFill>
          <a:blip r:embed="rId3"/>
          <a:stretch/>
        </p:blipFill>
        <p:spPr>
          <a:xfrm>
            <a:off x="689040" y="4267080"/>
            <a:ext cx="1968480" cy="1994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C:\Documents and Settings\User\Рабочий стол\фото к проекту дерев предметы\DSC_0151.JPG"/>
          <p:cNvPicPr/>
          <p:nvPr/>
        </p:nvPicPr>
        <p:blipFill>
          <a:blip r:embed="rId4"/>
          <a:stretch/>
        </p:blipFill>
        <p:spPr>
          <a:xfrm>
            <a:off x="6480000" y="3809880"/>
            <a:ext cx="1962360" cy="24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:\Documents and Settings\User\Рабочий стол\фото к проекту дерев предметы\DSC_0133.JPG"/>
          <p:cNvPicPr/>
          <p:nvPr/>
        </p:nvPicPr>
        <p:blipFill>
          <a:blip r:embed="rId5"/>
          <a:stretch/>
        </p:blipFill>
        <p:spPr>
          <a:xfrm>
            <a:off x="3279600" y="4346640"/>
            <a:ext cx="2584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C:\Documents and Settings\User\Рабочий стол\проект Деревянные предметы\фото к проекту дерев предметы\125___03\IMG_1273.JPG"/>
          <p:cNvPicPr/>
          <p:nvPr/>
        </p:nvPicPr>
        <p:blipFill>
          <a:blip r:embed="rId1"/>
          <a:stretch/>
        </p:blipFill>
        <p:spPr>
          <a:xfrm>
            <a:off x="457200" y="1371600"/>
            <a:ext cx="4952880" cy="38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Прямоугольник 2"/>
          <p:cNvSpPr/>
          <p:nvPr/>
        </p:nvSpPr>
        <p:spPr>
          <a:xfrm>
            <a:off x="5562720" y="990720"/>
            <a:ext cx="3200400" cy="48006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бе праздничный салю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йерверки там и ту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ет вся стра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ных ветер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цветущая вес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 им тюльп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ит белую сирен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за славный майский день?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609480" y="1981080"/>
            <a:ext cx="3276720" cy="1219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люч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4" descr="C:\Documents and Settings\User\Рабочий стол\проект Деревянные предметы\фото к проекту дерев предметы\IMG_1167.JPG"/>
          <p:cNvPicPr/>
          <p:nvPr/>
        </p:nvPicPr>
        <p:blipFill>
          <a:blip r:embed="rId3"/>
          <a:stretch/>
        </p:blipFill>
        <p:spPr>
          <a:xfrm>
            <a:off x="4952880" y="2133720"/>
            <a:ext cx="33274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Рисунок 5" descr="C:\Documents and Settings\User\Рабочий стол\проект Деревянные предметы\фото к проекту дерев предметы\IMG_1163.JPG"/>
          <p:cNvPicPr/>
          <p:nvPr/>
        </p:nvPicPr>
        <p:blipFill>
          <a:blip r:embed="rId4"/>
          <a:stretch/>
        </p:blipFill>
        <p:spPr>
          <a:xfrm>
            <a:off x="1295280" y="3809880"/>
            <a:ext cx="33498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уальность проект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детского сада трудно создать экспозиции, которы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т требованиям музейного дела. Существует практика, создаваемые в образовательных учреждениях музеи называть мини – музе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– музей «Деревянные предметы» решает задачи социально – личностного и нравственно – патриотического воспитания подрастающего поколения. Размещённые в мини-музее экспонаты, позволяют проводить работу по ознакомлению ребят  с бытом и укладом жизни на Руси, с традициями русского народа. Через живое прикосновение к культуре наших предков, прививается любовь к России, к нашей Родине, к народному творч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музее формирует представление о предметном мире, созданном руками человека, развивает у детей наглядно - действенное мыш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52480"/>
            <a:ext cx="4038480" cy="45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 детей со свойствами дерева с помощью экспериментальных действий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представления  о разнообразии деревянных изделий, их назначен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ть и увлечь детей идеей коллекционир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мини-музей  «Деревянных предметов»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4" descr="C:\Documents and Settings\User\Рабочий стол\проект Деревянные предметы\фото к проекту дерев предметы\IMG_1165.JPG"/>
          <p:cNvPicPr/>
          <p:nvPr/>
        </p:nvPicPr>
        <p:blipFill>
          <a:blip r:embed="rId3"/>
          <a:stretch/>
        </p:blipFill>
        <p:spPr>
          <a:xfrm>
            <a:off x="4648320" y="1752480"/>
            <a:ext cx="4038480" cy="16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Рисунок 5" descr="C:\Documents and Settings\User\Рабочий стол\проект Деревянные предметы\фото к проекту дерев предметы\IMG_1150.JPG"/>
          <p:cNvPicPr/>
          <p:nvPr/>
        </p:nvPicPr>
        <p:blipFill>
          <a:blip r:embed="rId4"/>
          <a:srcRect l="0" t="0" r="0" b="-55"/>
          <a:stretch/>
        </p:blipFill>
        <p:spPr>
          <a:xfrm>
            <a:off x="5638680" y="3657600"/>
            <a:ext cx="2202120" cy="261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28800"/>
            <a:ext cx="4038480" cy="4495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знания детей о дереве и его переработке в производ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определять существенные признаки и свойства материала (структуру, твёрдость, не тонет, лёгкое и т. 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828800"/>
            <a:ext cx="4038480" cy="44956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причинно - следственных связей между свойствами материала и способом его исполь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бережное отношение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C:\Documents and Settings\User\Рабочий стол\проект Деревянные предметы\фото к проекту дерев предметы\DSC_0164.JPG"/>
          <p:cNvPicPr/>
          <p:nvPr/>
        </p:nvPicPr>
        <p:blipFill>
          <a:blip r:embed="rId4"/>
          <a:stretch/>
        </p:blipFill>
        <p:spPr>
          <a:xfrm>
            <a:off x="1600200" y="4191120"/>
            <a:ext cx="2763720" cy="194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" name="Рисунок 5" descr="C:\Documents and Settings\User\Рабочий стол\проект Деревянные предметы\фото к проекту дерев предметы\DSC_0166.JPG"/>
          <p:cNvPicPr/>
          <p:nvPr/>
        </p:nvPicPr>
        <p:blipFill>
          <a:blip r:embed="rId5"/>
          <a:srcRect l="0" t="0" r="0" b="-1052"/>
          <a:stretch/>
        </p:blipFill>
        <p:spPr>
          <a:xfrm>
            <a:off x="5867280" y="4419720"/>
            <a:ext cx="2765520" cy="186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жидаемый результа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любознательности, творческих способностей, познавательной активности, коммуникативных навыков. Создание мини-музея в груп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Documents and Settings\User\Рабочий стол\проект Деревянные предметы\фото к проекту дерев предметы\IMG_1083.JPG"/>
          <p:cNvPicPr/>
          <p:nvPr/>
        </p:nvPicPr>
        <p:blipFill>
          <a:blip r:embed="rId3"/>
          <a:stretch/>
        </p:blipFill>
        <p:spPr>
          <a:xfrm>
            <a:off x="3886200" y="2666880"/>
            <a:ext cx="4411800" cy="335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Овал 7"/>
          <p:cNvSpPr/>
          <p:nvPr/>
        </p:nvSpPr>
        <p:spPr>
          <a:xfrm>
            <a:off x="609480" y="2895480"/>
            <a:ext cx="3048120" cy="3200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екла, вари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 накорм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меня слуш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енько всё скуш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уп из грибочк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ирог из песоч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тлеты из глин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пот из ряб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тог проектной деятельности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активно проявляют интерес к деревянным изделиям, исследуя их и экспериментируя с ними; деревянные предметы обогащают чувственный опыт детей в разных видах деятельности. Формируют представления о простейших связях между предметами ближайшего окружения; формируют интерес к эстетический стороне окружающей действительности. Деревянные игрушки способствуют активной                                                                          игровой деятель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C:\Documents and Settings\User\Рабочий стол\проект Деревянные предметы\фото к проекту дерев предметы\IMG_1149.JPG"/>
          <p:cNvPicPr/>
          <p:nvPr/>
        </p:nvPicPr>
        <p:blipFill>
          <a:blip r:embed="rId3"/>
          <a:srcRect l="0" t="0" r="0" b="-52"/>
          <a:stretch/>
        </p:blipFill>
        <p:spPr>
          <a:xfrm>
            <a:off x="838080" y="4114800"/>
            <a:ext cx="2179800" cy="20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Рисунок 4" descr="C:\Documents and Settings\User\Рабочий стол\проект Деревянные предметы\фото к проекту дерев предметы\IMG_1078.JPG"/>
          <p:cNvPicPr/>
          <p:nvPr/>
        </p:nvPicPr>
        <p:blipFill>
          <a:blip r:embed="rId4"/>
          <a:srcRect l="0" t="0" r="0" b="-134"/>
          <a:stretch/>
        </p:blipFill>
        <p:spPr>
          <a:xfrm>
            <a:off x="6705720" y="4038480"/>
            <a:ext cx="1873080" cy="215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Овал 5"/>
          <p:cNvSpPr/>
          <p:nvPr/>
        </p:nvSpPr>
        <p:spPr>
          <a:xfrm>
            <a:off x="2971800" y="4038480"/>
            <a:ext cx="3733920" cy="228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ого игрушек в детском сад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игрушки стоят на ви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 их не бьём, не лома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х у товарищей не отнима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и игрушки стоят на виду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 у нас общее в детском са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целей, задач, подбор оптимальных методов и прием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609480" y="1905120"/>
            <a:ext cx="3733920" cy="990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4" descr="C:\Documents and Settings\User\Рабочий стол\Детский сад\иллюстрации к сказке Буратино\6.jpg"/>
          <p:cNvPicPr/>
          <p:nvPr/>
        </p:nvPicPr>
        <p:blipFill>
          <a:blip r:embed="rId3"/>
          <a:stretch/>
        </p:blipFill>
        <p:spPr>
          <a:xfrm>
            <a:off x="5257800" y="3733920"/>
            <a:ext cx="3078000" cy="251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36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(игры, эксперементирова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альбо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мини-музея в группе «В мире деревянных предметов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сувениров ветеранам вой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5"/>
          <p:cNvSpPr/>
          <p:nvPr/>
        </p:nvSpPr>
        <p:spPr>
          <a:xfrm>
            <a:off x="685800" y="1981080"/>
            <a:ext cx="3124080" cy="12193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C:\Documents and Settings\User\Рабочий стол\проект Деревянные предметы\фото к проекту дерев предметы\IMG_1186.JPG"/>
          <p:cNvPicPr/>
          <p:nvPr/>
        </p:nvPicPr>
        <p:blipFill>
          <a:blip r:embed="rId3"/>
          <a:stretch/>
        </p:blipFill>
        <p:spPr>
          <a:xfrm>
            <a:off x="5029200" y="2286000"/>
            <a:ext cx="3282840" cy="217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Пользователь Windows</cp:lastModifiedBy>
  <dcterms:modified xsi:type="dcterms:W3CDTF">2020-11-10T06:43:1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