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987F-D43B-4B98-907E-C1DE00DF4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956B-73FC-47E9-A3A7-0FCF8557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0286-7D45-4412-BAC4-48DC89472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0C91-5C63-4E76-AD70-A3E8C1636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612F-ABA8-4DE1-977B-AA0E376D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9376-EBF5-41BD-8524-92C5B0CB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7F17-E0BF-4FB4-9ECE-0D0F1B2B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3E2E-7E55-4E23-9147-3D7823FB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CCF1-1F05-4AC4-900F-919D25FB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6B4F-274A-4641-A8F4-A7FA47BE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4CEE-5110-46BB-8515-1DC8F16C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9A57-5862-4738-8286-E0E8867C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CBA3-9424-4BCA-98DA-85145CB9CE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848360" cy="990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«Детский сад №9 общеразвивающего вида с приоритетным осуществлением деятельности по художественно-эстетическому направлению развития воспитанников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5"/>
          <p:cNvSpPr/>
          <p:nvPr/>
        </p:nvSpPr>
        <p:spPr>
          <a:xfrm>
            <a:off x="3733920" y="1752480"/>
            <a:ext cx="5029200" cy="289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мире деревянных предм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7"/>
          <p:cNvSpPr/>
          <p:nvPr/>
        </p:nvSpPr>
        <p:spPr>
          <a:xfrm>
            <a:off x="4419720" y="5257800"/>
            <a:ext cx="4267080" cy="106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лыкальнова Ирина Вячеслав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6" descr="C:\Documents and Settings\User\Рабочий стол\проект Деревянные предметы\фото к проекту дерев предметы\IMG_1169.JPG"/>
          <p:cNvPicPr/>
          <p:nvPr/>
        </p:nvPicPr>
        <p:blipFill>
          <a:blip r:embed="rId3"/>
          <a:stretch/>
        </p:blipFill>
        <p:spPr>
          <a:xfrm>
            <a:off x="457200" y="1752480"/>
            <a:ext cx="3200400" cy="449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036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ирова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пыт 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пускаем карандаш в воду. Что происходит? Он не тонет, значит он лег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3" descr="C:\Documents and Settings\User\Рабочий стол\проект Деревянные предметы\фото к проекту дерев предметы\IMG_1210.JPG"/>
          <p:cNvPicPr/>
          <p:nvPr/>
        </p:nvPicPr>
        <p:blipFill>
          <a:blip r:embed="rId3"/>
          <a:stretch/>
        </p:blipFill>
        <p:spPr>
          <a:xfrm>
            <a:off x="685800" y="2514600"/>
            <a:ext cx="2658960" cy="1905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" name="Рисунок 4" descr="C:\Documents and Settings\User\Рабочий стол\проект Деревянные предметы\фото к проекту дерев предметы\IMG_1211.JPG"/>
          <p:cNvPicPr/>
          <p:nvPr/>
        </p:nvPicPr>
        <p:blipFill>
          <a:blip r:embed="rId4"/>
          <a:stretch/>
        </p:blipFill>
        <p:spPr>
          <a:xfrm>
            <a:off x="2895480" y="4191120"/>
            <a:ext cx="2752920" cy="198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3" name="Овал 5"/>
          <p:cNvSpPr/>
          <p:nvPr/>
        </p:nvSpPr>
        <p:spPr>
          <a:xfrm>
            <a:off x="5410080" y="2438280"/>
            <a:ext cx="3353040" cy="3276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всё – эксперименты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ные моменты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, всё, всё хотим узнат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всё зарисоват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ш опыт получил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ремени он длилс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ляемся всем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? Зачем? И почем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ирова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пыт 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ладем карандаш на солнце, он не нагревается, потому что деревян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C:\Documents and Settings\User\Рабочий стол\проект Деревянные предметы\фото к проекту дерев предметы\IMG_1245.JPG"/>
          <p:cNvPicPr/>
          <p:nvPr/>
        </p:nvPicPr>
        <p:blipFill>
          <a:blip r:embed="rId3"/>
          <a:stretch/>
        </p:blipFill>
        <p:spPr>
          <a:xfrm>
            <a:off x="3048120" y="2286000"/>
            <a:ext cx="2616120" cy="1905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7" name="Рисунок 4" descr="C:\Documents and Settings\User\Рабочий стол\проект Деревянные предметы\фото к проекту дерев предметы\IMG_1248.JPG"/>
          <p:cNvPicPr/>
          <p:nvPr/>
        </p:nvPicPr>
        <p:blipFill>
          <a:blip r:embed="rId4"/>
          <a:stretch/>
        </p:blipFill>
        <p:spPr>
          <a:xfrm>
            <a:off x="6095880" y="2286000"/>
            <a:ext cx="2398680" cy="198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" name="Рисунок 5" descr="C:\Documents and Settings\User\Рабочий стол\проект Деревянные предметы\фото к проекту дерев предметы\IMG_1247.JPG"/>
          <p:cNvPicPr/>
          <p:nvPr/>
        </p:nvPicPr>
        <p:blipFill>
          <a:blip r:embed="rId5"/>
          <a:stretch/>
        </p:blipFill>
        <p:spPr>
          <a:xfrm>
            <a:off x="4648320" y="4267080"/>
            <a:ext cx="2423880" cy="203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9" name="Овал 6"/>
          <p:cNvSpPr/>
          <p:nvPr/>
        </p:nvSpPr>
        <p:spPr>
          <a:xfrm>
            <a:off x="457200" y="3048120"/>
            <a:ext cx="3429000" cy="3124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природе другом ст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йны все её узн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загадки разгад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 наблюд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вместе развивать – качество внимате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может всё узн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а наблюдате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ирова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пыт 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робуем разломать, разбить (не ломается, не бьется), значит проч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3" descr="C:\Documents and Settings\User\Рабочий стол\проект Деревянные предметы\фото к проекту дерев предметы\IMG_1214.JPG"/>
          <p:cNvPicPr/>
          <p:nvPr/>
        </p:nvPicPr>
        <p:blipFill>
          <a:blip r:embed="rId3"/>
          <a:stretch/>
        </p:blipFill>
        <p:spPr>
          <a:xfrm>
            <a:off x="5715000" y="2286000"/>
            <a:ext cx="2865600" cy="2313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3" name="Рисунок 5" descr="C:\Documents and Settings\User\Рабочий стол\проект Деревянные предметы\фото к проекту дерев предметы\IMG_1218.JPG"/>
          <p:cNvPicPr/>
          <p:nvPr/>
        </p:nvPicPr>
        <p:blipFill>
          <a:blip r:embed="rId4"/>
          <a:srcRect l="0" t="0" r="0" b="-46"/>
          <a:stretch/>
        </p:blipFill>
        <p:spPr>
          <a:xfrm>
            <a:off x="3276720" y="3962520"/>
            <a:ext cx="2817720" cy="2342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4" name="Рисунок 6" descr="C:\Documents and Settings\User\Рабочий стол\проект Деревянные предметы\фото к проекту дерев предметы\IMG_1217.JPG"/>
          <p:cNvPicPr/>
          <p:nvPr/>
        </p:nvPicPr>
        <p:blipFill>
          <a:blip r:embed="rId5"/>
          <a:stretch/>
        </p:blipFill>
        <p:spPr>
          <a:xfrm>
            <a:off x="762120" y="2590920"/>
            <a:ext cx="2705040" cy="2282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33520" y="1676160"/>
            <a:ext cx="8229600" cy="46782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амостоятельно разыгрывают  р.н.с. «Волк и семеро козлят» с помощью настольного деревянного теат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3" descr="C:\Documents and Settings\User\Рабочий стол\проект Деревянные предметы\фото к проекту дерев предметы\IMG_1240.JPG"/>
          <p:cNvPicPr/>
          <p:nvPr/>
        </p:nvPicPr>
        <p:blipFill>
          <a:blip r:embed="rId3"/>
          <a:stretch/>
        </p:blipFill>
        <p:spPr>
          <a:xfrm>
            <a:off x="3200400" y="2514600"/>
            <a:ext cx="3027240" cy="198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8" name="Рисунок 4" descr="C:\Documents and Settings\User\Рабочий стол\проект Деревянные предметы\фото к проекту дерев предметы\IMG_1239.JPG"/>
          <p:cNvPicPr/>
          <p:nvPr/>
        </p:nvPicPr>
        <p:blipFill>
          <a:blip r:embed="rId4"/>
          <a:stretch/>
        </p:blipFill>
        <p:spPr>
          <a:xfrm>
            <a:off x="5486400" y="4343400"/>
            <a:ext cx="2968560" cy="1905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9" name="Рисунок 5" descr="C:\Documents and Settings\User\Рабочий стол\проект Деревянные предметы\фото к проекту дерев предметы\IMG_1233.JPG"/>
          <p:cNvPicPr/>
          <p:nvPr/>
        </p:nvPicPr>
        <p:blipFill>
          <a:blip r:embed="rId5"/>
          <a:srcRect l="0" t="0" r="0" b="-59"/>
          <a:stretch/>
        </p:blipFill>
        <p:spPr>
          <a:xfrm>
            <a:off x="762120" y="4419720"/>
            <a:ext cx="2842920" cy="1828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Овал 6"/>
          <p:cNvSpPr/>
          <p:nvPr/>
        </p:nvSpPr>
        <p:spPr>
          <a:xfrm>
            <a:off x="685800" y="2438280"/>
            <a:ext cx="2362320" cy="1600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казке много приключен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радостных волн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8"/>
          <p:cNvSpPr/>
          <p:nvPr/>
        </p:nvSpPr>
        <p:spPr>
          <a:xfrm>
            <a:off x="6400800" y="2438280"/>
            <a:ext cx="2286000" cy="1600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ждает в ней добр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, оно сильней, чем з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 игровая деятельность детей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3520" y="18288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4" descr="C:\Documents and Settings\User\Рабочий стол\проект Деревянные предметы\фото к проекту дерев предметы\DSC_0135.JPG"/>
          <p:cNvPicPr/>
          <p:nvPr/>
        </p:nvPicPr>
        <p:blipFill>
          <a:blip r:embed="rId3"/>
          <a:stretch/>
        </p:blipFill>
        <p:spPr>
          <a:xfrm>
            <a:off x="685800" y="1905120"/>
            <a:ext cx="2744640" cy="2006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5" name="Рисунок 5" descr="C:\Documents and Settings\User\Рабочий стол\проект Деревянные предметы\фото к проекту дерев предметы\DSC_0157.JPG"/>
          <p:cNvPicPr/>
          <p:nvPr/>
        </p:nvPicPr>
        <p:blipFill>
          <a:blip r:embed="rId4"/>
          <a:stretch/>
        </p:blipFill>
        <p:spPr>
          <a:xfrm>
            <a:off x="1523880" y="4191120"/>
            <a:ext cx="2697120" cy="215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" name="Рисунок 6" descr="C:\Documents and Settings\User\Рабочий стол\проект Деревянные предметы\фото к проекту дерев предметы\DSC_0145.JPG"/>
          <p:cNvPicPr/>
          <p:nvPr/>
        </p:nvPicPr>
        <p:blipFill>
          <a:blip r:embed="rId5"/>
          <a:stretch/>
        </p:blipFill>
        <p:spPr>
          <a:xfrm>
            <a:off x="4724280" y="4267080"/>
            <a:ext cx="2745000" cy="2084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7" name="Рисунок 7" descr="C:\Documents and Settings\User\Рабочий стол\проект Деревянные предметы\фото к проекту дерев предметы\DSC_0146.JPG"/>
          <p:cNvPicPr/>
          <p:nvPr/>
        </p:nvPicPr>
        <p:blipFill>
          <a:blip r:embed="rId6"/>
          <a:stretch/>
        </p:blipFill>
        <p:spPr>
          <a:xfrm>
            <a:off x="5867280" y="1981080"/>
            <a:ext cx="2740320" cy="215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8" name="Выноска-облако 8"/>
          <p:cNvSpPr/>
          <p:nvPr/>
        </p:nvSpPr>
        <p:spPr>
          <a:xfrm>
            <a:off x="3276720" y="1905120"/>
            <a:ext cx="2895480" cy="2133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абанит снег по крышам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ускает нас гулять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скучать нам не придёт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весело игр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 игровая деятельность де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3" descr="C:\Documents and Settings\User\Рабочий стол\проект Деревянные предметы\фото к проекту дерев предметы\IMG_1083.JPG"/>
          <p:cNvPicPr/>
          <p:nvPr/>
        </p:nvPicPr>
        <p:blipFill>
          <a:blip r:embed="rId3"/>
          <a:stretch/>
        </p:blipFill>
        <p:spPr>
          <a:xfrm>
            <a:off x="914400" y="1981080"/>
            <a:ext cx="2917800" cy="215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2" name="Рисунок 4" descr="C:\Documents and Settings\User\Рабочий стол\проект Деревянные предметы\фото к проекту дерев предметы\IMG_1149.JPG"/>
          <p:cNvPicPr/>
          <p:nvPr/>
        </p:nvPicPr>
        <p:blipFill>
          <a:blip r:embed="rId4"/>
          <a:stretch/>
        </p:blipFill>
        <p:spPr>
          <a:xfrm>
            <a:off x="5105520" y="1981080"/>
            <a:ext cx="3084480" cy="2210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3" name="Рисунок 5" descr="C:\Documents and Settings\User\Рабочий стол\проект Деревянные предметы\фото к проекту дерев предметы\IMG_1161.JPG"/>
          <p:cNvPicPr/>
          <p:nvPr/>
        </p:nvPicPr>
        <p:blipFill>
          <a:blip r:embed="rId5"/>
          <a:srcRect l="0" t="0" r="0" b="-164"/>
          <a:stretch/>
        </p:blipFill>
        <p:spPr>
          <a:xfrm>
            <a:off x="3124080" y="3962520"/>
            <a:ext cx="2627280" cy="219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ашивание дощеч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Содержимое 3" descr="C:\Documents and Settings\User\Рабочий стол\проект Деревянные предметы\фото к проекту дерев предметы\IMG_1230.JPG"/>
          <p:cNvPicPr/>
          <p:nvPr/>
        </p:nvPicPr>
        <p:blipFill>
          <a:blip r:embed="rId3"/>
          <a:stretch/>
        </p:blipFill>
        <p:spPr>
          <a:xfrm>
            <a:off x="685800" y="1905120"/>
            <a:ext cx="3505320" cy="297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7" name="Рисунок 6" descr="C:\Documents and Settings\User\Рабочий стол\проект Деревянные предметы\фото к проекту дерев предметы\IMG_1226.JPG"/>
          <p:cNvPicPr/>
          <p:nvPr/>
        </p:nvPicPr>
        <p:blipFill>
          <a:blip r:embed="rId4"/>
          <a:stretch/>
        </p:blipFill>
        <p:spPr>
          <a:xfrm>
            <a:off x="4724280" y="1905120"/>
            <a:ext cx="2927520" cy="198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8" name="Рисунок 7" descr="C:\Documents and Settings\User\Рабочий стол\проект Деревянные предметы\фото к проекту дерев предметы\IMG_1223.JPG"/>
          <p:cNvPicPr/>
          <p:nvPr/>
        </p:nvPicPr>
        <p:blipFill>
          <a:blip r:embed="rId5"/>
          <a:srcRect l="0" t="0" r="-50" b="0"/>
          <a:stretch/>
        </p:blipFill>
        <p:spPr>
          <a:xfrm>
            <a:off x="5486400" y="4114800"/>
            <a:ext cx="2909880" cy="20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9" name="Овал 8"/>
          <p:cNvSpPr/>
          <p:nvPr/>
        </p:nvSpPr>
        <p:spPr>
          <a:xfrm>
            <a:off x="1447920" y="4419720"/>
            <a:ext cx="3886200" cy="19047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 дощечкой деревян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ет кисточка хвос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просто маш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дощечку маж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т в разные цв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х,  какая красот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Чудесный мешочек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ий загадывает загадки о разных предметах из дерева, которые лежат в мешочке. Кто правильно ответит, достает этот предмет и рассказывает, для чего он предназнач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3" descr="C:\Documents and Settings\User\Рабочий стол\проект Деревянные предметы\фото к проекту дерев предметы\125___03\IMG_1251.JPG"/>
          <p:cNvPicPr/>
          <p:nvPr/>
        </p:nvPicPr>
        <p:blipFill>
          <a:blip r:embed="rId3"/>
          <a:stretch/>
        </p:blipFill>
        <p:spPr>
          <a:xfrm>
            <a:off x="609480" y="2819520"/>
            <a:ext cx="2505240" cy="2057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3" name="Рисунок 4" descr="C:\Documents and Settings\User\Рабочий стол\проект Деревянные предметы\фото к проекту дерев предметы\125___03\IMG_1254.JPG"/>
          <p:cNvPicPr/>
          <p:nvPr/>
        </p:nvPicPr>
        <p:blipFill>
          <a:blip r:embed="rId4"/>
          <a:stretch/>
        </p:blipFill>
        <p:spPr>
          <a:xfrm>
            <a:off x="6019920" y="2895480"/>
            <a:ext cx="2639880" cy="2057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4" name="Рисунок 5" descr="C:\Documents and Settings\User\Рабочий стол\проект Деревянные предметы\фото к проекту дерев предметы\125___03\IMG_1253.JPG"/>
          <p:cNvPicPr/>
          <p:nvPr/>
        </p:nvPicPr>
        <p:blipFill>
          <a:blip r:embed="rId5"/>
          <a:stretch/>
        </p:blipFill>
        <p:spPr>
          <a:xfrm>
            <a:off x="3276720" y="3962520"/>
            <a:ext cx="2584440" cy="2276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5" name="Овал 6"/>
          <p:cNvSpPr/>
          <p:nvPr/>
        </p:nvSpPr>
        <p:spPr>
          <a:xfrm>
            <a:off x="838080" y="4952880"/>
            <a:ext cx="2210040" cy="1295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её обедать буд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глубокой или мел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7"/>
          <p:cNvSpPr/>
          <p:nvPr/>
        </p:nvSpPr>
        <p:spPr>
          <a:xfrm>
            <a:off x="6019920" y="5029200"/>
            <a:ext cx="2209680" cy="1295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акая вот посу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(тарелко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сувениров ветеранам войн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Содержимое 3" descr="C:\Documents and Settings\User\Рабочий стол\проект Деревянные предметы\фото к проекту дерев предметы\IMG_1177.JPG"/>
          <p:cNvPicPr/>
          <p:nvPr/>
        </p:nvPicPr>
        <p:blipFill>
          <a:blip r:embed="rId3"/>
          <a:stretch/>
        </p:blipFill>
        <p:spPr>
          <a:xfrm>
            <a:off x="685800" y="1981080"/>
            <a:ext cx="2884320" cy="2165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0" name="Рисунок 6" descr="C:\Documents and Settings\User\Рабочий стол\проект Деревянные предметы\фото к проекту дерев предметы\IMG_1181.JPG"/>
          <p:cNvPicPr/>
          <p:nvPr/>
        </p:nvPicPr>
        <p:blipFill>
          <a:blip r:embed="rId4"/>
          <a:stretch/>
        </p:blipFill>
        <p:spPr>
          <a:xfrm>
            <a:off x="4038480" y="3886200"/>
            <a:ext cx="2129040" cy="2433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1" name="Рисунок 7" descr="C:\Documents and Settings\User\Рабочий стол\проект Деревянные предметы\фото к проекту дерев предметы\IMG_1185.JPG"/>
          <p:cNvPicPr/>
          <p:nvPr/>
        </p:nvPicPr>
        <p:blipFill>
          <a:blip r:embed="rId5"/>
          <a:srcRect l="0" t="0" r="0" b="-84"/>
          <a:stretch/>
        </p:blipFill>
        <p:spPr>
          <a:xfrm>
            <a:off x="6248520" y="1981080"/>
            <a:ext cx="2174760" cy="258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2" name="Овал 8"/>
          <p:cNvSpPr/>
          <p:nvPr/>
        </p:nvSpPr>
        <p:spPr>
          <a:xfrm>
            <a:off x="609480" y="4267080"/>
            <a:ext cx="3200400" cy="19814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мы взяли краски в руки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стало в группе ску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было веселе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ой краски не жале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1" descr="C:\Documents and Settings\User\Рабочий стол\проект Деревянные предметы\фото к проекту дерев предметы\125___03\IMG_1260.JPG"/>
          <p:cNvPicPr/>
          <p:nvPr/>
        </p:nvPicPr>
        <p:blipFill>
          <a:blip r:embed="rId1"/>
          <a:stretch/>
        </p:blipFill>
        <p:spPr>
          <a:xfrm>
            <a:off x="609480" y="457200"/>
            <a:ext cx="3124440" cy="228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4" name="Рисунок 2" descr="C:\Documents and Settings\User\Рабочий стол\проект Деревянные предметы\фото к проекту дерев предметы\125___03\IMG_1266.JPG"/>
          <p:cNvPicPr/>
          <p:nvPr/>
        </p:nvPicPr>
        <p:blipFill>
          <a:blip r:embed="rId2"/>
          <a:stretch/>
        </p:blipFill>
        <p:spPr>
          <a:xfrm>
            <a:off x="5486400" y="457200"/>
            <a:ext cx="3089160" cy="228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5" name="Рисунок 3" descr="C:\Documents and Settings\User\Рабочий стол\проект Деревянные предметы\фото к проекту дерев предметы\125___03\IMG_1269.JPG"/>
          <p:cNvPicPr/>
          <p:nvPr/>
        </p:nvPicPr>
        <p:blipFill>
          <a:blip r:embed="rId3"/>
          <a:stretch/>
        </p:blipFill>
        <p:spPr>
          <a:xfrm>
            <a:off x="685800" y="3962520"/>
            <a:ext cx="3124080" cy="236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6" name="Рисунок 4" descr="C:\Documents and Settings\User\Рабочий стол\проект Деревянные предметы\фото к проекту дерев предметы\125___03\IMG_1272.JPG"/>
          <p:cNvPicPr/>
          <p:nvPr/>
        </p:nvPicPr>
        <p:blipFill>
          <a:blip r:embed="rId4"/>
          <a:stretch/>
        </p:blipFill>
        <p:spPr>
          <a:xfrm>
            <a:off x="5486400" y="3962520"/>
            <a:ext cx="3173400" cy="2379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7" name="Овал 5"/>
          <p:cNvSpPr/>
          <p:nvPr/>
        </p:nvSpPr>
        <p:spPr>
          <a:xfrm>
            <a:off x="3200400" y="1905120"/>
            <a:ext cx="2819520" cy="2590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ы любим рисов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т только краски взя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уем, всё что хочешь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том пойдём играть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аспорт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267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ип проекта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навательно-исследователь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д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групповой, краткосро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рок реализации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2 недели (2.02. – 16.02.2015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частники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дети, родители, воспит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C:\Documents and Settings\User\Рабочий стол\фото к проекту дерев предметы\DSC_0159.JPG"/>
          <p:cNvPicPr/>
          <p:nvPr/>
        </p:nvPicPr>
        <p:blipFill>
          <a:blip r:embed="rId3"/>
          <a:stretch/>
        </p:blipFill>
        <p:spPr>
          <a:xfrm>
            <a:off x="689040" y="4267080"/>
            <a:ext cx="1968480" cy="19940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C:\Documents and Settings\User\Рабочий стол\фото к проекту дерев предметы\DSC_0151.JPG"/>
          <p:cNvPicPr/>
          <p:nvPr/>
        </p:nvPicPr>
        <p:blipFill>
          <a:blip r:embed="rId4"/>
          <a:stretch/>
        </p:blipFill>
        <p:spPr>
          <a:xfrm>
            <a:off x="6480000" y="3809880"/>
            <a:ext cx="1962360" cy="24577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C:\Documents and Settings\User\Рабочий стол\фото к проекту дерев предметы\DSC_0133.JPG"/>
          <p:cNvPicPr/>
          <p:nvPr/>
        </p:nvPicPr>
        <p:blipFill>
          <a:blip r:embed="rId5"/>
          <a:stretch/>
        </p:blipFill>
        <p:spPr>
          <a:xfrm>
            <a:off x="3279600" y="4346640"/>
            <a:ext cx="258480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1" descr="C:\Documents and Settings\User\Рабочий стол\проект Деревянные предметы\фото к проекту дерев предметы\125___03\IMG_1273.JPG"/>
          <p:cNvPicPr/>
          <p:nvPr/>
        </p:nvPicPr>
        <p:blipFill>
          <a:blip r:embed="rId1"/>
          <a:stretch/>
        </p:blipFill>
        <p:spPr>
          <a:xfrm>
            <a:off x="457200" y="1371600"/>
            <a:ext cx="4952880" cy="3886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9" name="Прямоугольник 2"/>
          <p:cNvSpPr/>
          <p:nvPr/>
        </p:nvSpPr>
        <p:spPr>
          <a:xfrm>
            <a:off x="5562720" y="990720"/>
            <a:ext cx="3200400" cy="48006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ебе праздничный салют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йерверки там и ту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дравляет вся стра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вных ветерано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цветущая вес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рит им тюльпан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рит белую сирен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за славный майский день?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036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еализации проект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3"/>
          <p:cNvSpPr/>
          <p:nvPr/>
        </p:nvSpPr>
        <p:spPr>
          <a:xfrm>
            <a:off x="609480" y="1981080"/>
            <a:ext cx="3276720" cy="1219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ключи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4" descr="C:\Documents and Settings\User\Рабочий стол\проект Деревянные предметы\фото к проекту дерев предметы\IMG_1167.JPG"/>
          <p:cNvPicPr/>
          <p:nvPr/>
        </p:nvPicPr>
        <p:blipFill>
          <a:blip r:embed="rId3"/>
          <a:stretch/>
        </p:blipFill>
        <p:spPr>
          <a:xfrm>
            <a:off x="4952880" y="2133720"/>
            <a:ext cx="3327480" cy="250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4" name="Рисунок 5" descr="C:\Documents and Settings\User\Рабочий стол\проект Деревянные предметы\фото к проекту дерев предметы\IMG_1163.JPG"/>
          <p:cNvPicPr/>
          <p:nvPr/>
        </p:nvPicPr>
        <p:blipFill>
          <a:blip r:embed="rId4"/>
          <a:stretch/>
        </p:blipFill>
        <p:spPr>
          <a:xfrm>
            <a:off x="1295280" y="3809880"/>
            <a:ext cx="334980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ктуальность проект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словиях детского сада трудно создать экспозиции, которые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ют требованиям музейного дела. Существует практика, создаваемые в образовательных учреждениях музеи называть мини – музе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 – музей «Деревянные предметы» решает задачи социально – личностного и нравственно – патриотического воспитания подрастающего поколения. Размещённые в мини-музее экспонаты, позволяют проводить работу по ознакомлению ребят  с бытом и укладом жизни на Руси, с традициями русского народа. Через живое прикосновение к культуре наших предков, прививается любовь к России, к нашей Родине, к народному творчест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музее формирует представление о предметном мире, созданном руками человека, развивает у детей наглядно - действенное мыш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036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752480"/>
            <a:ext cx="4038480" cy="4572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 детей со свойствами дерева с помощью экспериментальных действий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ять представления  о разнообразии деревянных изделий, их назначении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интересовать и увлечь детей идеей коллекционир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мини-музей  «Деревянных предметов» в груп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Содержимое 4" descr="C:\Documents and Settings\User\Рабочий стол\проект Деревянные предметы\фото к проекту дерев предметы\IMG_1165.JPG"/>
          <p:cNvPicPr/>
          <p:nvPr/>
        </p:nvPicPr>
        <p:blipFill>
          <a:blip r:embed="rId3"/>
          <a:stretch/>
        </p:blipFill>
        <p:spPr>
          <a:xfrm>
            <a:off x="4648320" y="1752480"/>
            <a:ext cx="4038480" cy="1649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6" name="Рисунок 5" descr="C:\Documents and Settings\User\Рабочий стол\проект Деревянные предметы\фото к проекту дерев предметы\IMG_1150.JPG"/>
          <p:cNvPicPr/>
          <p:nvPr/>
        </p:nvPicPr>
        <p:blipFill>
          <a:blip r:embed="rId4"/>
          <a:srcRect l="0" t="0" r="0" b="-55"/>
          <a:stretch/>
        </p:blipFill>
        <p:spPr>
          <a:xfrm>
            <a:off x="5638680" y="3657600"/>
            <a:ext cx="2202120" cy="261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828800"/>
            <a:ext cx="4038480" cy="44956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ировать знания детей о дереве и его переработке в производств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мения определять существенные признаки и свойства материала (структуру, твёрдость, не тонет, лёгкое и т. 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828800"/>
            <a:ext cx="4038480" cy="44956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 причинно - следственных связей между свойствами материала и способом его исполь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мение делать выво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бережное отношение к при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4" descr="C:\Documents and Settings\User\Рабочий стол\проект Деревянные предметы\фото к проекту дерев предметы\DSC_0164.JPG"/>
          <p:cNvPicPr/>
          <p:nvPr/>
        </p:nvPicPr>
        <p:blipFill>
          <a:blip r:embed="rId4"/>
          <a:stretch/>
        </p:blipFill>
        <p:spPr>
          <a:xfrm>
            <a:off x="1600200" y="4191120"/>
            <a:ext cx="2763720" cy="19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" name="Рисунок 5" descr="C:\Documents and Settings\User\Рабочий стол\проект Деревянные предметы\фото к проекту дерев предметы\DSC_0166.JPG"/>
          <p:cNvPicPr/>
          <p:nvPr/>
        </p:nvPicPr>
        <p:blipFill>
          <a:blip r:embed="rId5"/>
          <a:srcRect l="0" t="0" r="0" b="-1052"/>
          <a:stretch/>
        </p:blipFill>
        <p:spPr>
          <a:xfrm>
            <a:off x="5867280" y="4419720"/>
            <a:ext cx="2765520" cy="1863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жидаемый результа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752480"/>
            <a:ext cx="8229600" cy="4572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 детей любознательности, творческих способностей, познавательной активности, коммуникативных навыков. Создание мини-музея в груп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C:\Documents and Settings\User\Рабочий стол\проект Деревянные предметы\фото к проекту дерев предметы\IMG_1083.JPG"/>
          <p:cNvPicPr/>
          <p:nvPr/>
        </p:nvPicPr>
        <p:blipFill>
          <a:blip r:embed="rId3"/>
          <a:stretch/>
        </p:blipFill>
        <p:spPr>
          <a:xfrm>
            <a:off x="3886200" y="2666880"/>
            <a:ext cx="4411800" cy="3353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5" name="Овал 7"/>
          <p:cNvSpPr/>
          <p:nvPr/>
        </p:nvSpPr>
        <p:spPr>
          <a:xfrm>
            <a:off x="609480" y="2895480"/>
            <a:ext cx="3048120" cy="3200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екла, варил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ол накорми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лы меня слушал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енько всё скуша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уп из грибочк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ирог из песочк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тлеты из глин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мпот из ряби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тог проектной деятельности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905120"/>
            <a:ext cx="8229600" cy="4419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активно проявляют интерес к деревянным изделиям, исследуя их и экспериментируя с ними; деревянные предметы обогащают чувственный опыт детей в разных видах деятельности. Формируют представления о простейших связях между предметами ближайшего окружения; формируют интерес к эстетический стороне окружающей действительности. Деревянные игрушки способствуют активной                                                                          игровой деятельности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C:\Documents and Settings\User\Рабочий стол\проект Деревянные предметы\фото к проекту дерев предметы\IMG_1149.JPG"/>
          <p:cNvPicPr/>
          <p:nvPr/>
        </p:nvPicPr>
        <p:blipFill>
          <a:blip r:embed="rId3"/>
          <a:srcRect l="0" t="0" r="0" b="-52"/>
          <a:stretch/>
        </p:blipFill>
        <p:spPr>
          <a:xfrm>
            <a:off x="838080" y="4114800"/>
            <a:ext cx="2179800" cy="2082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Рисунок 4" descr="C:\Documents and Settings\User\Рабочий стол\проект Деревянные предметы\фото к проекту дерев предметы\IMG_1078.JPG"/>
          <p:cNvPicPr/>
          <p:nvPr/>
        </p:nvPicPr>
        <p:blipFill>
          <a:blip r:embed="rId4"/>
          <a:srcRect l="0" t="0" r="0" b="-134"/>
          <a:stretch/>
        </p:blipFill>
        <p:spPr>
          <a:xfrm>
            <a:off x="6705720" y="4038480"/>
            <a:ext cx="1873080" cy="215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0" name="Овал 5"/>
          <p:cNvSpPr/>
          <p:nvPr/>
        </p:nvSpPr>
        <p:spPr>
          <a:xfrm>
            <a:off x="2971800" y="4038480"/>
            <a:ext cx="3733920" cy="2286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ного игрушек в детском сад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ши игрушки стоят на ви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ы их не бьём, не лома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х у товарищей не отнима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ши игрушки стоят на виду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ё у нас общее в детском са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еализации проект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752480"/>
            <a:ext cx="8229600" cy="4648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целей, задач, подбор оптимальных методов и прием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плана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иллюстра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художественной лит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3"/>
          <p:cNvSpPr/>
          <p:nvPr/>
        </p:nvSpPr>
        <p:spPr>
          <a:xfrm>
            <a:off x="609480" y="1905120"/>
            <a:ext cx="3733920" cy="990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дготови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4" descr="C:\Documents and Settings\User\Рабочий стол\Детский сад\иллюстрации к сказке Буратино\6.jpg"/>
          <p:cNvPicPr/>
          <p:nvPr/>
        </p:nvPicPr>
        <p:blipFill>
          <a:blip r:embed="rId3"/>
          <a:stretch/>
        </p:blipFill>
        <p:spPr>
          <a:xfrm>
            <a:off x="5257800" y="3733920"/>
            <a:ext cx="3078000" cy="251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036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еализации проект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 (игры, эксперементирова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альбо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мини-музея в группе «В мире деревянных предметов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сувениров ветеранам вой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5"/>
          <p:cNvSpPr/>
          <p:nvPr/>
        </p:nvSpPr>
        <p:spPr>
          <a:xfrm>
            <a:off x="685800" y="1981080"/>
            <a:ext cx="3124080" cy="1219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сно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4" descr="C:\Documents and Settings\User\Рабочий стол\проект Деревянные предметы\фото к проекту дерев предметы\IMG_1186.JPG"/>
          <p:cNvPicPr/>
          <p:nvPr/>
        </p:nvPicPr>
        <p:blipFill>
          <a:blip r:embed="rId3"/>
          <a:stretch/>
        </p:blipFill>
        <p:spPr>
          <a:xfrm>
            <a:off x="5029200" y="2286000"/>
            <a:ext cx="3282840" cy="2179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Пользователь Windows</cp:lastModifiedBy>
  <dcterms:modified xsi:type="dcterms:W3CDTF">2020-11-10T06:43:19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