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8CF-75D2-44E6-ABA9-7FB41DB4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9F7-A602-4744-B96B-990EF003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616-20FC-4DAA-A389-13D67EBD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686-3322-4DF8-A40E-2DBEB538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6001-008C-4428-8245-D230448B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9240-9373-4CF5-96CB-0340C035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ED45-2D3E-4587-A8CF-71FBC83D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A855-9D2B-4E84-9D35-78B3C742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5BF7-2E9C-4A29-9EB8-0384E96E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B110-4BC9-483D-8695-B69E2AA5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906D-02B1-4737-A73A-6D01F9DF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E5D-79F3-4EDF-B3A8-44C19C09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27B6-774F-4434-B5FE-15A0A26D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369D-FC10-47BC-9494-4262DF63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DD30-E6A1-48B8-8A63-D3378C54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30F4-CC17-48A8-A30D-7490D978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1321-9711-4151-81B8-74D2E09E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0DA-2EA1-49FF-9EE8-525FBD70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301-C0B6-4D28-AF57-4B721A27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0FE-E9AD-4F16-8334-E291DCFC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E36-3B8F-42B0-88DF-D2150C7C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447-743C-4FCA-A144-BC6268BC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B25-1788-422D-B729-73F81F7E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579-F7FE-4341-B6A6-D5E98C26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8E41-D19A-49F2-A6E0-8D609F2449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colour-pencils.jpg"/>
          <p:cNvPicPr/>
          <p:nvPr/>
        </p:nvPicPr>
        <p:blipFill>
          <a:blip r:embed="rId5"/>
          <a:stretch/>
        </p:blipFill>
        <p:spPr>
          <a:xfrm>
            <a:off x="1238400" y="4065480"/>
            <a:ext cx="6626160" cy="1440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colour-pencils.jpg"/>
          <p:cNvPicPr/>
          <p:nvPr/>
        </p:nvPicPr>
        <p:blipFill>
          <a:blip r:embed="rId6"/>
          <a:srcRect l="0" t="0" r="0" b="76850"/>
          <a:stretch/>
        </p:blipFill>
        <p:spPr>
          <a:xfrm>
            <a:off x="714240" y="2143080"/>
            <a:ext cx="7858440" cy="16272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bordur-deti.jpg"/>
          <p:cNvPicPr/>
          <p:nvPr/>
        </p:nvPicPr>
        <p:blipFill>
          <a:blip r:embed="rId7"/>
          <a:stretch/>
        </p:blipFill>
        <p:spPr>
          <a:xfrm>
            <a:off x="0" y="39600"/>
            <a:ext cx="9144000" cy="2175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D552-88DC-41D0-9798-FF3C5C13D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https://vplate.ru/images/article/orig/2020/01/pamyat-u-detej-doshkolnogo-vozrasta-vidy-i-osobennosti-razvitiya-19.jpg"/>
          <p:cNvPicPr/>
          <p:nvPr/>
        </p:nvPicPr>
        <p:blipFill>
          <a:blip r:embed="rId1"/>
          <a:srcRect l="3919" t="0" r="568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16680" y="410040"/>
            <a:ext cx="5533920" cy="1428840"/>
          </a:xfrm>
          <a:prstGeom prst="rect">
            <a:avLst/>
          </a:prstGeom>
          <a:solidFill>
            <a:srgbClr val="f2f2f2">
              <a:alpha val="92000"/>
            </a:srgbClr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ПАМЯТИ У ДЕТЕЙ СТАРШЕГО ДОШКОЛЬНОГО ВОЗРАСТА С ПОМОЩЬЮ МНЕМОТАБЛИЦ»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755640" y="5516640"/>
            <a:ext cx="2808360" cy="865080"/>
          </a:xfrm>
          <a:prstGeom prst="roundRect">
            <a:avLst>
              <a:gd name="adj" fmla="val 16667"/>
            </a:avLst>
          </a:prstGeom>
          <a:solidFill>
            <a:srgbClr val="e6fcfe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стина Д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79280" y="12024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itka Subheading"/>
              </a:rPr>
              <a:t>Педагоги от родителей часто слышат такие слов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itka Subheading"/>
              </a:rPr>
              <a:t>«У нас стихи не запоминаются!!! Не может быстро запомнить текст, путается в строчках, переставляет слова мест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0_ca2e5_39eb4984_orig"/>
          <p:cNvPicPr/>
          <p:nvPr/>
        </p:nvPicPr>
        <p:blipFill>
          <a:blip r:embed="rId1"/>
          <a:stretch/>
        </p:blipFill>
        <p:spPr>
          <a:xfrm>
            <a:off x="3360600" y="1773360"/>
            <a:ext cx="357516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179280" y="25884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Мнемотабл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хема, в которую заложена определенная    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78c0XEKhKWs"/>
          <p:cNvPicPr/>
          <p:nvPr/>
        </p:nvPicPr>
        <p:blipFill>
          <a:blip r:embed="rId1"/>
          <a:stretch/>
        </p:blipFill>
        <p:spPr>
          <a:xfrm>
            <a:off x="755640" y="1262160"/>
            <a:ext cx="76327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32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Sitka Subheading"/>
              </a:rPr>
              <a:t>Заучивание стихотворения «ЁЛОЧКА»</a:t>
            </a:r>
            <a:r>
              <a:rPr b="0" lang="ru-RU" sz="4400" spc="-1" strike="noStrike">
                <a:solidFill>
                  <a:srgbClr val="000000"/>
                </a:solidFill>
                <a:latin typeface="Sitka Sub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219640" y="907920"/>
            <a:ext cx="39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itka Subheading"/>
              </a:rPr>
              <a:t>Перед нами ёлоч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Sitka Subheading"/>
              </a:rPr>
              <a:t>Шишечки, иголочк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Sitka Subheading"/>
              </a:rPr>
              <a:t>Шарики, фонар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itka Subheading"/>
              </a:rPr>
              <a:t>Зайчики и свеч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Sitka Subheading"/>
              </a:rPr>
              <a:t>Звёзды, человечк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itka Subheading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Sitka Subheading"/>
              </a:rPr>
              <a:t>Н.Нищ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0920" y="765000"/>
          <a:ext cx="4897440" cy="5361120"/>
        </p:xfrm>
        <a:graphic>
          <a:graphicData uri="http://schemas.openxmlformats.org/drawingml/2006/table">
            <a:tbl>
              <a:tblPr/>
              <a:tblGrid>
                <a:gridCol w="1631880"/>
                <a:gridCol w="1633680"/>
                <a:gridCol w="163188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9" name="Picture 33" descr="оплата за конкурс МБДОУ №72_0008"/>
          <p:cNvPicPr/>
          <p:nvPr/>
        </p:nvPicPr>
        <p:blipFill>
          <a:blip r:embed="rId1"/>
          <a:stretch/>
        </p:blipFill>
        <p:spPr>
          <a:xfrm>
            <a:off x="324000" y="83664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4" descr="оплата за конкурс МБДОУ №72_0007"/>
          <p:cNvPicPr/>
          <p:nvPr/>
        </p:nvPicPr>
        <p:blipFill>
          <a:blip r:embed="rId2"/>
          <a:stretch/>
        </p:blipFill>
        <p:spPr>
          <a:xfrm>
            <a:off x="1908000" y="836640"/>
            <a:ext cx="1513080" cy="165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5" descr="оплата за конкурс МБДОУ №72_0006"/>
          <p:cNvPicPr/>
          <p:nvPr/>
        </p:nvPicPr>
        <p:blipFill>
          <a:blip r:embed="rId3"/>
          <a:stretch/>
        </p:blipFill>
        <p:spPr>
          <a:xfrm>
            <a:off x="3635280" y="83664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6" descr="оплата за конкурс МБДОУ №72_0005"/>
          <p:cNvPicPr/>
          <p:nvPr/>
        </p:nvPicPr>
        <p:blipFill>
          <a:blip r:embed="rId4"/>
          <a:stretch/>
        </p:blipFill>
        <p:spPr>
          <a:xfrm>
            <a:off x="324000" y="263700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7" descr="оплата за конкурс МБДОУ №72_0004"/>
          <p:cNvPicPr/>
          <p:nvPr/>
        </p:nvPicPr>
        <p:blipFill>
          <a:blip r:embed="rId5"/>
          <a:stretch/>
        </p:blipFill>
        <p:spPr>
          <a:xfrm>
            <a:off x="1908000" y="2565360"/>
            <a:ext cx="1487520" cy="172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8" descr="оплата за конкурс МБДОУ №72_0003"/>
          <p:cNvPicPr/>
          <p:nvPr/>
        </p:nvPicPr>
        <p:blipFill>
          <a:blip r:embed="rId6"/>
          <a:stretch/>
        </p:blipFill>
        <p:spPr>
          <a:xfrm>
            <a:off x="3564000" y="2565360"/>
            <a:ext cx="1512720" cy="172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9" descr="оплата за конкурс МБДОУ №72_0002"/>
          <p:cNvPicPr/>
          <p:nvPr/>
        </p:nvPicPr>
        <p:blipFill>
          <a:blip r:embed="rId7"/>
          <a:stretch/>
        </p:blipFill>
        <p:spPr>
          <a:xfrm>
            <a:off x="395280" y="4437000"/>
            <a:ext cx="1440000" cy="1662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0" descr="оплата за конкурс МБДОУ №72_0001"/>
          <p:cNvPicPr/>
          <p:nvPr/>
        </p:nvPicPr>
        <p:blipFill>
          <a:blip r:embed="rId8"/>
          <a:stretch/>
        </p:blipFill>
        <p:spPr>
          <a:xfrm>
            <a:off x="1908000" y="4365720"/>
            <a:ext cx="1513080" cy="172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2" descr="оплата за конкурс МБДОУ №72"/>
          <p:cNvPicPr/>
          <p:nvPr/>
        </p:nvPicPr>
        <p:blipFill>
          <a:blip r:embed="rId9"/>
          <a:stretch/>
        </p:blipFill>
        <p:spPr>
          <a:xfrm>
            <a:off x="3564000" y="4365720"/>
            <a:ext cx="1517760" cy="1727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3" descr="0_cbb7b_8e77aef9_orig"/>
          <p:cNvPicPr/>
          <p:nvPr/>
        </p:nvPicPr>
        <p:blipFill>
          <a:blip r:embed="rId10"/>
          <a:stretch/>
        </p:blipFill>
        <p:spPr>
          <a:xfrm>
            <a:off x="5076720" y="3429000"/>
            <a:ext cx="287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Составление описательных рассказ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8" descr="0GYFMfvtxW8"/>
          <p:cNvPicPr/>
          <p:nvPr/>
        </p:nvPicPr>
        <p:blipFill>
          <a:blip r:embed="rId1"/>
          <a:stretch/>
        </p:blipFill>
        <p:spPr>
          <a:xfrm>
            <a:off x="250920" y="1413000"/>
            <a:ext cx="4608360" cy="3454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qgKo9hmpnCM"/>
          <p:cNvPicPr/>
          <p:nvPr/>
        </p:nvPicPr>
        <p:blipFill>
          <a:blip r:embed="rId2"/>
          <a:stretch/>
        </p:blipFill>
        <p:spPr>
          <a:xfrm>
            <a:off x="4356000" y="2852640"/>
            <a:ext cx="44910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 rot="21313200">
            <a:off x="556920" y="442800"/>
            <a:ext cx="4016160" cy="2932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 rot="723600">
            <a:off x="431280" y="3292200"/>
            <a:ext cx="3794400" cy="268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 rot="1149600">
            <a:off x="4702320" y="657360"/>
            <a:ext cx="3819240" cy="270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4"/>
          <a:stretch/>
        </p:blipFill>
        <p:spPr>
          <a:xfrm rot="21243600">
            <a:off x="4572000" y="3485880"/>
            <a:ext cx="3735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7:10:51Z</dcterms:created>
  <dc:creator>Admin</dc:creator>
  <dc:description/>
  <dc:language>en-US</dc:language>
  <cp:lastModifiedBy>packard bell</cp:lastModifiedBy>
  <dcterms:modified xsi:type="dcterms:W3CDTF">2020-11-10T20:01:59Z</dcterms:modified>
  <cp:revision>51</cp:revision>
  <dc:subject/>
  <dc:title>Слайд 1</dc:title>
</cp:coreProperties>
</file>