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5BE-1D86-47F7-A7BB-0D98117F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470-68FC-44ED-9B2F-29AE1191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38F-501E-4770-92E4-C0359F1E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9F8-963D-4B48-A476-AA278FA4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D5AD-5C1A-40B6-9DFE-24B6DF77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6061-B6EA-4214-93E2-71AAD83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F0B-E7C0-414F-B863-75A8CFE5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2EFB-DD49-49ED-80C1-97F91791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7059-52B1-46FB-9EED-562E4E15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E31D-4BA3-4302-9D52-B599C27D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7CF5-EFA3-4808-AD60-5E2EC0A1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0A2-5023-4C72-B86C-8266C3BE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D048-A8A0-4C9F-8D3B-7103B54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F07-39B6-424A-8A38-EE12F63C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314-70E6-4815-8A09-EC2B90C5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E139-2AFE-49D1-8DF1-AC9410DC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891D-267E-4F16-82C7-B424AC06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1B1-C9F4-486F-A472-27DBC8C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857-02F7-4353-BFAE-422ADEED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5E9-660E-478C-BD30-C05AE51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C76-C7CD-4570-99C7-2D755B3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26B9-DA18-41C8-8AE4-36F8598D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A3D-98ED-448F-A40E-7D0225C4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A85-26AF-45D5-AF2C-C2A82B9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D45C-EB6E-421C-8C22-9C4586991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colour-pencils.jpg"/>
          <p:cNvPicPr/>
          <p:nvPr/>
        </p:nvPicPr>
        <p:blipFill>
          <a:blip r:embed="rId6"/>
          <a:srcRect l="0" t="0" r="0" b="76850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B8BB-C796-4909-A70A-C4F355B6A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https://vplate.ru/images/article/orig/2020/01/pamyat-u-detej-doshkolnogo-vozrasta-vidy-i-osobennosti-razvitiya-19.jpg"/>
          <p:cNvPicPr/>
          <p:nvPr/>
        </p:nvPicPr>
        <p:blipFill>
          <a:blip r:embed="rId1"/>
          <a:srcRect l="3919" t="0" r="56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6680" y="410040"/>
            <a:ext cx="5533920" cy="1428840"/>
          </a:xfrm>
          <a:prstGeom prst="rect">
            <a:avLst/>
          </a:prstGeom>
          <a:solidFill>
            <a:srgbClr val="f2f2f2">
              <a:alpha val="92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ПАМЯТИ У ДЕТЕЙ СТАРШЕГО ДОШКОЛЬНОГО ВОЗРАСТА С ПОМОЩЬЮ МНЕМОТАБЛИЦ»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755640" y="5516640"/>
            <a:ext cx="2808360" cy="865080"/>
          </a:xfrm>
          <a:prstGeom prst="roundRect">
            <a:avLst>
              <a:gd name="adj" fmla="val 16667"/>
            </a:avLst>
          </a:prstGeom>
          <a:solidFill>
            <a:srgbClr val="e6fcfe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тина Д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79280" y="120240"/>
            <a:ext cx="89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itka Subheading"/>
              </a:rPr>
              <a:t>Педагоги от родителей часто слышат такие сло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itka Subheading"/>
              </a:rPr>
              <a:t>«У нас стихи не запоминаются!!! Не может быстро запомнить текст, путается в строчках, переставляет слова мест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_ca2e5_39eb4984_orig"/>
          <p:cNvPicPr/>
          <p:nvPr/>
        </p:nvPicPr>
        <p:blipFill>
          <a:blip r:embed="rId1"/>
          <a:stretch/>
        </p:blipFill>
        <p:spPr>
          <a:xfrm>
            <a:off x="3360600" y="1773360"/>
            <a:ext cx="35751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25884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хема, в которую заложена определенная    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78c0XEKhKWs"/>
          <p:cNvPicPr/>
          <p:nvPr/>
        </p:nvPicPr>
        <p:blipFill>
          <a:blip r:embed="rId1"/>
          <a:stretch/>
        </p:blipFill>
        <p:spPr>
          <a:xfrm>
            <a:off x="755640" y="1262160"/>
            <a:ext cx="763272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Sitka Subheading"/>
              </a:rPr>
              <a:t>Заучивание стихотворения «ЁЛОЧКА»</a:t>
            </a:r>
            <a:r>
              <a:rPr b="0" lang="ru-RU" sz="4400" spc="-1" strike="noStrike">
                <a:solidFill>
                  <a:srgbClr val="000000"/>
                </a:solidFill>
                <a:latin typeface="Sitka Sub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219640" y="907920"/>
            <a:ext cx="392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Перед нами ёлоч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Шишечки, иголоч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Шарики, фонар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Зайчики и свеч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Звёзды, человеч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Sitka Subheading"/>
              </a:rPr>
              <a:t>Н.Нищ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0920" y="765000"/>
          <a:ext cx="4897440" cy="536112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</a:tblGrid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33" descr="оплата за конкурс МБДОУ №72_0008"/>
          <p:cNvPicPr/>
          <p:nvPr/>
        </p:nvPicPr>
        <p:blipFill>
          <a:blip r:embed="rId1"/>
          <a:stretch/>
        </p:blipFill>
        <p:spPr>
          <a:xfrm>
            <a:off x="324000" y="83664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4" descr="оплата за конкурс МБДОУ №72_0007"/>
          <p:cNvPicPr/>
          <p:nvPr/>
        </p:nvPicPr>
        <p:blipFill>
          <a:blip r:embed="rId2"/>
          <a:stretch/>
        </p:blipFill>
        <p:spPr>
          <a:xfrm>
            <a:off x="1908000" y="836640"/>
            <a:ext cx="1513080" cy="165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оплата за конкурс МБДОУ №72_0006"/>
          <p:cNvPicPr/>
          <p:nvPr/>
        </p:nvPicPr>
        <p:blipFill>
          <a:blip r:embed="rId3"/>
          <a:stretch/>
        </p:blipFill>
        <p:spPr>
          <a:xfrm>
            <a:off x="3635280" y="83664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оплата за конкурс МБДОУ №72_0005"/>
          <p:cNvPicPr/>
          <p:nvPr/>
        </p:nvPicPr>
        <p:blipFill>
          <a:blip r:embed="rId4"/>
          <a:stretch/>
        </p:blipFill>
        <p:spPr>
          <a:xfrm>
            <a:off x="324000" y="2637000"/>
            <a:ext cx="1511280" cy="165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7" descr="оплата за конкурс МБДОУ №72_0004"/>
          <p:cNvPicPr/>
          <p:nvPr/>
        </p:nvPicPr>
        <p:blipFill>
          <a:blip r:embed="rId5"/>
          <a:stretch/>
        </p:blipFill>
        <p:spPr>
          <a:xfrm>
            <a:off x="1908000" y="2565360"/>
            <a:ext cx="1487520" cy="172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8" descr="оплата за конкурс МБДОУ №72_0003"/>
          <p:cNvPicPr/>
          <p:nvPr/>
        </p:nvPicPr>
        <p:blipFill>
          <a:blip r:embed="rId6"/>
          <a:stretch/>
        </p:blipFill>
        <p:spPr>
          <a:xfrm>
            <a:off x="3564000" y="2565360"/>
            <a:ext cx="1512720" cy="172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9" descr="оплата за конкурс МБДОУ №72_0002"/>
          <p:cNvPicPr/>
          <p:nvPr/>
        </p:nvPicPr>
        <p:blipFill>
          <a:blip r:embed="rId7"/>
          <a:stretch/>
        </p:blipFill>
        <p:spPr>
          <a:xfrm>
            <a:off x="395280" y="4437000"/>
            <a:ext cx="1440000" cy="16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0" descr="оплата за конкурс МБДОУ №72_0001"/>
          <p:cNvPicPr/>
          <p:nvPr/>
        </p:nvPicPr>
        <p:blipFill>
          <a:blip r:embed="rId8"/>
          <a:stretch/>
        </p:blipFill>
        <p:spPr>
          <a:xfrm>
            <a:off x="1908000" y="4365720"/>
            <a:ext cx="1513080" cy="172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2" descr="оплата за конкурс МБДОУ №72"/>
          <p:cNvPicPr/>
          <p:nvPr/>
        </p:nvPicPr>
        <p:blipFill>
          <a:blip r:embed="rId9"/>
          <a:stretch/>
        </p:blipFill>
        <p:spPr>
          <a:xfrm>
            <a:off x="3564000" y="4365720"/>
            <a:ext cx="1517760" cy="17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3" descr="0_cbb7b_8e77aef9_orig"/>
          <p:cNvPicPr/>
          <p:nvPr/>
        </p:nvPicPr>
        <p:blipFill>
          <a:blip r:embed="rId10"/>
          <a:stretch/>
        </p:blipFill>
        <p:spPr>
          <a:xfrm>
            <a:off x="5076720" y="342900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Составление описательных расска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8" descr="0GYFMfvtxW8"/>
          <p:cNvPicPr/>
          <p:nvPr/>
        </p:nvPicPr>
        <p:blipFill>
          <a:blip r:embed="rId1"/>
          <a:stretch/>
        </p:blipFill>
        <p:spPr>
          <a:xfrm>
            <a:off x="250920" y="1413000"/>
            <a:ext cx="4608360" cy="345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qgKo9hmpnCM"/>
          <p:cNvPicPr/>
          <p:nvPr/>
        </p:nvPicPr>
        <p:blipFill>
          <a:blip r:embed="rId2"/>
          <a:stretch/>
        </p:blipFill>
        <p:spPr>
          <a:xfrm>
            <a:off x="4356000" y="2852640"/>
            <a:ext cx="44910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 rot="21313200">
            <a:off x="556920" y="442800"/>
            <a:ext cx="4016160" cy="2932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 rot="723600">
            <a:off x="431280" y="3292200"/>
            <a:ext cx="3794400" cy="2681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 rot="1149600">
            <a:off x="4702320" y="657360"/>
            <a:ext cx="3819240" cy="27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4"/>
          <a:stretch/>
        </p:blipFill>
        <p:spPr>
          <a:xfrm rot="21243600">
            <a:off x="4572000" y="3485880"/>
            <a:ext cx="3735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packard bell</cp:lastModifiedBy>
  <dcterms:modified xsi:type="dcterms:W3CDTF">2020-11-10T20:01:59Z</dcterms:modified>
  <cp:revision>51</cp:revision>
  <dc:subject/>
  <dc:title>Слайд 1</dc:title>
</cp:coreProperties>
</file>