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C8E-A2D3-4865-B515-E8AA21A1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76B-0808-4840-AE92-E8B67AA5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75884-8EB3-4C86-A5BA-4E5D8701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6A6FE-9026-44A2-8027-B0A45587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57C11-EF88-4BE5-853B-9D99EA34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197AC-B322-400B-BDF6-29CAFE71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11131-5737-4529-A804-30A9B13E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76029-7086-4D81-A43C-73CBCFE7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95054-3513-4568-99D0-D3450912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792B2-9518-481E-86B2-114C5FF3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A0718-D51C-4719-A184-B90C1C6A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3F9-16CF-4E4F-B7E4-3F1DDF44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D10-DAC9-4093-BFB8-DC063EC9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E52E-A47F-46BA-8C5D-F5285C89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CA24-D76C-48DC-B9E7-00B82ABD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6D29-95CC-45C5-812E-AD963B2D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47C4-8110-4BD7-91D5-0A8ED9EF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B5D1-EE60-425E-9311-5A0CEE97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41D7-D454-45B9-99FC-47C4C7F1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9E5C-C6D9-43B2-8064-804CE93B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31A-8DBC-4027-B1CD-47C4302F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9383-F163-45A6-B01B-142F00B9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03CC-B277-4DF9-9332-44D1DB03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9E1A-E022-4B48-B35C-A712A168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D277-3669-41FA-99F9-86D6BC47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1CC5-E800-4E70-916C-99541964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770BE-39F7-44B2-8F82-895B271F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99A9A-9234-49CF-BED5-82476600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3293A-FE39-428E-BE68-0BF69C5D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9A64C-02E2-4F12-8C1D-D6A7F1BE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3A6E2-8A31-48C1-B4FC-A08D9874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BAF-3BBD-431D-AF5B-96861B6D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3CB88-FA88-43AE-9766-5E45BF4F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E5DF1-E647-46A0-9C81-BE1983F2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C006B-2748-4DC7-81CE-CBA0ACAF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8C467-0113-4B48-964B-515D7F62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A7B05-1C97-40E7-92DB-C5FBBB43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FDBA-A6D6-435C-AA8D-FED5BFF2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84F30-B962-4BEB-AAF7-0111000D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B8BEA-E2F2-4153-844E-2B1F6278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DB678-42C9-44D1-B1FC-3FC441AB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88BC8-B429-4C26-A832-B086094F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122-8B08-4778-98EE-571F389B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BADA3-3682-4F60-B98F-3B49D616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B3493-DA8B-4EA5-87BD-62DF9088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92E88-9052-4811-B752-E1E41EEA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FC8E5-DEC6-46F7-B1D6-DC242A49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7C190-13C1-4B29-8D16-861A78D9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47B5B-0FBA-4A05-B235-CF07E0C4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F94E8-4593-4013-9552-5C8E8743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B3BF0-F2DB-42D2-A5F6-4158F204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6158C-687A-42AB-933B-BC39849B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FFADD-AD80-4C77-AC78-2F41B42D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E29-67D9-4B92-9CD8-3AD6CE84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E6FD0-714D-4203-8051-ABF15F10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BD283-AD86-4287-9B39-119ABEB8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2E403-0CC6-4F8C-9BD5-A8E899A0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3C580-1F63-47A7-AF74-2F7B230A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60C64-C91E-440E-8895-AA47E804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B3B50-10F2-47DE-BC8E-0DDF45D3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76E13-7E3A-4452-814F-BD96168F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48206-6D5C-47EA-8F37-FE508C09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A2625-13F9-4CD0-874D-BB2B3A48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1133A-5E8F-4EBD-A3B9-4DD9AB6B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3C0-30CB-457A-BE18-59AA3D5C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B07D5-D5BA-431D-80B5-29898DC6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07069-3E34-4FC8-A99B-6FDDEC0F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D5ADF-55BA-44B0-B951-4B57F91E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173E4-1028-443E-B212-8FD1D515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C98D5-8909-4F5E-A67F-DB29AF2C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25FAE-5673-46DC-AABF-17B3A142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EC54E-E660-4B9B-B3EF-DF101D20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46D81-710B-4EC5-AD21-E964EF2B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3CEB0-5E24-4E3C-8818-EA009930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8388E-1798-4F50-8917-E0C49C91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20A-5447-4EF3-B89C-6B810BF0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F9788-9861-42FC-A8E3-2EAB0800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52F6F-AC30-45AF-BE2B-F152500E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87911-76D1-4335-8F68-632EEDD7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0F1CA-1A49-4531-BBF8-F8CA33EF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CE22B-3A73-4FAA-B6D3-0998E552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07000-E66B-412E-8EE9-2649C68C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C9565-BBE1-44BD-ACC5-AA67A89E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E38EF-AF86-49B4-947A-B0553C44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676CF-0335-4401-AC10-A94F9431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C14C8-3E68-42DF-8868-8DD2E817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A25-2B9B-4F7B-BF46-290AEF18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FA042-9C31-43EA-B98F-8F2C4D33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A5D53-CD44-442A-8A4E-B7C36F81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1C667-5568-4118-B349-212AB691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F3897-DD0D-474E-9DBA-CCFE199D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9869F-1A71-4F53-A1CD-810A87B8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F63CA-BC3C-48B4-81B4-1239F71E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A7E90-C875-487B-B5AF-3AFC1B13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2E942-BFEF-4768-A153-82067A45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00223-11F8-4258-8938-0123B6F3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A8A7F-2CB6-4A93-9049-08CC4DCF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440-416B-4B6B-8C4D-36EBBE57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919F7-A0A8-447F-9DB0-C1A4F60C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C3990-5E16-48E0-994F-79FF44C0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21611-4DBB-4A8D-A6FB-81E2C24F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E1DFD-CD65-44F8-BAA0-723A7398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673F0-BB83-45B2-9F30-206C3BC4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44D4D-8B8F-4C3C-A912-33FEB1CE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A52CB-8434-46EA-AAFC-EA020853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5C681-DBBD-40B8-AB7F-A4CC3E13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2E98B-5147-4325-9BD1-4C80F11E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2EC9E-BC6D-4CE9-9F6A-A6207090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7FA1-0C8C-488D-A1C9-E31AAC8BDC61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59F1-6C5B-4175-A707-FD9516FF432B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BC28-77B7-4AD6-9C80-162831B95FFB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46D0-74DB-4034-A8ED-51628A280E9A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B3B5-E72F-4E45-A005-B01EE6AF7B0A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E21A-2AEA-45A4-8DD1-5AAF18E1B549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6291-9FA2-4601-A2DF-DAB148A78AE4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61DA-7C36-4674-916F-818FAAF2D2DF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19FB-8FD6-4D68-944D-3C0DD0474FE5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7"/>
          <p:cNvSpPr/>
          <p:nvPr/>
        </p:nvSpPr>
        <p:spPr>
          <a:xfrm>
            <a:off x="1835280" y="2852640"/>
            <a:ext cx="67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нецкая кукла</a:t>
            </a:r>
            <a:r>
              <a:rPr b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ӈ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хоко</a:t>
            </a: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9"/>
          <p:cNvSpPr/>
          <p:nvPr/>
        </p:nvSpPr>
        <p:spPr>
          <a:xfrm>
            <a:off x="5435640" y="4578480"/>
            <a:ext cx="37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втор – составитель: Сэротэтто А.А., воспитатель школы – интерна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Рисунок 4" descr=""/>
          <p:cNvPicPr/>
          <p:nvPr/>
        </p:nvPicPr>
        <p:blipFill>
          <a:blip r:embed="rId1"/>
          <a:stretch/>
        </p:blipFill>
        <p:spPr>
          <a:xfrm>
            <a:off x="395280" y="1044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5" descr="узор7"/>
          <p:cNvPicPr/>
          <p:nvPr/>
        </p:nvPicPr>
        <p:blipFill>
          <a:blip r:embed="rId2"/>
          <a:stretch/>
        </p:blipFill>
        <p:spPr>
          <a:xfrm>
            <a:off x="1841400" y="4338720"/>
            <a:ext cx="6912000" cy="2535120"/>
          </a:xfrm>
          <a:prstGeom prst="rect">
            <a:avLst/>
          </a:prstGeom>
          <a:ln w="0">
            <a:noFill/>
          </a:ln>
        </p:spPr>
      </p:pic>
      <p:sp>
        <p:nvSpPr>
          <p:cNvPr id="403" name="Подзаголовок 2"/>
          <p:cNvSpPr/>
          <p:nvPr/>
        </p:nvSpPr>
        <p:spPr>
          <a:xfrm>
            <a:off x="468360" y="212760"/>
            <a:ext cx="845820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0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a3f6d"/>
                </a:solidFill>
                <a:latin typeface="Times New Roman"/>
                <a:ea typeface="Times New Roman"/>
              </a:rPr>
              <a:t>Муниципальное казён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a3f6d"/>
                </a:solidFill>
                <a:latin typeface="Times New Roman"/>
                <a:ea typeface="Times New Roman"/>
              </a:rPr>
              <a:t>«Панаевская школа-интерна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a3f6d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Rectangle 1"/>
          <p:cNvGrpSpPr/>
          <p:nvPr/>
        </p:nvGrpSpPr>
        <p:grpSpPr>
          <a:xfrm>
            <a:off x="500040" y="4849560"/>
            <a:ext cx="8070840" cy="1068480"/>
            <a:chOff x="500040" y="4849560"/>
            <a:chExt cx="8070840" cy="1068480"/>
          </a:xfrm>
        </p:grpSpPr>
        <p:pic>
          <p:nvPicPr>
            <p:cNvPr id="448" name="Rectangle 1" descr=""/>
            <p:cNvPicPr/>
            <p:nvPr/>
          </p:nvPicPr>
          <p:blipFill>
            <a:blip r:embed="rId1"/>
            <a:stretch/>
          </p:blipFill>
          <p:spPr>
            <a:xfrm>
              <a:off x="500040" y="4849560"/>
              <a:ext cx="8069040" cy="10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500040" y="4849560"/>
              <a:ext cx="8070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гда ненцы ехали в гости, девочка обязательно брала с собой ӈухуко; взрослые привезут подарки хозяевам, а ӈухуко привезут подарки для кукол их дочерей. Если юная невеста приносила в дом мужа большую кукольную семью — это хороший знак, обещающий молодой паре много детей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4853160" y="428760"/>
            <a:ext cx="3535200" cy="40892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51" name="Picture 3" descr=""/>
          <p:cNvPicPr/>
          <p:nvPr/>
        </p:nvPicPr>
        <p:blipFill>
          <a:blip r:embed="rId3"/>
          <a:stretch/>
        </p:blipFill>
        <p:spPr>
          <a:xfrm>
            <a:off x="500040" y="428760"/>
            <a:ext cx="3643200" cy="40892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2"/>
          <p:cNvSpPr/>
          <p:nvPr/>
        </p:nvSpPr>
        <p:spPr>
          <a:xfrm>
            <a:off x="5143680" y="1298520"/>
            <a:ext cx="37861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м пламенем стынут снега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-то зябнут в сугробах селенья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узорах я вижу рога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оту и отвагу оленью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они разбрелись на пимах,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ницах я вижу узоры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то стадо на вольном просторе,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пает в снегу, как во мха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ворная тянет игла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ку прочную дальше и дальше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узоре не чувствуешь фальш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так вложено мног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ич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C:\Users\ученик\Desktop\IMG_20190222_203320.jpg"/>
          <p:cNvPicPr/>
          <p:nvPr/>
        </p:nvPicPr>
        <p:blipFill>
          <a:blip r:embed="rId1"/>
          <a:stretch/>
        </p:blipFill>
        <p:spPr>
          <a:xfrm>
            <a:off x="331920" y="1211400"/>
            <a:ext cx="4778280" cy="358452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3" descr="узор7"/>
          <p:cNvPicPr/>
          <p:nvPr/>
        </p:nvPicPr>
        <p:blipFill>
          <a:blip r:embed="rId2"/>
          <a:stretch/>
        </p:blipFill>
        <p:spPr>
          <a:xfrm>
            <a:off x="1303200" y="4941720"/>
            <a:ext cx="6632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531720" y="1132200"/>
            <a:ext cx="778680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источ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ко Т. И., Галкин В. Т., Ема нов А. Г., Павлов А.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народов Ямал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Учебник. 5-7 классы. Тюмень: Изд-во Института проблем освоения Севера СО РАН, 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яруй В.Н., Сэрпиво В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цы: уроки предков: Научно – методическое пособие для педагогов и родителей. – СПб.: ООО «Миралл»,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ru.wikipedia.org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evronenzy.ru/nasha-produkci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vosmaja-marta.livejournal.com/95373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2r.ru/souvenir/2015/souvenir/view/638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2r.ru/souvenir/2015/souvenir/view/6380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2320" y="1152360"/>
            <a:ext cx="4327560" cy="33642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78320" y="1122480"/>
            <a:ext cx="3517920" cy="342576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5"/>
          <p:cNvSpPr/>
          <p:nvPr/>
        </p:nvSpPr>
        <p:spPr>
          <a:xfrm>
            <a:off x="1476360" y="4317840"/>
            <a:ext cx="31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Franklin Gothic Book"/>
                <a:ea typeface="Arial"/>
              </a:rPr>
              <a:t>Из истории куклы Нуху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6"/>
          <p:cNvSpPr/>
          <p:nvPr/>
        </p:nvSpPr>
        <p:spPr>
          <a:xfrm>
            <a:off x="5857560" y="490212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Franklin Gothic Book"/>
                <a:ea typeface="Arial"/>
              </a:rPr>
              <a:t>Технология со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Franklin Gothic Book"/>
                <a:ea typeface="Arial"/>
              </a:rPr>
              <a:t>куклы Нуху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Rectangle 1"/>
          <p:cNvGrpSpPr/>
          <p:nvPr/>
        </p:nvGrpSpPr>
        <p:grpSpPr>
          <a:xfrm>
            <a:off x="3859200" y="3554280"/>
            <a:ext cx="5071680" cy="2713320"/>
            <a:chOff x="3859200" y="3554280"/>
            <a:chExt cx="5071680" cy="2713320"/>
          </a:xfrm>
        </p:grpSpPr>
        <p:pic>
          <p:nvPicPr>
            <p:cNvPr id="409" name="Rectangle 1" descr=""/>
            <p:cNvPicPr/>
            <p:nvPr/>
          </p:nvPicPr>
          <p:blipFill>
            <a:blip r:embed="rId1"/>
            <a:stretch/>
          </p:blipFill>
          <p:spPr>
            <a:xfrm>
              <a:off x="3860280" y="3554280"/>
              <a:ext cx="507060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3859200" y="3569400"/>
              <a:ext cx="5070600" cy="26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«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ӈ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хоко»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также 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гухуко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 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гуху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 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ко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 – традиционная детская игрушка ненцев, кукла, в основу которой положен птичий клю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оловой куклы служит надклювье (верхняя пластина клюва) водоплавающей птицы, для куклы-мужчины это надклювье гуся, для куклы-женщины — утки, для куклы-ребёнка — мелких водоплавающих птиц. Может быть использован клюв с остатками оперения со лба или без них. Туловище куклы высотой 15-20 сантиметров делается из лоскута материи — сукна или драпа, обёрнутого в виде юбки вокруг основания надклювья и примотанного лентой из ткани, изображающей воротник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4815000" y="809640"/>
            <a:ext cx="3585960" cy="26906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12" name="Picture 4" descr=""/>
          <p:cNvPicPr/>
          <p:nvPr/>
        </p:nvPicPr>
        <p:blipFill>
          <a:blip r:embed="rId3"/>
          <a:stretch/>
        </p:blipFill>
        <p:spPr>
          <a:xfrm>
            <a:off x="861840" y="3589200"/>
            <a:ext cx="2995920" cy="26434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3" name="Прямоугольник 5"/>
          <p:cNvSpPr/>
          <p:nvPr/>
        </p:nvSpPr>
        <p:spPr>
          <a:xfrm>
            <a:off x="3289680" y="125280"/>
            <a:ext cx="42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Из истории куклы 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ӈ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ухок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9" descr=""/>
          <p:cNvPicPr/>
          <p:nvPr/>
        </p:nvPicPr>
        <p:blipFill>
          <a:blip r:embed="rId4"/>
          <a:stretch/>
        </p:blipFill>
        <p:spPr>
          <a:xfrm>
            <a:off x="758880" y="809640"/>
            <a:ext cx="3587760" cy="26906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309600" y="435960"/>
            <a:ext cx="5357880" cy="1585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оздания основы куклы из головы и туловища (руки и ноги ӈухуко не полагаются) куклу «одевают» и украшают, используя разноцветные ленты из ткани. Обычно делают нечётное количество лент (три, пять или семь), иногда ленты покрывают треугольным орнаментом. Кукле-женщине делают две или четыре косы из шнурочков или бисера, нанизанного на сухожилие (сейчас чаще используют леску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428760" y="2500200"/>
            <a:ext cx="5238720" cy="3929040"/>
          </a:xfrm>
          <a:prstGeom prst="rect">
            <a:avLst/>
          </a:prstGeom>
          <a:ln cap="sq" w="38160">
            <a:solidFill>
              <a:srgbClr val="92d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6054840" y="571680"/>
            <a:ext cx="2803320" cy="5927400"/>
          </a:xfrm>
          <a:prstGeom prst="rect">
            <a:avLst/>
          </a:prstGeom>
          <a:ln cap="sq" w="38160">
            <a:solidFill>
              <a:srgbClr val="92d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Rectangle 1"/>
          <p:cNvGrpSpPr/>
          <p:nvPr/>
        </p:nvGrpSpPr>
        <p:grpSpPr>
          <a:xfrm>
            <a:off x="285840" y="4182480"/>
            <a:ext cx="4498920" cy="2028960"/>
            <a:chOff x="285840" y="4182480"/>
            <a:chExt cx="4498920" cy="2028960"/>
          </a:xfrm>
        </p:grpSpPr>
        <p:pic>
          <p:nvPicPr>
            <p:cNvPr id="419" name="Rectangle 1" descr=""/>
            <p:cNvPicPr/>
            <p:nvPr/>
          </p:nvPicPr>
          <p:blipFill>
            <a:blip r:embed="rId1"/>
            <a:stretch/>
          </p:blipFill>
          <p:spPr>
            <a:xfrm>
              <a:off x="285840" y="4182480"/>
              <a:ext cx="449748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285840" y="4189680"/>
              <a:ext cx="449892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пользование для создания игрушки атрибута водоплавающей птицы имеет сакральное значение — связанная со всеми тремя стихиями, землёй, водой и воздухом; зимой отправляющаяся на юг, к духам предков, а по весне возвращающаяся обратно к людям, она охраняет ребёнка от злых напастей. Однако на голову куклы не наносится изображение лица — согласно поверьям ненцев, кукла не должна «видеть», иначе она может ожить и забрать душу ребёнк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5214960" y="3983040"/>
            <a:ext cx="3373560" cy="25290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22" name="Picture 8" descr=""/>
          <p:cNvPicPr/>
          <p:nvPr/>
        </p:nvPicPr>
        <p:blipFill>
          <a:blip r:embed="rId3"/>
          <a:stretch/>
        </p:blipFill>
        <p:spPr>
          <a:xfrm>
            <a:off x="3209760" y="617400"/>
            <a:ext cx="3254400" cy="24418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</p:spPr>
      </p:pic>
      <p:pic>
        <p:nvPicPr>
          <p:cNvPr id="423" name="Picture 9" descr=""/>
          <p:cNvPicPr/>
          <p:nvPr/>
        </p:nvPicPr>
        <p:blipFill>
          <a:blip r:embed="rId4"/>
          <a:stretch/>
        </p:blipFill>
        <p:spPr>
          <a:xfrm>
            <a:off x="6548400" y="254160"/>
            <a:ext cx="2298600" cy="30654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</p:spPr>
      </p:pic>
      <p:pic>
        <p:nvPicPr>
          <p:cNvPr id="424" name="Picture 10" descr=""/>
          <p:cNvPicPr/>
          <p:nvPr/>
        </p:nvPicPr>
        <p:blipFill>
          <a:blip r:embed="rId5"/>
          <a:stretch/>
        </p:blipFill>
        <p:spPr>
          <a:xfrm>
            <a:off x="395280" y="254160"/>
            <a:ext cx="2814480" cy="30654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2000160" y="285840"/>
            <a:ext cx="4572000" cy="734040"/>
          </a:xfrm>
          <a:prstGeom prst="rect">
            <a:avLst/>
          </a:prstGeom>
          <a:gradFill rotWithShape="0">
            <a:gsLst>
              <a:gs pos="0">
                <a:srgbClr val="cef0fe"/>
              </a:gs>
              <a:gs pos="100000">
                <a:srgbClr val="51d2fd"/>
              </a:gs>
            </a:gsLst>
            <a:lin ang="5400000"/>
          </a:gradFill>
          <a:ln w="10080">
            <a:solidFill>
              <a:srgbClr val="4bacc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ехнология со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уклы «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ӈ</a:t>
            </a: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ху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16" descr="Куколка нен"/>
          <p:cNvPicPr/>
          <p:nvPr/>
        </p:nvPicPr>
        <p:blipFill>
          <a:blip r:embed="rId1"/>
          <a:stretch/>
        </p:blipFill>
        <p:spPr>
          <a:xfrm>
            <a:off x="642960" y="1143000"/>
            <a:ext cx="2143080" cy="18018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7" name="Rectangle 2"/>
          <p:cNvSpPr/>
          <p:nvPr/>
        </p:nvSpPr>
        <p:spPr>
          <a:xfrm>
            <a:off x="3286080" y="95040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1. Сухую шкурку размять и очисти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Рисунок 19" descr="Куколка нен"/>
          <p:cNvPicPr/>
          <p:nvPr/>
        </p:nvPicPr>
        <p:blipFill>
          <a:blip r:embed="rId2"/>
          <a:stretch/>
        </p:blipFill>
        <p:spPr>
          <a:xfrm>
            <a:off x="571680" y="3286080"/>
            <a:ext cx="2357280" cy="10000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9" name="Rectangle 4"/>
          <p:cNvSpPr/>
          <p:nvPr/>
        </p:nvSpPr>
        <p:spPr>
          <a:xfrm>
            <a:off x="3357720" y="3278160"/>
            <a:ext cx="44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делать косу, скрутив нитки мулине, украсить её бисером или цветными лен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Рисунок 22" descr="Куколка нен"/>
          <p:cNvPicPr/>
          <p:nvPr/>
        </p:nvPicPr>
        <p:blipFill>
          <a:blip r:embed="rId3"/>
          <a:stretch/>
        </p:blipFill>
        <p:spPr>
          <a:xfrm>
            <a:off x="571680" y="4857840"/>
            <a:ext cx="2357280" cy="15033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1" name="Rectangle 6"/>
          <p:cNvSpPr/>
          <p:nvPr/>
        </p:nvSpPr>
        <p:spPr>
          <a:xfrm>
            <a:off x="3357720" y="4736520"/>
            <a:ext cx="43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крепить  косу к внутренней части клюва</a:t>
            </a:r>
            <a:r>
              <a:rPr b="1" lang="ru-RU" sz="1600" spc="-1" strike="noStrike">
                <a:solidFill>
                  <a:srgbClr val="91581f"/>
                </a:solidFill>
                <a:latin typeface="Franklin Gothic Book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Рисунок 25" descr="Куколка нен"/>
          <p:cNvPicPr/>
          <p:nvPr/>
        </p:nvPicPr>
        <p:blipFill>
          <a:blip r:embed="rId1"/>
          <a:stretch/>
        </p:blipFill>
        <p:spPr>
          <a:xfrm>
            <a:off x="642960" y="1285920"/>
            <a:ext cx="1557360" cy="142884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3" name="Прямоугольник 2"/>
          <p:cNvSpPr/>
          <p:nvPr/>
        </p:nvSpPr>
        <p:spPr>
          <a:xfrm>
            <a:off x="2000160" y="285840"/>
            <a:ext cx="4572000" cy="734040"/>
          </a:xfrm>
          <a:prstGeom prst="rect">
            <a:avLst/>
          </a:prstGeom>
          <a:gradFill rotWithShape="0">
            <a:gsLst>
              <a:gs pos="0">
                <a:srgbClr val="cef0fe"/>
              </a:gs>
              <a:gs pos="100000">
                <a:srgbClr val="51d2fd"/>
              </a:gs>
            </a:gsLst>
            <a:lin ang="5400000"/>
          </a:gradFill>
          <a:ln w="10080">
            <a:solidFill>
              <a:srgbClr val="4bacc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Технология со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куклы «</a:t>
            </a:r>
            <a:r>
              <a:rPr b="0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ӈ</a:t>
            </a:r>
            <a:r>
              <a:rPr b="1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уху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2928960" y="1166040"/>
            <a:ext cx="528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1581f"/>
                </a:solidFill>
                <a:latin typeface="Franklin Gothic Book"/>
                <a:ea typeface="Times New Roman"/>
              </a:rPr>
              <a:t>4. Изготовить выкройку из цветного сукна для плат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28" descr="Куколка нен"/>
          <p:cNvPicPr/>
          <p:nvPr/>
        </p:nvPicPr>
        <p:blipFill>
          <a:blip r:embed="rId2"/>
          <a:stretch/>
        </p:blipFill>
        <p:spPr>
          <a:xfrm>
            <a:off x="642960" y="3143160"/>
            <a:ext cx="1538280" cy="135756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6" name="Rectangle 4"/>
          <p:cNvSpPr/>
          <p:nvPr/>
        </p:nvSpPr>
        <p:spPr>
          <a:xfrm>
            <a:off x="3000240" y="2950560"/>
            <a:ext cx="57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1581f"/>
                </a:solidFill>
                <a:latin typeface="Franklin Gothic Book"/>
                <a:ea typeface="Times New Roman"/>
              </a:rPr>
              <a:t>5. Обработать выкройку полосками цветной ткани с бисе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Рисунок 31" descr="Куколка нен"/>
          <p:cNvPicPr/>
          <p:nvPr/>
        </p:nvPicPr>
        <p:blipFill>
          <a:blip r:embed="rId3"/>
          <a:stretch/>
        </p:blipFill>
        <p:spPr>
          <a:xfrm>
            <a:off x="642960" y="4929120"/>
            <a:ext cx="1571760" cy="142884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8" name="Rectangle 6"/>
          <p:cNvSpPr/>
          <p:nvPr/>
        </p:nvSpPr>
        <p:spPr>
          <a:xfrm>
            <a:off x="3000240" y="480780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1581f"/>
                </a:solidFill>
                <a:latin typeface="Franklin Gothic Book"/>
                <a:ea typeface="Times New Roman"/>
              </a:rPr>
              <a:t>6. Прикрепить платье с внутренней стороны основания клю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3"/>
          <p:cNvSpPr/>
          <p:nvPr/>
        </p:nvSpPr>
        <p:spPr>
          <a:xfrm>
            <a:off x="4552920" y="496800"/>
            <a:ext cx="40006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ный клю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кно белого, синего и красного цв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рстяные нити красного, жёлтого, голубого и коричневого цв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ер и декоративные бус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ш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"/>
          <p:cNvPicPr/>
          <p:nvPr/>
        </p:nvPicPr>
        <p:blipFill>
          <a:blip r:embed="rId1"/>
          <a:stretch/>
        </p:blipFill>
        <p:spPr>
          <a:xfrm>
            <a:off x="4716360" y="3284640"/>
            <a:ext cx="3856320" cy="28922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</p:spPr>
      </p:pic>
      <p:pic>
        <p:nvPicPr>
          <p:cNvPr id="441" name="Picture 5" descr="F:\SAM_0345.JPG"/>
          <p:cNvPicPr/>
          <p:nvPr/>
        </p:nvPicPr>
        <p:blipFill>
          <a:blip r:embed="rId2"/>
          <a:stretch/>
        </p:blipFill>
        <p:spPr>
          <a:xfrm>
            <a:off x="450720" y="1809720"/>
            <a:ext cx="3895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Rectangle 1"/>
          <p:cNvGrpSpPr/>
          <p:nvPr/>
        </p:nvGrpSpPr>
        <p:grpSpPr>
          <a:xfrm>
            <a:off x="828720" y="3981600"/>
            <a:ext cx="7997760" cy="1815840"/>
            <a:chOff x="828720" y="3981600"/>
            <a:chExt cx="7997760" cy="1815840"/>
          </a:xfrm>
        </p:grpSpPr>
        <p:pic>
          <p:nvPicPr>
            <p:cNvPr id="443" name="Rectangle 1" descr=""/>
            <p:cNvPicPr/>
            <p:nvPr/>
          </p:nvPicPr>
          <p:blipFill>
            <a:blip r:embed="rId1"/>
            <a:stretch/>
          </p:blipFill>
          <p:spPr>
            <a:xfrm>
              <a:off x="830160" y="3981600"/>
              <a:ext cx="799452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828720" y="3990600"/>
              <a:ext cx="79977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ненецких семьях девочек рано начинали готовить к роли хозяек. Делая одежду для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ӈ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хуко, девочка под руководством матери или старшей сестры уже с пяти-шести лет училась шить, кроить, подбирать декоративные элементы. У девочек собирались большие кукольные семьи — со взрослыми, детьми и стариками, при этом одежда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ӈ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хуко делалась по образу и подобию настоящей одежды в соответствии с ролью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ӈ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хуко в кукольной семье. Семьи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ӈ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хуко имели свои чумы, лодки, хозяйство; посуду, сделанную из рыбьих позвонков или бересты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5" name="Picture 11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2521080" cy="33609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2" descr="C:\Users\ученик\Desktop\IMG_20190222_203257.jpg"/>
          <p:cNvPicPr/>
          <p:nvPr/>
        </p:nvPicPr>
        <p:blipFill>
          <a:blip r:embed="rId3"/>
          <a:stretch/>
        </p:blipFill>
        <p:spPr>
          <a:xfrm>
            <a:off x="4370400" y="620640"/>
            <a:ext cx="396720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0:05:47Z</dcterms:created>
  <dc:creator>Димыч</dc:creator>
  <dc:description/>
  <dc:language>en-US</dc:language>
  <cp:lastModifiedBy>ученик</cp:lastModifiedBy>
  <dcterms:modified xsi:type="dcterms:W3CDTF">2019-02-24T07:19:54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290000000000010290110207f7000400038000</vt:lpwstr>
  </property>
</Properties>
</file>