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CE5-7705-4C82-AA88-3FB72126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C4F-7999-4F6F-ADD4-689B672C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96F37-5B88-47B9-8CD7-0E1042E3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118A6-CE72-4A99-AC3A-B2A8B3B5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1B2ED-E5E9-4BBB-BCA0-C7C2CF7D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AF8C4-4234-4783-BF79-A5B51D0A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F58FB-C725-48D6-94CA-3E4A9603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6D506-5F7D-484E-A32A-783C3BC6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1ADA7-A7EC-463C-BDD7-676A2602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4C5E8-C9A4-4B58-80FA-3B5D931B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17141-D50A-482F-B97E-6DBE4A92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2DE-9E3C-4083-9523-A97D8E09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CAB-E2AE-499E-BB4A-8516568A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D7B1-D4DE-4C36-AEDE-BB4786EA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CF74-F6DB-4C89-B9F4-B8B665F2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8CAC-4A96-4E79-A388-CF5F2FF9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DE63-DC09-4BF3-B172-8F202AD3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A8CA-C0BD-42CD-B620-E280F75E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BF01-5352-4CBE-BB21-0D3F3227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29D8-A209-42EE-B84E-E0DAFFC8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BF1-D04F-42FB-BC4B-2FDC0C6C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9C96-199F-4C1F-8E93-6262F2E5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F55C-7D66-4643-83FB-AB275888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0EC0-721B-4E4E-851C-B436447A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8F81-BDDF-4ACB-8DBE-3DA7CA9A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A75C-1D20-43D1-AF9B-DCED43F0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CFE9A-BD6E-481C-9BC7-3D3AF229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CE40-D1C4-4D16-9F48-A8FBEE02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E8CC8-E57B-402F-AC66-F3800EA9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62F0E-FB7A-49AA-BCE2-1039F12F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5B916-4FED-45FD-9140-2F777D3F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EF7-F853-4CD4-963C-6D0DD313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C03D8-8626-4BF9-962E-EBE4D4F1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0DC1B-F58B-486F-8159-E01529E1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EC7CF-CA09-4DB2-9F09-BA78B7DE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63D68-E34F-4055-8121-49BDDD32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AB61B-3876-4AE9-90F9-3F9CF9E7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777D0-B7BB-4DC6-9F4B-7723F7C4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EA73F-652E-447C-ACC0-24660B0F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143E7-E741-41FA-9335-974CFD68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32938-3B98-4C51-8759-23ECE13D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C23DB-5A50-4CD9-A2BE-1DDEC342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B490-00FF-4CE6-8FC0-97FFFB17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A5571-9E97-4B4F-A6F2-A2BFA8B5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6599D-9AD1-4ACE-B397-1F6144C2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23931-7C03-4607-81AA-BFB712D9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9E415-2684-41E9-BAD7-C2B67F89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35BBA-B5C8-49DC-BB0E-2D7B8496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B54CC-24F3-4D02-BF76-3242045C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8AEB1-9CD3-440D-918B-8B5C5BF4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D1779-6FC7-42B7-A2A9-82825FFB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A54F6-46B1-4DB6-A899-B9B23EC3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9735E-1A22-4C17-ACFD-FFB3A71F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8D8-3789-412A-9F0E-98943144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094A5-7DF4-4966-AA06-6BF3C7B5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95B14-EA66-40EF-AE44-B2A8EEF0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A985B-D935-40EF-910A-DAA9AC2F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BA789-C2F5-4143-9997-C5C321CD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9573D-89FC-4295-8126-7997EC34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8C70F-1F6A-4C91-B9EF-490C7273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87B0D-590C-4762-B151-2734F9C7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0C1B3-8905-4B8A-A084-6944DED3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E2EC6-1A61-4DC3-9843-B7295A9F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ABA69-A131-4B64-AA37-85BC308F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94C-E6B0-4BCB-9A8C-FA815D82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D780E-CF82-4928-AC4A-C9BC770E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79ABB-3B9F-4837-8C51-347B35BD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91B5E-9745-4A00-A22B-F00B2B3F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9271D-21F4-4DD3-929E-208ABD91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566FD-4911-4DE6-83E7-BFE0CFF5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BD267-6FAD-48F9-85C9-CC237F49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CB96C-AD11-47B5-BA16-8FFA34C8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CBA3B-CA85-4F95-B346-5AB19823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9D03D-85AE-4D75-8741-326D8E04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39E5A-BE98-4EC3-90FF-8F3CB8DF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D19-E403-4C2E-B37A-251292DD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79C0F-E1D2-4BCF-818D-2703768C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152F2-BFA8-40A7-9AA3-E2B22682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0DF4E-97AD-437B-BEEF-E1AC1FC3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27E95-E2FB-4ED3-B997-E5AEA086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7490A-33FD-4528-851E-939589BA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DD3CC-B308-478B-88D3-9C87830A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7D6AC-9DFA-4911-9451-AF2E950D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79E72-81A8-4B38-A878-4EF6264E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2C661-579F-4210-A9B1-68B11C5A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50F6E-2624-4B65-8846-84471240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8C1-8998-464A-A9DD-938EA7D5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7034F-1441-4609-A6B1-04D4D2CD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78A57-7A76-4B2A-89D5-B6E7ED1B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27814-9384-458C-A51D-9566935B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E425E-9451-42BB-8CFF-D612F15C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99737-CC90-48F8-BC38-DF20EB2E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5655B-E3EF-4023-B0F4-B3963D18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1D666-17C7-40EE-B9FA-817B51D7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02CE3-C3DB-4088-AC81-5357B8C1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46A87-3AF6-4D85-8A0E-2207A2AE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E2BA8-8553-4E18-9507-6E9FE476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706-6BC8-461D-8136-75AEAA5F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643EB-9384-463E-9D08-AAA72CA0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AB271-FB97-43E7-9455-EB6CCD68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37EE9-FB77-4074-9B00-79B02EBB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D1C71-AC7D-435B-BC75-B91D2BE7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BD587-462C-4BB7-A030-08B233F1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60033-F91B-44FF-B74C-1B505DEB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19EF6-7729-4F2D-BEAF-B88D2DFA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53781-37C1-4CFA-BEF4-6D700E24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D2BE1-D5BD-4838-B477-E663B533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80DF1-190C-4DC8-A66D-ED11112B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85E9-5168-4C87-B70F-9BADBC3E6E28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C34C-7E1A-49FA-864B-1DFCF122B5DF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C7CE-1EEB-4FD6-BFCA-0F5CC7B90662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7955-92A2-4587-B501-A2698961514F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FEBE-1295-42D9-B7BD-45B1000ADA3F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FEF4-B1FD-48A9-B626-E4F750D6A2BF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D2F0-816A-4A72-9DD8-A200303C0C52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8035-5B2A-4281-867E-640492129B12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A70D-9E7D-4A7A-BF08-D7B035A3BA82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" Target="slide6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7"/>
          <p:cNvSpPr/>
          <p:nvPr/>
        </p:nvSpPr>
        <p:spPr>
          <a:xfrm>
            <a:off x="1835280" y="2852640"/>
            <a:ext cx="67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нецкая кукла</a:t>
            </a:r>
            <a:r>
              <a:rPr b="1" lang="en-US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ӈ</a:t>
            </a: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хоко</a:t>
            </a:r>
            <a:r>
              <a:rPr b="1" lang="ru-RU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9"/>
          <p:cNvSpPr/>
          <p:nvPr/>
        </p:nvSpPr>
        <p:spPr>
          <a:xfrm>
            <a:off x="5435640" y="4578480"/>
            <a:ext cx="37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втор – составитель: Сэротэтто А.А., воспитатель школы – интерна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Рисунок 4" descr=""/>
          <p:cNvPicPr/>
          <p:nvPr/>
        </p:nvPicPr>
        <p:blipFill>
          <a:blip r:embed="rId1"/>
          <a:stretch/>
        </p:blipFill>
        <p:spPr>
          <a:xfrm>
            <a:off x="395280" y="1044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5" descr="узор7"/>
          <p:cNvPicPr/>
          <p:nvPr/>
        </p:nvPicPr>
        <p:blipFill>
          <a:blip r:embed="rId2"/>
          <a:stretch/>
        </p:blipFill>
        <p:spPr>
          <a:xfrm>
            <a:off x="1841400" y="4338720"/>
            <a:ext cx="6912000" cy="2535120"/>
          </a:xfrm>
          <a:prstGeom prst="rect">
            <a:avLst/>
          </a:prstGeom>
          <a:ln w="0">
            <a:noFill/>
          </a:ln>
        </p:spPr>
      </p:pic>
      <p:sp>
        <p:nvSpPr>
          <p:cNvPr id="403" name="Подзаголовок 2"/>
          <p:cNvSpPr/>
          <p:nvPr/>
        </p:nvSpPr>
        <p:spPr>
          <a:xfrm>
            <a:off x="468360" y="212760"/>
            <a:ext cx="845820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0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a3f6d"/>
                </a:solidFill>
                <a:latin typeface="Times New Roman"/>
                <a:ea typeface="Times New Roman"/>
              </a:rPr>
              <a:t>Муниципальное казённое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a3f6d"/>
                </a:solidFill>
                <a:latin typeface="Times New Roman"/>
                <a:ea typeface="Times New Roman"/>
              </a:rPr>
              <a:t>«Панаевская школа-интерна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a3f6d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Rectangle 1"/>
          <p:cNvGrpSpPr/>
          <p:nvPr/>
        </p:nvGrpSpPr>
        <p:grpSpPr>
          <a:xfrm>
            <a:off x="500040" y="4849560"/>
            <a:ext cx="8070840" cy="1068480"/>
            <a:chOff x="500040" y="4849560"/>
            <a:chExt cx="8070840" cy="1068480"/>
          </a:xfrm>
        </p:grpSpPr>
        <p:pic>
          <p:nvPicPr>
            <p:cNvPr id="448" name="Rectangle 1" descr=""/>
            <p:cNvPicPr/>
            <p:nvPr/>
          </p:nvPicPr>
          <p:blipFill>
            <a:blip r:embed="rId1"/>
            <a:stretch/>
          </p:blipFill>
          <p:spPr>
            <a:xfrm>
              <a:off x="500040" y="4849560"/>
              <a:ext cx="8069040" cy="10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500040" y="4849560"/>
              <a:ext cx="8070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гда ненцы ехали в гости, девочка обязательно брала с собой ӈухуко; взрослые привезут подарки хозяевам, а ӈухуко привезут подарки для кукол их дочерей. Если юная невеста приносила в дом мужа большую кукольную семью — это хороший знак, обещающий молодой паре много детей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4853160" y="428760"/>
            <a:ext cx="3535200" cy="40892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51" name="Picture 3" descr=""/>
          <p:cNvPicPr/>
          <p:nvPr/>
        </p:nvPicPr>
        <p:blipFill>
          <a:blip r:embed="rId3"/>
          <a:stretch/>
        </p:blipFill>
        <p:spPr>
          <a:xfrm>
            <a:off x="500040" y="428760"/>
            <a:ext cx="3643200" cy="40892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2"/>
          <p:cNvSpPr/>
          <p:nvPr/>
        </p:nvSpPr>
        <p:spPr>
          <a:xfrm>
            <a:off x="5143680" y="1298520"/>
            <a:ext cx="37861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м пламенем стынут снега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-то зябнут в сугробах селенья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узорах я вижу рога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оту и отвагу оленью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они разбрелись на пимах,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ницах я вижу узоры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то стадо на вольном просторе,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пает в снегу, как во мхах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ворная тянет игла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ку прочную дальше и дальше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узоре не чувствуешь фальши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так вложено много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Пич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C:\Users\ученик\Desktop\IMG_20190222_203320.jpg"/>
          <p:cNvPicPr/>
          <p:nvPr/>
        </p:nvPicPr>
        <p:blipFill>
          <a:blip r:embed="rId1"/>
          <a:stretch/>
        </p:blipFill>
        <p:spPr>
          <a:xfrm>
            <a:off x="331920" y="1211400"/>
            <a:ext cx="4778280" cy="358452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3" descr="узор7"/>
          <p:cNvPicPr/>
          <p:nvPr/>
        </p:nvPicPr>
        <p:blipFill>
          <a:blip r:embed="rId2"/>
          <a:stretch/>
        </p:blipFill>
        <p:spPr>
          <a:xfrm>
            <a:off x="1303200" y="4941720"/>
            <a:ext cx="6632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531720" y="1132200"/>
            <a:ext cx="778680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источ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ко Т. И., Галкин В. Т., Ема нов А. Г., Павлов А.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народов Ямал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Учебник. 5-7 классы. Тюмень: Изд-во Института проблем освоения Севера СО РАН, 200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яруй В.Н., Сэрпиво В.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цы: уроки предков: Научно – методическое пособие для педагогов и родителей. – СПб.: ООО «Миралл»,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ru.wikipedia.org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evronenzy.ru/nasha-produkci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vosmaja-marta.livejournal.com/95373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2r.ru/souvenir/2015/souvenir/view/638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2r.ru/souvenir/2015/souvenir/view/6380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2320" y="1152360"/>
            <a:ext cx="4327560" cy="33642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278320" y="1122480"/>
            <a:ext cx="3517920" cy="342576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5"/>
          <p:cNvSpPr/>
          <p:nvPr/>
        </p:nvSpPr>
        <p:spPr>
          <a:xfrm>
            <a:off x="1476360" y="4317840"/>
            <a:ext cx="31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Franklin Gothic Book"/>
                <a:ea typeface="Arial"/>
              </a:rPr>
              <a:t>Из истории куклы Нуху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6"/>
          <p:cNvSpPr/>
          <p:nvPr/>
        </p:nvSpPr>
        <p:spPr>
          <a:xfrm>
            <a:off x="5857560" y="490212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Franklin Gothic Book"/>
                <a:ea typeface="Arial"/>
              </a:rPr>
              <a:t>Технология соз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Franklin Gothic Book"/>
                <a:ea typeface="Arial"/>
              </a:rPr>
              <a:t>куклы Нуху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Rectangle 1"/>
          <p:cNvGrpSpPr/>
          <p:nvPr/>
        </p:nvGrpSpPr>
        <p:grpSpPr>
          <a:xfrm>
            <a:off x="3859200" y="3554280"/>
            <a:ext cx="5071680" cy="2713320"/>
            <a:chOff x="3859200" y="3554280"/>
            <a:chExt cx="5071680" cy="2713320"/>
          </a:xfrm>
        </p:grpSpPr>
        <p:pic>
          <p:nvPicPr>
            <p:cNvPr id="409" name="Rectangle 1" descr=""/>
            <p:cNvPicPr/>
            <p:nvPr/>
          </p:nvPicPr>
          <p:blipFill>
            <a:blip r:embed="rId1"/>
            <a:stretch/>
          </p:blipFill>
          <p:spPr>
            <a:xfrm>
              <a:off x="3860280" y="3554280"/>
              <a:ext cx="5070600" cy="27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3859200" y="3569400"/>
              <a:ext cx="5070600" cy="26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«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ӈ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хоко»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также 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гухуко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 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гуху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 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ко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 – традиционная детская игрушка ненцев, кукла, в основу которой положен птичий клю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оловой куклы служит надклювье (верхняя пластина клюва) водоплавающей птицы, для куклы-мужчины это надклювье гуся, для куклы-женщины — утки, для куклы-ребёнка — мелких водоплавающих птиц. Может быть использован клюв с остатками оперения со лба или без них. Туловище куклы высотой 15-20 сантиметров делается из лоскута материи — сукна или драпа, обёрнутого в виде юбки вокруг основания надклювья и примотанного лентой из ткани, изображающей воротник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4815000" y="809640"/>
            <a:ext cx="3585960" cy="26906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12" name="Picture 4" descr=""/>
          <p:cNvPicPr/>
          <p:nvPr/>
        </p:nvPicPr>
        <p:blipFill>
          <a:blip r:embed="rId3"/>
          <a:stretch/>
        </p:blipFill>
        <p:spPr>
          <a:xfrm>
            <a:off x="861840" y="3589200"/>
            <a:ext cx="2995920" cy="26434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3" name="Прямоугольник 5"/>
          <p:cNvSpPr/>
          <p:nvPr/>
        </p:nvSpPr>
        <p:spPr>
          <a:xfrm>
            <a:off x="3289680" y="125280"/>
            <a:ext cx="42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Из истории куклы 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ӈ</a:t>
            </a: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ухок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9" descr=""/>
          <p:cNvPicPr/>
          <p:nvPr/>
        </p:nvPicPr>
        <p:blipFill>
          <a:blip r:embed="rId4"/>
          <a:stretch/>
        </p:blipFill>
        <p:spPr>
          <a:xfrm>
            <a:off x="758880" y="809640"/>
            <a:ext cx="3587760" cy="26906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309600" y="435960"/>
            <a:ext cx="5357880" cy="1585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оздания основы куклы из головы и туловища (руки и ноги ӈухуко не полагаются) куклу «одевают» и украшают, используя разноцветные ленты из ткани. Обычно делают нечётное количество лент (три, пять или семь), иногда ленты покрывают треугольным орнаментом. Кукле-женщине делают две или четыре косы из шнурочков или бисера, нанизанного на сухожилие (сейчас чаще используют леску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428760" y="2500200"/>
            <a:ext cx="5238720" cy="3929040"/>
          </a:xfrm>
          <a:prstGeom prst="rect">
            <a:avLst/>
          </a:prstGeom>
          <a:ln cap="sq" w="38160">
            <a:solidFill>
              <a:srgbClr val="92d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6054840" y="571680"/>
            <a:ext cx="2803320" cy="5927400"/>
          </a:xfrm>
          <a:prstGeom prst="rect">
            <a:avLst/>
          </a:prstGeom>
          <a:ln cap="sq" w="38160">
            <a:solidFill>
              <a:srgbClr val="92d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Rectangle 1"/>
          <p:cNvGrpSpPr/>
          <p:nvPr/>
        </p:nvGrpSpPr>
        <p:grpSpPr>
          <a:xfrm>
            <a:off x="285840" y="4182480"/>
            <a:ext cx="4498920" cy="2028960"/>
            <a:chOff x="285840" y="4182480"/>
            <a:chExt cx="4498920" cy="2028960"/>
          </a:xfrm>
        </p:grpSpPr>
        <p:pic>
          <p:nvPicPr>
            <p:cNvPr id="419" name="Rectangle 1" descr=""/>
            <p:cNvPicPr/>
            <p:nvPr/>
          </p:nvPicPr>
          <p:blipFill>
            <a:blip r:embed="rId1"/>
            <a:stretch/>
          </p:blipFill>
          <p:spPr>
            <a:xfrm>
              <a:off x="285840" y="4182480"/>
              <a:ext cx="449748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285840" y="4189680"/>
              <a:ext cx="449892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пользование для создания игрушки атрибута водоплавающей птицы имеет сакральное значение — связанная со всеми тремя стихиями, землёй, водой и воздухом; зимой отправляющаяся на юг, к духам предков, а по весне возвращающаяся обратно к людям, она охраняет ребёнка от злых напастей. Однако на голову куклы не наносится изображение лица — согласно поверьям ненцев, кукла не должна «видеть», иначе она может ожить и забрать душу ребёнк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5214960" y="3983040"/>
            <a:ext cx="3373560" cy="25290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22" name="Picture 8" descr=""/>
          <p:cNvPicPr/>
          <p:nvPr/>
        </p:nvPicPr>
        <p:blipFill>
          <a:blip r:embed="rId3"/>
          <a:stretch/>
        </p:blipFill>
        <p:spPr>
          <a:xfrm>
            <a:off x="3209760" y="617400"/>
            <a:ext cx="3254400" cy="24418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</p:spPr>
      </p:pic>
      <p:pic>
        <p:nvPicPr>
          <p:cNvPr id="423" name="Picture 9" descr=""/>
          <p:cNvPicPr/>
          <p:nvPr/>
        </p:nvPicPr>
        <p:blipFill>
          <a:blip r:embed="rId4"/>
          <a:stretch/>
        </p:blipFill>
        <p:spPr>
          <a:xfrm>
            <a:off x="6548400" y="254160"/>
            <a:ext cx="2298600" cy="30654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</p:spPr>
      </p:pic>
      <p:pic>
        <p:nvPicPr>
          <p:cNvPr id="424" name="Picture 10" descr=""/>
          <p:cNvPicPr/>
          <p:nvPr/>
        </p:nvPicPr>
        <p:blipFill>
          <a:blip r:embed="rId5"/>
          <a:stretch/>
        </p:blipFill>
        <p:spPr>
          <a:xfrm>
            <a:off x="395280" y="254160"/>
            <a:ext cx="2814480" cy="30654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2000160" y="285840"/>
            <a:ext cx="4572000" cy="734040"/>
          </a:xfrm>
          <a:prstGeom prst="rect">
            <a:avLst/>
          </a:prstGeom>
          <a:gradFill rotWithShape="0">
            <a:gsLst>
              <a:gs pos="0">
                <a:srgbClr val="cef0fe"/>
              </a:gs>
              <a:gs pos="100000">
                <a:srgbClr val="51d2fd"/>
              </a:gs>
            </a:gsLst>
            <a:lin ang="5400000"/>
          </a:gradFill>
          <a:ln w="10080">
            <a:solidFill>
              <a:srgbClr val="4bacc6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Технология соз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уклы «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ӈ</a:t>
            </a: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ху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16" descr="Куколка нен"/>
          <p:cNvPicPr/>
          <p:nvPr/>
        </p:nvPicPr>
        <p:blipFill>
          <a:blip r:embed="rId1"/>
          <a:stretch/>
        </p:blipFill>
        <p:spPr>
          <a:xfrm>
            <a:off x="642960" y="1143000"/>
            <a:ext cx="2143080" cy="180180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7" name="Rectangle 2"/>
          <p:cNvSpPr/>
          <p:nvPr/>
        </p:nvSpPr>
        <p:spPr>
          <a:xfrm>
            <a:off x="3286080" y="95040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1. Сухую шкурку размять и очисти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Рисунок 19" descr="Куколка нен"/>
          <p:cNvPicPr/>
          <p:nvPr/>
        </p:nvPicPr>
        <p:blipFill>
          <a:blip r:embed="rId2"/>
          <a:stretch/>
        </p:blipFill>
        <p:spPr>
          <a:xfrm>
            <a:off x="571680" y="3286080"/>
            <a:ext cx="2357280" cy="100008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9" name="Rectangle 4"/>
          <p:cNvSpPr/>
          <p:nvPr/>
        </p:nvSpPr>
        <p:spPr>
          <a:xfrm>
            <a:off x="3357720" y="3278160"/>
            <a:ext cx="44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делать косу, скрутив нитки мулине, украсить её бисером или цветными лен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Рисунок 22" descr="Куколка нен"/>
          <p:cNvPicPr/>
          <p:nvPr/>
        </p:nvPicPr>
        <p:blipFill>
          <a:blip r:embed="rId3"/>
          <a:stretch/>
        </p:blipFill>
        <p:spPr>
          <a:xfrm>
            <a:off x="571680" y="4857840"/>
            <a:ext cx="2357280" cy="150336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31" name="Rectangle 6"/>
          <p:cNvSpPr/>
          <p:nvPr/>
        </p:nvSpPr>
        <p:spPr>
          <a:xfrm>
            <a:off x="3357720" y="4736520"/>
            <a:ext cx="43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крепить  косу к внутренней части клюва</a:t>
            </a:r>
            <a:r>
              <a:rPr b="1" lang="ru-RU" sz="1600" spc="-1" strike="noStrike">
                <a:solidFill>
                  <a:srgbClr val="91581f"/>
                </a:solidFill>
                <a:latin typeface="Franklin Gothic Book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Рисунок 25" descr="Куколка нен"/>
          <p:cNvPicPr/>
          <p:nvPr/>
        </p:nvPicPr>
        <p:blipFill>
          <a:blip r:embed="rId1"/>
          <a:stretch/>
        </p:blipFill>
        <p:spPr>
          <a:xfrm>
            <a:off x="642960" y="1285920"/>
            <a:ext cx="1557360" cy="142884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33" name="Прямоугольник 2"/>
          <p:cNvSpPr/>
          <p:nvPr/>
        </p:nvSpPr>
        <p:spPr>
          <a:xfrm>
            <a:off x="2000160" y="285840"/>
            <a:ext cx="4572000" cy="734040"/>
          </a:xfrm>
          <a:prstGeom prst="rect">
            <a:avLst/>
          </a:prstGeom>
          <a:gradFill rotWithShape="0">
            <a:gsLst>
              <a:gs pos="0">
                <a:srgbClr val="cef0fe"/>
              </a:gs>
              <a:gs pos="100000">
                <a:srgbClr val="51d2fd"/>
              </a:gs>
            </a:gsLst>
            <a:lin ang="5400000"/>
          </a:gradFill>
          <a:ln w="10080">
            <a:solidFill>
              <a:srgbClr val="4bacc6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Технология соз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куклы «</a:t>
            </a:r>
            <a:r>
              <a:rPr b="0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ӈ</a:t>
            </a:r>
            <a:r>
              <a:rPr b="1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уху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2928960" y="1166040"/>
            <a:ext cx="528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1581f"/>
                </a:solidFill>
                <a:latin typeface="Franklin Gothic Book"/>
                <a:ea typeface="Times New Roman"/>
              </a:rPr>
              <a:t>4. Изготовить выкройку из цветного сукна для плат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28" descr="Куколка нен"/>
          <p:cNvPicPr/>
          <p:nvPr/>
        </p:nvPicPr>
        <p:blipFill>
          <a:blip r:embed="rId2"/>
          <a:stretch/>
        </p:blipFill>
        <p:spPr>
          <a:xfrm>
            <a:off x="642960" y="3143160"/>
            <a:ext cx="1538280" cy="135756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36" name="Rectangle 4"/>
          <p:cNvSpPr/>
          <p:nvPr/>
        </p:nvSpPr>
        <p:spPr>
          <a:xfrm>
            <a:off x="3000240" y="2950560"/>
            <a:ext cx="571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1581f"/>
                </a:solidFill>
                <a:latin typeface="Franklin Gothic Book"/>
                <a:ea typeface="Times New Roman"/>
              </a:rPr>
              <a:t>5. Обработать выкройку полосками цветной ткани с бисе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Рисунок 31" descr="Куколка нен"/>
          <p:cNvPicPr/>
          <p:nvPr/>
        </p:nvPicPr>
        <p:blipFill>
          <a:blip r:embed="rId3"/>
          <a:stretch/>
        </p:blipFill>
        <p:spPr>
          <a:xfrm>
            <a:off x="642960" y="4929120"/>
            <a:ext cx="1571760" cy="142884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38" name="Rectangle 6"/>
          <p:cNvSpPr/>
          <p:nvPr/>
        </p:nvSpPr>
        <p:spPr>
          <a:xfrm>
            <a:off x="3000240" y="480780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1581f"/>
                </a:solidFill>
                <a:latin typeface="Franklin Gothic Book"/>
                <a:ea typeface="Times New Roman"/>
              </a:rPr>
              <a:t>6. Прикрепить платье с внутренней стороны основания клю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ик 3"/>
          <p:cNvSpPr/>
          <p:nvPr/>
        </p:nvSpPr>
        <p:spPr>
          <a:xfrm>
            <a:off x="4552920" y="496800"/>
            <a:ext cx="40006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ный клю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кно белого, синего и красного цв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рстяные нити красного, жёлтого, голубого и коричневого цв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ер и декоративные бус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ш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"/>
          <p:cNvPicPr/>
          <p:nvPr/>
        </p:nvPicPr>
        <p:blipFill>
          <a:blip r:embed="rId1"/>
          <a:stretch/>
        </p:blipFill>
        <p:spPr>
          <a:xfrm>
            <a:off x="4716360" y="3284640"/>
            <a:ext cx="3856320" cy="2892240"/>
          </a:xfrm>
          <a:prstGeom prst="rect">
            <a:avLst/>
          </a:prstGeom>
          <a:ln cap="sq" w="38160">
            <a:solidFill>
              <a:srgbClr val="4f81bd"/>
            </a:solidFill>
            <a:miter/>
          </a:ln>
        </p:spPr>
      </p:pic>
      <p:pic>
        <p:nvPicPr>
          <p:cNvPr id="441" name="Picture 5" descr="F:\SAM_0345.JPG"/>
          <p:cNvPicPr/>
          <p:nvPr/>
        </p:nvPicPr>
        <p:blipFill>
          <a:blip r:embed="rId2"/>
          <a:stretch/>
        </p:blipFill>
        <p:spPr>
          <a:xfrm>
            <a:off x="450720" y="1809720"/>
            <a:ext cx="38959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Rectangle 1"/>
          <p:cNvGrpSpPr/>
          <p:nvPr/>
        </p:nvGrpSpPr>
        <p:grpSpPr>
          <a:xfrm>
            <a:off x="828720" y="3981600"/>
            <a:ext cx="7997760" cy="1815840"/>
            <a:chOff x="828720" y="3981600"/>
            <a:chExt cx="7997760" cy="1815840"/>
          </a:xfrm>
        </p:grpSpPr>
        <p:pic>
          <p:nvPicPr>
            <p:cNvPr id="443" name="Rectangle 1" descr=""/>
            <p:cNvPicPr/>
            <p:nvPr/>
          </p:nvPicPr>
          <p:blipFill>
            <a:blip r:embed="rId1"/>
            <a:stretch/>
          </p:blipFill>
          <p:spPr>
            <a:xfrm>
              <a:off x="830160" y="3981600"/>
              <a:ext cx="799452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828720" y="3990600"/>
              <a:ext cx="799776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ненецких семьях девочек рано начинали готовить к роли хозяек. Делая одежду для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ӈ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хуко, девочка под руководством матери или старшей сестры уже с пяти-шести лет училась шить, кроить, подбирать декоративные элементы. У девочек собирались большие кукольные семьи — со взрослыми, детьми и стариками, при этом одежда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ӈ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хуко делалась по образу и подобию настоящей одежды в соответствии с ролью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ӈ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хуко в кукольной семье. Семьи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ӈ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хуко имели свои чумы, лодки, хозяйство; посуду, сделанную из рыбьих позвонков или бересты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5" name="Picture 11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2521080" cy="33609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2" descr="C:\Users\ученик\Desktop\IMG_20190222_203257.jpg"/>
          <p:cNvPicPr/>
          <p:nvPr/>
        </p:nvPicPr>
        <p:blipFill>
          <a:blip r:embed="rId3"/>
          <a:stretch/>
        </p:blipFill>
        <p:spPr>
          <a:xfrm>
            <a:off x="4370400" y="620640"/>
            <a:ext cx="396720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0:05:47Z</dcterms:created>
  <dc:creator>Димыч</dc:creator>
  <dc:description/>
  <dc:language>en-US</dc:language>
  <cp:lastModifiedBy>ученик</cp:lastModifiedBy>
  <dcterms:modified xsi:type="dcterms:W3CDTF">2019-02-24T07:19:54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290000000000010290110207f7000400038000</vt:lpwstr>
  </property>
</Properties>
</file>