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497-D546-4C7B-A9E3-6A021BF5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FD4-780F-4E73-A8E3-8E699C59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A05-8802-4047-8E50-DABBCA40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98C-DEDA-436C-8EEA-5E899C91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FDFD-CF3D-47E4-AFCA-0395C481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88CA-203B-48FF-9653-05F6A70B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4778-4CCF-45FB-92BF-B78241E1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5D4E-4778-4605-B5A8-548B4A03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A108-FB6C-431D-88CC-384A49EC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BEF6-C0AD-4224-8CF0-C787B977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97E9-9209-4680-956D-EB19E00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5C2-C567-4F6A-8FB1-0E1DA7AA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5B7E-1BE6-4BE1-98E4-9317FAF0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804A-8AB6-4C12-A178-E70EE29D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B6A0-27E3-4175-B805-D137AF46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A46D-FFFA-4895-BB77-EAEF7C24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FDCA-C247-4753-A206-24377ADB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8359-96B7-4898-BECE-8BFEE050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F1440-9804-436C-9847-894CA9AD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5F78-61BD-432E-B9C6-30BA26E9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CD00-85D3-401B-B28F-48E08789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CE9B-36DA-441D-8331-572E764A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957-3B93-449D-B11A-0A25C9DB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8AC19-18C7-4F02-97C2-F0E277EB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06B73-1699-495D-B253-2A129F10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F833-1481-4D5F-B962-AC1D1C5E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A039-6B66-42E0-84E7-22FFC88D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1E655-9DAA-461A-AF8F-13727444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B9B6-C9D7-4125-9512-028398CF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109C-6179-402A-88B2-9BA4D492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6F85A-2C4C-4BEA-B3D4-AA2D15F3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213B-98E5-4BEA-B9F3-9BF123B7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B848-DB8E-44D3-BA2B-460D1ABF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2D5-4E1B-4910-AFEF-585F7431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A048-B3C2-4C7B-A657-8BEFB1D5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7F38-2B4D-4424-B2D2-E3A204BD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3CB4-F647-4C57-ADFF-B1511A35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E459A-2EEC-4DCB-A7FF-B035635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D9BB2-372E-4C25-A647-88E6741A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DC5A-3F14-4873-B6E9-A3681115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C075-0DD9-4F5E-A352-B991F38A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F698A-FFA8-4E74-BA7B-4AD6D075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D8F68-E491-4393-B725-EA5055AB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89FDC-B17B-4CB2-8FDC-A25F92D3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E7F-30C8-4ABA-9507-AF211832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145A9-B0C6-40E0-8E35-C6619F96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FE776-26FF-4018-87E5-C8A36F80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B2A27-986F-4E77-96F0-3AFDB319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6DC73-4CF5-4E70-8412-52E05D37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485A6-F6D1-4248-B69A-76A21C39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43CF6-4019-44DF-9D24-F9702650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25CB-701B-450B-89B2-E2204467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5EECC-AC3A-40B1-BB7C-A2B51397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14C7B-B3DA-4D5E-B67C-361C1513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0DE61-F22C-4B7C-B847-1C7D984F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CEA-FDC3-47BB-81DB-020B4983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6B120-BC59-4BB9-8FF8-69BEE3C4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A80-D810-4007-9693-C72E7137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EEE-CC4B-45A8-9253-3E75E874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6C9-DD44-4A5E-A703-B3417EC7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F2B0-ACBC-49E0-8F2F-BB5D847DD34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8086-47BA-4846-943E-99B332CD6BC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9562-9E38-4B29-874F-EEB74FE303F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D080-0D81-4A4A-8401-D9B4B03560F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08F8-DBE6-4BDD-A0EC-A29EB1CC849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1557360"/>
            <a:ext cx="7488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Calibri"/>
              </a:rPr>
              <a:t>Нестандартные задачи</a:t>
            </a:r>
            <a:endParaRPr b="0" lang="en-US" sz="65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5" descr="http://prohorovka-crb.belzdrav.ru/upload/medialibrary/0bf/%D0%A1%D0%BE%D0%B2%D0%B0.png"/>
          <p:cNvPicPr/>
          <p:nvPr/>
        </p:nvPicPr>
        <p:blipFill>
          <a:blip r:embed="rId1"/>
          <a:stretch/>
        </p:blipFill>
        <p:spPr>
          <a:xfrm>
            <a:off x="1332000" y="3562200"/>
            <a:ext cx="2181240" cy="274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твет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Берег, где находятся колхозники – А, другой берег – Б. Вначале оба мальчика переправляются на берег Б и один из них остается на нем. Второй мальчик доставляет лодку обратно, а сам высаживается  на берег А. В лодку садится один колхозник и переправляется через реку. Затем мальчик, оставшийся, на берегу Б, приводит лодку к берегу А, сажает на него второго мальчика и так дал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Развлечения и викторин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Два отца и два сына разделили между собой три апельсина, что каждому досталось по одному апельсину. Как это могло случить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Было три человека: отец, сын и д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85800" y="404640"/>
            <a:ext cx="74152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Задача 2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В каждом из четырех углов комнаты сидит кошка. Напротив каждой из этих кошек сидят три кошки. Сколько всего в этой комнате кошек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 4 кошк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Задача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У отца шесть сыновей. Каждый сын имеет сестру. Сколько всего детей у отц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Задача 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Летела стая уток. Одна впереди и две позади, одна позади и две впереди, одна между двумя и три в ряд. Сколько летело уто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Задача 5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На одном дереве сидели 40 сорок. Проходил охотник, выстрелил и убил 6 сорок. Сколько сорок осталось на дерев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Ни одной, т.к. шесть убиты и упали на землю, а остальные улете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Задача 6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В одной комнате три дочки и три их мамы, всего 4 женщины. В каком они родств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дочь, мать, бабушка и прабабуш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Задача в стих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Жуки и па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У меня водной коробке есть жу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И еще в одной коробке па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Мало их, в одну минуту можно сче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Пауков с жуками вместе -  только ш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Стал считаться в двух коробках, сколько но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Очень долго сосчитать я их не мо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Оказалось, ног немало – сорок д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Ну, скажи теперь мне, сколько тут жук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И еще сочти отдельно пау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Задача на наблюдательность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колько здесь треугольников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042920" y="2708280"/>
            <a:ext cx="2808360" cy="2232000"/>
          </a:xfrm>
          <a:custGeom>
            <a:avLst/>
            <a:gdLst>
              <a:gd name="textAreaLeft" fmla="*/ 867600 w 2808360"/>
              <a:gd name="textAreaRight" fmla="*/ 1940760 w 2808360"/>
              <a:gd name="textAreaTop" fmla="*/ 852480 h 2232000"/>
              <a:gd name="textAreaBottom" fmla="*/ 1705320 h 2232000"/>
            </a:gdLst>
            <a:ahLst/>
            <a:rect l="textAreaLeft" t="textAreaTop" r="textAreaRight" b="textAreaBottom"/>
            <a:pathLst>
              <a:path w="2808287" h="2232025">
                <a:moveTo>
                  <a:pt x="3" y="852555"/>
                </a:moveTo>
                <a:lnTo>
                  <a:pt x="1072676" y="852561"/>
                </a:lnTo>
                <a:lnTo>
                  <a:pt x="1404144" y="0"/>
                </a:lnTo>
                <a:lnTo>
                  <a:pt x="1735611" y="852561"/>
                </a:lnTo>
                <a:lnTo>
                  <a:pt x="2808284" y="852555"/>
                </a:lnTo>
                <a:lnTo>
                  <a:pt x="1940469" y="1379460"/>
                </a:lnTo>
                <a:lnTo>
                  <a:pt x="2271953" y="2232018"/>
                </a:lnTo>
                <a:lnTo>
                  <a:pt x="1404144" y="1705104"/>
                </a:lnTo>
                <a:lnTo>
                  <a:pt x="536334" y="2232018"/>
                </a:lnTo>
                <a:lnTo>
                  <a:pt x="867818" y="137946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1042920" y="2707920"/>
            <a:ext cx="144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241128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484360" y="2708280"/>
            <a:ext cx="13669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1042920" y="357336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619280" y="49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0"/>
          <p:cNvSpPr/>
          <p:nvPr/>
        </p:nvSpPr>
        <p:spPr>
          <a:xfrm flipV="1">
            <a:off x="3276720" y="3573000"/>
            <a:ext cx="574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205092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12"/>
          <p:cNvSpPr/>
          <p:nvPr/>
        </p:nvSpPr>
        <p:spPr>
          <a:xfrm flipV="1">
            <a:off x="1908000" y="3573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1908000" y="407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16"/>
          <p:cNvSpPr/>
          <p:nvPr/>
        </p:nvSpPr>
        <p:spPr>
          <a:xfrm flipV="1">
            <a:off x="2484360" y="4076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2124000" y="35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2771640" y="3573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3924360" y="4508640"/>
            <a:ext cx="3456000" cy="108108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AutoShape 40"/>
          <p:cNvSpPr/>
          <p:nvPr/>
        </p:nvSpPr>
        <p:spPr>
          <a:xfrm>
            <a:off x="334800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41"/>
          <p:cNvSpPr/>
          <p:nvPr/>
        </p:nvSpPr>
        <p:spPr>
          <a:xfrm rot="10800000">
            <a:off x="3348000" y="5013000"/>
            <a:ext cx="1152720" cy="57636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42"/>
          <p:cNvSpPr/>
          <p:nvPr/>
        </p:nvSpPr>
        <p:spPr>
          <a:xfrm>
            <a:off x="450072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43"/>
          <p:cNvSpPr/>
          <p:nvPr/>
        </p:nvSpPr>
        <p:spPr>
          <a:xfrm rot="10800000">
            <a:off x="4500360" y="5013000"/>
            <a:ext cx="1152360" cy="57636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AutoShape 44"/>
          <p:cNvSpPr/>
          <p:nvPr/>
        </p:nvSpPr>
        <p:spPr>
          <a:xfrm>
            <a:off x="565164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AutoShape 45"/>
          <p:cNvSpPr/>
          <p:nvPr/>
        </p:nvSpPr>
        <p:spPr>
          <a:xfrm rot="10800000">
            <a:off x="5651280" y="5013000"/>
            <a:ext cx="1152360" cy="57636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AutoShape 46"/>
          <p:cNvSpPr/>
          <p:nvPr/>
        </p:nvSpPr>
        <p:spPr>
          <a:xfrm>
            <a:off x="680400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AutoShape 47"/>
          <p:cNvSpPr/>
          <p:nvPr/>
        </p:nvSpPr>
        <p:spPr>
          <a:xfrm rot="10800000">
            <a:off x="6804000" y="5013000"/>
            <a:ext cx="1152720" cy="57636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48"/>
          <p:cNvSpPr/>
          <p:nvPr/>
        </p:nvSpPr>
        <p:spPr>
          <a:xfrm>
            <a:off x="3924360" y="450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49"/>
          <p:cNvSpPr/>
          <p:nvPr/>
        </p:nvSpPr>
        <p:spPr>
          <a:xfrm>
            <a:off x="7380360" y="450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alibri"/>
              </a:rPr>
              <a:t>Задачи «Концовки»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1. Если Саша по росту равен Пете, то Пет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2. Если Катя стоит левее Тани, то Тан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3. Коля и Петя живут в соседних домах. Идя в школу, Коля вышел из дома одновременно с Петей, значит, Петя вышел из дома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Ответ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1828800"/>
            <a:ext cx="820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1. То Петя по росту равен Саш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2. То Таня стоит правее Ка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3. Петя вышел из дома одновременно с Кол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Задача «Смекалк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Как разъехаться разным поезда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В районе лесоразработок проходит одноколейная железная дорога. Однажды понадобилось пропустить по ней с двух сторон по два встречных сост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На дороге лишь один разъезд, вмещающий только один из этих состав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Как разъехаться поездам, чтобы каждому продолжить свой путь дальше по своему маршруту, если на основной линии между входом и выходом на разъезд вмещается тоже только один соста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658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Решение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9640" y="98100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Состав №1 входит на линию разъезда, а в это время составы №3 и №4 проходят по основному пути направо за разъезд и останавливаются перед составом №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Состав №1 выходит с линии разъезда налево и отправляется по своему назнач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Теперь составы №3 и №4 идут налево, освобождают вход на разъезд поезду №2. Состав №2 входит в разъезд, а составы №3 и №4 в это время по прямому пути отправляются направо по своему маршруту. Наконец состав №2 выходит с разъезда влево и отправляется вслед за поездом №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9456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Логическая задача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196640"/>
            <a:ext cx="7989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Коля, Боря, Вова и Юра заняли первые четыре места в соревновании, причем никакие два мальчика не делили между собой одно и то же место. На вопрос, какие места заняли ребята, трое ответили: Коля – не первое и не четвертое; Боря – второе; Вова – не был последним. Какое место занял каждый из мальчиков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Ответ на задачу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Боря занял 2-е место; Коля – не 1-е, не 4-е, не 2-е, т.е. – 3-е. Так как Вова не на последнем месте, то он занял 1-е. значит, Юра – на 4-м мес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Головолом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Можно ли 5 яблок разделить между 6 мальчиками поровну так, чтобы не пришлось ни одного яблока резать больше, чем на три час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Каждый должен получить 5/6 яблока, но 5/6 = ½ + 1/3, значит, каждому нужно дать половину яблока и третью ч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Затруднительное полож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Четырем колхозникам нужно было переправиться через реку. Подойдя к ней, они увидели небольшую лодку, в которой плыли два мальчика. Колхозники попросили мальчиков перевезти их через реку, но оказалось, что в лодку могут сесть только два мальчика или даже один взрослый. Мальчикам очень хотелось помочь колхозникам, и они придумали, как это сделать. Через некоторое время колхозники на этой лодке переправились через реку. Что же придумали мальч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14:24Z</dcterms:created>
  <dc:creator>Валентина</dc:creator>
  <dc:description/>
  <dc:language>en-US</dc:language>
  <cp:lastModifiedBy>Тоня</cp:lastModifiedBy>
  <dcterms:modified xsi:type="dcterms:W3CDTF">2020-11-10T04:33:02Z</dcterms:modified>
  <cp:revision>9</cp:revision>
  <dc:subject/>
  <dc:title>Нестандартные  задачи</dc:title>
</cp:coreProperties>
</file>