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587-9CED-451E-829E-C761E120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45A-71D9-4E6B-8E76-ACCD988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11D-8A25-433B-A0D5-0193FCE0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D7D-688B-48BC-96C8-22E50FE1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16E8-22D5-43A3-A422-CB85A24F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4363-3455-4712-BC73-0ED07078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7CF8-2C7E-402D-8858-B7504A92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F881-CC94-44A8-AC8B-3E9288C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86C-F578-458D-98C3-527FF424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A39-1A4E-4DB9-9566-BC8C390E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437-14D5-4B76-AA2A-F24A684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1C3-7C62-4FAB-831D-FB380E95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3A8D-D713-449B-8F89-E277C8C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53EF-1409-4644-AE87-E5E5E804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CA1C-D463-4294-8DCC-E115740E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88A1-E98F-4087-9E51-3C78446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4959-6A6F-4799-B685-8FC53623E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FC85-0632-49AC-AE16-849E724B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849D-DDC8-41B3-A996-5B434234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4CEB-B125-44AE-8DB4-3F31E132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CF3E-35D1-4F93-BD10-5FAA24F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3F48-1823-47D9-BB94-BC18CA75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F98-B4AD-49A7-9E6E-CAFF1291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73E7-1AE6-4659-8153-816AF58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5F93-4EB1-4474-9B30-33F099B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4EB6-1BDF-4AEE-BFB3-EBF1399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2C0F-4A9C-49B4-B6F0-6B889AA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07B0-1F17-4ECE-AE65-B67BD6E4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2513-200F-4F9E-A6C6-01153180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E483-A561-4A0C-AF74-E8890800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A425-BB2C-4EC5-A647-060B7F9E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C72A-E1B4-45CE-A06D-54C09EF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9FEE-807A-463B-BA3E-DD544695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ADD-5CBC-4E6B-A15B-B8DD8143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C9B1-AD07-421F-B6E9-45579D6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E4047-2DC1-4BA5-A6D1-9384EB97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E868-DC9F-488D-98E8-AB66A54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2C92-3731-4670-B464-7341497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6DCC-F5D6-4FCA-81A7-4C948FE9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2552-6B68-4520-A844-FEBFE6E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C591E-29FE-4284-88DB-7CB86D7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04DAD-9A1B-4C52-9CA0-41F547BE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EBCB-169B-483E-9312-A2BB46A2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29F3-62B2-4BBC-987D-2D02BD35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131-A67E-4745-AEF1-4B4350AA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3E8E-31B5-480C-BE39-52421D46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4839-3F1D-4CEE-9315-A92950B6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4A719-27A6-407A-BFC7-CD1F0595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0CAE4-EA8C-457C-893F-803F799D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00CAC-D71F-41B1-A637-654066B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C22F-CCD7-40F4-B328-0809C47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52FDF-62D9-4112-B6E3-FBE60F2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71F72-C397-4450-BDEC-B41C970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BF4A-4937-4F48-B9B4-82BC928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FC526-1AB1-463F-AC78-899509AE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C25-C835-43CC-A688-CDF0436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A767-6FE3-4B38-B906-19690C8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4F3-6E0C-4919-86DD-4EEC4BE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917-9C05-4350-84B0-71C7184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B55-00E4-4444-8FAC-8175D57D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982B-AE9D-41BF-8DC4-91908A72CD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53C8-8E05-4B98-A1B9-13C4364B3B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5D4-D343-4129-AA47-CCAE8968FB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59F5-0E2C-4417-9562-77E15C1CE3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F52-5F28-43C2-B3FD-B37FD2128D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7488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alibri"/>
              </a:rPr>
              <a:t>Нестандартные задачи</a:t>
            </a:r>
            <a:endParaRPr b="0" lang="en-US" sz="65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5" descr="http://prohorovka-crb.belzdrav.ru/upload/medialibrary/0bf/%D0%A1%D0%BE%D0%B2%D0%B0.png"/>
          <p:cNvPicPr/>
          <p:nvPr/>
        </p:nvPicPr>
        <p:blipFill>
          <a:blip r:embed="rId1"/>
          <a:stretch/>
        </p:blipFill>
        <p:spPr>
          <a:xfrm>
            <a:off x="1332000" y="3562200"/>
            <a:ext cx="2181240" cy="27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твет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ерег, где находятся колхозники – А, другой берег – Б. Вначале оба мальчика переправляются на берег Б и один из них остается на нем. Второй мальчик доставляет лодку обратно, а сам высаживается  на берег А. В лодку садится один колхозник и переправляется через реку. Затем мальчик, оставшийся, на берегу Б, приводит лодку к берегу А, сажает на него второго мальчика и так дал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Развлечения и викторин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Два отца и два сына разделили между собой три апельсина, что каждому досталось по одному апельсину. Как это могло случитьс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Было три человека: отец, сын и д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404640"/>
            <a:ext cx="74152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 4 кош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У отца шесть сыновей. Каждый сын имеет сестру. Сколько всего детей у отц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Летела стая уток. Одна впереди и две позади, одна позади и две впереди, одна между двумя и три в ряд. Сколько летело уто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5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На одном дереве сидели 40 сорок. Проходил охотник, выстрелил и убил 6 сорок. Сколько сорок осталось на дерев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Ни одной, т.к. шесть убиты и упали на землю, а остальные улете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Задача 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В одной комнате три дочки и три их мамы, всего 4 женщины. В каком они родств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дочь, мать, бабушка и прабабуш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в стих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800"/>
            <a:ext cx="76960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Жуки и п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У меня водной коробке есть жу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 еще в одной коробке п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Мало их, в одну минуту можно сче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Пауков с жуками вместе -  только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Стал считаться в двух коробках, сколько н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Очень долго сосчитать я их не мо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Оказалось, ног немало – сорок дв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Ну, скажи теперь мне, сколько тут жук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И еще сочти отдельно па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на наблюдательност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олько здесь треугольников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042920" y="2708280"/>
            <a:ext cx="2808360" cy="2232000"/>
          </a:xfrm>
          <a:custGeom>
            <a:avLst/>
            <a:gdLst>
              <a:gd name="textAreaLeft" fmla="*/ 867600 w 2808360"/>
              <a:gd name="textAreaRight" fmla="*/ 1940760 w 2808360"/>
              <a:gd name="textAreaTop" fmla="*/ 852480 h 2232000"/>
              <a:gd name="textAreaBottom" fmla="*/ 1705320 h 2232000"/>
            </a:gdLst>
            <a:ahLst/>
            <a:rect l="textAreaLeft" t="textAreaTop" r="textAreaRight" b="textAreaBottom"/>
            <a:pathLst>
              <a:path w="2808287" h="2232025">
                <a:moveTo>
                  <a:pt x="3" y="852555"/>
                </a:moveTo>
                <a:lnTo>
                  <a:pt x="1072676" y="852561"/>
                </a:lnTo>
                <a:lnTo>
                  <a:pt x="1404144" y="0"/>
                </a:lnTo>
                <a:lnTo>
                  <a:pt x="1735611" y="852561"/>
                </a:lnTo>
                <a:lnTo>
                  <a:pt x="2808284" y="852555"/>
                </a:lnTo>
                <a:lnTo>
                  <a:pt x="1940469" y="1379460"/>
                </a:lnTo>
                <a:lnTo>
                  <a:pt x="2271953" y="2232018"/>
                </a:lnTo>
                <a:lnTo>
                  <a:pt x="1404144" y="1705104"/>
                </a:lnTo>
                <a:lnTo>
                  <a:pt x="536334" y="2232018"/>
                </a:lnTo>
                <a:lnTo>
                  <a:pt x="867818" y="137946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1042920" y="2707920"/>
            <a:ext cx="14414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41128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484360" y="2708280"/>
            <a:ext cx="136692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042920" y="357336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619280" y="49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0"/>
          <p:cNvSpPr/>
          <p:nvPr/>
        </p:nvSpPr>
        <p:spPr>
          <a:xfrm flipV="1">
            <a:off x="3276720" y="3573000"/>
            <a:ext cx="57456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2050920" y="35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190800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1908000" y="407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6"/>
          <p:cNvSpPr/>
          <p:nvPr/>
        </p:nvSpPr>
        <p:spPr>
          <a:xfrm flipV="1">
            <a:off x="2484360" y="4076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212400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277164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3924360" y="4508640"/>
            <a:ext cx="3456000" cy="108108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AutoShape 40"/>
          <p:cNvSpPr/>
          <p:nvPr/>
        </p:nvSpPr>
        <p:spPr>
          <a:xfrm>
            <a:off x="3348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41"/>
          <p:cNvSpPr/>
          <p:nvPr/>
        </p:nvSpPr>
        <p:spPr>
          <a:xfrm rot="10800000">
            <a:off x="3348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42"/>
          <p:cNvSpPr/>
          <p:nvPr/>
        </p:nvSpPr>
        <p:spPr>
          <a:xfrm>
            <a:off x="450072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3"/>
          <p:cNvSpPr/>
          <p:nvPr/>
        </p:nvSpPr>
        <p:spPr>
          <a:xfrm rot="10800000">
            <a:off x="450036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44"/>
          <p:cNvSpPr/>
          <p:nvPr/>
        </p:nvSpPr>
        <p:spPr>
          <a:xfrm>
            <a:off x="565164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AutoShape 45"/>
          <p:cNvSpPr/>
          <p:nvPr/>
        </p:nvSpPr>
        <p:spPr>
          <a:xfrm rot="10800000">
            <a:off x="5651280" y="5013000"/>
            <a:ext cx="115236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46"/>
          <p:cNvSpPr/>
          <p:nvPr/>
        </p:nvSpPr>
        <p:spPr>
          <a:xfrm>
            <a:off x="6804000" y="4508640"/>
            <a:ext cx="1150920" cy="50472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47"/>
          <p:cNvSpPr/>
          <p:nvPr/>
        </p:nvSpPr>
        <p:spPr>
          <a:xfrm rot="10800000">
            <a:off x="6804000" y="5013000"/>
            <a:ext cx="1152720" cy="576360"/>
          </a:xfrm>
          <a:prstGeom prst="triangle">
            <a:avLst>
              <a:gd name="adj" fmla="val 50000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48"/>
          <p:cNvSpPr/>
          <p:nvPr/>
        </p:nvSpPr>
        <p:spPr>
          <a:xfrm>
            <a:off x="3924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49"/>
          <p:cNvSpPr/>
          <p:nvPr/>
        </p:nvSpPr>
        <p:spPr>
          <a:xfrm>
            <a:off x="7380360" y="450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Calibri"/>
              </a:rPr>
              <a:t>Задачи «Концовки»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1. Если Саша по росту равен Пете, то Пет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2. Если Катя стоит левее Тани, то Тан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3. Коля и Петя живут в соседних домах. Идя в школу, Коля вышел из дома одновременно с Петей, значит, Петя вышел из дома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Ответы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1828800"/>
            <a:ext cx="820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1. То Петя по росту равен Саш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2. То Таня стоит правее Ка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3. Петя вышел из дома одновременно с Кол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дача «Смекалк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ак разъехаться разным поезда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В районе лесоразработок проходит одноколейная железная дорога. Однажды понадобилось пропустить по ней с двух сторон по два встречных со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На дороге лишь один разъезд, вмещающий только один из этих состав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Как разъехаться поездам, чтобы каждому продолжить свой путь дальше по своему маршруту, если на основной линии между входом и выходом на разъезд вмещается тоже только один соста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658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Решение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98100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Состав №1 входит на линию разъезда, а в это время составы №3 и №4 проходят по основному пути направо за разъезд и останавливаются перед составом №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Состав №1 выходит с линии разъезда налево и отправляется по своему назнач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Теперь составы №3 и №4 идут налево, освобождают вход на разъезд поезду №2. Состав №2 входит в разъезд, а составы №3 и №4 в это время по прямому пути отправляются направо по своему маршруту. Наконец состав №2 выходит с разъезда влево и отправляется вслед за поездом №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945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Логическая задача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196640"/>
            <a:ext cx="7989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Коля, Боря, Вова и Юра заняли первые четыре места в соревновании, причем никакие два мальчика не делили между собой одно и то же место. На вопрос, какие места заняли ребята, трое ответили: Коля – не первое и не четвертое; Боря – второе; Вова – не был последним. Какое место занял каждый из мальчиков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Ответ на задачу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libri"/>
              </a:rPr>
              <a:t>Боря занял 2-е место; Коля – не 1-е, не 4-е, не 2-е, т.е. – 3-е. Так как Вова не на последнем месте, то он занял 1-е. значит, Юра – на 4-м мес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Головолом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Можно ли 5 яблок разделить между 6 мальчиками поровну так, чтобы не пришлось ни одного яблока резать больше, чем на три ча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Ответ:</a:t>
            </a:r>
            <a:r>
              <a:rPr b="0" lang="ru-RU" sz="28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96464"/>
                </a:solidFill>
                <a:latin typeface="Calibri"/>
              </a:rPr>
              <a:t>Каждый должен получить 5/6 яблока, но 5/6 = ½ + 1/3, значит, каждому нужно дать половину яблока и третью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Затруднительное полож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Четырем колхозникам нужно было переправиться через реку. Подойдя к ней, они увидели небольшую лодку, в которой плыли два мальчика. Колхозники попросили мальчиков перевезти их через реку, но оказалось, что в лодку могут сесть только два мальчика или даже один взрослый. Мальчикам очень хотелось помочь колхозникам, и они придумали, как это сделать. Через некоторое время колхозники на этой лодке переправились через реку. Что же придумали мальч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14:24Z</dcterms:created>
  <dc:creator>Валентина</dc:creator>
  <dc:description/>
  <dc:language>en-US</dc:language>
  <cp:lastModifiedBy>Тоня</cp:lastModifiedBy>
  <dcterms:modified xsi:type="dcterms:W3CDTF">2020-11-10T04:33:02Z</dcterms:modified>
  <cp:revision>9</cp:revision>
  <dc:subject/>
  <dc:title>Нестандартные  задачи</dc:title>
</cp:coreProperties>
</file>