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DC2-D544-45DA-8E55-9627BE80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2ED-754C-48FE-8A35-1E05DECC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455-0A5E-49BE-A37F-2C7ECAF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3A7-349D-47CD-93D3-67DF23F5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10C-7752-4FF1-985A-968AB4B3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58F-7455-4AB2-95D2-94852B36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58F-B581-42FC-B1FD-139CB78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269-58B8-4487-8835-2AB42951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828-F95F-4EC2-AE4B-3A0FC244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8DC-B67D-49A7-85A3-730E55C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EF4-3C1A-4941-9B8D-DF2DE65A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C48-70B4-49BE-83B6-DC8243A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433-4ED4-4F2C-AEB0-ACDDFB2D3C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10"/>
          <p:cNvSpPr/>
          <p:nvPr/>
        </p:nvSpPr>
        <p:spPr>
          <a:xfrm>
            <a:off x="2627280" y="558972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Учитель начальных классов Головачёва Н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Барнаул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11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86457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https://vcs.resh.edu.ru/uploads/lesson_extract/5713/20190827113253/OEBPS/objects/c_math_3_60_1/4888a17d-af5e-4cd9-bf2e-8396c8bbd818.png"/>
          <p:cNvPicPr/>
          <p:nvPr/>
        </p:nvPicPr>
        <p:blipFill>
          <a:blip r:embed="rId1"/>
          <a:stretch/>
        </p:blipFill>
        <p:spPr>
          <a:xfrm>
            <a:off x="179280" y="210960"/>
            <a:ext cx="87854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2"/>
          <p:cNvGrpSpPr/>
          <p:nvPr/>
        </p:nvGrpSpPr>
        <p:grpSpPr>
          <a:xfrm>
            <a:off x="0" y="0"/>
            <a:ext cx="9306000" cy="6858000"/>
            <a:chOff x="0" y="0"/>
            <a:chExt cx="9306000" cy="6858000"/>
          </a:xfrm>
        </p:grpSpPr>
        <p:sp>
          <p:nvSpPr>
            <p:cNvPr id="121" name="Прямоугольник 3"/>
            <p:cNvSpPr/>
            <p:nvPr/>
          </p:nvSpPr>
          <p:spPr>
            <a:xfrm>
              <a:off x="0" y="0"/>
              <a:ext cx="9306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Скругленный прямоугольник 4"/>
            <p:cNvSpPr/>
            <p:nvPr/>
          </p:nvSpPr>
          <p:spPr>
            <a:xfrm>
              <a:off x="182520" y="260280"/>
              <a:ext cx="894096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9" descr="http://images.myshared.ru/4/208521/slide_5.jpg"/>
          <p:cNvPicPr/>
          <p:nvPr/>
        </p:nvPicPr>
        <p:blipFill>
          <a:blip r:embed="rId1"/>
          <a:stretch/>
        </p:blipFill>
        <p:spPr>
          <a:xfrm>
            <a:off x="182520" y="287280"/>
            <a:ext cx="8940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5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C:\Users\User\Downloads\img3.jpg"/>
          <p:cNvPicPr/>
          <p:nvPr/>
        </p:nvPicPr>
        <p:blipFill>
          <a:blip r:embed="rId1"/>
          <a:stretch/>
        </p:blipFill>
        <p:spPr>
          <a:xfrm>
            <a:off x="144360" y="135000"/>
            <a:ext cx="882036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0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5" descr="https://ds05.infourok.ru/uploads/ex/0d75/00108834-584e6ed3/hello_html_737d920f.png"/>
          <p:cNvPicPr/>
          <p:nvPr/>
        </p:nvPicPr>
        <p:blipFill>
          <a:blip r:embed="rId1"/>
          <a:stretch/>
        </p:blipFill>
        <p:spPr>
          <a:xfrm>
            <a:off x="243000" y="836640"/>
            <a:ext cx="865800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Выноска-облако 2"/>
          <p:cNvSpPr/>
          <p:nvPr/>
        </p:nvSpPr>
        <p:spPr>
          <a:xfrm>
            <a:off x="268200" y="843120"/>
            <a:ext cx="944640" cy="817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5284800"/>
            <a:ext cx="7918560" cy="1622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https://ds02.infourok.ru/uploads/ex/0153/0005f4c2-335af2bc/img26.jpg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5"/>
          <p:cNvSpPr/>
          <p:nvPr/>
        </p:nvSpPr>
        <p:spPr>
          <a:xfrm>
            <a:off x="1553040" y="404640"/>
            <a:ext cx="60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ческая разминка</a:t>
            </a: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071800" y="1163520"/>
            <a:ext cx="70722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826920" y="1285920"/>
            <a:ext cx="81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Назовите 4 арифметических действия в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2238120" y="2214720"/>
            <a:ext cx="62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ение, вычитание, умножение ,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971640" y="28576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те сумму чисел 42 и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7715160" y="3000240"/>
            <a:ext cx="107172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1"/>
          <p:cNvSpPr/>
          <p:nvPr/>
        </p:nvSpPr>
        <p:spPr>
          <a:xfrm>
            <a:off x="1042920" y="4000680"/>
            <a:ext cx="53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ньшите  63  на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1187280" y="5072040"/>
            <a:ext cx="65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сколько 52  больше 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6429240" y="4071960"/>
            <a:ext cx="1071720" cy="8571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7429680" y="5572080"/>
            <a:ext cx="1143000" cy="1000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Группа 2"/>
          <p:cNvGrpSpPr/>
          <p:nvPr/>
        </p:nvGrpSpPr>
        <p:grpSpPr>
          <a:xfrm>
            <a:off x="9360" y="0"/>
            <a:ext cx="9144000" cy="6858000"/>
            <a:chOff x="9360" y="0"/>
            <a:chExt cx="9144000" cy="6858000"/>
          </a:xfrm>
        </p:grpSpPr>
        <p:sp>
          <p:nvSpPr>
            <p:cNvPr id="60" name="Прямоугольник 3"/>
            <p:cNvSpPr/>
            <p:nvPr/>
          </p:nvSpPr>
          <p:spPr>
            <a:xfrm>
              <a:off x="936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Скругленный прямоугольник 4"/>
            <p:cNvSpPr/>
            <p:nvPr/>
          </p:nvSpPr>
          <p:spPr>
            <a:xfrm>
              <a:off x="3600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5"/>
          <p:cNvSpPr/>
          <p:nvPr/>
        </p:nvSpPr>
        <p:spPr>
          <a:xfrm>
            <a:off x="285840" y="42876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рвый множитель 6, второй множитель 8, произвед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312480" y="200016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елимое 63, делитель 9, частно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338040" y="32860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о сколько раз 24 больше 3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372240" y="4357800"/>
            <a:ext cx="42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Произведение 3 и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366120" y="550080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умма чисел 100 и 3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3929040" y="1143000"/>
            <a:ext cx="100008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7358040" y="2143080"/>
            <a:ext cx="100008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6286680" y="3214800"/>
            <a:ext cx="107136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8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4786200" y="4143240"/>
            <a:ext cx="1000080" cy="1000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5429160" y="5500800"/>
            <a:ext cx="1000080" cy="1000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Прямоугольник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кругленный прямоугольник 4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"/>
          <p:cNvSpPr/>
          <p:nvPr/>
        </p:nvSpPr>
        <p:spPr>
          <a:xfrm>
            <a:off x="714240" y="401040"/>
            <a:ext cx="74692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те число, в котором 7 десятков.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2435400" y="150012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9         6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575320" y="15001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179280" y="2500200"/>
            <a:ext cx="896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при счёте следует за числом 459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2146680" y="328608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075200" y="3286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5789520" y="3286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24000" y="3965040"/>
            <a:ext cx="8496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при счёте предшествует числу 500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864000" y="514368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       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789360" y="51436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правляющая кнопка: справка 2"/>
          <p:cNvSpPr/>
          <p:nvPr/>
        </p:nvSpPr>
        <p:spPr>
          <a:xfrm>
            <a:off x="6586560" y="4941720"/>
            <a:ext cx="1979640" cy="1306800"/>
          </a:xfrm>
          <a:custGeom>
            <a:avLst/>
            <a:gdLst>
              <a:gd name="textAreaLeft" fmla="*/ 84600 w 1979640"/>
              <a:gd name="textAreaRight" fmla="*/ 1895040 w 1979640"/>
              <a:gd name="textAreaTop" fmla="*/ 84600 h 1306800"/>
              <a:gd name="textAreaBottom" fmla="*/ 1222200 h 1306800"/>
            </a:gdLst>
            <a:ahLst/>
            <a:rect l="textAreaLeft" t="textAreaTop" r="textAreaRight" b="textAreaBottom"/>
            <a:pathLst>
              <a:path w="32718" h="21600">
                <a:moveTo>
                  <a:pt x="0" y="0"/>
                </a:moveTo>
                <a:lnTo>
                  <a:pt x="32718" y="0"/>
                </a:lnTo>
                <a:lnTo>
                  <a:pt x="32718" y="21600"/>
                </a:lnTo>
                <a:lnTo>
                  <a:pt x="0" y="21600"/>
                </a:lnTo>
                <a:close/>
              </a:path>
              <a:path fill="lightenLess" w="32718" h="21600">
                <a:moveTo>
                  <a:pt x="0" y="0"/>
                </a:moveTo>
                <a:lnTo>
                  <a:pt x="32718" y="0"/>
                </a:lnTo>
                <a:lnTo>
                  <a:pt x="31318" y="1400"/>
                </a:lnTo>
                <a:lnTo>
                  <a:pt x="1400" y="1400"/>
                </a:lnTo>
                <a:close/>
              </a:path>
              <a:path fill="darken" w="32718" h="21600">
                <a:moveTo>
                  <a:pt x="32718" y="0"/>
                </a:moveTo>
                <a:lnTo>
                  <a:pt x="32718" y="21600"/>
                </a:lnTo>
                <a:lnTo>
                  <a:pt x="31318" y="20200"/>
                </a:lnTo>
                <a:lnTo>
                  <a:pt x="31318" y="1400"/>
                </a:lnTo>
                <a:close/>
              </a:path>
              <a:path fill="darkenLess" w="32718" h="21600">
                <a:moveTo>
                  <a:pt x="32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18" y="20200"/>
                </a:lnTo>
                <a:close/>
              </a:path>
              <a:path fill="lighten" w="32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18" h="21600">
                <a:moveTo>
                  <a:pt x="163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718" h="21600">
                <a:moveTo>
                  <a:pt x="17465" y="14281"/>
                </a:moveTo>
                <a:lnTo>
                  <a:pt x="17465" y="12323"/>
                </a:lnTo>
                <a:cubicBezTo>
                  <a:pt x="17465" y="11496"/>
                  <a:pt x="17795" y="10800"/>
                  <a:pt x="18396" y="10800"/>
                </a:cubicBezTo>
                <a:cubicBezTo>
                  <a:pt x="19527" y="10800"/>
                  <a:pt x="20424" y="9434"/>
                  <a:pt x="20424" y="7849"/>
                </a:cubicBezTo>
                <a:cubicBezTo>
                  <a:pt x="20424" y="5534"/>
                  <a:pt x="18570" y="3794"/>
                  <a:pt x="16359" y="3794"/>
                </a:cubicBezTo>
                <a:cubicBezTo>
                  <a:pt x="14148" y="3794"/>
                  <a:pt x="12477" y="5534"/>
                  <a:pt x="12477" y="7849"/>
                </a:cubicBezTo>
                <a:lnTo>
                  <a:pt x="14331" y="7849"/>
                </a:lnTo>
                <a:cubicBezTo>
                  <a:pt x="14331" y="6709"/>
                  <a:pt x="15254" y="5821"/>
                  <a:pt x="16359" y="5821"/>
                </a:cubicBezTo>
                <a:cubicBezTo>
                  <a:pt x="17465" y="5821"/>
                  <a:pt x="18396" y="6709"/>
                  <a:pt x="18396" y="7849"/>
                </a:cubicBezTo>
                <a:cubicBezTo>
                  <a:pt x="18396" y="8589"/>
                  <a:pt x="17926" y="9320"/>
                  <a:pt x="17465" y="9320"/>
                </a:cubicBezTo>
                <a:cubicBezTo>
                  <a:pt x="16359" y="9320"/>
                  <a:pt x="15254" y="10800"/>
                  <a:pt x="15254" y="12323"/>
                </a:cubicBezTo>
                <a:lnTo>
                  <a:pt x="15254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2"/>
          <p:cNvGrpSpPr/>
          <p:nvPr/>
        </p:nvGrpSpPr>
        <p:grpSpPr>
          <a:xfrm>
            <a:off x="20520" y="0"/>
            <a:ext cx="9144000" cy="6858000"/>
            <a:chOff x="20520" y="0"/>
            <a:chExt cx="9144000" cy="6858000"/>
          </a:xfrm>
        </p:grpSpPr>
        <p:sp>
          <p:nvSpPr>
            <p:cNvPr id="87" name="Прямоугольник 3"/>
            <p:cNvSpPr/>
            <p:nvPr/>
          </p:nvSpPr>
          <p:spPr>
            <a:xfrm>
              <a:off x="2052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Скругленный прямоугольник 4"/>
            <p:cNvSpPr/>
            <p:nvPr/>
          </p:nvSpPr>
          <p:spPr>
            <a:xfrm>
              <a:off x="19980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Прямоугольник 5"/>
          <p:cNvSpPr/>
          <p:nvPr/>
        </p:nvSpPr>
        <p:spPr>
          <a:xfrm>
            <a:off x="611280" y="677880"/>
            <a:ext cx="8353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о, в котором 8 сотен и 1 единиц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4221720" y="17859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0         8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643120" y="1785960"/>
            <a:ext cx="8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518040" y="2500200"/>
            <a:ext cx="6269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ое число состоит из 3 сотен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1221120" y="3286080"/>
            <a:ext cx="23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          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4361400" y="328608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179280" y="4000680"/>
            <a:ext cx="858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о, которое можно записать в виде суммы разрядных слагаемых 400+80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1860480" y="55720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3"/>
          <p:cNvSpPr/>
          <p:nvPr/>
        </p:nvSpPr>
        <p:spPr>
          <a:xfrm>
            <a:off x="3646800" y="5572080"/>
            <a:ext cx="8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5147280" y="557208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правляющая кнопка: справка 15"/>
          <p:cNvSpPr/>
          <p:nvPr/>
        </p:nvSpPr>
        <p:spPr>
          <a:xfrm>
            <a:off x="7421400" y="2270160"/>
            <a:ext cx="1341720" cy="1308240"/>
          </a:xfrm>
          <a:custGeom>
            <a:avLst/>
            <a:gdLst>
              <a:gd name="textAreaLeft" fmla="*/ 84600 w 1341720"/>
              <a:gd name="textAreaRight" fmla="*/ 1257120 w 1341720"/>
              <a:gd name="textAreaTop" fmla="*/ 84600 h 1308240"/>
              <a:gd name="textAreaBottom" fmla="*/ 1223640 h 1308240"/>
            </a:gdLst>
            <a:ahLst/>
            <a:rect l="textAreaLeft" t="textAreaTop" r="textAreaRight" b="textAreaBottom"/>
            <a:pathLst>
              <a:path w="22153" h="21600">
                <a:moveTo>
                  <a:pt x="0" y="0"/>
                </a:moveTo>
                <a:lnTo>
                  <a:pt x="22153" y="0"/>
                </a:lnTo>
                <a:lnTo>
                  <a:pt x="22153" y="21600"/>
                </a:lnTo>
                <a:lnTo>
                  <a:pt x="0" y="21600"/>
                </a:lnTo>
                <a:close/>
              </a:path>
              <a:path fill="lightenLess" w="22153" h="21600">
                <a:moveTo>
                  <a:pt x="0" y="0"/>
                </a:moveTo>
                <a:lnTo>
                  <a:pt x="22153" y="0"/>
                </a:lnTo>
                <a:lnTo>
                  <a:pt x="20753" y="1400"/>
                </a:lnTo>
                <a:lnTo>
                  <a:pt x="1400" y="1400"/>
                </a:lnTo>
                <a:close/>
              </a:path>
              <a:path fill="darken" w="22153" h="21600">
                <a:moveTo>
                  <a:pt x="22153" y="0"/>
                </a:moveTo>
                <a:lnTo>
                  <a:pt x="22153" y="21600"/>
                </a:lnTo>
                <a:lnTo>
                  <a:pt x="20753" y="20200"/>
                </a:lnTo>
                <a:lnTo>
                  <a:pt x="20753" y="1400"/>
                </a:lnTo>
                <a:close/>
              </a:path>
              <a:path fill="darkenLess" w="22153" h="21600">
                <a:moveTo>
                  <a:pt x="22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53" y="20200"/>
                </a:lnTo>
                <a:close/>
              </a:path>
              <a:path fill="lighten" w="22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53" h="21600">
                <a:moveTo>
                  <a:pt x="1107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153" h="21600">
                <a:moveTo>
                  <a:pt x="12182" y="14281"/>
                </a:moveTo>
                <a:lnTo>
                  <a:pt x="12182" y="12323"/>
                </a:lnTo>
                <a:cubicBezTo>
                  <a:pt x="12182" y="11496"/>
                  <a:pt x="12512" y="10800"/>
                  <a:pt x="13113" y="10800"/>
                </a:cubicBezTo>
                <a:cubicBezTo>
                  <a:pt x="14244" y="10800"/>
                  <a:pt x="15141" y="9434"/>
                  <a:pt x="15141" y="7849"/>
                </a:cubicBezTo>
                <a:cubicBezTo>
                  <a:pt x="15141" y="5534"/>
                  <a:pt x="13287" y="3794"/>
                  <a:pt x="11076" y="3794"/>
                </a:cubicBezTo>
                <a:cubicBezTo>
                  <a:pt x="8866" y="3794"/>
                  <a:pt x="7194" y="5534"/>
                  <a:pt x="7194" y="7849"/>
                </a:cubicBezTo>
                <a:lnTo>
                  <a:pt x="9048" y="7849"/>
                </a:lnTo>
                <a:cubicBezTo>
                  <a:pt x="9048" y="6709"/>
                  <a:pt x="9971" y="5821"/>
                  <a:pt x="11076" y="5821"/>
                </a:cubicBezTo>
                <a:cubicBezTo>
                  <a:pt x="12182" y="5821"/>
                  <a:pt x="13113" y="6709"/>
                  <a:pt x="13113" y="7849"/>
                </a:cubicBezTo>
                <a:cubicBezTo>
                  <a:pt x="13113" y="8589"/>
                  <a:pt x="12643" y="9320"/>
                  <a:pt x="12182" y="9320"/>
                </a:cubicBezTo>
                <a:cubicBezTo>
                  <a:pt x="11076" y="9320"/>
                  <a:pt x="9971" y="10800"/>
                  <a:pt x="9971" y="12323"/>
                </a:cubicBezTo>
                <a:lnTo>
                  <a:pt x="9971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131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06200" y="857160"/>
            <a:ext cx="892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 быстро ты можеш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решить приме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40 — 249 =             740 — 349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+ 40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357+ 633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50+90+50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440+70+60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06200" y="135936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оверь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40 — 249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9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740 — 349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3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+ 40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100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357+ 633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50+90+50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49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440+70+60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5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Прямоугольник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Скругленный прямоугольник 6"/>
            <p:cNvSpPr/>
            <p:nvPr/>
          </p:nvSpPr>
          <p:spPr>
            <a:xfrm>
              <a:off x="179280" y="26028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ttps://ds02.infourok.ru/uploads/ex/0c23/0001a64a-f0f4de47/img13.jpg"/>
          <p:cNvPicPr/>
          <p:nvPr/>
        </p:nvPicPr>
        <p:blipFill>
          <a:blip r:embed="rId1"/>
          <a:stretch/>
        </p:blipFill>
        <p:spPr>
          <a:xfrm>
            <a:off x="144360" y="158760"/>
            <a:ext cx="882036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Группа 2"/>
          <p:cNvGrpSpPr/>
          <p:nvPr/>
        </p:nvGrpSpPr>
        <p:grpSpPr>
          <a:xfrm>
            <a:off x="-27000" y="-3240"/>
            <a:ext cx="9144000" cy="6858000"/>
            <a:chOff x="-27000" y="-3240"/>
            <a:chExt cx="9144000" cy="6858000"/>
          </a:xfrm>
        </p:grpSpPr>
        <p:sp>
          <p:nvSpPr>
            <p:cNvPr id="112" name="Прямоугольник 3"/>
            <p:cNvSpPr/>
            <p:nvPr/>
          </p:nvSpPr>
          <p:spPr>
            <a:xfrm>
              <a:off x="-27000" y="-3240"/>
              <a:ext cx="9144000" cy="68580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Скругленный прямоугольник 4"/>
            <p:cNvSpPr/>
            <p:nvPr/>
          </p:nvSpPr>
          <p:spPr>
            <a:xfrm>
              <a:off x="152280" y="257040"/>
              <a:ext cx="8785440" cy="6408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Picture 10" descr="https://ds03.infourok.ru/uploads/ex/10c4/000540e3-a33673be/img9.jpg"/>
          <p:cNvPicPr/>
          <p:nvPr/>
        </p:nvPicPr>
        <p:blipFill>
          <a:blip r:embed="rId1"/>
          <a:stretch/>
        </p:blipFill>
        <p:spPr>
          <a:xfrm>
            <a:off x="58680" y="98280"/>
            <a:ext cx="897264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15:35:42Z</dcterms:created>
  <dc:creator>user</dc:creator>
  <dc:description/>
  <dc:language>en-US</dc:language>
  <cp:lastModifiedBy>User</cp:lastModifiedBy>
  <dcterms:modified xsi:type="dcterms:W3CDTF">2020-11-10T13:31:55Z</dcterms:modified>
  <cp:revision>35</cp:revision>
  <dc:subject/>
  <dc:title>Слайд 1</dc:title>
</cp:coreProperties>
</file>