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3F6A-013D-422A-8E80-4A5FD973D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4A70-4177-4373-82DD-58A4A4D8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E701-234D-4DE6-AD3C-0FFCC1B0D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1D41-F70F-400B-B8D6-E976E164A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5817-0131-4619-B064-D3EDDEFD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A49E-AAA6-4DD3-B577-DA295BEB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D5EC-6C89-4B24-9CF9-6D421BA7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19E2-908C-47C4-9D22-BC8C130D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6529-0A11-4D35-BC3B-8F9F635F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8CC7-F7D9-4E42-AEA8-6FCAAC2C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A523-D184-489E-AC12-69914904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D6DA-D5D8-4DEE-B059-93CA1FAF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DF2C-0B26-410C-8C72-9F19733521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Группа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Прямоугольник 5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Скругленный прямоугольник 6"/>
            <p:cNvSpPr/>
            <p:nvPr/>
          </p:nvSpPr>
          <p:spPr>
            <a:xfrm>
              <a:off x="179280" y="260280"/>
              <a:ext cx="8785440" cy="6408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Прямоугольник 10"/>
          <p:cNvSpPr/>
          <p:nvPr/>
        </p:nvSpPr>
        <p:spPr>
          <a:xfrm>
            <a:off x="2627280" y="5589720"/>
            <a:ext cx="48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Учитель начальных классов Головачёва Н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Барнаул,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Прямоугольник 11" descr=""/>
          <p:cNvPicPr/>
          <p:nvPr/>
        </p:nvPicPr>
        <p:blipFill>
          <a:blip r:embed="rId1"/>
          <a:stretch/>
        </p:blipFill>
        <p:spPr>
          <a:xfrm>
            <a:off x="249120" y="115920"/>
            <a:ext cx="8645760" cy="66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Группа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Прямоугольник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Скругленный прямоугольник 4"/>
            <p:cNvSpPr/>
            <p:nvPr/>
          </p:nvSpPr>
          <p:spPr>
            <a:xfrm>
              <a:off x="179280" y="260280"/>
              <a:ext cx="8785440" cy="6408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4" descr="https://vcs.resh.edu.ru/uploads/lesson_extract/5713/20190827113253/OEBPS/objects/c_math_3_60_1/4888a17d-af5e-4cd9-bf2e-8396c8bbd818.png"/>
          <p:cNvPicPr/>
          <p:nvPr/>
        </p:nvPicPr>
        <p:blipFill>
          <a:blip r:embed="rId1"/>
          <a:stretch/>
        </p:blipFill>
        <p:spPr>
          <a:xfrm>
            <a:off x="179280" y="210960"/>
            <a:ext cx="878544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Группа 2"/>
          <p:cNvGrpSpPr/>
          <p:nvPr/>
        </p:nvGrpSpPr>
        <p:grpSpPr>
          <a:xfrm>
            <a:off x="0" y="0"/>
            <a:ext cx="9306000" cy="6858000"/>
            <a:chOff x="0" y="0"/>
            <a:chExt cx="9306000" cy="6858000"/>
          </a:xfrm>
        </p:grpSpPr>
        <p:sp>
          <p:nvSpPr>
            <p:cNvPr id="121" name="Прямоугольник 3"/>
            <p:cNvSpPr/>
            <p:nvPr/>
          </p:nvSpPr>
          <p:spPr>
            <a:xfrm>
              <a:off x="0" y="0"/>
              <a:ext cx="9306000" cy="685800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Скругленный прямоугольник 4"/>
            <p:cNvSpPr/>
            <p:nvPr/>
          </p:nvSpPr>
          <p:spPr>
            <a:xfrm>
              <a:off x="182520" y="260280"/>
              <a:ext cx="8940960" cy="6408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Picture 19" descr="http://images.myshared.ru/4/208521/slide_5.jpg"/>
          <p:cNvPicPr/>
          <p:nvPr/>
        </p:nvPicPr>
        <p:blipFill>
          <a:blip r:embed="rId1"/>
          <a:stretch/>
        </p:blipFill>
        <p:spPr>
          <a:xfrm>
            <a:off x="182520" y="287280"/>
            <a:ext cx="894096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Группа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5" name="Прямоугольник 5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Скругленный прямоугольник 6"/>
            <p:cNvSpPr/>
            <p:nvPr/>
          </p:nvSpPr>
          <p:spPr>
            <a:xfrm>
              <a:off x="179280" y="260280"/>
              <a:ext cx="8785440" cy="6408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AutoShape 8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9" descr="C:\Users\User\Downloads\img3.jpg"/>
          <p:cNvPicPr/>
          <p:nvPr/>
        </p:nvPicPr>
        <p:blipFill>
          <a:blip r:embed="rId1"/>
          <a:stretch/>
        </p:blipFill>
        <p:spPr>
          <a:xfrm>
            <a:off x="144360" y="135000"/>
            <a:ext cx="8820360" cy="66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Группа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0" name="Прямоугольник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Скругленный прямоугольник 4"/>
            <p:cNvSpPr/>
            <p:nvPr/>
          </p:nvSpPr>
          <p:spPr>
            <a:xfrm>
              <a:off x="179280" y="260280"/>
              <a:ext cx="8785440" cy="6408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Picture 15" descr="https://ds05.infourok.ru/uploads/ex/0d75/00108834-584e6ed3/hello_html_737d920f.png"/>
          <p:cNvPicPr/>
          <p:nvPr/>
        </p:nvPicPr>
        <p:blipFill>
          <a:blip r:embed="rId1"/>
          <a:stretch/>
        </p:blipFill>
        <p:spPr>
          <a:xfrm>
            <a:off x="243000" y="836640"/>
            <a:ext cx="8658000" cy="4896000"/>
          </a:xfrm>
          <a:prstGeom prst="rect">
            <a:avLst/>
          </a:prstGeom>
          <a:ln w="0">
            <a:noFill/>
          </a:ln>
        </p:spPr>
      </p:pic>
      <p:sp>
        <p:nvSpPr>
          <p:cNvPr id="133" name="Выноска-облако 2"/>
          <p:cNvSpPr/>
          <p:nvPr/>
        </p:nvSpPr>
        <p:spPr>
          <a:xfrm>
            <a:off x="268200" y="843120"/>
            <a:ext cx="944640" cy="8175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Группа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5" name="Прямоугольник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Скругленный прямоугольник 4"/>
            <p:cNvSpPr/>
            <p:nvPr/>
          </p:nvSpPr>
          <p:spPr>
            <a:xfrm>
              <a:off x="179280" y="260280"/>
              <a:ext cx="8785440" cy="6408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Прямоугольник 5" descr=""/>
          <p:cNvPicPr/>
          <p:nvPr/>
        </p:nvPicPr>
        <p:blipFill>
          <a:blip r:embed="rId1"/>
          <a:stretch/>
        </p:blipFill>
        <p:spPr>
          <a:xfrm>
            <a:off x="609480" y="5284800"/>
            <a:ext cx="7918560" cy="1622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https://ds02.infourok.ru/uploads/ex/0153/0005f4c2-335af2bc/img26.jpg"/>
          <p:cNvPicPr/>
          <p:nvPr/>
        </p:nvPicPr>
        <p:blipFill>
          <a:blip r:embed="rId2"/>
          <a:stretch/>
        </p:blipFill>
        <p:spPr>
          <a:xfrm>
            <a:off x="179280" y="260280"/>
            <a:ext cx="87854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Группа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7" name="Прямоугольник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Скругленный прямоугольник 4"/>
            <p:cNvSpPr/>
            <p:nvPr/>
          </p:nvSpPr>
          <p:spPr>
            <a:xfrm>
              <a:off x="179280" y="260280"/>
              <a:ext cx="8785440" cy="6408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Прямоугольник 5"/>
          <p:cNvSpPr/>
          <p:nvPr/>
        </p:nvSpPr>
        <p:spPr>
          <a:xfrm>
            <a:off x="1553040" y="404640"/>
            <a:ext cx="60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атематическая разминка</a:t>
            </a:r>
            <a:r>
              <a:rPr b="0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2071800" y="1163520"/>
            <a:ext cx="70722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7"/>
          <p:cNvSpPr/>
          <p:nvPr/>
        </p:nvSpPr>
        <p:spPr>
          <a:xfrm>
            <a:off x="826920" y="1285920"/>
            <a:ext cx="810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Назовите 4 арифметических действия в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8"/>
          <p:cNvSpPr/>
          <p:nvPr/>
        </p:nvSpPr>
        <p:spPr>
          <a:xfrm>
            <a:off x="2238120" y="2214720"/>
            <a:ext cx="62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ожение, вычитание, умножение , 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9"/>
          <p:cNvSpPr/>
          <p:nvPr/>
        </p:nvSpPr>
        <p:spPr>
          <a:xfrm>
            <a:off x="971640" y="285768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йдите сумму чисел 42 и 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 10"/>
          <p:cNvSpPr/>
          <p:nvPr/>
        </p:nvSpPr>
        <p:spPr>
          <a:xfrm>
            <a:off x="7715160" y="3000240"/>
            <a:ext cx="1071720" cy="785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1"/>
          <p:cNvSpPr/>
          <p:nvPr/>
        </p:nvSpPr>
        <p:spPr>
          <a:xfrm>
            <a:off x="1042920" y="4000680"/>
            <a:ext cx="53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меньшите  63  на 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2"/>
          <p:cNvSpPr/>
          <p:nvPr/>
        </p:nvSpPr>
        <p:spPr>
          <a:xfrm>
            <a:off x="1187280" y="5072040"/>
            <a:ext cx="659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а сколько 52  больше 9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13"/>
          <p:cNvSpPr/>
          <p:nvPr/>
        </p:nvSpPr>
        <p:spPr>
          <a:xfrm>
            <a:off x="6429240" y="4071960"/>
            <a:ext cx="1071720" cy="8571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14"/>
          <p:cNvSpPr/>
          <p:nvPr/>
        </p:nvSpPr>
        <p:spPr>
          <a:xfrm>
            <a:off x="7429680" y="5572080"/>
            <a:ext cx="114300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Группа 2"/>
          <p:cNvGrpSpPr/>
          <p:nvPr/>
        </p:nvGrpSpPr>
        <p:grpSpPr>
          <a:xfrm>
            <a:off x="9360" y="0"/>
            <a:ext cx="9144000" cy="6858000"/>
            <a:chOff x="9360" y="0"/>
            <a:chExt cx="9144000" cy="6858000"/>
          </a:xfrm>
        </p:grpSpPr>
        <p:sp>
          <p:nvSpPr>
            <p:cNvPr id="60" name="Прямоугольник 3"/>
            <p:cNvSpPr/>
            <p:nvPr/>
          </p:nvSpPr>
          <p:spPr>
            <a:xfrm>
              <a:off x="9360" y="0"/>
              <a:ext cx="9144000" cy="685800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Скругленный прямоугольник 4"/>
            <p:cNvSpPr/>
            <p:nvPr/>
          </p:nvSpPr>
          <p:spPr>
            <a:xfrm>
              <a:off x="36000" y="260280"/>
              <a:ext cx="8785440" cy="6408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Прямоугольник 5"/>
          <p:cNvSpPr/>
          <p:nvPr/>
        </p:nvSpPr>
        <p:spPr>
          <a:xfrm>
            <a:off x="285840" y="428760"/>
            <a:ext cx="871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ервый множитель 6, второй множитель 8, произведени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6"/>
          <p:cNvSpPr/>
          <p:nvPr/>
        </p:nvSpPr>
        <p:spPr>
          <a:xfrm>
            <a:off x="312480" y="2000160"/>
            <a:ext cx="70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Делимое 63, делитель 9, частное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7"/>
          <p:cNvSpPr/>
          <p:nvPr/>
        </p:nvSpPr>
        <p:spPr>
          <a:xfrm>
            <a:off x="338040" y="3286080"/>
            <a:ext cx="596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Во сколько раз 24 больше 3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8"/>
          <p:cNvSpPr/>
          <p:nvPr/>
        </p:nvSpPr>
        <p:spPr>
          <a:xfrm>
            <a:off x="372240" y="4357800"/>
            <a:ext cx="42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 Произведение 3 и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9"/>
          <p:cNvSpPr/>
          <p:nvPr/>
        </p:nvSpPr>
        <p:spPr>
          <a:xfrm>
            <a:off x="366120" y="5500800"/>
            <a:ext cx="477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Сумма чисел 100 и 3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1"/>
          <p:cNvSpPr/>
          <p:nvPr/>
        </p:nvSpPr>
        <p:spPr>
          <a:xfrm>
            <a:off x="3929040" y="1143000"/>
            <a:ext cx="1000080" cy="9288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2"/>
          <p:cNvSpPr/>
          <p:nvPr/>
        </p:nvSpPr>
        <p:spPr>
          <a:xfrm>
            <a:off x="7358040" y="2143080"/>
            <a:ext cx="1000080" cy="9288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3"/>
          <p:cNvSpPr/>
          <p:nvPr/>
        </p:nvSpPr>
        <p:spPr>
          <a:xfrm>
            <a:off x="6286680" y="3214800"/>
            <a:ext cx="1071360" cy="1000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8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4"/>
          <p:cNvSpPr/>
          <p:nvPr/>
        </p:nvSpPr>
        <p:spPr>
          <a:xfrm>
            <a:off x="4786200" y="4143240"/>
            <a:ext cx="1000080" cy="10004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5"/>
          <p:cNvSpPr/>
          <p:nvPr/>
        </p:nvSpPr>
        <p:spPr>
          <a:xfrm>
            <a:off x="5429160" y="5500800"/>
            <a:ext cx="1000080" cy="1000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Группа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3" name="Прямоугольник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Скругленный прямоугольник 4"/>
            <p:cNvSpPr/>
            <p:nvPr/>
          </p:nvSpPr>
          <p:spPr>
            <a:xfrm>
              <a:off x="179280" y="260280"/>
              <a:ext cx="8785440" cy="6408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Rectangle 1"/>
          <p:cNvSpPr/>
          <p:nvPr/>
        </p:nvSpPr>
        <p:spPr>
          <a:xfrm>
            <a:off x="714240" y="401040"/>
            <a:ext cx="74692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йдите число, в котором 7 десятков.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7"/>
          <p:cNvSpPr/>
          <p:nvPr/>
        </p:nvSpPr>
        <p:spPr>
          <a:xfrm>
            <a:off x="2435400" y="1500120"/>
            <a:ext cx="23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9         6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8"/>
          <p:cNvSpPr/>
          <p:nvPr/>
        </p:nvSpPr>
        <p:spPr>
          <a:xfrm>
            <a:off x="5575320" y="150012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9"/>
          <p:cNvSpPr/>
          <p:nvPr/>
        </p:nvSpPr>
        <p:spPr>
          <a:xfrm>
            <a:off x="179280" y="2500200"/>
            <a:ext cx="89647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акое число при счёте следует за числом 459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1"/>
          <p:cNvSpPr/>
          <p:nvPr/>
        </p:nvSpPr>
        <p:spPr>
          <a:xfrm>
            <a:off x="2146680" y="3286080"/>
            <a:ext cx="9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2"/>
          <p:cNvSpPr/>
          <p:nvPr/>
        </p:nvSpPr>
        <p:spPr>
          <a:xfrm>
            <a:off x="4075200" y="328608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13"/>
          <p:cNvSpPr/>
          <p:nvPr/>
        </p:nvSpPr>
        <p:spPr>
          <a:xfrm>
            <a:off x="5789520" y="328608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324000" y="3965040"/>
            <a:ext cx="84960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акое число при счёте предшествует числу 500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5"/>
          <p:cNvSpPr/>
          <p:nvPr/>
        </p:nvSpPr>
        <p:spPr>
          <a:xfrm>
            <a:off x="864000" y="5143680"/>
            <a:ext cx="22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0        5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6"/>
          <p:cNvSpPr/>
          <p:nvPr/>
        </p:nvSpPr>
        <p:spPr>
          <a:xfrm>
            <a:off x="3789360" y="514368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Управляющая кнопка: справка 2"/>
          <p:cNvSpPr/>
          <p:nvPr/>
        </p:nvSpPr>
        <p:spPr>
          <a:xfrm>
            <a:off x="6586560" y="4941720"/>
            <a:ext cx="1979640" cy="1306800"/>
          </a:xfrm>
          <a:custGeom>
            <a:avLst/>
            <a:gdLst>
              <a:gd name="textAreaLeft" fmla="*/ 84600 w 1979640"/>
              <a:gd name="textAreaRight" fmla="*/ 1895040 w 1979640"/>
              <a:gd name="textAreaTop" fmla="*/ 84600 h 1306800"/>
              <a:gd name="textAreaBottom" fmla="*/ 1222200 h 1306800"/>
            </a:gdLst>
            <a:ahLst/>
            <a:rect l="textAreaLeft" t="textAreaTop" r="textAreaRight" b="textAreaBottom"/>
            <a:pathLst>
              <a:path w="32718" h="21600">
                <a:moveTo>
                  <a:pt x="0" y="0"/>
                </a:moveTo>
                <a:lnTo>
                  <a:pt x="32718" y="0"/>
                </a:lnTo>
                <a:lnTo>
                  <a:pt x="32718" y="21600"/>
                </a:lnTo>
                <a:lnTo>
                  <a:pt x="0" y="21600"/>
                </a:lnTo>
                <a:close/>
              </a:path>
              <a:path fill="lightenLess" w="32718" h="21600">
                <a:moveTo>
                  <a:pt x="0" y="0"/>
                </a:moveTo>
                <a:lnTo>
                  <a:pt x="32718" y="0"/>
                </a:lnTo>
                <a:lnTo>
                  <a:pt x="31318" y="1400"/>
                </a:lnTo>
                <a:lnTo>
                  <a:pt x="1400" y="1400"/>
                </a:lnTo>
                <a:close/>
              </a:path>
              <a:path fill="darken" w="32718" h="21600">
                <a:moveTo>
                  <a:pt x="32718" y="0"/>
                </a:moveTo>
                <a:lnTo>
                  <a:pt x="32718" y="21600"/>
                </a:lnTo>
                <a:lnTo>
                  <a:pt x="31318" y="20200"/>
                </a:lnTo>
                <a:lnTo>
                  <a:pt x="31318" y="1400"/>
                </a:lnTo>
                <a:close/>
              </a:path>
              <a:path fill="darkenLess" w="32718" h="21600">
                <a:moveTo>
                  <a:pt x="32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18" y="20200"/>
                </a:lnTo>
                <a:close/>
              </a:path>
              <a:path fill="lighten" w="32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718" h="21600">
                <a:moveTo>
                  <a:pt x="163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2718" h="21600">
                <a:moveTo>
                  <a:pt x="17465" y="14281"/>
                </a:moveTo>
                <a:lnTo>
                  <a:pt x="17465" y="12323"/>
                </a:lnTo>
                <a:cubicBezTo>
                  <a:pt x="17465" y="11496"/>
                  <a:pt x="17795" y="10800"/>
                  <a:pt x="18396" y="10800"/>
                </a:cubicBezTo>
                <a:cubicBezTo>
                  <a:pt x="19527" y="10800"/>
                  <a:pt x="20424" y="9434"/>
                  <a:pt x="20424" y="7849"/>
                </a:cubicBezTo>
                <a:cubicBezTo>
                  <a:pt x="20424" y="5534"/>
                  <a:pt x="18570" y="3794"/>
                  <a:pt x="16359" y="3794"/>
                </a:cubicBezTo>
                <a:cubicBezTo>
                  <a:pt x="14148" y="3794"/>
                  <a:pt x="12477" y="5534"/>
                  <a:pt x="12477" y="7849"/>
                </a:cubicBezTo>
                <a:lnTo>
                  <a:pt x="14331" y="7849"/>
                </a:lnTo>
                <a:cubicBezTo>
                  <a:pt x="14331" y="6709"/>
                  <a:pt x="15254" y="5821"/>
                  <a:pt x="16359" y="5821"/>
                </a:cubicBezTo>
                <a:cubicBezTo>
                  <a:pt x="17465" y="5821"/>
                  <a:pt x="18396" y="6709"/>
                  <a:pt x="18396" y="7849"/>
                </a:cubicBezTo>
                <a:cubicBezTo>
                  <a:pt x="18396" y="8589"/>
                  <a:pt x="17926" y="9320"/>
                  <a:pt x="17465" y="9320"/>
                </a:cubicBezTo>
                <a:cubicBezTo>
                  <a:pt x="16359" y="9320"/>
                  <a:pt x="15254" y="10800"/>
                  <a:pt x="15254" y="12323"/>
                </a:cubicBezTo>
                <a:lnTo>
                  <a:pt x="15254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b131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b131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b131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Группа 2"/>
          <p:cNvGrpSpPr/>
          <p:nvPr/>
        </p:nvGrpSpPr>
        <p:grpSpPr>
          <a:xfrm>
            <a:off x="20520" y="0"/>
            <a:ext cx="9144000" cy="6858000"/>
            <a:chOff x="20520" y="0"/>
            <a:chExt cx="9144000" cy="6858000"/>
          </a:xfrm>
        </p:grpSpPr>
        <p:sp>
          <p:nvSpPr>
            <p:cNvPr id="87" name="Прямоугольник 3"/>
            <p:cNvSpPr/>
            <p:nvPr/>
          </p:nvSpPr>
          <p:spPr>
            <a:xfrm>
              <a:off x="20520" y="0"/>
              <a:ext cx="9144000" cy="685800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Скругленный прямоугольник 4"/>
            <p:cNvSpPr/>
            <p:nvPr/>
          </p:nvSpPr>
          <p:spPr>
            <a:xfrm>
              <a:off x="199800" y="260280"/>
              <a:ext cx="8785440" cy="6408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Прямоугольник 5"/>
          <p:cNvSpPr/>
          <p:nvPr/>
        </p:nvSpPr>
        <p:spPr>
          <a:xfrm>
            <a:off x="611280" y="677880"/>
            <a:ext cx="83534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зовите число, в котором 8 сотен и 1 единиц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6"/>
          <p:cNvSpPr/>
          <p:nvPr/>
        </p:nvSpPr>
        <p:spPr>
          <a:xfrm>
            <a:off x="4221720" y="1785960"/>
            <a:ext cx="22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0         8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7"/>
          <p:cNvSpPr/>
          <p:nvPr/>
        </p:nvSpPr>
        <p:spPr>
          <a:xfrm>
            <a:off x="2643120" y="1785960"/>
            <a:ext cx="8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8"/>
          <p:cNvSpPr/>
          <p:nvPr/>
        </p:nvSpPr>
        <p:spPr>
          <a:xfrm>
            <a:off x="518040" y="2500200"/>
            <a:ext cx="6269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акое число состоит из 3 сотен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9"/>
          <p:cNvSpPr/>
          <p:nvPr/>
        </p:nvSpPr>
        <p:spPr>
          <a:xfrm>
            <a:off x="1221120" y="3286080"/>
            <a:ext cx="23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          3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0"/>
          <p:cNvSpPr/>
          <p:nvPr/>
        </p:nvSpPr>
        <p:spPr>
          <a:xfrm>
            <a:off x="4361400" y="3286080"/>
            <a:ext cx="84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1"/>
          <p:cNvSpPr/>
          <p:nvPr/>
        </p:nvSpPr>
        <p:spPr>
          <a:xfrm>
            <a:off x="179280" y="4000680"/>
            <a:ext cx="8583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зовите число, которое можно записать в виде суммы разрядных слагаемых 400+80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2"/>
          <p:cNvSpPr/>
          <p:nvPr/>
        </p:nvSpPr>
        <p:spPr>
          <a:xfrm>
            <a:off x="1860480" y="557208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3"/>
          <p:cNvSpPr/>
          <p:nvPr/>
        </p:nvSpPr>
        <p:spPr>
          <a:xfrm>
            <a:off x="3646800" y="5572080"/>
            <a:ext cx="8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4"/>
          <p:cNvSpPr/>
          <p:nvPr/>
        </p:nvSpPr>
        <p:spPr>
          <a:xfrm>
            <a:off x="5147280" y="5572080"/>
            <a:ext cx="84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Управляющая кнопка: справка 15"/>
          <p:cNvSpPr/>
          <p:nvPr/>
        </p:nvSpPr>
        <p:spPr>
          <a:xfrm>
            <a:off x="7421400" y="2270160"/>
            <a:ext cx="1341720" cy="1308240"/>
          </a:xfrm>
          <a:custGeom>
            <a:avLst/>
            <a:gdLst>
              <a:gd name="textAreaLeft" fmla="*/ 84600 w 1341720"/>
              <a:gd name="textAreaRight" fmla="*/ 1257120 w 1341720"/>
              <a:gd name="textAreaTop" fmla="*/ 84600 h 1308240"/>
              <a:gd name="textAreaBottom" fmla="*/ 1223640 h 1308240"/>
            </a:gdLst>
            <a:ahLst/>
            <a:rect l="textAreaLeft" t="textAreaTop" r="textAreaRight" b="textAreaBottom"/>
            <a:pathLst>
              <a:path w="22153" h="21600">
                <a:moveTo>
                  <a:pt x="0" y="0"/>
                </a:moveTo>
                <a:lnTo>
                  <a:pt x="22153" y="0"/>
                </a:lnTo>
                <a:lnTo>
                  <a:pt x="22153" y="21600"/>
                </a:lnTo>
                <a:lnTo>
                  <a:pt x="0" y="21600"/>
                </a:lnTo>
                <a:close/>
              </a:path>
              <a:path fill="lightenLess" w="22153" h="21600">
                <a:moveTo>
                  <a:pt x="0" y="0"/>
                </a:moveTo>
                <a:lnTo>
                  <a:pt x="22153" y="0"/>
                </a:lnTo>
                <a:lnTo>
                  <a:pt x="20753" y="1400"/>
                </a:lnTo>
                <a:lnTo>
                  <a:pt x="1400" y="1400"/>
                </a:lnTo>
                <a:close/>
              </a:path>
              <a:path fill="darken" w="22153" h="21600">
                <a:moveTo>
                  <a:pt x="22153" y="0"/>
                </a:moveTo>
                <a:lnTo>
                  <a:pt x="22153" y="21600"/>
                </a:lnTo>
                <a:lnTo>
                  <a:pt x="20753" y="20200"/>
                </a:lnTo>
                <a:lnTo>
                  <a:pt x="20753" y="1400"/>
                </a:lnTo>
                <a:close/>
              </a:path>
              <a:path fill="darkenLess" w="22153" h="21600">
                <a:moveTo>
                  <a:pt x="221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53" y="20200"/>
                </a:lnTo>
                <a:close/>
              </a:path>
              <a:path fill="lighten" w="221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53" h="21600">
                <a:moveTo>
                  <a:pt x="1107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153" h="21600">
                <a:moveTo>
                  <a:pt x="12182" y="14281"/>
                </a:moveTo>
                <a:lnTo>
                  <a:pt x="12182" y="12323"/>
                </a:lnTo>
                <a:cubicBezTo>
                  <a:pt x="12182" y="11496"/>
                  <a:pt x="12512" y="10800"/>
                  <a:pt x="13113" y="10800"/>
                </a:cubicBezTo>
                <a:cubicBezTo>
                  <a:pt x="14244" y="10800"/>
                  <a:pt x="15141" y="9434"/>
                  <a:pt x="15141" y="7849"/>
                </a:cubicBezTo>
                <a:cubicBezTo>
                  <a:pt x="15141" y="5534"/>
                  <a:pt x="13287" y="3794"/>
                  <a:pt x="11076" y="3794"/>
                </a:cubicBezTo>
                <a:cubicBezTo>
                  <a:pt x="8866" y="3794"/>
                  <a:pt x="7194" y="5534"/>
                  <a:pt x="7194" y="7849"/>
                </a:cubicBezTo>
                <a:lnTo>
                  <a:pt x="9048" y="7849"/>
                </a:lnTo>
                <a:cubicBezTo>
                  <a:pt x="9048" y="6709"/>
                  <a:pt x="9971" y="5821"/>
                  <a:pt x="11076" y="5821"/>
                </a:cubicBezTo>
                <a:cubicBezTo>
                  <a:pt x="12182" y="5821"/>
                  <a:pt x="13113" y="6709"/>
                  <a:pt x="13113" y="7849"/>
                </a:cubicBezTo>
                <a:cubicBezTo>
                  <a:pt x="13113" y="8589"/>
                  <a:pt x="12643" y="9320"/>
                  <a:pt x="12182" y="9320"/>
                </a:cubicBezTo>
                <a:cubicBezTo>
                  <a:pt x="11076" y="9320"/>
                  <a:pt x="9971" y="10800"/>
                  <a:pt x="9971" y="12323"/>
                </a:cubicBezTo>
                <a:lnTo>
                  <a:pt x="9971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b131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b131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b131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3"/>
          <p:cNvSpPr/>
          <p:nvPr/>
        </p:nvSpPr>
        <p:spPr>
          <a:xfrm>
            <a:off x="179280" y="260280"/>
            <a:ext cx="8785440" cy="640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"/>
          <p:cNvSpPr/>
          <p:nvPr/>
        </p:nvSpPr>
        <p:spPr>
          <a:xfrm>
            <a:off x="106200" y="857160"/>
            <a:ext cx="8929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Calibri"/>
              </a:rPr>
              <a:t>Как быстро ты можеш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Calibri"/>
              </a:rPr>
              <a:t>решить пример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640 — 249 =             740 — 349 =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596 + 404 =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357+ 633=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350+90+50=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440+70+60=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кругленный прямоугольник 3"/>
          <p:cNvSpPr/>
          <p:nvPr/>
        </p:nvSpPr>
        <p:spPr>
          <a:xfrm>
            <a:off x="179280" y="260280"/>
            <a:ext cx="8785440" cy="640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"/>
          <p:cNvSpPr/>
          <p:nvPr/>
        </p:nvSpPr>
        <p:spPr>
          <a:xfrm>
            <a:off x="106200" y="1359360"/>
            <a:ext cx="8929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Calibri"/>
              </a:rPr>
              <a:t>Проверь себ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640 — 249 =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391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740 — 349 =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3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596 + 404 =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1000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357+ 633=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9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350+90+50=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490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440+70+60=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5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Группа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7" name="Прямоугольник 5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Скругленный прямоугольник 6"/>
            <p:cNvSpPr/>
            <p:nvPr/>
          </p:nvSpPr>
          <p:spPr>
            <a:xfrm>
              <a:off x="179280" y="260280"/>
              <a:ext cx="8785440" cy="6408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AutoShape 9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ttps://ds02.infourok.ru/uploads/ex/0c23/0001a64a-f0f4de47/img13.jpg"/>
          <p:cNvPicPr/>
          <p:nvPr/>
        </p:nvPicPr>
        <p:blipFill>
          <a:blip r:embed="rId1"/>
          <a:stretch/>
        </p:blipFill>
        <p:spPr>
          <a:xfrm>
            <a:off x="144360" y="158760"/>
            <a:ext cx="8820360" cy="65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Группа 2"/>
          <p:cNvGrpSpPr/>
          <p:nvPr/>
        </p:nvGrpSpPr>
        <p:grpSpPr>
          <a:xfrm>
            <a:off x="-27000" y="-3240"/>
            <a:ext cx="9144000" cy="6858000"/>
            <a:chOff x="-27000" y="-3240"/>
            <a:chExt cx="9144000" cy="6858000"/>
          </a:xfrm>
        </p:grpSpPr>
        <p:sp>
          <p:nvSpPr>
            <p:cNvPr id="112" name="Прямоугольник 3"/>
            <p:cNvSpPr/>
            <p:nvPr/>
          </p:nvSpPr>
          <p:spPr>
            <a:xfrm>
              <a:off x="-27000" y="-3240"/>
              <a:ext cx="9144000" cy="685800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Скругленный прямоугольник 4"/>
            <p:cNvSpPr/>
            <p:nvPr/>
          </p:nvSpPr>
          <p:spPr>
            <a:xfrm>
              <a:off x="152280" y="257040"/>
              <a:ext cx="8785440" cy="6408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" name="Picture 10" descr="https://ds03.infourok.ru/uploads/ex/10c4/000540e3-a33673be/img9.jpg"/>
          <p:cNvPicPr/>
          <p:nvPr/>
        </p:nvPicPr>
        <p:blipFill>
          <a:blip r:embed="rId1"/>
          <a:stretch/>
        </p:blipFill>
        <p:spPr>
          <a:xfrm>
            <a:off x="58680" y="98280"/>
            <a:ext cx="8972640" cy="67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1T15:35:42Z</dcterms:created>
  <dc:creator>user</dc:creator>
  <dc:description/>
  <dc:language>en-US</dc:language>
  <cp:lastModifiedBy>User</cp:lastModifiedBy>
  <dcterms:modified xsi:type="dcterms:W3CDTF">2020-11-10T13:31:55Z</dcterms:modified>
  <cp:revision>35</cp:revision>
  <dc:subject/>
  <dc:title>Слайд 1</dc:title>
</cp:coreProperties>
</file>