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23.wmf" ContentType="image/x-wmf"/>
  <Override PartName="/ppt/media/image9.jpeg" ContentType="image/jpeg"/>
  <Override PartName="/ppt/media/image11.jpeg" ContentType="image/jpeg"/>
  <Override PartName="/ppt/media/image40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.png" ContentType="image/png"/>
  <Override PartName="/ppt/media/image35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8877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004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1312920" y="1027080"/>
            <a:ext cx="49118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1312920" y="1027080"/>
            <a:ext cx="49147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1312920" y="1027080"/>
            <a:ext cx="49244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"/>
          <p:cNvSpPr/>
          <p:nvPr/>
        </p:nvSpPr>
        <p:spPr>
          <a:xfrm>
            <a:off x="1312920" y="102708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1312920" y="1027080"/>
            <a:ext cx="49226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312920" y="1027080"/>
            <a:ext cx="49212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312920" y="1027080"/>
            <a:ext cx="491184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1312920" y="1027080"/>
            <a:ext cx="49291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1814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62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562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892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8920" y="458820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6360" y="210132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31480" y="210132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6360" y="458820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31480" y="4588200"/>
            <a:ext cx="27568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562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562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78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8920" y="2101320"/>
            <a:ext cx="4178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629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6840" algn="ctr">
              <a:lnSpc>
                <a:spcPct val="1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8920" y="2101320"/>
            <a:ext cx="4178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78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892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8920" y="458820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8920" y="2101320"/>
            <a:ext cx="4178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5629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393840" y="1882800"/>
            <a:ext cx="9675720" cy="56674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629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5629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-290520">
              <a:lnSpc>
                <a:spcPct val="1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57040">
              <a:lnSpc>
                <a:spcPct val="1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196920">
              <a:lnSpc>
                <a:spcPct val="1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82640" indent="-179280">
              <a:lnSpc>
                <a:spcPct val="1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14640" indent="-193680">
              <a:lnSpc>
                <a:spcPct val="1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14640" indent="-193680">
              <a:lnSpc>
                <a:spcPct val="1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14640" indent="-193680">
              <a:lnSpc>
                <a:spcPct val="1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9360" y="9360"/>
            <a:ext cx="182880" cy="919440"/>
          </a:xfrm>
          <a:custGeom>
            <a:avLst/>
            <a:gdLst>
              <a:gd name="textAreaLeft" fmla="*/ 360 w 182880"/>
              <a:gd name="textAreaRight" fmla="*/ 182520 w 182880"/>
              <a:gd name="textAreaTop" fmla="*/ 360 h 919440"/>
              <a:gd name="textAreaBottom" fmla="*/ 919080 h 919440"/>
            </a:gdLst>
            <a:ahLst/>
            <a:rect l="textAreaLeft" t="textAreaTop" r="textAreaRight" b="textAreaBottom"/>
            <a:pathLst>
              <a:path w="21600" h="108424">
                <a:moveTo>
                  <a:pt x="189" y="0"/>
                </a:moveTo>
                <a:arcTo wR="189" hR="189" stAng="16200000" swAng="-5400000"/>
                <a:lnTo>
                  <a:pt x="0" y="108235"/>
                </a:lnTo>
                <a:arcTo wR="189" hR="189" stAng="10800000" swAng="-5400000"/>
                <a:lnTo>
                  <a:pt x="21411" y="108424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9360" y="2381400"/>
            <a:ext cx="182880" cy="919080"/>
          </a:xfrm>
          <a:custGeom>
            <a:avLst/>
            <a:gdLst>
              <a:gd name="textAreaLeft" fmla="*/ 360 w 182880"/>
              <a:gd name="textAreaRight" fmla="*/ 182520 w 18288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382">
                <a:moveTo>
                  <a:pt x="189" y="0"/>
                </a:moveTo>
                <a:arcTo wR="189" hR="189" stAng="16200000" swAng="-5400000"/>
                <a:lnTo>
                  <a:pt x="0" y="108193"/>
                </a:lnTo>
                <a:arcTo wR="189" hR="189" stAng="10800000" swAng="-5400000"/>
                <a:lnTo>
                  <a:pt x="21411" y="108382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9360" y="1168560"/>
            <a:ext cx="182880" cy="919080"/>
          </a:xfrm>
          <a:custGeom>
            <a:avLst/>
            <a:gdLst>
              <a:gd name="textAreaLeft" fmla="*/ 360 w 182880"/>
              <a:gd name="textAreaRight" fmla="*/ 182520 w 18288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382">
                <a:moveTo>
                  <a:pt x="189" y="0"/>
                </a:moveTo>
                <a:arcTo wR="189" hR="189" stAng="16200000" swAng="-5400000"/>
                <a:lnTo>
                  <a:pt x="0" y="108193"/>
                </a:lnTo>
                <a:arcTo wR="189" hR="189" stAng="10800000" swAng="-5400000"/>
                <a:lnTo>
                  <a:pt x="21411" y="108382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8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18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25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26.wmf"/><Relationship Id="rId14" Type="http://schemas.openxmlformats.org/officeDocument/2006/relationships/package" Target="../embeddings/oleObject7.xlsx"/><Relationship Id="rId15" Type="http://schemas.openxmlformats.org/officeDocument/2006/relationships/image" Target="../media/image27.wmf"/><Relationship Id="rId16" Type="http://schemas.openxmlformats.org/officeDocument/2006/relationships/package" Target="../embeddings/oleObject8.xlsx"/><Relationship Id="rId17" Type="http://schemas.openxmlformats.org/officeDocument/2006/relationships/image" Target="../media/image28.wmf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unfiles.ru/resultat_mults/225" TargetMode="External"/><Relationship Id="rId2" Type="http://schemas.openxmlformats.org/officeDocument/2006/relationships/hyperlink" Target="http://www.web-podarok.ru/index.php?categoryID=111" TargetMode="External"/><Relationship Id="rId3" Type="http://schemas.openxmlformats.org/officeDocument/2006/relationships/hyperlink" Target="http://tfile.ru/forum/viewtopic.php?t=27128" TargetMode="External"/><Relationship Id="rId4" Type="http://schemas.openxmlformats.org/officeDocument/2006/relationships/hyperlink" Target="http://new-oboi.com/nature-mount-2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6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17.wmf"/><Relationship Id="rId8" Type="http://schemas.openxmlformats.org/officeDocument/2006/relationships/package" Target="../embeddings/oleObject3.xlsx"/><Relationship Id="rId9" Type="http://schemas.openxmlformats.org/officeDocument/2006/relationships/image" Target="../media/image18.wmf"/><Relationship Id="rId10" Type="http://schemas.openxmlformats.org/officeDocument/2006/relationships/package" Target="../embeddings/oleObject4.xlsx"/><Relationship Id="rId11" Type="http://schemas.openxmlformats.org/officeDocument/2006/relationships/image" Target="../media/image18.wmf"/><Relationship Id="rId12" Type="http://schemas.openxmlformats.org/officeDocument/2006/relationships/package" Target="../embeddings/oleObject5.xlsx"/><Relationship Id="rId13" Type="http://schemas.openxmlformats.org/officeDocument/2006/relationships/image" Target="../media/image19.wmf"/><Relationship Id="rId14" Type="http://schemas.openxmlformats.org/officeDocument/2006/relationships/package" Target="../embeddings/oleObject6.xlsx"/><Relationship Id="rId15" Type="http://schemas.openxmlformats.org/officeDocument/2006/relationships/image" Target="../media/image20.wmf"/><Relationship Id="rId16" Type="http://schemas.openxmlformats.org/officeDocument/2006/relationships/package" Target="../embeddings/oleObject7.xlsx"/><Relationship Id="rId17" Type="http://schemas.openxmlformats.org/officeDocument/2006/relationships/image" Target="../media/image21.wmf"/><Relationship Id="rId18" Type="http://schemas.openxmlformats.org/officeDocument/2006/relationships/package" Target="../embeddings/oleObject8.xlsx"/><Relationship Id="rId19" Type="http://schemas.openxmlformats.org/officeDocument/2006/relationships/image" Target="../media/image22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"/>
          <p:cNvSpPr txBox="1"/>
          <p:nvPr/>
        </p:nvSpPr>
        <p:spPr>
          <a:xfrm>
            <a:off x="720720" y="539640"/>
            <a:ext cx="864072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на сравнение величи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3527280" y="3780000"/>
            <a:ext cx="3133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ро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9640" y="558000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19280" y="3419640"/>
            <a:ext cx="52196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(нестандартные задач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545080" y="5796000"/>
            <a:ext cx="43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18920" y="539280"/>
            <a:ext cx="788508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333333"/>
                </a:solidFill>
                <a:latin typeface="Arial"/>
              </a:rPr>
              <a:t>Сколько секретиков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49280" y="409680"/>
            <a:ext cx="990720" cy="1030320"/>
          </a:xfrm>
          <a:prstGeom prst="rect">
            <a:avLst/>
          </a:prstGeom>
          <a:ln w="0">
            <a:noFill/>
          </a:ln>
        </p:spPr>
      </p:pic>
      <p:sp>
        <p:nvSpPr>
          <p:cNvPr id="229" name="Line 3"/>
          <p:cNvSpPr/>
          <p:nvPr/>
        </p:nvSpPr>
        <p:spPr>
          <a:xfrm>
            <a:off x="6300720" y="2879640"/>
            <a:ext cx="1800" cy="90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7920000" y="1800360"/>
            <a:ext cx="539640" cy="2520720"/>
          </a:xfrm>
          <a:custGeom>
            <a:avLst/>
            <a:gdLst>
              <a:gd name="textAreaLeft" fmla="*/ 0 w 539640"/>
              <a:gd name="textAreaRight" fmla="*/ 194760 w 539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8459640" y="2340000"/>
          <a:ext cx="1260720" cy="14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9640" y="2340000"/>
                    <a:ext cx="1260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6300720" y="3060720"/>
          <a:ext cx="1260720" cy="807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00720" y="3060720"/>
                    <a:ext cx="12607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7"/>
          <p:cNvGraphicFramePr/>
          <p:nvPr/>
        </p:nvGraphicFramePr>
        <p:xfrm>
          <a:off x="3959280" y="1440000"/>
          <a:ext cx="784080" cy="1168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9280" y="1440000"/>
                    <a:ext cx="7840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8"/>
          <p:cNvGraphicFramePr/>
          <p:nvPr/>
        </p:nvGraphicFramePr>
        <p:xfrm>
          <a:off x="4075200" y="4051440"/>
          <a:ext cx="784080" cy="8096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8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75200" y="4051440"/>
                    <a:ext cx="7840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9"/>
          <p:cNvGraphicFramePr/>
          <p:nvPr/>
        </p:nvGraphicFramePr>
        <p:xfrm>
          <a:off x="3448080" y="4473720"/>
          <a:ext cx="3075120" cy="80784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40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48080" y="4473720"/>
                    <a:ext cx="30751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0"/>
          <p:cNvGraphicFramePr/>
          <p:nvPr/>
        </p:nvGraphicFramePr>
        <p:xfrm>
          <a:off x="2157480" y="4859280"/>
          <a:ext cx="5533920" cy="54144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42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57480" y="4859280"/>
                    <a:ext cx="55339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1"/>
          <p:cNvGraphicFramePr/>
          <p:nvPr/>
        </p:nvGraphicFramePr>
        <p:xfrm>
          <a:off x="1881360" y="5400720"/>
          <a:ext cx="5678280" cy="53820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244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81360" y="5400720"/>
                    <a:ext cx="5678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2"/>
          <p:cNvGraphicFramePr/>
          <p:nvPr/>
        </p:nvGraphicFramePr>
        <p:xfrm>
          <a:off x="1793880" y="6010200"/>
          <a:ext cx="5802480" cy="64944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246" name="Object 1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793880" y="6010200"/>
                    <a:ext cx="58024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13" descr=""/>
          <p:cNvPicPr/>
          <p:nvPr/>
        </p:nvPicPr>
        <p:blipFill>
          <a:blip r:embed="rId18"/>
          <a:stretch/>
        </p:blipFill>
        <p:spPr>
          <a:xfrm>
            <a:off x="539640" y="180036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"/>
          <p:cNvPicPr/>
          <p:nvPr/>
        </p:nvPicPr>
        <p:blipFill>
          <a:blip r:embed="rId19"/>
          <a:stretch/>
        </p:blipFill>
        <p:spPr>
          <a:xfrm>
            <a:off x="539640" y="3060720"/>
            <a:ext cx="144000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15"/>
          <p:cNvGrpSpPr/>
          <p:nvPr/>
        </p:nvGrpSpPr>
        <p:grpSpPr>
          <a:xfrm>
            <a:off x="2340000" y="3598920"/>
            <a:ext cx="5398920" cy="358560"/>
            <a:chOff x="2340000" y="3598920"/>
            <a:chExt cx="5398920" cy="358560"/>
          </a:xfrm>
        </p:grpSpPr>
        <p:sp>
          <p:nvSpPr>
            <p:cNvPr id="250" name="Line 16"/>
            <p:cNvSpPr/>
            <p:nvPr/>
          </p:nvSpPr>
          <p:spPr>
            <a:xfrm>
              <a:off x="2340000" y="3780360"/>
              <a:ext cx="539892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"/>
            <p:cNvSpPr/>
            <p:nvPr/>
          </p:nvSpPr>
          <p:spPr>
            <a:xfrm>
              <a:off x="7708680" y="3598920"/>
              <a:ext cx="28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2340000" y="359892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2340000" y="2521080"/>
            <a:ext cx="3957480" cy="358560"/>
            <a:chOff x="2340000" y="2521080"/>
            <a:chExt cx="3957480" cy="358560"/>
          </a:xfrm>
        </p:grpSpPr>
        <p:sp>
          <p:nvSpPr>
            <p:cNvPr id="254" name="Line 20"/>
            <p:cNvSpPr/>
            <p:nvPr/>
          </p:nvSpPr>
          <p:spPr>
            <a:xfrm>
              <a:off x="2340000" y="2700720"/>
              <a:ext cx="395748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6276600" y="2521080"/>
              <a:ext cx="144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22"/>
            <p:cNvSpPr/>
            <p:nvPr/>
          </p:nvSpPr>
          <p:spPr>
            <a:xfrm>
              <a:off x="2340000" y="252108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AutoShape 23"/>
          <p:cNvSpPr/>
          <p:nvPr/>
        </p:nvSpPr>
        <p:spPr>
          <a:xfrm rot="5400000">
            <a:off x="4263840" y="485640"/>
            <a:ext cx="181080" cy="3959280"/>
          </a:xfrm>
          <a:custGeom>
            <a:avLst/>
            <a:gdLst>
              <a:gd name="textAreaLeft" fmla="*/ 53280 w 181080"/>
              <a:gd name="textAreaRight" fmla="*/ 181440 w 181080"/>
              <a:gd name="textAreaTop" fmla="*/ 164880 h 3959280"/>
              <a:gd name="textAreaBottom" fmla="*/ 379440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24"/>
          <p:cNvSpPr/>
          <p:nvPr/>
        </p:nvSpPr>
        <p:spPr>
          <a:xfrm rot="16200000">
            <a:off x="4914720" y="1353600"/>
            <a:ext cx="181080" cy="5400720"/>
          </a:xfrm>
          <a:custGeom>
            <a:avLst/>
            <a:gdLst>
              <a:gd name="textAreaLeft" fmla="*/ 53280 w 181080"/>
              <a:gd name="textAreaRight" fmla="*/ 181440 w 181080"/>
              <a:gd name="textAreaTop" fmla="*/ 225000 h 5400720"/>
              <a:gd name="textAreaBottom" fmla="*/ 517572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tretch/>
        </p:blipFill>
        <p:spPr>
          <a:xfrm>
            <a:off x="7643880" y="1476360"/>
            <a:ext cx="1535040" cy="1403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5040360" y="3959280"/>
            <a:ext cx="25210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 C 0.081 -0.06529 0.102 -0.07195 0.124 -0.07195 C 0.149 -0.07195 0.169 -0.06529 0.183 -0.0533 L 0.25 0 E">
                                      <p:cBhvr>
                                        <p:cTn id="15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539640" y="3060720"/>
            <a:ext cx="1621080" cy="1440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3419640" y="546120"/>
            <a:ext cx="53964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 C 0.081 -0.06529 0.102 -0.07195 0.124 -0.07195 C 0.149 -0.07195 0.169 -0.06529 0.183 -0.0533 L 0.25 0 E">
                                      <p:cBhvr>
                                        <p:cTn id="17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60360" y="626760"/>
            <a:ext cx="71593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Кому сколько лет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85640" y="546120"/>
            <a:ext cx="1135080" cy="107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440000" y="4319640"/>
            <a:ext cx="2340000" cy="252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6659640" y="4319640"/>
            <a:ext cx="1979640" cy="25207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1619280" y="1979640"/>
            <a:ext cx="7200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Русалочка Ариель в 4 раза старше Мелоди, а вместе им 35 лет. Сколько лет Ариель  и сколько её дочер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00360" y="599760"/>
            <a:ext cx="754056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Кому сколько лет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85640" y="547560"/>
            <a:ext cx="1135080" cy="1073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720720" y="3419640"/>
            <a:ext cx="126036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719280" y="1800360"/>
            <a:ext cx="1260360" cy="1620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7920000" y="3600360"/>
            <a:ext cx="23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35 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319640" y="5040360"/>
            <a:ext cx="90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7"/>
          <p:cNvGrpSpPr/>
          <p:nvPr/>
        </p:nvGrpSpPr>
        <p:grpSpPr>
          <a:xfrm>
            <a:off x="2519280" y="2160720"/>
            <a:ext cx="5398920" cy="2517120"/>
            <a:chOff x="2519280" y="2160720"/>
            <a:chExt cx="5398920" cy="2517120"/>
          </a:xfrm>
        </p:grpSpPr>
        <p:grpSp>
          <p:nvGrpSpPr>
            <p:cNvPr id="276" name="Group 8"/>
            <p:cNvGrpSpPr/>
            <p:nvPr/>
          </p:nvGrpSpPr>
          <p:grpSpPr>
            <a:xfrm>
              <a:off x="2519280" y="2880720"/>
              <a:ext cx="1077120" cy="358200"/>
              <a:chOff x="2519280" y="2880720"/>
              <a:chExt cx="1077120" cy="358200"/>
            </a:xfrm>
          </p:grpSpPr>
          <p:sp>
            <p:nvSpPr>
              <p:cNvPr id="277" name="Line 9"/>
              <p:cNvSpPr/>
              <p:nvPr/>
            </p:nvSpPr>
            <p:spPr>
              <a:xfrm>
                <a:off x="2519280" y="3058920"/>
                <a:ext cx="1075680" cy="108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0"/>
              <p:cNvSpPr/>
              <p:nvPr/>
            </p:nvSpPr>
            <p:spPr>
              <a:xfrm>
                <a:off x="2519280" y="2880720"/>
                <a:ext cx="1440" cy="35820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>
                <a:off x="3594960" y="2880720"/>
                <a:ext cx="1440" cy="35820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AutoShape 12"/>
            <p:cNvSpPr/>
            <p:nvPr/>
          </p:nvSpPr>
          <p:spPr>
            <a:xfrm>
              <a:off x="7558200" y="2339640"/>
              <a:ext cx="360000" cy="2338200"/>
            </a:xfrm>
            <a:custGeom>
              <a:avLst/>
              <a:gdLst>
                <a:gd name="textAreaLeft" fmla="*/ 0 w 360000"/>
                <a:gd name="textAreaRight" fmla="*/ 129960 w 360000"/>
                <a:gd name="textAreaTop" fmla="*/ 60840 h 2338200"/>
                <a:gd name="textAreaBottom" fmla="*/ 2277360 h 23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131"/>
                  </a:lnTo>
                  <a:cubicBezTo>
                    <a:pt x="10800" y="10031"/>
                    <a:pt x="16200" y="10931"/>
                    <a:pt x="21600" y="10931"/>
                  </a:cubicBezTo>
                  <a:cubicBezTo>
                    <a:pt x="16200" y="10931"/>
                    <a:pt x="10800" y="11831"/>
                    <a:pt x="10800" y="1273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 Box 13"/>
            <p:cNvSpPr/>
            <p:nvPr/>
          </p:nvSpPr>
          <p:spPr>
            <a:xfrm>
              <a:off x="2700000" y="2160720"/>
              <a:ext cx="720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 algn="ctr">
                <a:lnSpc>
                  <a:spcPct val="4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AutoShape 14"/>
            <p:cNvSpPr/>
            <p:nvPr/>
          </p:nvSpPr>
          <p:spPr>
            <a:xfrm rot="5400000">
              <a:off x="3003120" y="2106000"/>
              <a:ext cx="180360" cy="1079280"/>
            </a:xfrm>
            <a:custGeom>
              <a:avLst/>
              <a:gdLst>
                <a:gd name="textAreaLeft" fmla="*/ 52920 w 180360"/>
                <a:gd name="textAreaRight" fmla="*/ 180720 w 180360"/>
                <a:gd name="textAreaTop" fmla="*/ 44640 h 1079280"/>
                <a:gd name="textAreaBottom" fmla="*/ 1034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5"/>
          <p:cNvGrpSpPr/>
          <p:nvPr/>
        </p:nvGrpSpPr>
        <p:grpSpPr>
          <a:xfrm>
            <a:off x="2448000" y="3959280"/>
            <a:ext cx="4569120" cy="1078920"/>
            <a:chOff x="2448000" y="3959280"/>
            <a:chExt cx="4569120" cy="1078920"/>
          </a:xfrm>
        </p:grpSpPr>
        <p:grpSp>
          <p:nvGrpSpPr>
            <p:cNvPr id="284" name="Group 16"/>
            <p:cNvGrpSpPr/>
            <p:nvPr/>
          </p:nvGrpSpPr>
          <p:grpSpPr>
            <a:xfrm>
              <a:off x="2481120" y="3959280"/>
              <a:ext cx="4536000" cy="357840"/>
              <a:chOff x="2481120" y="3959280"/>
              <a:chExt cx="4536000" cy="357840"/>
            </a:xfrm>
          </p:grpSpPr>
          <p:grpSp>
            <p:nvGrpSpPr>
              <p:cNvPr id="285" name="Group 17"/>
              <p:cNvGrpSpPr/>
              <p:nvPr/>
            </p:nvGrpSpPr>
            <p:grpSpPr>
              <a:xfrm>
                <a:off x="2481120" y="3959280"/>
                <a:ext cx="1114920" cy="357840"/>
                <a:chOff x="2481120" y="3959280"/>
                <a:chExt cx="1114920" cy="357840"/>
              </a:xfrm>
            </p:grpSpPr>
            <p:sp>
              <p:nvSpPr>
                <p:cNvPr id="286" name="Line 18"/>
                <p:cNvSpPr/>
                <p:nvPr/>
              </p:nvSpPr>
              <p:spPr>
                <a:xfrm>
                  <a:off x="2481120" y="4137120"/>
                  <a:ext cx="1113840" cy="14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9"/>
                <p:cNvSpPr/>
                <p:nvPr/>
              </p:nvSpPr>
              <p:spPr>
                <a:xfrm>
                  <a:off x="2481120" y="3959280"/>
                  <a:ext cx="1080" cy="3578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20"/>
                <p:cNvSpPr/>
                <p:nvPr/>
              </p:nvSpPr>
              <p:spPr>
                <a:xfrm>
                  <a:off x="3594960" y="3959280"/>
                  <a:ext cx="1080" cy="3578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Line 21"/>
              <p:cNvSpPr/>
              <p:nvPr/>
            </p:nvSpPr>
            <p:spPr>
              <a:xfrm>
                <a:off x="3596400" y="4138200"/>
                <a:ext cx="1115280" cy="144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0" name="Group 22"/>
              <p:cNvGrpSpPr/>
              <p:nvPr/>
            </p:nvGrpSpPr>
            <p:grpSpPr>
              <a:xfrm>
                <a:off x="4712040" y="3959280"/>
                <a:ext cx="1114920" cy="357840"/>
                <a:chOff x="4712040" y="3959280"/>
                <a:chExt cx="1114920" cy="357840"/>
              </a:xfrm>
            </p:grpSpPr>
            <p:sp>
              <p:nvSpPr>
                <p:cNvPr id="291" name="Line 23"/>
                <p:cNvSpPr/>
                <p:nvPr/>
              </p:nvSpPr>
              <p:spPr>
                <a:xfrm>
                  <a:off x="4712040" y="4137120"/>
                  <a:ext cx="1113480" cy="14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4"/>
                <p:cNvSpPr/>
                <p:nvPr/>
              </p:nvSpPr>
              <p:spPr>
                <a:xfrm>
                  <a:off x="4712040" y="3959280"/>
                  <a:ext cx="1080" cy="3578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5"/>
                <p:cNvSpPr/>
                <p:nvPr/>
              </p:nvSpPr>
              <p:spPr>
                <a:xfrm>
                  <a:off x="5825520" y="3959280"/>
                  <a:ext cx="1440" cy="3578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26"/>
              <p:cNvGrpSpPr/>
              <p:nvPr/>
            </p:nvGrpSpPr>
            <p:grpSpPr>
              <a:xfrm>
                <a:off x="5902200" y="3959280"/>
                <a:ext cx="1114920" cy="357840"/>
                <a:chOff x="5902200" y="3959280"/>
                <a:chExt cx="1114920" cy="357840"/>
              </a:xfrm>
            </p:grpSpPr>
            <p:sp>
              <p:nvSpPr>
                <p:cNvPr id="295" name="Line 27"/>
                <p:cNvSpPr/>
                <p:nvPr/>
              </p:nvSpPr>
              <p:spPr>
                <a:xfrm>
                  <a:off x="5902200" y="4137120"/>
                  <a:ext cx="1113480" cy="14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8"/>
                <p:cNvSpPr/>
                <p:nvPr/>
              </p:nvSpPr>
              <p:spPr>
                <a:xfrm>
                  <a:off x="7015680" y="3959280"/>
                  <a:ext cx="1440" cy="35784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" name="Text Box 29"/>
            <p:cNvSpPr/>
            <p:nvPr/>
          </p:nvSpPr>
          <p:spPr>
            <a:xfrm>
              <a:off x="4463280" y="4577400"/>
              <a:ext cx="8996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 fontScale="48000"/>
            </a:bodyPr>
            <a:p>
              <a:pPr algn="ctr">
                <a:lnSpc>
                  <a:spcPct val="4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30"/>
            <p:cNvSpPr/>
            <p:nvPr/>
          </p:nvSpPr>
          <p:spPr>
            <a:xfrm rot="16200000">
              <a:off x="4606920" y="2157840"/>
              <a:ext cx="180720" cy="4498920"/>
            </a:xfrm>
            <a:custGeom>
              <a:avLst/>
              <a:gdLst>
                <a:gd name="textAreaLeft" fmla="*/ 52920 w 180720"/>
                <a:gd name="textAreaRight" fmla="*/ 181080 w 180720"/>
                <a:gd name="textAreaTop" fmla="*/ 187200 h 4498920"/>
                <a:gd name="textAreaBottom" fmla="*/ 4311720 h 44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31"/>
          <p:cNvSpPr/>
          <p:nvPr/>
        </p:nvSpPr>
        <p:spPr>
          <a:xfrm>
            <a:off x="1944720" y="5796000"/>
            <a:ext cx="6121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7000"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) 35 : 5 = 7 (лет) -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Мел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2"/>
          <p:cNvSpPr/>
          <p:nvPr/>
        </p:nvSpPr>
        <p:spPr>
          <a:xfrm>
            <a:off x="2016000" y="6372360"/>
            <a:ext cx="62596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) 7 х 4 = 28 (лет) -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Ари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3"/>
          <p:cNvSpPr/>
          <p:nvPr/>
        </p:nvSpPr>
        <p:spPr>
          <a:xfrm>
            <a:off x="1944720" y="514836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2000"/>
          </a:bodyPr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 1 + 4 = 5 (ч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34"/>
          <p:cNvSpPr/>
          <p:nvPr/>
        </p:nvSpPr>
        <p:spPr>
          <a:xfrm>
            <a:off x="3602160" y="4138560"/>
            <a:ext cx="1077840" cy="1800"/>
          </a:xfrm>
          <a:prstGeom prst="line">
            <a:avLst/>
          </a:prstGeom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35"/>
          <p:cNvSpPr/>
          <p:nvPr/>
        </p:nvSpPr>
        <p:spPr>
          <a:xfrm>
            <a:off x="2522520" y="4138560"/>
            <a:ext cx="1077840" cy="1800"/>
          </a:xfrm>
          <a:prstGeom prst="line">
            <a:avLst/>
          </a:prstGeom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6"/>
          <p:cNvSpPr/>
          <p:nvPr/>
        </p:nvSpPr>
        <p:spPr>
          <a:xfrm>
            <a:off x="4680000" y="4140360"/>
            <a:ext cx="1152360" cy="0"/>
          </a:xfrm>
          <a:prstGeom prst="line">
            <a:avLst/>
          </a:prstGeom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7"/>
          <p:cNvSpPr/>
          <p:nvPr/>
        </p:nvSpPr>
        <p:spPr>
          <a:xfrm>
            <a:off x="5832360" y="4140360"/>
            <a:ext cx="1187640" cy="1440"/>
          </a:xfrm>
          <a:prstGeom prst="line">
            <a:avLst/>
          </a:prstGeom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8"/>
          <p:cNvSpPr/>
          <p:nvPr/>
        </p:nvSpPr>
        <p:spPr>
          <a:xfrm>
            <a:off x="2522520" y="3059280"/>
            <a:ext cx="1077840" cy="1440"/>
          </a:xfrm>
          <a:prstGeom prst="line">
            <a:avLst/>
          </a:prstGeom>
          <a:ln w="7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60360" y="599760"/>
            <a:ext cx="71816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Попробуй свои силы!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539640" y="197964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7740720" y="5040360"/>
            <a:ext cx="2160360" cy="17748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879640" y="1979640"/>
            <a:ext cx="70200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66cc"/>
                </a:solidFill>
                <a:latin typeface="Arial"/>
              </a:rPr>
              <a:t>В коллекции Нюши  32 бантика. При чём белых бантиков в 3 раза меньше, чем розовых. Сколько у Нюши белых, а сколько розовых банти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720720" y="4730760"/>
            <a:ext cx="68407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8000"/>
                </a:solidFill>
                <a:latin typeface="Arial"/>
              </a:rPr>
              <a:t>Бараш написал 27 стихов. При чём утром он написал в 2 раза больше, чем вечером. Сколько стихов Бараш написал утром, а сколько вечер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485640" y="547560"/>
            <a:ext cx="113508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79280" y="488520"/>
            <a:ext cx="70009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Сколько бантиков у Нюши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2160720" cy="21607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3"/>
          <p:cNvGrpSpPr/>
          <p:nvPr/>
        </p:nvGrpSpPr>
        <p:grpSpPr>
          <a:xfrm>
            <a:off x="2700360" y="2700360"/>
            <a:ext cx="1077480" cy="358920"/>
            <a:chOff x="2700360" y="2700360"/>
            <a:chExt cx="1077480" cy="358920"/>
          </a:xfrm>
        </p:grpSpPr>
        <p:sp>
          <p:nvSpPr>
            <p:cNvPr id="317" name="Line 4"/>
            <p:cNvSpPr/>
            <p:nvPr/>
          </p:nvSpPr>
          <p:spPr>
            <a:xfrm>
              <a:off x="2700360" y="2880360"/>
              <a:ext cx="107604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700360" y="270036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6"/>
            <p:cNvSpPr/>
            <p:nvPr/>
          </p:nvSpPr>
          <p:spPr>
            <a:xfrm>
              <a:off x="3776400" y="2700360"/>
              <a:ext cx="144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Group 7"/>
          <p:cNvGrpSpPr/>
          <p:nvPr/>
        </p:nvGrpSpPr>
        <p:grpSpPr>
          <a:xfrm>
            <a:off x="2700360" y="3419640"/>
            <a:ext cx="3236400" cy="358560"/>
            <a:chOff x="2700360" y="3419640"/>
            <a:chExt cx="3236400" cy="358560"/>
          </a:xfrm>
        </p:grpSpPr>
        <p:grpSp>
          <p:nvGrpSpPr>
            <p:cNvPr id="321" name="Group 8"/>
            <p:cNvGrpSpPr/>
            <p:nvPr/>
          </p:nvGrpSpPr>
          <p:grpSpPr>
            <a:xfrm>
              <a:off x="4859280" y="3419640"/>
              <a:ext cx="1077480" cy="358560"/>
              <a:chOff x="4859280" y="3419640"/>
              <a:chExt cx="1077480" cy="358560"/>
            </a:xfrm>
          </p:grpSpPr>
          <p:sp>
            <p:nvSpPr>
              <p:cNvPr id="322" name="Line 9"/>
              <p:cNvSpPr/>
              <p:nvPr/>
            </p:nvSpPr>
            <p:spPr>
              <a:xfrm>
                <a:off x="4859280" y="3599280"/>
                <a:ext cx="1076040" cy="144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>
                <a:off x="4859280" y="3419640"/>
                <a:ext cx="1440" cy="35856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1"/>
              <p:cNvSpPr/>
              <p:nvPr/>
            </p:nvSpPr>
            <p:spPr>
              <a:xfrm>
                <a:off x="5935320" y="3419640"/>
                <a:ext cx="1440" cy="35856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12"/>
            <p:cNvGrpSpPr/>
            <p:nvPr/>
          </p:nvGrpSpPr>
          <p:grpSpPr>
            <a:xfrm>
              <a:off x="2700360" y="3419640"/>
              <a:ext cx="1077480" cy="358560"/>
              <a:chOff x="2700360" y="3419640"/>
              <a:chExt cx="1077480" cy="358560"/>
            </a:xfrm>
          </p:grpSpPr>
          <p:sp>
            <p:nvSpPr>
              <p:cNvPr id="326" name="Line 13"/>
              <p:cNvSpPr/>
              <p:nvPr/>
            </p:nvSpPr>
            <p:spPr>
              <a:xfrm>
                <a:off x="2700360" y="3599280"/>
                <a:ext cx="1076040" cy="144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4"/>
              <p:cNvSpPr/>
              <p:nvPr/>
            </p:nvSpPr>
            <p:spPr>
              <a:xfrm>
                <a:off x="2700360" y="3419640"/>
                <a:ext cx="1080" cy="35856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5"/>
              <p:cNvSpPr/>
              <p:nvPr/>
            </p:nvSpPr>
            <p:spPr>
              <a:xfrm>
                <a:off x="3776400" y="3419640"/>
                <a:ext cx="1440" cy="35856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9" name="Line 16"/>
            <p:cNvSpPr/>
            <p:nvPr/>
          </p:nvSpPr>
          <p:spPr>
            <a:xfrm>
              <a:off x="3781440" y="3598920"/>
              <a:ext cx="107784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AutoShape 17"/>
          <p:cNvSpPr/>
          <p:nvPr/>
        </p:nvSpPr>
        <p:spPr>
          <a:xfrm rot="5100000">
            <a:off x="1420560" y="3397320"/>
            <a:ext cx="539640" cy="539640"/>
          </a:xfrm>
          <a:prstGeom prst="flowChartCollat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5100000">
            <a:off x="1463040" y="2496960"/>
            <a:ext cx="540000" cy="539640"/>
          </a:xfrm>
          <a:prstGeom prst="flowChartCollat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9"/>
          <p:cNvSpPr/>
          <p:nvPr/>
        </p:nvSpPr>
        <p:spPr>
          <a:xfrm>
            <a:off x="6119640" y="2340000"/>
            <a:ext cx="360360" cy="1620720"/>
          </a:xfrm>
          <a:custGeom>
            <a:avLst/>
            <a:gdLst>
              <a:gd name="textAreaLeft" fmla="*/ 0 w 360360"/>
              <a:gd name="textAreaRight" fmla="*/ 129960 w 360360"/>
              <a:gd name="textAreaTop" fmla="*/ 42120 h 1620720"/>
              <a:gd name="textAreaBottom" fmla="*/ 1578600 h 16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3959280" y="3897360"/>
            <a:ext cx="72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6000"/>
          </a:bodyPr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2984400" y="2097000"/>
            <a:ext cx="6159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6840360" y="2879640"/>
            <a:ext cx="126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32 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23"/>
          <p:cNvSpPr/>
          <p:nvPr/>
        </p:nvSpPr>
        <p:spPr>
          <a:xfrm rot="5400000">
            <a:off x="3218400" y="2102760"/>
            <a:ext cx="181080" cy="1081080"/>
          </a:xfrm>
          <a:custGeom>
            <a:avLst/>
            <a:gdLst>
              <a:gd name="textAreaLeft" fmla="*/ 53280 w 181080"/>
              <a:gd name="textAreaRight" fmla="*/ 181440 w 181080"/>
              <a:gd name="textAreaTop" fmla="*/ 45000 h 1081080"/>
              <a:gd name="textAreaBottom" fmla="*/ 10360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24"/>
          <p:cNvSpPr/>
          <p:nvPr/>
        </p:nvSpPr>
        <p:spPr>
          <a:xfrm rot="16200000">
            <a:off x="4195080" y="2250360"/>
            <a:ext cx="180720" cy="3240000"/>
          </a:xfrm>
          <a:custGeom>
            <a:avLst/>
            <a:gdLst>
              <a:gd name="textAreaLeft" fmla="*/ 52920 w 180720"/>
              <a:gd name="textAreaRight" fmla="*/ 181080 w 180720"/>
              <a:gd name="textAreaTop" fmla="*/ 135000 h 3240000"/>
              <a:gd name="textAreaBottom" fmla="*/ 3105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1979640" y="4680000"/>
            <a:ext cx="5940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9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 1 + 3 = 4 (ч.) - равные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1944720" y="5364000"/>
            <a:ext cx="5400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3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32 : 4 = 8 (б.) - бел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7"/>
          <p:cNvSpPr/>
          <p:nvPr/>
        </p:nvSpPr>
        <p:spPr>
          <a:xfrm>
            <a:off x="1979640" y="5940360"/>
            <a:ext cx="48607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3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 8 х 3 = 24 (б.) - роз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38360" y="626760"/>
            <a:ext cx="718200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Сколько стихов у Бараша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360360" y="384120"/>
            <a:ext cx="2160720" cy="195588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3"/>
          <p:cNvGrpSpPr/>
          <p:nvPr/>
        </p:nvGrpSpPr>
        <p:grpSpPr>
          <a:xfrm>
            <a:off x="2700360" y="3419640"/>
            <a:ext cx="1077480" cy="358560"/>
            <a:chOff x="2700360" y="3419640"/>
            <a:chExt cx="1077480" cy="358560"/>
          </a:xfrm>
        </p:grpSpPr>
        <p:sp>
          <p:nvSpPr>
            <p:cNvPr id="344" name="Line 4"/>
            <p:cNvSpPr/>
            <p:nvPr/>
          </p:nvSpPr>
          <p:spPr>
            <a:xfrm>
              <a:off x="2700360" y="3599280"/>
              <a:ext cx="107604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2700360" y="341964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6"/>
            <p:cNvSpPr/>
            <p:nvPr/>
          </p:nvSpPr>
          <p:spPr>
            <a:xfrm>
              <a:off x="3776400" y="3419640"/>
              <a:ext cx="144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7"/>
          <p:cNvGrpSpPr/>
          <p:nvPr/>
        </p:nvGrpSpPr>
        <p:grpSpPr>
          <a:xfrm>
            <a:off x="2700360" y="2700360"/>
            <a:ext cx="2157120" cy="358920"/>
            <a:chOff x="2700360" y="2700360"/>
            <a:chExt cx="2157120" cy="358920"/>
          </a:xfrm>
        </p:grpSpPr>
        <p:grpSp>
          <p:nvGrpSpPr>
            <p:cNvPr id="348" name="Group 8"/>
            <p:cNvGrpSpPr/>
            <p:nvPr/>
          </p:nvGrpSpPr>
          <p:grpSpPr>
            <a:xfrm>
              <a:off x="2700360" y="2700360"/>
              <a:ext cx="1077480" cy="358920"/>
              <a:chOff x="2700360" y="2700360"/>
              <a:chExt cx="1077480" cy="358920"/>
            </a:xfrm>
          </p:grpSpPr>
          <p:sp>
            <p:nvSpPr>
              <p:cNvPr id="349" name="Line 9"/>
              <p:cNvSpPr/>
              <p:nvPr/>
            </p:nvSpPr>
            <p:spPr>
              <a:xfrm>
                <a:off x="2700360" y="2880360"/>
                <a:ext cx="1076040" cy="108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0"/>
              <p:cNvSpPr/>
              <p:nvPr/>
            </p:nvSpPr>
            <p:spPr>
              <a:xfrm>
                <a:off x="2700360" y="2700360"/>
                <a:ext cx="1080" cy="35892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1"/>
              <p:cNvSpPr/>
              <p:nvPr/>
            </p:nvSpPr>
            <p:spPr>
              <a:xfrm>
                <a:off x="3776400" y="2700360"/>
                <a:ext cx="1440" cy="35892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2"/>
            <p:cNvGrpSpPr/>
            <p:nvPr/>
          </p:nvGrpSpPr>
          <p:grpSpPr>
            <a:xfrm>
              <a:off x="3780000" y="2700360"/>
              <a:ext cx="1077480" cy="358920"/>
              <a:chOff x="3780000" y="2700360"/>
              <a:chExt cx="1077480" cy="358920"/>
            </a:xfrm>
          </p:grpSpPr>
          <p:sp>
            <p:nvSpPr>
              <p:cNvPr id="353" name="Line 13"/>
              <p:cNvSpPr/>
              <p:nvPr/>
            </p:nvSpPr>
            <p:spPr>
              <a:xfrm>
                <a:off x="3780000" y="2880360"/>
                <a:ext cx="1076400" cy="108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>
                <a:off x="4856400" y="2700360"/>
                <a:ext cx="1080" cy="35892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 Box 15"/>
          <p:cNvSpPr/>
          <p:nvPr/>
        </p:nvSpPr>
        <p:spPr>
          <a:xfrm>
            <a:off x="1079640" y="256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У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079640" y="3465360"/>
            <a:ext cx="126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5219640" y="2340000"/>
            <a:ext cx="360360" cy="1800360"/>
          </a:xfrm>
          <a:custGeom>
            <a:avLst/>
            <a:gdLst>
              <a:gd name="textAreaLeft" fmla="*/ 0 w 360360"/>
              <a:gd name="textAreaRight" fmla="*/ 129960 w 360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5940360" y="3060720"/>
            <a:ext cx="180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27 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3600360" y="1973160"/>
            <a:ext cx="54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2990880" y="3959280"/>
            <a:ext cx="430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6000"/>
          </a:bodyPr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1"/>
          <p:cNvSpPr/>
          <p:nvPr/>
        </p:nvSpPr>
        <p:spPr>
          <a:xfrm rot="5400000">
            <a:off x="3758040" y="1386360"/>
            <a:ext cx="181080" cy="2160360"/>
          </a:xfrm>
          <a:custGeom>
            <a:avLst/>
            <a:gdLst>
              <a:gd name="textAreaLeft" fmla="*/ 53280 w 181080"/>
              <a:gd name="textAreaRight" fmla="*/ 181440 w 181080"/>
              <a:gd name="textAreaTop" fmla="*/ 90000 h 2160360"/>
              <a:gd name="textAreaBottom" fmla="*/ 20703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22"/>
          <p:cNvSpPr/>
          <p:nvPr/>
        </p:nvSpPr>
        <p:spPr>
          <a:xfrm rot="16200000">
            <a:off x="3115440" y="3327840"/>
            <a:ext cx="181080" cy="1081080"/>
          </a:xfrm>
          <a:custGeom>
            <a:avLst/>
            <a:gdLst>
              <a:gd name="textAreaLeft" fmla="*/ 53280 w 181080"/>
              <a:gd name="textAreaRight" fmla="*/ 181440 w 181080"/>
              <a:gd name="textAreaTop" fmla="*/ 45000 h 1081080"/>
              <a:gd name="textAreaBottom" fmla="*/ 10360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1260360" y="4554360"/>
            <a:ext cx="6661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3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 2 + 1 = 3 (ч.) - равные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1260360" y="5219640"/>
            <a:ext cx="504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3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27 : 3 = 9 (ст.) -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1260360" y="5815080"/>
            <a:ext cx="540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3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 9 х 2 = 18 (ст.) - ут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18920" y="577440"/>
            <a:ext cx="68216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Для самых сообразительных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2880000" cy="23400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1079640" y="3240000"/>
            <a:ext cx="8280360" cy="21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66cc"/>
                </a:solidFill>
                <a:latin typeface="Arial"/>
              </a:rPr>
              <a:t>Гусеницы Вупсень и Пупсень завтракали свежими листочками. Вупсень съел  в 4 раза больше, чем Пупсень. Сколько листочков съел каждый, если Пупсень съел на 21 листочек меньше, чем Вупсен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440000" y="1979640"/>
            <a:ext cx="126036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500720" y="900000"/>
            <a:ext cx="1439640" cy="1341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7559640" y="19796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4">
            <a:lum contrast="-8000"/>
          </a:blip>
          <a:stretch/>
        </p:blipFill>
        <p:spPr>
          <a:xfrm>
            <a:off x="4680000" y="2519280"/>
            <a:ext cx="1439640" cy="132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3959280" y="4140360"/>
            <a:ext cx="2700360" cy="233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0360" y="599760"/>
            <a:ext cx="792000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Для самых сообразительных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39640" y="1800360"/>
            <a:ext cx="1440000" cy="12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539640" y="3240000"/>
            <a:ext cx="1440000" cy="12607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4319640" y="161928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4680000" y="1800360"/>
            <a:ext cx="72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0000"/>
          </a:bodyPr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6"/>
          <p:cNvSpPr/>
          <p:nvPr/>
        </p:nvSpPr>
        <p:spPr>
          <a:xfrm rot="16200000">
            <a:off x="4976640" y="1761480"/>
            <a:ext cx="360360" cy="32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4649760" y="3522600"/>
            <a:ext cx="108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2000"/>
          </a:bodyPr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21 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2494080" y="3821040"/>
            <a:ext cx="1080360" cy="522000"/>
            <a:chOff x="2494080" y="3821040"/>
            <a:chExt cx="1080360" cy="522000"/>
          </a:xfrm>
        </p:grpSpPr>
        <p:grpSp>
          <p:nvGrpSpPr>
            <p:cNvPr id="377" name="Group 9"/>
            <p:cNvGrpSpPr/>
            <p:nvPr/>
          </p:nvGrpSpPr>
          <p:grpSpPr>
            <a:xfrm>
              <a:off x="2498400" y="3821040"/>
              <a:ext cx="1076040" cy="356400"/>
              <a:chOff x="2498400" y="3821040"/>
              <a:chExt cx="1076040" cy="356400"/>
            </a:xfrm>
          </p:grpSpPr>
          <p:sp>
            <p:nvSpPr>
              <p:cNvPr id="378" name="Line 10"/>
              <p:cNvSpPr/>
              <p:nvPr/>
            </p:nvSpPr>
            <p:spPr>
              <a:xfrm>
                <a:off x="2498400" y="4001400"/>
                <a:ext cx="1074960" cy="144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11"/>
              <p:cNvSpPr/>
              <p:nvPr/>
            </p:nvSpPr>
            <p:spPr>
              <a:xfrm>
                <a:off x="2498400" y="3821040"/>
                <a:ext cx="1440" cy="35640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2"/>
              <p:cNvSpPr/>
              <p:nvPr/>
            </p:nvSpPr>
            <p:spPr>
              <a:xfrm>
                <a:off x="3573360" y="3821040"/>
                <a:ext cx="1080" cy="35640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AutoShape 13"/>
            <p:cNvSpPr/>
            <p:nvPr/>
          </p:nvSpPr>
          <p:spPr>
            <a:xfrm rot="16200000">
              <a:off x="2995200" y="3764880"/>
              <a:ext cx="77040" cy="1079280"/>
            </a:xfrm>
            <a:custGeom>
              <a:avLst/>
              <a:gdLst>
                <a:gd name="textAreaLeft" fmla="*/ 22680 w 77040"/>
                <a:gd name="textAreaRight" fmla="*/ 77400 w 77040"/>
                <a:gd name="textAreaTop" fmla="*/ 44640 h 1079280"/>
                <a:gd name="textAreaBottom" fmla="*/ 1034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2490840" y="2475000"/>
            <a:ext cx="4382640" cy="686880"/>
            <a:chOff x="2490840" y="2475000"/>
            <a:chExt cx="4382640" cy="686880"/>
          </a:xfrm>
        </p:grpSpPr>
        <p:grpSp>
          <p:nvGrpSpPr>
            <p:cNvPr id="383" name="Group 15"/>
            <p:cNvGrpSpPr/>
            <p:nvPr/>
          </p:nvGrpSpPr>
          <p:grpSpPr>
            <a:xfrm>
              <a:off x="2490840" y="2802600"/>
              <a:ext cx="3232440" cy="358920"/>
              <a:chOff x="2490840" y="2802600"/>
              <a:chExt cx="3232440" cy="358920"/>
            </a:xfrm>
          </p:grpSpPr>
          <p:grpSp>
            <p:nvGrpSpPr>
              <p:cNvPr id="384" name="Group 16"/>
              <p:cNvGrpSpPr/>
              <p:nvPr/>
            </p:nvGrpSpPr>
            <p:grpSpPr>
              <a:xfrm>
                <a:off x="4647240" y="2802600"/>
                <a:ext cx="1076040" cy="358920"/>
                <a:chOff x="4647240" y="2802600"/>
                <a:chExt cx="1076040" cy="358920"/>
              </a:xfrm>
            </p:grpSpPr>
            <p:sp>
              <p:nvSpPr>
                <p:cNvPr id="385" name="Line 17"/>
                <p:cNvSpPr/>
                <p:nvPr/>
              </p:nvSpPr>
              <p:spPr>
                <a:xfrm>
                  <a:off x="4647240" y="2982240"/>
                  <a:ext cx="1074600" cy="144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8"/>
                <p:cNvSpPr/>
                <p:nvPr/>
              </p:nvSpPr>
              <p:spPr>
                <a:xfrm>
                  <a:off x="4647240" y="2802600"/>
                  <a:ext cx="1080" cy="35892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9"/>
                <p:cNvSpPr/>
                <p:nvPr/>
              </p:nvSpPr>
              <p:spPr>
                <a:xfrm>
                  <a:off x="5721840" y="2802600"/>
                  <a:ext cx="1440" cy="35892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20"/>
              <p:cNvGrpSpPr/>
              <p:nvPr/>
            </p:nvGrpSpPr>
            <p:grpSpPr>
              <a:xfrm>
                <a:off x="2490840" y="2802600"/>
                <a:ext cx="1076040" cy="358920"/>
                <a:chOff x="2490840" y="2802600"/>
                <a:chExt cx="1076040" cy="358920"/>
              </a:xfrm>
            </p:grpSpPr>
            <p:sp>
              <p:nvSpPr>
                <p:cNvPr id="389" name="Line 21"/>
                <p:cNvSpPr/>
                <p:nvPr/>
              </p:nvSpPr>
              <p:spPr>
                <a:xfrm>
                  <a:off x="2490840" y="2982240"/>
                  <a:ext cx="1074960" cy="144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2"/>
                <p:cNvSpPr/>
                <p:nvPr/>
              </p:nvSpPr>
              <p:spPr>
                <a:xfrm>
                  <a:off x="2490840" y="2802600"/>
                  <a:ext cx="1080" cy="35892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3"/>
                <p:cNvSpPr/>
                <p:nvPr/>
              </p:nvSpPr>
              <p:spPr>
                <a:xfrm>
                  <a:off x="3565800" y="2802600"/>
                  <a:ext cx="1080" cy="358920"/>
                </a:xfrm>
                <a:prstGeom prst="line">
                  <a:avLst/>
                </a:prstGeom>
                <a:ln w="720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Line 24"/>
              <p:cNvSpPr/>
              <p:nvPr/>
            </p:nvSpPr>
            <p:spPr>
              <a:xfrm>
                <a:off x="3570480" y="2981880"/>
                <a:ext cx="1076400" cy="144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AutoShape 25"/>
            <p:cNvSpPr/>
            <p:nvPr/>
          </p:nvSpPr>
          <p:spPr>
            <a:xfrm rot="5400000">
              <a:off x="4625280" y="407880"/>
              <a:ext cx="181440" cy="4314960"/>
            </a:xfrm>
            <a:custGeom>
              <a:avLst/>
              <a:gdLst>
                <a:gd name="textAreaLeft" fmla="*/ 53280 w 181440"/>
                <a:gd name="textAreaRight" fmla="*/ 181800 w 181440"/>
                <a:gd name="textAreaTop" fmla="*/ 179640 h 4314960"/>
                <a:gd name="textAreaBottom" fmla="*/ 4135320 h 431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26"/>
            <p:cNvGrpSpPr/>
            <p:nvPr/>
          </p:nvGrpSpPr>
          <p:grpSpPr>
            <a:xfrm>
              <a:off x="5727240" y="2802600"/>
              <a:ext cx="1076040" cy="359280"/>
              <a:chOff x="5727240" y="2802600"/>
              <a:chExt cx="1076040" cy="359280"/>
            </a:xfrm>
          </p:grpSpPr>
          <p:sp>
            <p:nvSpPr>
              <p:cNvPr id="395" name="Line 27"/>
              <p:cNvSpPr/>
              <p:nvPr/>
            </p:nvSpPr>
            <p:spPr>
              <a:xfrm>
                <a:off x="5727240" y="2982600"/>
                <a:ext cx="1074600" cy="144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8"/>
              <p:cNvSpPr/>
              <p:nvPr/>
            </p:nvSpPr>
            <p:spPr>
              <a:xfrm>
                <a:off x="6801840" y="2802600"/>
                <a:ext cx="1440" cy="359280"/>
              </a:xfrm>
              <a:prstGeom prst="line">
                <a:avLst/>
              </a:prstGeom>
              <a:ln w="72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Text Box 29"/>
          <p:cNvSpPr/>
          <p:nvPr/>
        </p:nvSpPr>
        <p:spPr>
          <a:xfrm>
            <a:off x="2700360" y="4319640"/>
            <a:ext cx="72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algn="ctr">
              <a:lnSpc>
                <a:spcPct val="2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2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0"/>
          <p:cNvSpPr/>
          <p:nvPr/>
        </p:nvSpPr>
        <p:spPr>
          <a:xfrm>
            <a:off x="539640" y="6119640"/>
            <a:ext cx="3961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9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21 : 3 = 7 (л.) - Пупс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539640" y="6659640"/>
            <a:ext cx="414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9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7 х 4 = 28 (л.) - Вупс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5940360" y="792000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33"/>
          <p:cNvSpPr/>
          <p:nvPr/>
        </p:nvSpPr>
        <p:spPr>
          <a:xfrm>
            <a:off x="5580000" y="6659640"/>
            <a:ext cx="414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21 + 7 = 28 (л.) - Вупс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4"/>
          <p:cNvSpPr/>
          <p:nvPr/>
        </p:nvSpPr>
        <p:spPr>
          <a:xfrm>
            <a:off x="4140360" y="792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5"/>
          <p:cNvSpPr/>
          <p:nvPr/>
        </p:nvSpPr>
        <p:spPr>
          <a:xfrm>
            <a:off x="539640" y="5580000"/>
            <a:ext cx="3600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49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4 - 1 = 3 (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36"/>
          <p:cNvGrpSpPr/>
          <p:nvPr/>
        </p:nvGrpSpPr>
        <p:grpSpPr>
          <a:xfrm>
            <a:off x="5580000" y="5580000"/>
            <a:ext cx="3827520" cy="968040"/>
            <a:chOff x="5580000" y="5580000"/>
            <a:chExt cx="3827520" cy="968040"/>
          </a:xfrm>
        </p:grpSpPr>
        <p:sp>
          <p:nvSpPr>
            <p:cNvPr id="405" name="Text Box 37"/>
            <p:cNvSpPr/>
            <p:nvPr/>
          </p:nvSpPr>
          <p:spPr>
            <a:xfrm>
              <a:off x="5580000" y="6118560"/>
              <a:ext cx="38275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) 21 : 3 = 7 (л.) - Пупсен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5580000" y="5580000"/>
              <a:ext cx="2199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 fontScale="53000"/>
            </a:bodyPr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) 4 - 1 = 3 (ч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Text Box 39"/>
          <p:cNvSpPr/>
          <p:nvPr/>
        </p:nvSpPr>
        <p:spPr>
          <a:xfrm>
            <a:off x="539640" y="5040360"/>
            <a:ext cx="18003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9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 u="sng">
                <a:solidFill>
                  <a:srgbClr val="280099"/>
                </a:solidFill>
                <a:uFillTx/>
                <a:latin typeface="Arial"/>
              </a:rPr>
              <a:t>I способ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40"/>
          <p:cNvSpPr/>
          <p:nvPr/>
        </p:nvSpPr>
        <p:spPr>
          <a:xfrm>
            <a:off x="5580000" y="4994280"/>
            <a:ext cx="1979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4000"/>
          </a:bodyPr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200" spc="-1" strike="noStrike" u="sng">
                <a:solidFill>
                  <a:srgbClr val="280099"/>
                </a:solidFill>
                <a:uFillTx/>
                <a:latin typeface="Arial"/>
              </a:rPr>
              <a:t>II  способ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900000" y="2160720"/>
            <a:ext cx="8460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WordArt 2"/>
          <p:cNvSpPr txBox="1"/>
          <p:nvPr/>
        </p:nvSpPr>
        <p:spPr>
          <a:xfrm>
            <a:off x="2519280" y="2895480"/>
            <a:ext cx="612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444044" dir="10542650" blurRad="0" rotWithShape="0">
                    <a:srgbClr val="ff8080">
                      <a:alpha val="4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444044" dir="10542650" blurRad="0" rotWithShape="0">
                  <a:srgbClr val="ff808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6119640" y="4859280"/>
            <a:ext cx="252108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62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25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625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2160720" y="720720"/>
            <a:ext cx="6480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Благодарим за карт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1079640" y="1800360"/>
            <a:ext cx="845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4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2300dc"/>
                </a:solidFill>
                <a:latin typeface="Arial"/>
              </a:rPr>
              <a:t>Woridprints.com –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лето в лесу (физкультминутка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funfiles.ru/resultat_mults/225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Винни Пух, Пятачок, И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web-podarok.ru/index.php?categoryID=111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Смешар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2300dc"/>
                </a:solidFill>
                <a:latin typeface="Times New Roman"/>
              </a:rPr>
              <a:t>Принцессы.Русалочка II.Возвращение в море. Disney,2000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2300dc"/>
                </a:solidFill>
                <a:latin typeface="Times New Roman"/>
              </a:rPr>
              <a:t>CD игры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Русалоч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tfile.ru/forum/viewtopic.php?t=27128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Вупсень и Пупсен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new-oboi.com/nature-mount-2.html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г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93800" y="1440000"/>
            <a:ext cx="154620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319640" y="878040"/>
            <a:ext cx="1620720" cy="146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7643880" y="1476360"/>
            <a:ext cx="1535040" cy="14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539640" y="3959280"/>
            <a:ext cx="2340000" cy="2176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5718240" y="193824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6438960" y="19796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550800" y="409680"/>
            <a:ext cx="1068480" cy="103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720720" y="2160720"/>
            <a:ext cx="1260360" cy="12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5"/>
          <a:stretch/>
        </p:blipFill>
        <p:spPr>
          <a:xfrm>
            <a:off x="692280" y="3600360"/>
            <a:ext cx="1287360" cy="126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6"/>
          <a:stretch/>
        </p:blipFill>
        <p:spPr>
          <a:xfrm>
            <a:off x="720720" y="5219640"/>
            <a:ext cx="1258920" cy="126036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>
            <a:off x="7199280" y="2879640"/>
            <a:ext cx="1800" cy="144000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5400720" y="2833560"/>
            <a:ext cx="1440" cy="315288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76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000" spc="-1" strike="noStrike">
                <a:solidFill>
                  <a:srgbClr val="333333"/>
                </a:solidFill>
                <a:latin typeface="Arial"/>
              </a:rPr>
              <a:t>Что  делать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160720" y="2700360"/>
            <a:ext cx="5038560" cy="358920"/>
            <a:chOff x="2160720" y="2700360"/>
            <a:chExt cx="5038560" cy="358920"/>
          </a:xfrm>
        </p:grpSpPr>
        <p:sp>
          <p:nvSpPr>
            <p:cNvPr id="97" name="Line 11"/>
            <p:cNvSpPr/>
            <p:nvPr/>
          </p:nvSpPr>
          <p:spPr>
            <a:xfrm>
              <a:off x="2160720" y="2878920"/>
              <a:ext cx="503856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>
              <a:off x="2160720" y="270036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>
              <a:off x="7197480" y="2700360"/>
              <a:ext cx="144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Line 14"/>
          <p:cNvSpPr/>
          <p:nvPr/>
        </p:nvSpPr>
        <p:spPr>
          <a:xfrm>
            <a:off x="2160720" y="4319640"/>
            <a:ext cx="5038560" cy="144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160720" y="4140360"/>
            <a:ext cx="1440" cy="360360"/>
          </a:xfrm>
          <a:prstGeom prst="line">
            <a:avLst/>
          </a:prstGeom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6"/>
          <p:cNvGrpSpPr/>
          <p:nvPr/>
        </p:nvGrpSpPr>
        <p:grpSpPr>
          <a:xfrm>
            <a:off x="2160720" y="5759280"/>
            <a:ext cx="3239640" cy="358920"/>
            <a:chOff x="2160720" y="5759280"/>
            <a:chExt cx="3239640" cy="358920"/>
          </a:xfrm>
        </p:grpSpPr>
        <p:sp>
          <p:nvSpPr>
            <p:cNvPr id="103" name="Line 17"/>
            <p:cNvSpPr/>
            <p:nvPr/>
          </p:nvSpPr>
          <p:spPr>
            <a:xfrm>
              <a:off x="2160720" y="5939280"/>
              <a:ext cx="323856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2160720" y="575928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5399280" y="575928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20"/>
          <p:cNvGrpSpPr/>
          <p:nvPr/>
        </p:nvGrpSpPr>
        <p:grpSpPr>
          <a:xfrm>
            <a:off x="7380360" y="3198960"/>
            <a:ext cx="1522440" cy="760320"/>
            <a:chOff x="7380360" y="3198960"/>
            <a:chExt cx="1522440" cy="760320"/>
          </a:xfrm>
        </p:grpSpPr>
        <p:pic>
          <p:nvPicPr>
            <p:cNvPr id="107" name="Picture 21" descr=""/>
            <p:cNvPicPr/>
            <p:nvPr/>
          </p:nvPicPr>
          <p:blipFill>
            <a:blip r:embed="rId7"/>
            <a:stretch/>
          </p:blipFill>
          <p:spPr>
            <a:xfrm>
              <a:off x="7380360" y="3198960"/>
              <a:ext cx="76104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2" descr=""/>
            <p:cNvPicPr/>
            <p:nvPr/>
          </p:nvPicPr>
          <p:blipFill>
            <a:blip r:embed="rId8"/>
            <a:stretch/>
          </p:blipFill>
          <p:spPr>
            <a:xfrm>
              <a:off x="8141400" y="3198960"/>
              <a:ext cx="761400" cy="76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23"/>
          <p:cNvGrpSpPr/>
          <p:nvPr/>
        </p:nvGrpSpPr>
        <p:grpSpPr>
          <a:xfrm>
            <a:off x="7199280" y="4140360"/>
            <a:ext cx="1800000" cy="358560"/>
            <a:chOff x="7199280" y="4140360"/>
            <a:chExt cx="1800000" cy="358560"/>
          </a:xfrm>
        </p:grpSpPr>
        <p:sp>
          <p:nvSpPr>
            <p:cNvPr id="110" name="Line 24"/>
            <p:cNvSpPr/>
            <p:nvPr/>
          </p:nvSpPr>
          <p:spPr>
            <a:xfrm>
              <a:off x="8998200" y="414036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>
              <a:off x="7199280" y="4316760"/>
              <a:ext cx="179892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Line 26"/>
          <p:cNvSpPr/>
          <p:nvPr/>
        </p:nvSpPr>
        <p:spPr>
          <a:xfrm>
            <a:off x="7199280" y="4319640"/>
            <a:ext cx="1800" cy="143964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5400720" y="5759280"/>
            <a:ext cx="1798560" cy="358920"/>
            <a:chOff x="5400720" y="5759280"/>
            <a:chExt cx="1798560" cy="358920"/>
          </a:xfrm>
        </p:grpSpPr>
        <p:sp>
          <p:nvSpPr>
            <p:cNvPr id="114" name="Line 28"/>
            <p:cNvSpPr/>
            <p:nvPr/>
          </p:nvSpPr>
          <p:spPr>
            <a:xfrm>
              <a:off x="7197480" y="5759280"/>
              <a:ext cx="144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>
              <a:off x="5400720" y="5938200"/>
              <a:ext cx="179856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5580000" y="4997520"/>
            <a:ext cx="1522080" cy="760320"/>
            <a:chOff x="5580000" y="4997520"/>
            <a:chExt cx="1522080" cy="760320"/>
          </a:xfrm>
        </p:grpSpPr>
        <p:pic>
          <p:nvPicPr>
            <p:cNvPr id="117" name="Picture 31" descr=""/>
            <p:cNvPicPr/>
            <p:nvPr/>
          </p:nvPicPr>
          <p:blipFill>
            <a:blip r:embed="rId9"/>
            <a:stretch/>
          </p:blipFill>
          <p:spPr>
            <a:xfrm>
              <a:off x="5580000" y="4997520"/>
              <a:ext cx="76104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2" descr=""/>
            <p:cNvPicPr/>
            <p:nvPr/>
          </p:nvPicPr>
          <p:blipFill>
            <a:blip r:embed="rId10"/>
            <a:stretch/>
          </p:blipFill>
          <p:spPr>
            <a:xfrm>
              <a:off x="6341040" y="4997520"/>
              <a:ext cx="761040" cy="760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4319640" y="878040"/>
            <a:ext cx="1620720" cy="1461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7643880" y="1476360"/>
            <a:ext cx="1535040" cy="14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900000" y="1260360"/>
            <a:ext cx="1621080" cy="1462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4"/>
          <a:stretch/>
        </p:blipFill>
        <p:spPr>
          <a:xfrm>
            <a:off x="360360" y="3960720"/>
            <a:ext cx="25210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 C 0.081 -0.06529 0.102 -0.07195 0.124 -0.07195 C 0.149 -0.07195 0.169 -0.06529 0.183 -0.0533 L 0.25 0 E">
                                      <p:cBhvr>
                                        <p:cTn id="7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720720" y="36036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8880" y="533520"/>
            <a:ext cx="8601120" cy="108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Составь задачу по схеме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5005440" y="4300560"/>
            <a:ext cx="4531320" cy="2896920"/>
            <a:chOff x="5005440" y="4300560"/>
            <a:chExt cx="4531320" cy="2896920"/>
          </a:xfrm>
        </p:grpSpPr>
        <p:grpSp>
          <p:nvGrpSpPr>
            <p:cNvPr id="126" name="Group 4"/>
            <p:cNvGrpSpPr/>
            <p:nvPr/>
          </p:nvGrpSpPr>
          <p:grpSpPr>
            <a:xfrm>
              <a:off x="5038560" y="5017680"/>
              <a:ext cx="899280" cy="358560"/>
              <a:chOff x="5038560" y="5017680"/>
              <a:chExt cx="899280" cy="358560"/>
            </a:xfrm>
          </p:grpSpPr>
          <p:sp>
            <p:nvSpPr>
              <p:cNvPr id="127" name="Line 5"/>
              <p:cNvSpPr/>
              <p:nvPr/>
            </p:nvSpPr>
            <p:spPr>
              <a:xfrm>
                <a:off x="5038560" y="5197680"/>
                <a:ext cx="897840" cy="108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6"/>
              <p:cNvSpPr/>
              <p:nvPr/>
            </p:nvSpPr>
            <p:spPr>
              <a:xfrm>
                <a:off x="5038560" y="5017680"/>
                <a:ext cx="1080" cy="35856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"/>
              <p:cNvSpPr/>
              <p:nvPr/>
            </p:nvSpPr>
            <p:spPr>
              <a:xfrm>
                <a:off x="5936400" y="5017680"/>
                <a:ext cx="1440" cy="35856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8"/>
            <p:cNvGrpSpPr/>
            <p:nvPr/>
          </p:nvGrpSpPr>
          <p:grpSpPr>
            <a:xfrm>
              <a:off x="5038560" y="5928120"/>
              <a:ext cx="4498200" cy="358560"/>
              <a:chOff x="5038560" y="5928120"/>
              <a:chExt cx="4498200" cy="358560"/>
            </a:xfrm>
          </p:grpSpPr>
          <p:grpSp>
            <p:nvGrpSpPr>
              <p:cNvPr id="131" name="Group 9"/>
              <p:cNvGrpSpPr/>
              <p:nvPr/>
            </p:nvGrpSpPr>
            <p:grpSpPr>
              <a:xfrm>
                <a:off x="8637480" y="5928120"/>
                <a:ext cx="899280" cy="358560"/>
                <a:chOff x="8637480" y="5928120"/>
                <a:chExt cx="899280" cy="358560"/>
              </a:xfrm>
            </p:grpSpPr>
            <p:sp>
              <p:nvSpPr>
                <p:cNvPr id="132" name="Line 10"/>
                <p:cNvSpPr/>
                <p:nvPr/>
              </p:nvSpPr>
              <p:spPr>
                <a:xfrm>
                  <a:off x="8637480" y="6106680"/>
                  <a:ext cx="898200" cy="108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1"/>
                <p:cNvSpPr/>
                <p:nvPr/>
              </p:nvSpPr>
              <p:spPr>
                <a:xfrm>
                  <a:off x="8637480" y="5928120"/>
                  <a:ext cx="144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2"/>
                <p:cNvSpPr/>
                <p:nvPr/>
              </p:nvSpPr>
              <p:spPr>
                <a:xfrm>
                  <a:off x="9535680" y="5928120"/>
                  <a:ext cx="108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13"/>
              <p:cNvGrpSpPr/>
              <p:nvPr/>
            </p:nvGrpSpPr>
            <p:grpSpPr>
              <a:xfrm>
                <a:off x="5038560" y="5928120"/>
                <a:ext cx="899280" cy="358560"/>
                <a:chOff x="5038560" y="5928120"/>
                <a:chExt cx="899280" cy="358560"/>
              </a:xfrm>
            </p:grpSpPr>
            <p:sp>
              <p:nvSpPr>
                <p:cNvPr id="136" name="Line 14"/>
                <p:cNvSpPr/>
                <p:nvPr/>
              </p:nvSpPr>
              <p:spPr>
                <a:xfrm>
                  <a:off x="5038560" y="6106680"/>
                  <a:ext cx="897840" cy="108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15"/>
                <p:cNvSpPr/>
                <p:nvPr/>
              </p:nvSpPr>
              <p:spPr>
                <a:xfrm>
                  <a:off x="5038560" y="5928120"/>
                  <a:ext cx="108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16"/>
                <p:cNvSpPr/>
                <p:nvPr/>
              </p:nvSpPr>
              <p:spPr>
                <a:xfrm>
                  <a:off x="5936400" y="5928120"/>
                  <a:ext cx="144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Line 17"/>
              <p:cNvSpPr/>
              <p:nvPr/>
            </p:nvSpPr>
            <p:spPr>
              <a:xfrm>
                <a:off x="5938200" y="6107400"/>
                <a:ext cx="899640" cy="108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8"/>
              <p:cNvGrpSpPr/>
              <p:nvPr/>
            </p:nvGrpSpPr>
            <p:grpSpPr>
              <a:xfrm>
                <a:off x="6838200" y="5928120"/>
                <a:ext cx="899280" cy="358560"/>
                <a:chOff x="6838200" y="5928120"/>
                <a:chExt cx="899280" cy="358560"/>
              </a:xfrm>
            </p:grpSpPr>
            <p:sp>
              <p:nvSpPr>
                <p:cNvPr id="141" name="Line 19"/>
                <p:cNvSpPr/>
                <p:nvPr/>
              </p:nvSpPr>
              <p:spPr>
                <a:xfrm>
                  <a:off x="6838200" y="6106680"/>
                  <a:ext cx="898200" cy="108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0"/>
                <p:cNvSpPr/>
                <p:nvPr/>
              </p:nvSpPr>
              <p:spPr>
                <a:xfrm>
                  <a:off x="6838200" y="5928120"/>
                  <a:ext cx="108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21"/>
                <p:cNvSpPr/>
                <p:nvPr/>
              </p:nvSpPr>
              <p:spPr>
                <a:xfrm>
                  <a:off x="7736400" y="5928120"/>
                  <a:ext cx="1080" cy="358560"/>
                </a:xfrm>
                <a:prstGeom prst="line">
                  <a:avLst/>
                </a:prstGeom>
                <a:ln w="720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Line 22"/>
              <p:cNvSpPr/>
              <p:nvPr/>
            </p:nvSpPr>
            <p:spPr>
              <a:xfrm>
                <a:off x="7737840" y="6107400"/>
                <a:ext cx="899640" cy="1080"/>
              </a:xfrm>
              <a:prstGeom prst="line">
                <a:avLst/>
              </a:prstGeom>
              <a:ln w="72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Text Box 23"/>
            <p:cNvSpPr/>
            <p:nvPr/>
          </p:nvSpPr>
          <p:spPr>
            <a:xfrm>
              <a:off x="5038560" y="4300560"/>
              <a:ext cx="89964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126000" tIns="81000" bIns="81000" anchor="t">
              <a:normAutofit fontScale="64000"/>
            </a:bodyPr>
            <a:p>
              <a:pPr algn="ctr">
                <a:lnSpc>
                  <a:spcPct val="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6838200" y="6468120"/>
              <a:ext cx="89964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126000" tIns="81000" bIns="81000" anchor="t">
              <a:normAutofit fontScale="64000"/>
            </a:bodyPr>
            <a:p>
              <a:pPr algn="ctr">
                <a:lnSpc>
                  <a:spcPct val="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44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5400000">
              <a:off x="5467320" y="4521600"/>
              <a:ext cx="180720" cy="899640"/>
            </a:xfrm>
            <a:custGeom>
              <a:avLst/>
              <a:gdLst>
                <a:gd name="textAreaLeft" fmla="*/ 52920 w 180720"/>
                <a:gd name="textAreaRight" fmla="*/ 181080 w 180720"/>
                <a:gd name="textAreaTop" fmla="*/ 37440 h 899640"/>
                <a:gd name="textAreaBottom" fmla="*/ 862200 h 89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 rot="16200000">
              <a:off x="7164720" y="4125960"/>
              <a:ext cx="180360" cy="4498920"/>
            </a:xfrm>
            <a:custGeom>
              <a:avLst/>
              <a:gdLst>
                <a:gd name="textAreaLeft" fmla="*/ 52920 w 180360"/>
                <a:gd name="textAreaRight" fmla="*/ 180720 w 180360"/>
                <a:gd name="textAreaTop" fmla="*/ 187200 h 4498920"/>
                <a:gd name="textAreaBottom" fmla="*/ 4311720 h 44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 Box 27"/>
          <p:cNvSpPr/>
          <p:nvPr/>
        </p:nvSpPr>
        <p:spPr>
          <a:xfrm>
            <a:off x="1619280" y="3959280"/>
            <a:ext cx="90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8"/>
          <p:cNvGrpSpPr/>
          <p:nvPr/>
        </p:nvGrpSpPr>
        <p:grpSpPr>
          <a:xfrm>
            <a:off x="528480" y="1979640"/>
            <a:ext cx="4203000" cy="3058560"/>
            <a:chOff x="528480" y="1979640"/>
            <a:chExt cx="4203000" cy="3058560"/>
          </a:xfrm>
        </p:grpSpPr>
        <p:grpSp>
          <p:nvGrpSpPr>
            <p:cNvPr id="151" name="Group 29"/>
            <p:cNvGrpSpPr/>
            <p:nvPr/>
          </p:nvGrpSpPr>
          <p:grpSpPr>
            <a:xfrm>
              <a:off x="528480" y="1979640"/>
              <a:ext cx="4203000" cy="2094840"/>
              <a:chOff x="528480" y="1979640"/>
              <a:chExt cx="4203000" cy="2094840"/>
            </a:xfrm>
          </p:grpSpPr>
          <p:grpSp>
            <p:nvGrpSpPr>
              <p:cNvPr id="152" name="Group 30"/>
              <p:cNvGrpSpPr/>
              <p:nvPr/>
            </p:nvGrpSpPr>
            <p:grpSpPr>
              <a:xfrm>
                <a:off x="528480" y="2485800"/>
                <a:ext cx="4203000" cy="1588680"/>
                <a:chOff x="528480" y="2485800"/>
                <a:chExt cx="4203000" cy="1588680"/>
              </a:xfrm>
            </p:grpSpPr>
            <p:grpSp>
              <p:nvGrpSpPr>
                <p:cNvPr id="153" name="Group 31"/>
                <p:cNvGrpSpPr/>
                <p:nvPr/>
              </p:nvGrpSpPr>
              <p:grpSpPr>
                <a:xfrm>
                  <a:off x="563040" y="3533760"/>
                  <a:ext cx="2876040" cy="357840"/>
                  <a:chOff x="563040" y="3533760"/>
                  <a:chExt cx="2876040" cy="357840"/>
                </a:xfrm>
              </p:grpSpPr>
              <p:sp>
                <p:nvSpPr>
                  <p:cNvPr id="154" name="Line 32"/>
                  <p:cNvSpPr/>
                  <p:nvPr/>
                </p:nvSpPr>
                <p:spPr>
                  <a:xfrm>
                    <a:off x="563040" y="3713400"/>
                    <a:ext cx="2874600" cy="108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33"/>
                  <p:cNvSpPr/>
                  <p:nvPr/>
                </p:nvSpPr>
                <p:spPr>
                  <a:xfrm>
                    <a:off x="563040" y="3533760"/>
                    <a:ext cx="1080" cy="35784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34"/>
                  <p:cNvSpPr/>
                  <p:nvPr/>
                </p:nvSpPr>
                <p:spPr>
                  <a:xfrm>
                    <a:off x="3437640" y="3533760"/>
                    <a:ext cx="1440" cy="35784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35"/>
                <p:cNvGrpSpPr/>
                <p:nvPr/>
              </p:nvGrpSpPr>
              <p:grpSpPr>
                <a:xfrm>
                  <a:off x="563040" y="2634840"/>
                  <a:ext cx="4133880" cy="357840"/>
                  <a:chOff x="563040" y="2634840"/>
                  <a:chExt cx="4133880" cy="357840"/>
                </a:xfrm>
              </p:grpSpPr>
              <p:sp>
                <p:nvSpPr>
                  <p:cNvPr id="158" name="Line 36"/>
                  <p:cNvSpPr/>
                  <p:nvPr/>
                </p:nvSpPr>
                <p:spPr>
                  <a:xfrm>
                    <a:off x="563040" y="2814120"/>
                    <a:ext cx="4133880" cy="144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37"/>
                  <p:cNvSpPr/>
                  <p:nvPr/>
                </p:nvSpPr>
                <p:spPr>
                  <a:xfrm>
                    <a:off x="4674600" y="2634840"/>
                    <a:ext cx="1080" cy="35784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8"/>
                  <p:cNvSpPr/>
                  <p:nvPr/>
                </p:nvSpPr>
                <p:spPr>
                  <a:xfrm>
                    <a:off x="563040" y="2634840"/>
                    <a:ext cx="1080" cy="357840"/>
                  </a:xfrm>
                  <a:prstGeom prst="line">
                    <a:avLst/>
                  </a:prstGeom>
                  <a:ln w="72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39"/>
                <p:cNvSpPr/>
                <p:nvPr/>
              </p:nvSpPr>
              <p:spPr>
                <a:xfrm flipV="1">
                  <a:off x="3439440" y="2788560"/>
                  <a:ext cx="1440" cy="953280"/>
                </a:xfrm>
                <a:prstGeom prst="line">
                  <a:avLst/>
                </a:prstGeom>
                <a:ln w="360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Text Box 40"/>
                <p:cNvSpPr/>
                <p:nvPr/>
              </p:nvSpPr>
              <p:spPr>
                <a:xfrm>
                  <a:off x="3619080" y="2805840"/>
                  <a:ext cx="719640" cy="72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0" rIns="126000" tIns="81000" bIns="81000" anchor="t">
                  <a:normAutofit fontScale="64000"/>
                </a:bodyPr>
                <a:p>
                  <a:pPr algn="ctr">
                    <a:lnSpc>
                      <a:spcPct val="44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44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0" lang="en-GB" sz="40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AutoShape 41"/>
                <p:cNvSpPr/>
                <p:nvPr/>
              </p:nvSpPr>
              <p:spPr>
                <a:xfrm rot="5400000">
                  <a:off x="2573280" y="508320"/>
                  <a:ext cx="180720" cy="4135320"/>
                </a:xfrm>
                <a:custGeom>
                  <a:avLst/>
                  <a:gdLst>
                    <a:gd name="textAreaLeft" fmla="*/ 52920 w 180720"/>
                    <a:gd name="textAreaRight" fmla="*/ 181080 w 180720"/>
                    <a:gd name="textAreaTop" fmla="*/ 172080 h 4135320"/>
                    <a:gd name="textAreaBottom" fmla="*/ 3963240 h 413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42"/>
                <p:cNvSpPr/>
                <p:nvPr/>
              </p:nvSpPr>
              <p:spPr>
                <a:xfrm rot="16200000">
                  <a:off x="1876320" y="2545920"/>
                  <a:ext cx="180720" cy="2876400"/>
                </a:xfrm>
                <a:custGeom>
                  <a:avLst/>
                  <a:gdLst>
                    <a:gd name="textAreaLeft" fmla="*/ 52920 w 180720"/>
                    <a:gd name="textAreaRight" fmla="*/ 181080 w 180720"/>
                    <a:gd name="textAreaTop" fmla="*/ 119520 h 2876400"/>
                    <a:gd name="textAreaBottom" fmla="*/ 2756880 h 2876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43"/>
              <p:cNvSpPr/>
              <p:nvPr/>
            </p:nvSpPr>
            <p:spPr>
              <a:xfrm>
                <a:off x="2181240" y="1979640"/>
                <a:ext cx="900000" cy="65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rmAutofit fontScale="60000"/>
              </a:bodyPr>
              <a:p>
                <a:pPr algn="ctr">
                  <a:lnSpc>
                    <a:spcPct val="2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2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27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40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Text Box 44"/>
            <p:cNvSpPr/>
            <p:nvPr/>
          </p:nvSpPr>
          <p:spPr>
            <a:xfrm>
              <a:off x="1417680" y="4381560"/>
              <a:ext cx="90000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 algn="ctr">
                <a:lnSpc>
                  <a:spcPct val="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4319640" y="900000"/>
            <a:ext cx="1620720" cy="14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7643880" y="1476360"/>
            <a:ext cx="1535040" cy="14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1619280" y="3960720"/>
            <a:ext cx="252108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-0.0533 C 0.081 -0.06529 0.102 -0.07195 0.124 -0.07195 C 0.149 -0.07195 0.169 -0.06529 0.183 -0.0533 L 0.25 0 E">
                                      <p:cBhvr>
                                        <p:cTn id="8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546120"/>
            <a:ext cx="77263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На сколько больше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20720" y="2441520"/>
            <a:ext cx="2340000" cy="22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49280" y="409680"/>
            <a:ext cx="990720" cy="103032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8459640" y="3419640"/>
            <a:ext cx="1800" cy="900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7020000" y="2519280"/>
            <a:ext cx="1440" cy="180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199280" y="2700360"/>
            <a:ext cx="108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7199280" y="2700360"/>
            <a:ext cx="126036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rmAutofit/>
          </a:bodyPr>
          <a:p>
            <a:pPr algn="ctr">
              <a:lnSpc>
                <a:spcPct val="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б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280360" y="3600360"/>
            <a:ext cx="14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1000" bIns="81000" anchor="t">
            <a:normAutofit/>
          </a:bodyPr>
          <a:p>
            <a:pPr algn="ctr">
              <a:lnSpc>
                <a:spcPct val="4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б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780000" y="2340000"/>
            <a:ext cx="3238200" cy="358920"/>
            <a:chOff x="3780000" y="2340000"/>
            <a:chExt cx="3238200" cy="358920"/>
          </a:xfrm>
        </p:grpSpPr>
        <p:sp>
          <p:nvSpPr>
            <p:cNvPr id="179" name="Line 10"/>
            <p:cNvSpPr/>
            <p:nvPr/>
          </p:nvSpPr>
          <p:spPr>
            <a:xfrm>
              <a:off x="3780000" y="2520000"/>
              <a:ext cx="323820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>
              <a:off x="7000560" y="2340000"/>
              <a:ext cx="144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>
              <a:off x="3780000" y="234000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3780000" y="3240000"/>
            <a:ext cx="4678200" cy="358920"/>
            <a:chOff x="3780000" y="3240000"/>
            <a:chExt cx="4678200" cy="358920"/>
          </a:xfrm>
        </p:grpSpPr>
        <p:sp>
          <p:nvSpPr>
            <p:cNvPr id="183" name="Line 14"/>
            <p:cNvSpPr/>
            <p:nvPr/>
          </p:nvSpPr>
          <p:spPr>
            <a:xfrm>
              <a:off x="3780000" y="3420000"/>
              <a:ext cx="467820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8433000" y="324000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>
              <a:off x="3780000" y="324000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7"/>
          <p:cNvGrpSpPr/>
          <p:nvPr/>
        </p:nvGrpSpPr>
        <p:grpSpPr>
          <a:xfrm>
            <a:off x="3780000" y="4140360"/>
            <a:ext cx="5757840" cy="358560"/>
            <a:chOff x="3780000" y="4140360"/>
            <a:chExt cx="5757840" cy="358560"/>
          </a:xfrm>
        </p:grpSpPr>
        <p:sp>
          <p:nvSpPr>
            <p:cNvPr id="187" name="Line 18"/>
            <p:cNvSpPr/>
            <p:nvPr/>
          </p:nvSpPr>
          <p:spPr>
            <a:xfrm>
              <a:off x="3780000" y="4320000"/>
              <a:ext cx="5757840" cy="144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9507600" y="4140360"/>
              <a:ext cx="28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0"/>
            <p:cNvSpPr/>
            <p:nvPr/>
          </p:nvSpPr>
          <p:spPr>
            <a:xfrm>
              <a:off x="3780000" y="414036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Text Box 21"/>
          <p:cNvSpPr/>
          <p:nvPr/>
        </p:nvSpPr>
        <p:spPr>
          <a:xfrm>
            <a:off x="7920000" y="4437000"/>
            <a:ext cx="720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1000"/>
          </a:bodyPr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22"/>
          <p:cNvSpPr/>
          <p:nvPr/>
        </p:nvSpPr>
        <p:spPr>
          <a:xfrm rot="5400000">
            <a:off x="7718760" y="2459880"/>
            <a:ext cx="181080" cy="1439640"/>
          </a:xfrm>
          <a:custGeom>
            <a:avLst/>
            <a:gdLst>
              <a:gd name="textAreaLeft" fmla="*/ 53280 w 181080"/>
              <a:gd name="textAreaRight" fmla="*/ 181440 w 181080"/>
              <a:gd name="textAreaTop" fmla="*/ 59760 h 1439640"/>
              <a:gd name="textAreaBottom" fmla="*/ 137988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23"/>
          <p:cNvSpPr/>
          <p:nvPr/>
        </p:nvSpPr>
        <p:spPr>
          <a:xfrm rot="5400000">
            <a:off x="8943480" y="3544920"/>
            <a:ext cx="181080" cy="1079640"/>
          </a:xfrm>
          <a:custGeom>
            <a:avLst/>
            <a:gdLst>
              <a:gd name="textAreaLeft" fmla="*/ 53280 w 181080"/>
              <a:gd name="textAreaRight" fmla="*/ 181440 w 181080"/>
              <a:gd name="textAreaTop" fmla="*/ 45000 h 1079640"/>
              <a:gd name="textAreaBottom" fmla="*/ 1035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4"/>
          <p:cNvSpPr/>
          <p:nvPr/>
        </p:nvSpPr>
        <p:spPr>
          <a:xfrm rot="16200000">
            <a:off x="8154720" y="3328560"/>
            <a:ext cx="181080" cy="2520720"/>
          </a:xfrm>
          <a:custGeom>
            <a:avLst/>
            <a:gdLst>
              <a:gd name="textAreaLeft" fmla="*/ 53280 w 181080"/>
              <a:gd name="textAreaRight" fmla="*/ 181440 w 181080"/>
              <a:gd name="textAreaTop" fmla="*/ 104760 h 2520720"/>
              <a:gd name="textAreaBottom" fmla="*/ 241596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1800360" y="5580000"/>
            <a:ext cx="701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4000"/>
          </a:bodyPr>
          <a:p>
            <a:pPr algn="ctr">
              <a:lnSpc>
                <a:spcPct val="3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3 + 2= 5 (б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8920" y="539280"/>
            <a:ext cx="788508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333333"/>
                </a:solidFill>
                <a:latin typeface="Arial"/>
              </a:rPr>
              <a:t>Сколько историй?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49280" y="409680"/>
            <a:ext cx="990720" cy="1030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539640" y="3240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6300720" y="2879640"/>
            <a:ext cx="1800" cy="90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7920000" y="1800360"/>
            <a:ext cx="539640" cy="2520720"/>
          </a:xfrm>
          <a:custGeom>
            <a:avLst/>
            <a:gdLst>
              <a:gd name="textAreaLeft" fmla="*/ 0 w 539640"/>
              <a:gd name="textAreaRight" fmla="*/ 194760 w 539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6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7"/>
          <p:cNvGraphicFramePr/>
          <p:nvPr/>
        </p:nvGraphicFramePr>
        <p:xfrm>
          <a:off x="8459640" y="2340000"/>
          <a:ext cx="1260720" cy="144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59640" y="2340000"/>
                    <a:ext cx="1260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8"/>
          <p:cNvGraphicFramePr/>
          <p:nvPr/>
        </p:nvGraphicFramePr>
        <p:xfrm>
          <a:off x="6300720" y="3060720"/>
          <a:ext cx="1260720" cy="8078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4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0720"/>
                    <a:ext cx="12607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9"/>
          <p:cNvGraphicFramePr/>
          <p:nvPr/>
        </p:nvGraphicFramePr>
        <p:xfrm>
          <a:off x="3959280" y="1440000"/>
          <a:ext cx="784080" cy="11682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59280" y="1440000"/>
                    <a:ext cx="7840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0"/>
          <p:cNvGraphicFramePr/>
          <p:nvPr/>
        </p:nvGraphicFramePr>
        <p:xfrm>
          <a:off x="4616280" y="4140360"/>
          <a:ext cx="784440" cy="9000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16280" y="4140360"/>
                    <a:ext cx="7844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448080" y="4473720"/>
          <a:ext cx="3075120" cy="80784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8080" y="4473720"/>
                    <a:ext cx="30751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2"/>
          <p:cNvGraphicFramePr/>
          <p:nvPr/>
        </p:nvGraphicFramePr>
        <p:xfrm>
          <a:off x="2157480" y="4859280"/>
          <a:ext cx="6064200" cy="530280"/>
        </p:xfrm>
        <a:graphic>
          <a:graphicData uri="http://schemas.openxmlformats.org/presentationml/2006/ole">
            <p:oleObj progId="Excel.Sheet.12" r:id="rId14" spid="">
              <p:embed/>
              <p:pic>
                <p:nvPicPr>
                  <p:cNvPr id="212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157480" y="4859280"/>
                    <a:ext cx="60642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3"/>
          <p:cNvGraphicFramePr/>
          <p:nvPr/>
        </p:nvGraphicFramePr>
        <p:xfrm>
          <a:off x="1978200" y="5402160"/>
          <a:ext cx="5678280" cy="538200"/>
        </p:xfrm>
        <a:graphic>
          <a:graphicData uri="http://schemas.openxmlformats.org/presentationml/2006/ole">
            <p:oleObj progId="Excel.Sheet.12" r:id="rId16" spid="">
              <p:embed/>
              <p:pic>
                <p:nvPicPr>
                  <p:cNvPr id="214" name="Object 1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78200" y="5402160"/>
                    <a:ext cx="5678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14"/>
          <p:cNvGraphicFramePr/>
          <p:nvPr/>
        </p:nvGraphicFramePr>
        <p:xfrm>
          <a:off x="1979640" y="6010200"/>
          <a:ext cx="5765760" cy="64944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216" name="Object 1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79640" y="6010200"/>
                    <a:ext cx="57657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Group 15"/>
          <p:cNvGrpSpPr/>
          <p:nvPr/>
        </p:nvGrpSpPr>
        <p:grpSpPr>
          <a:xfrm>
            <a:off x="2340000" y="2519280"/>
            <a:ext cx="3957480" cy="358920"/>
            <a:chOff x="2340000" y="2519280"/>
            <a:chExt cx="3957480" cy="358920"/>
          </a:xfrm>
        </p:grpSpPr>
        <p:sp>
          <p:nvSpPr>
            <p:cNvPr id="218" name="Line 16"/>
            <p:cNvSpPr/>
            <p:nvPr/>
          </p:nvSpPr>
          <p:spPr>
            <a:xfrm>
              <a:off x="2340000" y="2699280"/>
              <a:ext cx="395748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6276600" y="2519280"/>
              <a:ext cx="144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>
              <a:off x="2340000" y="2519280"/>
              <a:ext cx="1080" cy="35892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2340000" y="3598920"/>
            <a:ext cx="5398920" cy="358560"/>
            <a:chOff x="2340000" y="3598920"/>
            <a:chExt cx="5398920" cy="358560"/>
          </a:xfrm>
        </p:grpSpPr>
        <p:sp>
          <p:nvSpPr>
            <p:cNvPr id="222" name="Line 20"/>
            <p:cNvSpPr/>
            <p:nvPr/>
          </p:nvSpPr>
          <p:spPr>
            <a:xfrm>
              <a:off x="2340000" y="3780360"/>
              <a:ext cx="5398920" cy="108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7708680" y="3598920"/>
              <a:ext cx="28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22"/>
            <p:cNvSpPr/>
            <p:nvPr/>
          </p:nvSpPr>
          <p:spPr>
            <a:xfrm>
              <a:off x="2340000" y="3598920"/>
              <a:ext cx="1080" cy="358560"/>
            </a:xfrm>
            <a:prstGeom prst="line">
              <a:avLst/>
            </a:prstGeom>
            <a:ln w="72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AutoShape 23"/>
          <p:cNvSpPr/>
          <p:nvPr/>
        </p:nvSpPr>
        <p:spPr>
          <a:xfrm rot="5400000">
            <a:off x="4300560" y="482400"/>
            <a:ext cx="176040" cy="3960720"/>
          </a:xfrm>
          <a:custGeom>
            <a:avLst/>
            <a:gdLst>
              <a:gd name="textAreaLeft" fmla="*/ 51840 w 176040"/>
              <a:gd name="textAreaRight" fmla="*/ 176400 w 17604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rot="16200000">
            <a:off x="4914720" y="1353600"/>
            <a:ext cx="181080" cy="5400720"/>
          </a:xfrm>
          <a:custGeom>
            <a:avLst/>
            <a:gdLst>
              <a:gd name="textAreaLeft" fmla="*/ 53280 w 181080"/>
              <a:gd name="textAreaRight" fmla="*/ 181440 w 181080"/>
              <a:gd name="textAreaTop" fmla="*/ 225000 h 5400720"/>
              <a:gd name="textAreaBottom" fmla="*/ 517572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5:11:58Z</dcterms:created>
  <dc:creator>user</dc:creator>
  <dc:description/>
  <dc:language>en-US</dc:language>
  <cp:lastModifiedBy>Светлана</cp:lastModifiedBy>
  <dcterms:modified xsi:type="dcterms:W3CDTF">2020-11-10T13:39:05Z</dcterms:modified>
  <cp:revision>3</cp:revision>
  <dc:subject/>
  <dc:title>Слайд 1</dc:title>
</cp:coreProperties>
</file>