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160-9FE7-4F70-B1F0-9B56EC2E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C31-344D-4CAD-AA9D-44263A1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B33-DE41-42C2-A2C2-CEBC3848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EC6-A3A6-4E84-AAD7-D4B3DE0E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0EF6-BBCF-4330-B1FF-B2B2668D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707A-318E-4E6F-865B-E02DC64F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C81-62C0-43B0-AF31-DDEC26C0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F5E8-8AFD-40B4-B514-FF6B9CF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3CBD-6326-4159-AE97-B8A527F1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38A-9C1F-4FFD-994B-0D3AADC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7F65-644D-4B85-A908-0B13A53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9F6-4E0A-4766-9B8D-0019A7C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27F0-8BDC-48BD-B996-646FB794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494-A95F-4F07-8FB9-4BAA3068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4DFF-996B-455E-B122-CC5720DB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3B8-EB8B-4419-8C37-65301788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97E4-BF66-40E0-B507-C7AA0B1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96B4-6426-46B4-AB2E-3593CB0E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22E7-ACC3-4655-BEBD-CDAF69A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0961-401B-4874-821E-7640C0A4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3C9E-984C-4D62-97C7-7F6BF678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0B40-F4D1-4E9C-8410-43AA8637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1A9-F82B-40A8-B362-961C66F0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3EE7-C638-48EF-83F7-012F1795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F253-CB03-4317-994E-BD235C89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4883-8B0B-40AC-9682-8795A837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C461D-2A2B-4F38-8CC2-F5A78E9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E6A6-F9C9-43B7-91D0-10EF052F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4598-8A3A-43AA-AFE0-6DB84995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999F-1B1E-47C9-B1FF-AF5699D8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6F86-970E-4EC7-9601-A08D153F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2682E-7EAB-4DBB-96FE-60A6C69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EF4C-BB67-4555-89AA-7C24568F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E6A-985C-4FC1-B6ED-21F9622B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12AE-7D7A-4390-B0AE-7CCE981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A41E-AA26-4E8B-9281-EB9B348B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9C66-10B6-458A-B9D6-3E90B93B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C840A-3656-499B-9BCA-8108DF70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9CBE-0A7C-475F-892E-CF391DF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E764-F13D-4F53-9CA4-161D648F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0CC6F-9E34-42D2-8810-EB6D3867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E10E-9842-472E-9A3B-1B06264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1326-1FA3-43FE-8A77-B653E98A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C012-04CC-4D13-AB27-CF57B356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6C1-7E92-4BE6-9E26-22775BB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1E32A-B191-49B1-8132-B0A1C7E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5518-E9BB-442E-BD9F-7EF5187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21139-CBE6-492A-8788-8C7DEF30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7525A-9994-428B-B20E-1D837775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68C0-5AA7-4FE3-9D45-974CE18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F8BED-CC26-44E0-99EF-3B6225E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7BCC-F721-48E2-9C44-70F0AFA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5943F-AA49-44E8-8BAC-57573FC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8595-903E-46FA-83A3-B3306611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D4D4-2458-4DF9-8BAC-48EE1197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37A-FBFE-4D54-A12E-D5A5CDCE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C893-D2CD-489B-BB42-FEC0DC85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559-02EE-42BB-B244-B077E8F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485-CF19-4AF6-BA23-EABFB83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01C-6553-4300-8314-D16D157D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D45E1-B68C-4786-B741-83C8026357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B92F1-EA2C-4A65-ACD4-67CE3827F09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92FA8-8645-4808-9635-9BB28CDB403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37ECF-8976-4CB4-82B4-98AABED2169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90D25-F0C7-4D97-8C1C-3FD7A81C032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669780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Основные  базовые артикуляционные  упражне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7236000" y="600876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rebuchet MS"/>
              </a:rPr>
              <a:t>Составитель: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rebuchet MS"/>
              </a:rPr>
              <a:t>Учитель-логопед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Шуляк И.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5. 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работать активность и подвижность губ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Забор» вытянуть губы вперед, плотно их сомкнуть, чтобы в центре не было дырочки. Круговая мышца   собирается   в   морщинки. Необходимо проверить, чтобы нижняя челюсть не опускалась. Контролировать рукой. Удержать под счет до 5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Picture 4" descr="трубочка"/>
          <p:cNvPicPr/>
          <p:nvPr/>
        </p:nvPicPr>
        <p:blipFill>
          <a:blip r:embed="rId1"/>
          <a:stretch/>
        </p:blipFill>
        <p:spPr>
          <a:xfrm>
            <a:off x="1827360" y="2347920"/>
            <a:ext cx="3914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6. Чередование: «Забор» — «Трубоч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476360" y="177300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добиться ритмичного, точного переключения с одной артикуляции на другу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из положения «Забор» выполнить движение «Трубочка». Такие переключения выполнить 5—6 раз в разном темпе, определяемом логопедом. Начинать в медленном темпе. Рука под подбородком, чтобы контролировать неподвижность подбород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Чередование: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Забор» — «Трубочка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9" name="Picture 4" descr="трубочка"/>
          <p:cNvPicPr/>
          <p:nvPr/>
        </p:nvPicPr>
        <p:blipFill>
          <a:blip r:embed="rId1"/>
          <a:stretch/>
        </p:blipFill>
        <p:spPr>
          <a:xfrm>
            <a:off x="609480" y="2719440"/>
            <a:ext cx="3087720" cy="2763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забор"/>
          <p:cNvPicPr/>
          <p:nvPr/>
        </p:nvPicPr>
        <p:blipFill>
          <a:blip r:embed="rId2"/>
          <a:stretch/>
        </p:blipFill>
        <p:spPr>
          <a:xfrm>
            <a:off x="1476360" y="263700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7. «Лопат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работать широкое и спокойное положение языка, что необходимо для подготовки шипящих звуко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следовательно выполнять упражнения «Забор» — «Окно» — «Мост».   Из  положения  языка «Мост» выдвинуть язык на нижнюю губу. Язык должен быть спокойным и широким. Нижняя  губа не должна подворачиваться,  верхняя должна обнажать зубы. Удержать под счет до 5. Язык на губе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Лопат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4" name="Picture 4" descr="лопата"/>
          <p:cNvPicPr/>
          <p:nvPr/>
        </p:nvPicPr>
        <p:blipFill>
          <a:blip r:embed="rId1"/>
          <a:stretch/>
        </p:blipFill>
        <p:spPr>
          <a:xfrm>
            <a:off x="2192400" y="2500200"/>
            <a:ext cx="318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8.«Лопата копает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готовить артикуляцию для шипящих звуков. Выполнение артикуляции «Чашечка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полнить последовательно следующие упражнения: «Забор» — «Окно» — «Мост» — «Лопата». Из положения «Лопата» поднять широкий кончик языка немного вверх. Верхние зубы должны быть видны. Следить, чтобы язык при подъеме не убирался в ротовую полость. Выполнить упражнение в медленном темпе 3—4 раз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ончик языка загибается вверх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Лопата копа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8" name="Picture 4" descr="лопата капает"/>
          <p:cNvPicPr/>
          <p:nvPr/>
        </p:nvPicPr>
        <p:blipFill>
          <a:blip r:embed="rId1"/>
          <a:stretch/>
        </p:blipFill>
        <p:spPr>
          <a:xfrm>
            <a:off x="2987640" y="2060640"/>
            <a:ext cx="4408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9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Вкусное варенье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формировать верхний подъем языка в форме «Чашечки», удерживание языка на верхней губе и выполнение облизывающего движения сверху вниз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Лопата копает» широкий язык поднять к верхней губе и выполнить облизывающие движения сверху вниз 2—3 раза в медленном темп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Движения языка сверху вниз по верхней губе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Вкусное варенье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4" descr="вкусное варенье"/>
          <p:cNvPicPr/>
          <p:nvPr/>
        </p:nvPicPr>
        <p:blipFill>
          <a:blip r:embed="rId1"/>
          <a:stretch/>
        </p:blipFill>
        <p:spPr>
          <a:xfrm>
            <a:off x="3059280" y="1773360"/>
            <a:ext cx="4537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. «Забо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дготовить артикуляцию для свистящих звуков, активизировать губы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еред зеркалом просим ребен­ка максимально растянуть губы (улыбнуться), показать верхние и нижние зубы. Верхние зубы должны находиться напротив нижних. Необходимо проверить наличие расстояния между ними (1 мм). Следить, чтобы ребенок не морщил нос. Удержать под счет до 5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0-а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Теплый ветер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зывание шипящих звуков по подраж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з положения «Вкусное варенье» убрать язык за верхние зубы и образовать щель с альвеолами. Руку расположить у подбородка и попросить ребенка подуть на широкий язык. Растянуть губы в улыбке. Рука должна ощутить теплую воздушную струю. Если упражнение не получается, то проводят упражнения №18, №2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дуть на язык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стью ощутить теплую струю воздуха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Теплый вете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6" name="Picture 4" descr="теплый ветер"/>
          <p:cNvPicPr/>
          <p:nvPr/>
        </p:nvPicPr>
        <p:blipFill>
          <a:blip r:embed="rId1"/>
          <a:stretch/>
        </p:blipFill>
        <p:spPr>
          <a:xfrm>
            <a:off x="2771640" y="2133720"/>
            <a:ext cx="4713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0-б. «Жу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зывание звука [ж] по подражани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и выполнении упражнения «Теплый ветер» просят ребенка «включить» свой голос. Тактильно-вибрационный контроль осуществляется рукой, расположенной на гортани. Ребенок должен ощутить вибрацию гортани. Исходным положением является упражнение № 10-а «Теплый ветер»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Кисть на гортани ощущает вибрацию голосовых связок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Жу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0" name="Picture 4" descr="жук"/>
          <p:cNvPicPr/>
          <p:nvPr/>
        </p:nvPicPr>
        <p:blipFill>
          <a:blip r:embed="rId1"/>
          <a:stretch/>
        </p:blipFill>
        <p:spPr>
          <a:xfrm>
            <a:off x="2449440" y="2160720"/>
            <a:ext cx="26686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1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Цокает лошадка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работать тонкие дифференцированные движения кончиком языка для звука [р]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при широко открытом рте цокать языком. Челюсть неподвижна. (Удерживается рукой. Выполнить 5—6 раз.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Язык за верхними зубами. Рука держит подбородок, чтобы он не двигался во время щелканья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Цокает лошадка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4" name="Picture 4" descr="цокает лошадка"/>
          <p:cNvPicPr/>
          <p:nvPr/>
        </p:nvPicPr>
        <p:blipFill>
          <a:blip r:embed="rId1"/>
          <a:stretch/>
        </p:blipFill>
        <p:spPr>
          <a:xfrm>
            <a:off x="3059280" y="1557360"/>
            <a:ext cx="41796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2. «Молото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готовка артикуляции для звука [р] и вибрации кончика язы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з положения «Парус» стучать языком и произносить звук [д]. Следить, чтобы кончик языка не опускался и не выглядывал изо р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мечание:    если исправляется горловой звук, то произносится звук [т]. Следить, чтобы не было назального оттенка, не напрягался голос и не поднималась нижняя челюсть. Постучать со звуком [д, т] 5—6 раз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нчик языка стучит вверху по альвеолам со звуком [д] или [т]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олоток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18" name="Picture 4" descr="молоток"/>
          <p:cNvPicPr/>
          <p:nvPr/>
        </p:nvPicPr>
        <p:blipFill>
          <a:blip r:embed="rId1"/>
          <a:stretch/>
        </p:blipFill>
        <p:spPr>
          <a:xfrm>
            <a:off x="3059280" y="1628640"/>
            <a:ext cx="4149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3. «Дятел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формировать вибрацию кончика языка для звука [р].                                                            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и «Молоток» произносить звук [д] в ускоренном темпе. Серии ударов языком по альвеолам напоминают стук дятла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«Д — ддд», «Д — ддд» (один удар и несколько ударов в быстром темпе). Выполняется 3-5 таких серий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Дятел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2" name="Picture 4" descr="дятел2"/>
          <p:cNvPicPr/>
          <p:nvPr/>
        </p:nvPicPr>
        <p:blipFill>
          <a:blip r:embed="rId1"/>
          <a:stretch/>
        </p:blipFill>
        <p:spPr>
          <a:xfrm>
            <a:off x="5148360" y="1916280"/>
            <a:ext cx="3647880" cy="4000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дятел"/>
          <p:cNvPicPr/>
          <p:nvPr/>
        </p:nvPicPr>
        <p:blipFill>
          <a:blip r:embed="rId2"/>
          <a:stretch/>
        </p:blipFill>
        <p:spPr>
          <a:xfrm>
            <a:off x="1476360" y="2060640"/>
            <a:ext cx="3286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Забо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Picture 4" descr="забор"/>
          <p:cNvPicPr/>
          <p:nvPr/>
        </p:nvPicPr>
        <p:blipFill>
          <a:blip r:embed="rId1"/>
          <a:stretch/>
        </p:blipFill>
        <p:spPr>
          <a:xfrm>
            <a:off x="2556000" y="2133720"/>
            <a:ext cx="50403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4. «Пулем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акрепить вибрацию кончика языка для звука [р]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з положения «Парус» выполнять упражнение «Дятел» и добавлять воздушную струю, как толчок воздуха: «Д — ддд» + толчок сильной воздушной струи. Возникает вибрация языка — «дрр». Выполнить интенсивно 5 раз. Если не получается по подражанию, то добавляют упражнение №20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Язык вверху стучит по альвеолам со звуками «Д — ддд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сле произнесения «Д — ддд» — сильно подуть на язык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улеме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27" name="Picture 4" descr="пулемет2"/>
          <p:cNvPicPr/>
          <p:nvPr/>
        </p:nvPicPr>
        <p:blipFill>
          <a:blip r:embed="rId1"/>
          <a:stretch/>
        </p:blipFill>
        <p:spPr>
          <a:xfrm>
            <a:off x="5435640" y="1990800"/>
            <a:ext cx="3384360" cy="3119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пулемет"/>
          <p:cNvPicPr/>
          <p:nvPr/>
        </p:nvPicPr>
        <p:blipFill>
          <a:blip r:embed="rId2"/>
          <a:stretch/>
        </p:blipFill>
        <p:spPr>
          <a:xfrm>
            <a:off x="1763640" y="1989000"/>
            <a:ext cx="3324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5-а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Холодный ветер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76360" y="14839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репить нижнее положение языка для свистящих звуков и выработать направленную воздушную струю по средней линии языка. Вызывание звука [с] по подража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 положения «Мост» вернуться   к   упражнению   «Забор»   и подуть  на  язык.   Рука должна  ощущать  холодную струю воздуха. Выполнять 3-4 раза. Если по подражанию не получается, то применяют механическую помощь для вызывания звука [с]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уть на язык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исть под подбородком. Ощутить холодную струю воздух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Холодный вете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2" name="Picture 4" descr="Холодный ветер"/>
          <p:cNvPicPr/>
          <p:nvPr/>
        </p:nvPicPr>
        <p:blipFill>
          <a:blip r:embed="rId1"/>
          <a:stretch/>
        </p:blipFill>
        <p:spPr>
          <a:xfrm>
            <a:off x="2700360" y="1844640"/>
            <a:ext cx="49197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5-б. «Кома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ызывание звука [з] по подраж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и выполнении упражнения «Холодный ветер» просят ребенка «включить» свой голос. Тактильно-вибрационный контроль осуществляется рукой ребенка, расположенной на гортани. Ребенок должен ощутить вибрацию гортани. Исходным положением является упражнение № 15-а «Холодный ветер»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исть на гортани ощущает вибрацию голосовых связок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Кома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36" name="Picture 4" descr="комар"/>
          <p:cNvPicPr/>
          <p:nvPr/>
        </p:nvPicPr>
        <p:blipFill>
          <a:blip r:embed="rId1"/>
          <a:stretch/>
        </p:blipFill>
        <p:spPr>
          <a:xfrm>
            <a:off x="3348000" y="1413000"/>
            <a:ext cx="3500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6-а. «Пароход»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1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дготовка артикуляции для звука [л]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Мост» выполнить упражнение «Лопата». Закусить кончик языка (зубы должны быть видны) и длительно произносить звук [ы] 2—3 секунд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ончик языка прикушен верхними и нижними резцам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»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1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0" name="Picture 4" descr="пароход2"/>
          <p:cNvPicPr/>
          <p:nvPr/>
        </p:nvPicPr>
        <p:blipFill>
          <a:blip r:embed="rId1"/>
          <a:stretch/>
        </p:blipFill>
        <p:spPr>
          <a:xfrm>
            <a:off x="5651640" y="1989000"/>
            <a:ext cx="3084480" cy="3168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пароход"/>
          <p:cNvPicPr/>
          <p:nvPr/>
        </p:nvPicPr>
        <p:blipFill>
          <a:blip r:embed="rId2"/>
          <a:stretch/>
        </p:blipFill>
        <p:spPr>
          <a:xfrm>
            <a:off x="1908000" y="1989000"/>
            <a:ext cx="29530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6-б. «Пароход».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2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упражнения «Окно» произносить длительный звук [а] и неоднократно прижимать кончик языка к середине верхней губы (упражнение «Вкусное варенье»). Слышатся слоги: ла—ла—ла. Повторить 5 раз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»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2-й вариант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45" name="Picture 4" descr="пароход вариант"/>
          <p:cNvPicPr/>
          <p:nvPr/>
        </p:nvPicPr>
        <p:blipFill>
          <a:blip r:embed="rId1"/>
          <a:stretch/>
        </p:blipFill>
        <p:spPr>
          <a:xfrm>
            <a:off x="1476360" y="2060640"/>
            <a:ext cx="752472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2. «Окно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меть удерживать открытым рот с одновременным показом верхних и нижних зуб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Забор» медленно открывать рот. Зубы должны быть видны. Удержать под счет до 5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Упражнение 17.</a:t>
            </a:r>
            <a:br>
              <a:rPr sz="4000"/>
            </a:br>
            <a:r>
              <a:rPr b="0" i="1" lang="ru-RU" sz="4000" spc="-1" strike="noStrike">
                <a:solidFill>
                  <a:srgbClr val="90c226"/>
                </a:solidFill>
                <a:latin typeface="Trebuchet MS"/>
              </a:rPr>
              <a:t>«Пароход гудит»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звать звук [л] смешанным способ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полнять упражнение «Пароход». Попросить ребенка открыть рот и произнести звук [а]. Слышится слог «ла». Повторить 3—4 раз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оход гуди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47640" y="5300280"/>
            <a:ext cx="734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Пароход»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Пароход гудит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ук – Ы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ук - 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0" name="Picture 4" descr="пароход гудит"/>
          <p:cNvPicPr/>
          <p:nvPr/>
        </p:nvPicPr>
        <p:blipFill>
          <a:blip r:embed="rId1"/>
          <a:stretch/>
        </p:blipFill>
        <p:spPr>
          <a:xfrm>
            <a:off x="1908000" y="1557360"/>
            <a:ext cx="65534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8. «Маля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растянуть подъязычную связку для звуков [р], [л], а для произнесения шипящих звуков найти место образования щели языка в форме чашечки у твердого нёб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 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из положения «Парус» продвигать язык по нёбу в передне-заднем направлении 3—4 раза. Челюсть должна оставаться неподвижной (контролируется рукой). Язык движется по нёбу вперед-назад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аляр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4" name="Picture 4" descr="маляр"/>
          <p:cNvPicPr/>
          <p:nvPr/>
        </p:nvPicPr>
        <p:blipFill>
          <a:blip r:embed="rId1"/>
          <a:stretch/>
        </p:blipFill>
        <p:spPr>
          <a:xfrm>
            <a:off x="3348000" y="1916280"/>
            <a:ext cx="35863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19. «Качели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фференцировать нижнее и верхнее положение языка, что необходимо для дифференциации свистящих и шипящих зву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Парус» перейти к упражнению «Мост». Чередовать 5—6 раз в темпе, заданном логопедом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Качели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58" name="Picture 4" descr="качели"/>
          <p:cNvPicPr/>
          <p:nvPr/>
        </p:nvPicPr>
        <p:blipFill>
          <a:blip r:embed="rId1"/>
          <a:stretch/>
        </p:blipFill>
        <p:spPr>
          <a:xfrm>
            <a:off x="3132000" y="1628640"/>
            <a:ext cx="3797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20. «Фок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формировать сильную правильно направленную воздушную струю для шипящих звуков и звука [р]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з положения «Вкусное варенье» сильно подуть на кончик носа, на котором приклеена узкая полоска бумаги (3 х 1 см) и сдуть ее. Выполнить 2—3 раз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Язык на верхней губе, дуть на кончик нос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Фок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62" name="Picture 4" descr="фокус"/>
          <p:cNvPicPr/>
          <p:nvPr/>
        </p:nvPicPr>
        <p:blipFill>
          <a:blip r:embed="rId1"/>
          <a:stretch/>
        </p:blipFill>
        <p:spPr>
          <a:xfrm>
            <a:off x="2987640" y="1628640"/>
            <a:ext cx="460872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539280" y="2133720"/>
            <a:ext cx="8280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 </a:t>
            </a: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Упражнения являются базовыми,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из которых в дальнейшем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будут складываться комплексы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700" spc="-1" strike="noStrike">
                <a:solidFill>
                  <a:srgbClr val="2c3c43"/>
                </a:solidFill>
                <a:latin typeface="Trebuchet MS"/>
              </a:rPr>
              <a:t>Для коррекции конкретных звуков</a:t>
            </a:r>
            <a:r>
              <a:rPr b="0" lang="ru-RU" sz="3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Окно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3" name="Picture 4" descr="окно"/>
          <p:cNvPicPr/>
          <p:nvPr/>
        </p:nvPicPr>
        <p:blipFill>
          <a:blip r:embed="rId1"/>
          <a:stretch/>
        </p:blipFill>
        <p:spPr>
          <a:xfrm>
            <a:off x="3348000" y="1700280"/>
            <a:ext cx="3807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3. «Мос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аботать нижнее положение языка для подготовки к постановке свистящих звуков. Кончик языка упирается в нижние резц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з положения «Забор» выполнить упражнение «Окно». Расположить язык за нижними резцами плоско. Удержать под счет до 5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Мост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7" name="Picture 4" descr="мост"/>
          <p:cNvPicPr/>
          <p:nvPr/>
        </p:nvPicPr>
        <p:blipFill>
          <a:blip r:embed="rId1"/>
          <a:stretch/>
        </p:blipFill>
        <p:spPr>
          <a:xfrm>
            <a:off x="3492360" y="1989000"/>
            <a:ext cx="35006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Упражнение 4. «Пар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Цель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дготовка верхнего подъема языка для звуков [р], [л]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rebuchet MS"/>
              </a:rPr>
              <a:t>Методические рекомендации: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ребенок последовательно выполняет следующие упражнения: «Забор» — «Окно» — «Мост». Из положения «Мост» широкий язык поднимается  к  верхним резцам и упирается в альвеолы. Следить, чтобы язык не провисал, а был напряженным и широким, определялась подъязычная связка. Удержать под счет до 5. Язык поднят кверху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90c226"/>
                </a:solidFill>
                <a:latin typeface="Trebuchet MS"/>
              </a:rPr>
              <a:t>«Парус»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1" name="Picture 4" descr="парус"/>
          <p:cNvPicPr/>
          <p:nvPr/>
        </p:nvPicPr>
        <p:blipFill>
          <a:blip r:embed="rId1"/>
          <a:stretch/>
        </p:blipFill>
        <p:spPr>
          <a:xfrm>
            <a:off x="3348000" y="1700280"/>
            <a:ext cx="37339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8:45:57Z</dcterms:created>
  <dc:creator>Игорь</dc:creator>
  <dc:description/>
  <dc:language>en-US</dc:language>
  <cp:lastModifiedBy>584</cp:lastModifiedBy>
  <dcterms:modified xsi:type="dcterms:W3CDTF">2020-11-09T11:14:10Z</dcterms:modified>
  <cp:revision>23</cp:revision>
  <dc:subject/>
  <dc:title>Двадцать артикуляционных упражнений с функциональной нагрузкой</dc:title>
</cp:coreProperties>
</file>