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4C99-30ED-4131-B343-3609BBD2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9B2C-2CB4-464C-B165-8ED3EFA3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528F-56C6-4B2B-95E8-CCD291A9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1A61-ACB2-4987-B245-2B0AE0F1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5334-116F-4E95-85F6-B71D273D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61E1-9939-42D1-B9C5-6C1D60FA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1773-F5FA-4779-9927-C03F620C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D527-3C43-47A6-9D81-162CC017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277E-EBCF-4DA9-9330-7D061557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BF69-1135-405E-83C0-4B0261AF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756B-A1BD-4C52-8426-FC887A0E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843F-397B-4E5D-8974-A82709F9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0621-6163-425D-B195-A18F4806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23F0-3E2F-4012-9FCE-2C1175AE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8566-CFA7-45FD-885B-E630EF36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C736-56C6-422C-8996-444532AD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D094-0D05-431F-8AB5-C2D522EC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1C05B-BF01-400E-BB96-B9848485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DE306-56CF-4C06-ABC8-6825AE8F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71972-93D9-41C9-9778-BB8F6605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577F4-9DCD-4ECA-A473-F7F82313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8EF7D-6FB9-4C96-83BE-98CB588F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A6AF-9523-4DB3-86BB-0719E553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81119-199F-49BC-9E1B-CD13E172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B0A00-9F19-4775-9F07-B675E21C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A9B4E-B486-4E07-8DA0-123D606C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6550D-3015-40B7-8244-62B09433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1EE6B-985A-4506-BCAF-8D047B84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096E8-C868-4295-ACBF-2EB27478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EF434-84E0-4655-AD68-C98C5465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B19FB-1EA3-41CD-AA98-B6BD295D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5C2DF-916C-471A-9B5A-CEE1F452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B5B27-BABD-436D-953D-6F441F74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9088-6162-4E5D-AFE3-239CC1BA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12646-D1ED-48C1-991C-721E5863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07A5A-F3B0-4EB0-888D-9E1FA45A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D600A-3F74-41CB-9FD3-694F678F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3D286-75AC-4577-B2DC-CBEDE9EA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CBC7F-3E92-4A2C-8FB3-C59970C8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0DE75-C9E6-4548-8291-8997E7C0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0CF50-5663-4BEB-8A62-02F7258A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6C201-EA33-4C64-A3E8-436537E7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E82A7-9A28-4468-9544-12E21796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056D0-6D52-4A1A-BC2C-FCA057E6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2FFE-0D5A-44A2-A604-9B8A5361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11EB4-F311-48F1-A596-FF342C76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DDE09-719F-46BD-BF98-275172D2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5ECCB-9E1B-4EA5-AEE4-358204E9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4B55B-992B-45FE-A788-B334A070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3DBD1-18C8-4486-8993-71B52417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816BE-7957-4B5B-AABF-8672F17E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4F2EA-33D5-47A1-B4FE-8DB3B308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85D17-E1A0-4850-A6B7-D8166749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2D575-923B-4BEF-BF84-851A61CE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E01A8-8954-4DDE-8376-6E9BA9CF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E1D9-DD1F-455A-962D-68C8828C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D8C97-F6F6-4AF3-AE48-B9F0EBBC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7688-0832-4F23-BDB9-9607DB72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1511-CD23-4689-98B6-6A72DCC2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A804-8072-48A7-8F16-C2DA242E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6EB69-836B-4968-AD92-1896813FADA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9986E-A3C3-4B4C-84BD-D88E3689148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58E33-F4AA-4380-8F52-6FAFABD768B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1EF33-A9AD-441C-806A-9E349FD087E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49425E-8C58-489F-86FE-E8B12301AC2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55280" y="1915920"/>
            <a:ext cx="6697800" cy="28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0c226"/>
                </a:solidFill>
                <a:latin typeface="Trebuchet MS"/>
              </a:rPr>
              <a:t>Основные  базовые артикуляционные  упражнения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7236000" y="6008760"/>
            <a:ext cx="33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baseline="30000">
                <a:solidFill>
                  <a:srgbClr val="000000"/>
                </a:solidFill>
                <a:latin typeface="Trebuchet MS"/>
              </a:rPr>
              <a:t>Составитель: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baseline="30000">
                <a:solidFill>
                  <a:srgbClr val="000000"/>
                </a:solidFill>
                <a:latin typeface="Trebuchet MS"/>
              </a:rPr>
              <a:t>Учитель-логопед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rebuchet MS"/>
              </a:rPr>
              <a:t>Шуляк И.А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5. «Трубочка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выработать активность и подвижность губ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из положения «Забор» вытянуть губы вперед, плотно их сомкнуть, чтобы в центре не было дырочки. Круговая мышца   собирается   в   морщинки. Необходимо проверить, чтобы нижняя челюсть не опускалась. Контролировать рукой. Удержать под счет до 5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Трубочка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5" name="Picture 4" descr="трубочка"/>
          <p:cNvPicPr/>
          <p:nvPr/>
        </p:nvPicPr>
        <p:blipFill>
          <a:blip r:embed="rId1"/>
          <a:stretch/>
        </p:blipFill>
        <p:spPr>
          <a:xfrm>
            <a:off x="1827360" y="2347920"/>
            <a:ext cx="39146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6. Чередование: «Забор» — «Трубочка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476360" y="177300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добиться ритмичного, точного переключения с одной артикуляции на другую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из положения «Забор» выполнить движение «Трубочка». Такие переключения выполнить 5—6 раз в разном темпе, определяемом логопедом. Начинать в медленном темпе. Рука под подбородком, чтобы контролировать неподвижность подбородка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90c226"/>
                </a:solidFill>
                <a:latin typeface="Trebuchet MS"/>
              </a:rPr>
              <a:t>Чередование:</a:t>
            </a:r>
            <a:br>
              <a:rPr sz="4000"/>
            </a:br>
            <a:r>
              <a:rPr b="0" i="1" lang="ru-RU" sz="4000" spc="-1" strike="noStrike">
                <a:solidFill>
                  <a:srgbClr val="90c226"/>
                </a:solidFill>
                <a:latin typeface="Trebuchet MS"/>
              </a:rPr>
              <a:t>«Забор» — «Трубочка»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9" name="Picture 4" descr="трубочка"/>
          <p:cNvPicPr/>
          <p:nvPr/>
        </p:nvPicPr>
        <p:blipFill>
          <a:blip r:embed="rId1"/>
          <a:stretch/>
        </p:blipFill>
        <p:spPr>
          <a:xfrm>
            <a:off x="609480" y="2719440"/>
            <a:ext cx="3087720" cy="2763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забор"/>
          <p:cNvPicPr/>
          <p:nvPr/>
        </p:nvPicPr>
        <p:blipFill>
          <a:blip r:embed="rId2"/>
          <a:stretch/>
        </p:blipFill>
        <p:spPr>
          <a:xfrm>
            <a:off x="1476360" y="2637000"/>
            <a:ext cx="34560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7. «Лопата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ыработать широкое и спокойное положение языка, что необходимо для подготовки шипящих звуков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оследовательно выполнять упражнения «Забор» — «Окно» — «Мост».   Из  положения  языка «Мост» выдвинуть язык на нижнюю губу. Язык должен быть спокойным и широким. Нижняя  губа не должна подворачиваться,  верхняя должна обнажать зубы. Удержать под счет до 5. Язык на губе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Лопата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4" name="Picture 4" descr="лопата"/>
          <p:cNvPicPr/>
          <p:nvPr/>
        </p:nvPicPr>
        <p:blipFill>
          <a:blip r:embed="rId1"/>
          <a:stretch/>
        </p:blipFill>
        <p:spPr>
          <a:xfrm>
            <a:off x="2192400" y="2500200"/>
            <a:ext cx="3181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90c226"/>
                </a:solidFill>
                <a:latin typeface="Trebuchet MS"/>
              </a:rPr>
              <a:t>Упражнение 8.«Лопата копает»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одготовить артикуляцию для шипящих звуков. Выполнение артикуляции «Чашечка»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ыполнить последовательно следующие упражнения: «Забор» — «Окно» — «Мост» — «Лопата». Из положения «Лопата» поднять широкий кончик языка немного вверх. Верхние зубы должны быть видны. Следить, чтобы язык при подъеме не убирался в ротовую полость. Выполнить упражнение в медленном темпе 3—4 раз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Кончик языка загибается вверх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Лопата копает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8" name="Picture 4" descr="лопата капает"/>
          <p:cNvPicPr/>
          <p:nvPr/>
        </p:nvPicPr>
        <p:blipFill>
          <a:blip r:embed="rId1"/>
          <a:stretch/>
        </p:blipFill>
        <p:spPr>
          <a:xfrm>
            <a:off x="2987640" y="2060640"/>
            <a:ext cx="44085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90c226"/>
                </a:solidFill>
                <a:latin typeface="Trebuchet MS"/>
              </a:rPr>
              <a:t>Упражнение 9.</a:t>
            </a:r>
            <a:br>
              <a:rPr sz="4000"/>
            </a:br>
            <a:r>
              <a:rPr b="0" i="1" lang="ru-RU" sz="4000" spc="-1" strike="noStrike">
                <a:solidFill>
                  <a:srgbClr val="90c226"/>
                </a:solidFill>
                <a:latin typeface="Trebuchet MS"/>
              </a:rPr>
              <a:t>«Вкусное варенье»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сформировать верхний подъем языка в форме «Чашечки», удерживание языка на верхней губе и выполнение облизывающего движения сверху вниз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из положения «Лопата копает» широкий язык поднять к верхней губе и выполнить облизывающие движения сверху вниз 2—3 раза в медленном темпе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Движения языка сверху вниз по верхней губе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Вкусное варенье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2" name="Picture 4" descr="вкусное варенье"/>
          <p:cNvPicPr/>
          <p:nvPr/>
        </p:nvPicPr>
        <p:blipFill>
          <a:blip r:embed="rId1"/>
          <a:stretch/>
        </p:blipFill>
        <p:spPr>
          <a:xfrm>
            <a:off x="3059280" y="1773360"/>
            <a:ext cx="45370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1. «Забор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подготовить артикуляцию для свистящих звуков, активизировать губы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перед зеркалом просим ребен­ка максимально растянуть губы (улыбнуться), показать верхние и нижние зубы. Верхние зубы должны находиться напротив нижних. Необходимо проверить наличие расстояния между ними (1 мм). Следить, чтобы ребенок не морщил нос. Удержать под счет до 5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90c226"/>
                </a:solidFill>
                <a:latin typeface="Trebuchet MS"/>
              </a:rPr>
              <a:t>Упражнение 10-а.</a:t>
            </a:r>
            <a:br>
              <a:rPr sz="4000"/>
            </a:br>
            <a:r>
              <a:rPr b="0" i="1" lang="ru-RU" sz="4000" spc="-1" strike="noStrike">
                <a:solidFill>
                  <a:srgbClr val="90c226"/>
                </a:solidFill>
                <a:latin typeface="Trebuchet MS"/>
              </a:rPr>
              <a:t>«Теплый ветер»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ызывание шипящих звуков по подражанию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из положения «Вкусное варенье» убрать язык за верхние зубы и образовать щель с альвеолами. Руку расположить у подбородка и попросить ребенка подуть на широкий язык. Растянуть губы в улыбке. Рука должна ощутить теплую воздушную струю. Если упражнение не получается, то проводят упражнения №18, №20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одуть на язык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Кистью ощутить теплую струю воздуха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Теплый ветер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6" name="Picture 4" descr="теплый ветер"/>
          <p:cNvPicPr/>
          <p:nvPr/>
        </p:nvPicPr>
        <p:blipFill>
          <a:blip r:embed="rId1"/>
          <a:stretch/>
        </p:blipFill>
        <p:spPr>
          <a:xfrm>
            <a:off x="2771640" y="2133720"/>
            <a:ext cx="4713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10-б. «Жук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вызывание звука [ж] по подражанию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при выполнении упражнения «Теплый ветер» просят ребенка «включить» свой голос. Тактильно-вибрационный контроль осуществляется рукой, расположенной на гортани. Ребенок должен ощутить вибрацию гортани. Исходным положением является упражнение № 10-а «Теплый ветер»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Кисть на гортани ощущает вибрацию голосовых связок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Жук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10" name="Picture 4" descr="жук"/>
          <p:cNvPicPr/>
          <p:nvPr/>
        </p:nvPicPr>
        <p:blipFill>
          <a:blip r:embed="rId1"/>
          <a:stretch/>
        </p:blipFill>
        <p:spPr>
          <a:xfrm>
            <a:off x="2449440" y="2160720"/>
            <a:ext cx="266868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90c226"/>
                </a:solidFill>
                <a:latin typeface="Trebuchet MS"/>
              </a:rPr>
              <a:t>Упражнение 11.</a:t>
            </a:r>
            <a:br>
              <a:rPr sz="4000"/>
            </a:br>
            <a:r>
              <a:rPr b="0" i="1" lang="ru-RU" sz="4000" spc="-1" strike="noStrike">
                <a:solidFill>
                  <a:srgbClr val="90c226"/>
                </a:solidFill>
                <a:latin typeface="Trebuchet MS"/>
              </a:rPr>
              <a:t>«Цокает лошадка»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выработать тонкие дифференцированные движения кончиком языка для звука [р]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из положения «Парус» при широко открытом рте цокать языком. Челюсть неподвижна. (Удерживается рукой. Выполнить 5—6 раз.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Язык за верхними зубами. Рука держит подбородок, чтобы он не двигался во время щелканья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Цокает лошадка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14" name="Picture 4" descr="цокает лошадка"/>
          <p:cNvPicPr/>
          <p:nvPr/>
        </p:nvPicPr>
        <p:blipFill>
          <a:blip r:embed="rId1"/>
          <a:stretch/>
        </p:blipFill>
        <p:spPr>
          <a:xfrm>
            <a:off x="3059280" y="1557360"/>
            <a:ext cx="41796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12. «Молоток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одготовка артикуляции для звука [р] и вибрации кончика язык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из положения «Парус» стучать языком и произносить звук [д]. Следить, чтобы кончик языка не опускался и не выглядывал изо рт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имечание:    если исправляется горловой звук, то произносится звук [т]. Следить, чтобы не было назального оттенка, не напрягался голос и не поднималась нижняя челюсть. Постучать со звуком [д, т] 5—6 раз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ончик языка стучит вверху по альвеолам со звуком [д] или [т]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Молоток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18" name="Picture 4" descr="молоток"/>
          <p:cNvPicPr/>
          <p:nvPr/>
        </p:nvPicPr>
        <p:blipFill>
          <a:blip r:embed="rId1"/>
          <a:stretch/>
        </p:blipFill>
        <p:spPr>
          <a:xfrm>
            <a:off x="3059280" y="1628640"/>
            <a:ext cx="414972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13. «Дятел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формировать вибрацию кончика языка для звука [р].                                                                 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из положения «Парус» и «Молоток» произносить звук [д] в ускоренном темпе. Серии ударов языком по альвеолам напоминают стук дятла: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«Д — ддд», «Д — ддд» (один удар и несколько ударов в быстром темпе). Выполняется 3-5 таких серий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Дятел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22" name="Picture 4" descr="дятел2"/>
          <p:cNvPicPr/>
          <p:nvPr/>
        </p:nvPicPr>
        <p:blipFill>
          <a:blip r:embed="rId1"/>
          <a:stretch/>
        </p:blipFill>
        <p:spPr>
          <a:xfrm>
            <a:off x="5148360" y="1916280"/>
            <a:ext cx="3647880" cy="4000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дятел"/>
          <p:cNvPicPr/>
          <p:nvPr/>
        </p:nvPicPr>
        <p:blipFill>
          <a:blip r:embed="rId2"/>
          <a:stretch/>
        </p:blipFill>
        <p:spPr>
          <a:xfrm>
            <a:off x="1476360" y="2060640"/>
            <a:ext cx="32860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Забор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9" name="Picture 4" descr="забор"/>
          <p:cNvPicPr/>
          <p:nvPr/>
        </p:nvPicPr>
        <p:blipFill>
          <a:blip r:embed="rId1"/>
          <a:stretch/>
        </p:blipFill>
        <p:spPr>
          <a:xfrm>
            <a:off x="2556000" y="2133720"/>
            <a:ext cx="504036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14. «Пулемет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закрепить вибрацию кончика языка для звука [р]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из положения «Парус» выполнять упражнение «Дятел» и добавлять воздушную струю, как толчок воздуха: «Д — ддд» + толчок сильной воздушной струи. Возникает вибрация языка — «дрр». Выполнить интенсивно 5 раз. Если не получается по подражанию, то добавляют упражнение №20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Язык вверху стучит по альвеолам со звуками «Д — ддд»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осле произнесения «Д — ддд» — сильно подуть на язык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Пулемет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27" name="Picture 4" descr="пулемет2"/>
          <p:cNvPicPr/>
          <p:nvPr/>
        </p:nvPicPr>
        <p:blipFill>
          <a:blip r:embed="rId1"/>
          <a:stretch/>
        </p:blipFill>
        <p:spPr>
          <a:xfrm>
            <a:off x="5435640" y="1990800"/>
            <a:ext cx="3384360" cy="3119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пулемет"/>
          <p:cNvPicPr/>
          <p:nvPr/>
        </p:nvPicPr>
        <p:blipFill>
          <a:blip r:embed="rId2"/>
          <a:stretch/>
        </p:blipFill>
        <p:spPr>
          <a:xfrm>
            <a:off x="1763640" y="1989000"/>
            <a:ext cx="3324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90c226"/>
                </a:solidFill>
                <a:latin typeface="Trebuchet MS"/>
              </a:rPr>
              <a:t>Упражнение 15-а.</a:t>
            </a:r>
            <a:br>
              <a:rPr sz="4000"/>
            </a:br>
            <a:r>
              <a:rPr b="0" i="1" lang="ru-RU" sz="4000" spc="-1" strike="noStrike">
                <a:solidFill>
                  <a:srgbClr val="90c226"/>
                </a:solidFill>
                <a:latin typeface="Trebuchet MS"/>
              </a:rPr>
              <a:t>«Холодный ветер»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76360" y="14839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закрепить нижнее положение языка для свистящих звуков и выработать направленную воздушную струю по средней линии языка. Вызывание звука [с] по подражани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з положения «Мост» вернуться   к   упражнению   «Забор»   и подуть  на  язык.   Рука должна  ощущать  холодную струю воздуха. Выполнять 3-4 раза. Если по подражанию не получается, то применяют механическую помощь для вызывания звука [с]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дуть на язык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исть под подбородком. Ощутить холодную струю воздух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Холодный ветер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32" name="Picture 4" descr="Холодный ветер"/>
          <p:cNvPicPr/>
          <p:nvPr/>
        </p:nvPicPr>
        <p:blipFill>
          <a:blip r:embed="rId1"/>
          <a:stretch/>
        </p:blipFill>
        <p:spPr>
          <a:xfrm>
            <a:off x="2700360" y="1844640"/>
            <a:ext cx="49197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15-б. «Комар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ызывание звука [з] по подражанию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и выполнении упражнения «Холодный ветер» просят ребенка «включить» свой голос. Тактильно-вибрационный контроль осуществляется рукой ребенка, расположенной на гортани. Ребенок должен ощутить вибрацию гортани. Исходным положением является упражнение № 15-а «Холодный ветер»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Кисть на гортани ощущает вибрацию голосовых связок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Комар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36" name="Picture 4" descr="комар"/>
          <p:cNvPicPr/>
          <p:nvPr/>
        </p:nvPicPr>
        <p:blipFill>
          <a:blip r:embed="rId1"/>
          <a:stretch/>
        </p:blipFill>
        <p:spPr>
          <a:xfrm>
            <a:off x="3348000" y="1413000"/>
            <a:ext cx="350064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16-а. «Пароход»</a:t>
            </a:r>
            <a:br>
              <a:rPr sz="3600"/>
            </a:b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1-й вариант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готовка артикуляции для звука [л]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 положения «Мост» выполнить упражнение «Лопата». Закусить кончик языка (зубы должны быть видны) и длительно произносить звук [ы] 2—3 секунд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чик языка прикушен верхними и нижними резцам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Пароход» 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1-й вариант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40" name="Picture 4" descr="пароход2"/>
          <p:cNvPicPr/>
          <p:nvPr/>
        </p:nvPicPr>
        <p:blipFill>
          <a:blip r:embed="rId1"/>
          <a:stretch/>
        </p:blipFill>
        <p:spPr>
          <a:xfrm>
            <a:off x="5651640" y="1989000"/>
            <a:ext cx="3084480" cy="3168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пароход"/>
          <p:cNvPicPr/>
          <p:nvPr/>
        </p:nvPicPr>
        <p:blipFill>
          <a:blip r:embed="rId2"/>
          <a:stretch/>
        </p:blipFill>
        <p:spPr>
          <a:xfrm>
            <a:off x="1908000" y="1989000"/>
            <a:ext cx="295308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16-б. «Пароход».</a:t>
            </a:r>
            <a:br>
              <a:rPr sz="3600"/>
            </a:b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2-й вариант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 положения упражнения «Окно» произносить длительный звук [а] и неоднократно прижимать кончик языка к середине верхней губы (упражнение «Вкусное варенье»). Слышатся слоги: ла—ла—ла. Повторить 5 раз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Пароход» 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2-й вариант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45" name="Picture 4" descr="пароход вариант"/>
          <p:cNvPicPr/>
          <p:nvPr/>
        </p:nvPicPr>
        <p:blipFill>
          <a:blip r:embed="rId1"/>
          <a:stretch/>
        </p:blipFill>
        <p:spPr>
          <a:xfrm>
            <a:off x="1476360" y="2060640"/>
            <a:ext cx="752472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2. «Окно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меть удерживать открытым рот с одновременным показом верхних и нижних зубо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 положения «Забор» медленно открывать рот. Зубы должны быть видны. Удержать под счет до 5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90c226"/>
                </a:solidFill>
                <a:latin typeface="Trebuchet MS"/>
              </a:rPr>
              <a:t>Упражнение 17.</a:t>
            </a:r>
            <a:br>
              <a:rPr sz="4000"/>
            </a:br>
            <a:r>
              <a:rPr b="0" i="1" lang="ru-RU" sz="4000" spc="-1" strike="noStrike">
                <a:solidFill>
                  <a:srgbClr val="90c226"/>
                </a:solidFill>
                <a:latin typeface="Trebuchet MS"/>
              </a:rPr>
              <a:t>«Пароход гудит»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звать звук [л] смешанным способом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полнять упражнение «Пароход». Попросить ребенка открыть рот и произнести звук [а]. Слышится слог «ла». Повторить 3—4 раза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Пароход гудит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547640" y="5300280"/>
            <a:ext cx="734544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«Пароход»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«Пароход гудит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звук – Ы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звук - 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0" name="Picture 4" descr="пароход гудит"/>
          <p:cNvPicPr/>
          <p:nvPr/>
        </p:nvPicPr>
        <p:blipFill>
          <a:blip r:embed="rId1"/>
          <a:stretch/>
        </p:blipFill>
        <p:spPr>
          <a:xfrm>
            <a:off x="1908000" y="1557360"/>
            <a:ext cx="65534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18. «Маляр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растянуть подъязычную связку для звуков [р], [л], а для произнесения шипящих звуков найти место образования щели языка в форме чашечки у твердого нёба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Методические   рекомендации: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из положения «Парус» продвигать язык по нёбу в передне-заднем направлении 3—4 раза. Челюсть должна оставаться неподвижной (контролируется рукой). Язык движется по нёбу вперед-назад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Маляр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54" name="Picture 4" descr="маляр"/>
          <p:cNvPicPr/>
          <p:nvPr/>
        </p:nvPicPr>
        <p:blipFill>
          <a:blip r:embed="rId1"/>
          <a:stretch/>
        </p:blipFill>
        <p:spPr>
          <a:xfrm>
            <a:off x="3348000" y="1916280"/>
            <a:ext cx="35863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19. «Качели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ифференцировать нижнее и верхнее положение языка, что необходимо для дифференциации свистящих и шипящих звуко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 положения «Парус» перейти к упражнению «Мост». Чередовать 5—6 раз в темпе, заданном логопедом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Качели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58" name="Picture 4" descr="качели"/>
          <p:cNvPicPr/>
          <p:nvPr/>
        </p:nvPicPr>
        <p:blipFill>
          <a:blip r:embed="rId1"/>
          <a:stretch/>
        </p:blipFill>
        <p:spPr>
          <a:xfrm>
            <a:off x="3132000" y="1628640"/>
            <a:ext cx="379728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20. «Фокус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формировать сильную правильно направленную воздушную струю для шипящих звуков и звука [р]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з положения «Вкусное варенье» сильно подуть на кончик носа, на котором приклеена узкая полоска бумаги (3 х 1 см) и сдуть ее. Выполнить 2—3 раз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Язык на верхней губе, дуть на кончик нос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Фокус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62" name="Picture 4" descr="фокус"/>
          <p:cNvPicPr/>
          <p:nvPr/>
        </p:nvPicPr>
        <p:blipFill>
          <a:blip r:embed="rId1"/>
          <a:stretch/>
        </p:blipFill>
        <p:spPr>
          <a:xfrm>
            <a:off x="2987640" y="1628640"/>
            <a:ext cx="460872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539280" y="2133720"/>
            <a:ext cx="82803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7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3700" spc="-1" strike="noStrike">
                <a:solidFill>
                  <a:srgbClr val="2c3c43"/>
                </a:solidFill>
                <a:latin typeface="Trebuchet MS"/>
              </a:rPr>
              <a:t> </a:t>
            </a:r>
            <a:r>
              <a:rPr b="0" lang="ru-RU" sz="3700" spc="-1" strike="noStrike">
                <a:solidFill>
                  <a:srgbClr val="2c3c43"/>
                </a:solidFill>
                <a:latin typeface="Trebuchet MS"/>
              </a:rPr>
              <a:t>Упражнения являются базовыми,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700" spc="-1" strike="noStrike">
                <a:solidFill>
                  <a:srgbClr val="2c3c43"/>
                </a:solidFill>
                <a:latin typeface="Trebuchet MS"/>
              </a:rPr>
              <a:t>из которых в дальнейшем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700" spc="-1" strike="noStrike">
                <a:solidFill>
                  <a:srgbClr val="2c3c43"/>
                </a:solidFill>
                <a:latin typeface="Trebuchet MS"/>
              </a:rPr>
              <a:t>будут складываться комплексы 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700" spc="-1" strike="noStrike">
                <a:solidFill>
                  <a:srgbClr val="2c3c43"/>
                </a:solidFill>
                <a:latin typeface="Trebuchet MS"/>
              </a:rPr>
              <a:t>Для коррекции конкретных звуков</a:t>
            </a:r>
            <a:r>
              <a:rPr b="0" lang="ru-RU" sz="3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Окно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3" name="Picture 4" descr="окно"/>
          <p:cNvPicPr/>
          <p:nvPr/>
        </p:nvPicPr>
        <p:blipFill>
          <a:blip r:embed="rId1"/>
          <a:stretch/>
        </p:blipFill>
        <p:spPr>
          <a:xfrm>
            <a:off x="3348000" y="1700280"/>
            <a:ext cx="38070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3. «Мост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работать нижнее положение языка для подготовки к постановке свистящих звуков. Кончик языка упирается в нижние резц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 положения «Забор» выполнить упражнение «Окно». Расположить язык за нижними резцами плоско. Удержать под счет до 5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Мост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7" name="Picture 4" descr="мост"/>
          <p:cNvPicPr/>
          <p:nvPr/>
        </p:nvPicPr>
        <p:blipFill>
          <a:blip r:embed="rId1"/>
          <a:stretch/>
        </p:blipFill>
        <p:spPr>
          <a:xfrm>
            <a:off x="3492360" y="1989000"/>
            <a:ext cx="35006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4. «Парус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подготовка верхнего подъема языка для звуков [р], [л]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ребенок последовательно выполняет следующие упражнения: «Забор» — «Окно» — «Мост». Из положения «Мост» широкий язык поднимается  к  верхним резцам и упирается в альвеолы. Следить, чтобы язык не провисал, а был напряженным и широким, определялась подъязычная связка. Удержать под счет до 5. Язык поднят кверху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Парус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1" name="Picture 4" descr="парус"/>
          <p:cNvPicPr/>
          <p:nvPr/>
        </p:nvPicPr>
        <p:blipFill>
          <a:blip r:embed="rId1"/>
          <a:stretch/>
        </p:blipFill>
        <p:spPr>
          <a:xfrm>
            <a:off x="3348000" y="1700280"/>
            <a:ext cx="373392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8:45:57Z</dcterms:created>
  <dc:creator>Игорь</dc:creator>
  <dc:description/>
  <dc:language>en-US</dc:language>
  <cp:lastModifiedBy>584</cp:lastModifiedBy>
  <dcterms:modified xsi:type="dcterms:W3CDTF">2020-11-09T11:14:10Z</dcterms:modified>
  <cp:revision>23</cp:revision>
  <dc:subject/>
  <dc:title>Двадцать артикуляционных упражнений с функциональной нагрузкой</dc:title>
</cp:coreProperties>
</file>