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4D1-6B3D-412D-A43C-071634D1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DA6-20F0-4614-ABE8-30086366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B1B-E646-4069-9490-C7F0BD0C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9DC-ADE1-4BBD-A7D7-44D45A1A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C31C-1EDC-4193-A5D3-D30CF93A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3E8F-85C7-4590-A04F-B04A3CC2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15AD-9972-4449-8D33-7AE36F1F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5F59-0A5B-4671-8208-4348ECC6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F501-0350-47C0-A953-2D3D7EC7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7589-FA6A-45CB-B3AC-5D80F1AF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5201-15DC-49B7-B23F-7F7F654D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8A8-ED55-4A94-8C7E-C76FA95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5384-DC3B-4BB3-B921-197EFE9A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399B-59FC-4F55-868D-F9106383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1560-D5FB-4703-BB2D-77C2CEAA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4E8E-D501-46D4-9C15-B0AB767A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B2CD-4C3F-415E-A373-E96F5D8E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C16F-D031-435F-B3C2-D7FF109D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36B5-2958-4B71-A86F-98817CF8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F713-76A0-468B-9CFB-B92C54F5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1288-BD6F-4464-AFB6-EEB00694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C2F4-F161-45A3-B01B-4974B6C2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86E-1335-4214-AC12-A5A390F1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125C-AECD-4E34-976B-05FC69C8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6C9CF-0A3F-4FC3-B032-C44D3C24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F4DA-0EF3-43CA-B35A-D3B591F7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4ACC-4D34-4570-8368-E597F12B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8661E-82F6-4C67-A123-803C28B1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26EB-1F67-4415-960A-F1DEACAC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53933-7017-4F7F-B310-A2D6DE78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11CD0-287D-49CA-9FED-38A19E35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AAFC-5C84-4DDC-B906-C3BB5F2A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77E0-DEA1-47E6-9E28-FE3C0358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508-3263-438D-8F46-7F584D44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4A01-61DD-4AF6-97A7-2D6349B2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5E032-7104-4CB2-9459-D4CE2618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EDD3B-C293-43BD-83F7-5B4EEC8D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E4D43-60B8-4132-B9E8-C91382C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C4B4-25F6-4018-A3B4-B90E63F7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D26F7-DF06-41B7-8815-D4F1A3F9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4927D-EF94-4147-8DA1-F16379A8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B86C1-FE9B-4333-BE54-064CFC67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69F66-AC28-4E55-8E29-B22673AC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649BD-57FC-4FD1-8A43-D6DA70D4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04E-4979-4C2E-975D-5C24BBF9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7D3FC-6B5E-4A35-A489-75DE07C7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B1734-F0AB-4E38-BF52-2EADD223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EE21D-9297-42A0-BB3D-3AAD809A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BEB8-7092-4902-9AAE-1B7B39D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5E137-C746-4047-8036-4034FC10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E27A5-65A8-4414-8F48-0BE77661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754E-497E-4A1E-933D-7EFBDD67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57671-35C3-40F7-88D5-2BBD5EBE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417CA-5D13-462F-B5B8-D5C153CD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8969-AEBA-4694-B720-9D526348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FC43-2938-43FC-A06A-4DDB4AC0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3D6D0-8627-4D5E-9D4C-42D95F38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2F0-5E3F-4899-A666-12BBEACE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6C0-A96E-4AC6-8430-F162E680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569-5C1D-4846-B331-A5A9295B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AAE2-9D19-4CB9-BD7E-BC876692A112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EDBB-F280-4E75-8DF8-3AF6E528E65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0AA6-D2FB-4106-9991-29442503193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C639-EB9C-49A3-ABFC-1E352DA32AB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DD7C-9D78-4BBB-BBF9-24271294D59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29A5-29CD-49A8-A6A2-B8703B331A4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BA3F-C083-4585-AFCE-0819C907D4D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6C54-5919-48DC-A40D-B1DC92B3E9B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round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5425-C01C-4039-B62E-BEB8268C296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5890-3F77-4B3A-9C10-993DF9FD938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928800"/>
            <a:ext cx="7772400" cy="1643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одготовка к ЕГЭ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43000" y="3785760"/>
            <a:ext cx="7143840" cy="614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Часть «В» схемы - зад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42960" y="4714920"/>
            <a:ext cx="7500960" cy="928800"/>
          </a:xfrm>
          <a:prstGeom prst="rect">
            <a:avLst/>
          </a:prstGeom>
          <a:solidFill>
            <a:srgbClr val="e69ca4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:  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ТРАДИЦИОННА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3" name="Picture 3" descr="C:\Documents and Settings\Admin\Мои документы\Мои рисунки\1161774600.jpg"/>
          <p:cNvPicPr/>
          <p:nvPr/>
        </p:nvPicPr>
        <p:blipFill>
          <a:blip r:embed="rId1"/>
          <a:stretch/>
        </p:blipFill>
        <p:spPr>
          <a:xfrm>
            <a:off x="1643040" y="64296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42680" y="928800"/>
            <a:ext cx="6072120" cy="1071360"/>
          </a:xfrm>
          <a:prstGeom prst="rect">
            <a:avLst/>
          </a:prstGeom>
          <a:solidFill>
            <a:srgbClr val="9a743a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Факторы производства</a:t>
            </a: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 факторные доход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cxnSp>
        <p:nvCxnSpPr>
          <p:cNvPr id="255" name="Прямая со стрелкой 3"/>
          <p:cNvCxnSpPr/>
          <p:nvPr/>
        </p:nvCxnSpPr>
        <p:spPr>
          <a:xfrm flipH="1">
            <a:off x="856440" y="2070720"/>
            <a:ext cx="1358280" cy="121500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56" name="Прямая со стрелкой 5"/>
          <p:cNvCxnSpPr/>
          <p:nvPr/>
        </p:nvCxnSpPr>
        <p:spPr>
          <a:xfrm>
            <a:off x="7429680" y="2142720"/>
            <a:ext cx="1072080" cy="107244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57" name="Прямая со стрелкой 8"/>
          <p:cNvCxnSpPr/>
          <p:nvPr/>
        </p:nvCxnSpPr>
        <p:spPr>
          <a:xfrm flipH="1">
            <a:off x="3214080" y="2214720"/>
            <a:ext cx="786600" cy="207180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58" name="Прямая со стрелкой 10"/>
          <p:cNvCxnSpPr/>
          <p:nvPr/>
        </p:nvCxnSpPr>
        <p:spPr>
          <a:xfrm>
            <a:off x="5713920" y="2142720"/>
            <a:ext cx="857880" cy="207252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sp>
        <p:nvSpPr>
          <p:cNvPr id="259" name="TextBox 11"/>
          <p:cNvSpPr/>
          <p:nvPr/>
        </p:nvSpPr>
        <p:spPr>
          <a:xfrm>
            <a:off x="428760" y="3571920"/>
            <a:ext cx="17859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**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2571840" y="4500720"/>
            <a:ext cx="1357200" cy="459720"/>
          </a:xfrm>
          <a:prstGeom prst="rect">
            <a:avLst/>
          </a:prstGeom>
          <a:solidFill>
            <a:srgbClr val="baa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5286240" y="4357800"/>
            <a:ext cx="1857600" cy="459720"/>
          </a:xfrm>
          <a:prstGeom prst="rect">
            <a:avLst/>
          </a:prstGeom>
          <a:solidFill>
            <a:srgbClr val="dac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п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7358040" y="3286080"/>
            <a:ext cx="1285920" cy="459720"/>
          </a:xfrm>
          <a:prstGeom prst="rect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804960" y="435780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2788560" y="5214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5579640" y="5072040"/>
            <a:ext cx="10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ц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429680" y="3929040"/>
            <a:ext cx="14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рабо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85560" y="4572000"/>
            <a:ext cx="6715080" cy="714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ЕДПРИНИМАТЕЛЬСТВО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3" descr="C:\Documents and Settings\Admin\Мои документы\Мои рисунки\innovationanddesignprocess.jpg"/>
          <p:cNvPicPr/>
          <p:nvPr/>
        </p:nvPicPr>
        <p:blipFill>
          <a:blip r:embed="rId1"/>
          <a:stretch/>
        </p:blipFill>
        <p:spPr>
          <a:xfrm>
            <a:off x="2571840" y="500040"/>
            <a:ext cx="39290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71760" y="856800"/>
            <a:ext cx="6572160" cy="56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Основные виды налогов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Двойная стрелка влево/вправо 4"/>
          <p:cNvSpPr/>
          <p:nvPr/>
        </p:nvSpPr>
        <p:spPr>
          <a:xfrm>
            <a:off x="3286080" y="2928960"/>
            <a:ext cx="2571840" cy="714240"/>
          </a:xfrm>
          <a:prstGeom prst="leftRightArrow">
            <a:avLst>
              <a:gd name="adj1" fmla="val 50000"/>
              <a:gd name="adj2" fmla="val 50011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785880" y="2928960"/>
            <a:ext cx="2143080" cy="581400"/>
          </a:xfrm>
          <a:prstGeom prst="rect">
            <a:avLst/>
          </a:prstGeom>
          <a:solidFill>
            <a:srgbClr val="a08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6286680" y="3000240"/>
            <a:ext cx="2214360" cy="581400"/>
          </a:xfrm>
          <a:prstGeom prst="rect">
            <a:avLst/>
          </a:prstGeom>
          <a:solidFill>
            <a:srgbClr val="144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**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572080" y="2499840"/>
            <a:ext cx="2928960" cy="785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ОСВЕННЫ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4" name="Picture 3" descr="C:\Documents and Settings\Admin\Мои документы\Мои рисунки\548616725.jpg"/>
          <p:cNvPicPr/>
          <p:nvPr/>
        </p:nvPicPr>
        <p:blipFill>
          <a:blip r:embed="rId1"/>
          <a:stretch/>
        </p:blipFill>
        <p:spPr>
          <a:xfrm>
            <a:off x="714240" y="642960"/>
            <a:ext cx="4605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500040"/>
            <a:ext cx="818352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авоотношение собственник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Стрелка вниз 2"/>
          <p:cNvSpPr/>
          <p:nvPr/>
        </p:nvSpPr>
        <p:spPr>
          <a:xfrm>
            <a:off x="1143000" y="1643040"/>
            <a:ext cx="642960" cy="207180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трелка вниз 3"/>
          <p:cNvSpPr/>
          <p:nvPr/>
        </p:nvSpPr>
        <p:spPr>
          <a:xfrm>
            <a:off x="7000920" y="1714680"/>
            <a:ext cx="571320" cy="19285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трелка вниз 4"/>
          <p:cNvSpPr/>
          <p:nvPr/>
        </p:nvSpPr>
        <p:spPr>
          <a:xfrm>
            <a:off x="4143240" y="1643040"/>
            <a:ext cx="642960" cy="3286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428760" y="3929040"/>
            <a:ext cx="2214360" cy="39888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ла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6215040" y="3714840"/>
            <a:ext cx="2428920" cy="398880"/>
          </a:xfrm>
          <a:prstGeom prst="rect">
            <a:avLst/>
          </a:prstGeom>
          <a:solidFill>
            <a:srgbClr val="a08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ль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3571920" y="5214960"/>
            <a:ext cx="2000160" cy="398880"/>
          </a:xfrm>
          <a:prstGeom prst="rect">
            <a:avLst/>
          </a:prstGeom>
          <a:solidFill>
            <a:srgbClr val="9a7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857480" y="2428920"/>
            <a:ext cx="3786120" cy="928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РАСПОРЯЖЕНИ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Picture 3" descr="C:\Documents and Settings\Admin\Мои документы\Мои рисунки\untitled.bmp"/>
          <p:cNvPicPr/>
          <p:nvPr/>
        </p:nvPicPr>
        <p:blipFill>
          <a:blip r:embed="rId1"/>
          <a:stretch/>
        </p:blipFill>
        <p:spPr>
          <a:xfrm>
            <a:off x="642960" y="571680"/>
            <a:ext cx="414324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856800"/>
            <a:ext cx="8183520" cy="500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иды юридической ответственности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2571840" y="1643040"/>
            <a:ext cx="4643280" cy="5716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дминистр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71840" y="2643120"/>
            <a:ext cx="4643280" cy="6429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раждан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2643120" y="3571920"/>
            <a:ext cx="4572000" cy="7142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*******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2643120" y="4572000"/>
            <a:ext cx="4572000" cy="7858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сциплина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500800" y="2714760"/>
            <a:ext cx="2928960" cy="714240"/>
          </a:xfrm>
          <a:prstGeom prst="rect">
            <a:avLst/>
          </a:prstGeom>
          <a:solidFill>
            <a:srgbClr val="d3cbb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ГОЛОВНА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0" name="Picture 3" descr="C:\Documents and Settings\Admin\Мои документы\Мои рисунки\SMALL_~1.JPG"/>
          <p:cNvPicPr/>
          <p:nvPr/>
        </p:nvPicPr>
        <p:blipFill>
          <a:blip r:embed="rId1"/>
          <a:stretch/>
        </p:blipFill>
        <p:spPr>
          <a:xfrm>
            <a:off x="785880" y="78588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4857840" cy="70344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аучное познани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428760" y="2000160"/>
            <a:ext cx="2643120" cy="2286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дполо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огадки, выдвигаемые в ходе научног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3357720" y="2000160"/>
            <a:ext cx="2428560" cy="2286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Те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истема взаимосвязанных утверждений, зак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"/>
          <p:cNvSpPr/>
          <p:nvPr/>
        </p:nvSpPr>
        <p:spPr>
          <a:xfrm>
            <a:off x="6143760" y="2000160"/>
            <a:ext cx="2500200" cy="2286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Зак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ыводы о существенных, объективных, повторяющихся связях между предметами и явл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трелка вниз 5"/>
          <p:cNvSpPr/>
          <p:nvPr/>
        </p:nvSpPr>
        <p:spPr>
          <a:xfrm>
            <a:off x="2357280" y="150012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трелка вниз 6"/>
          <p:cNvSpPr/>
          <p:nvPr/>
        </p:nvSpPr>
        <p:spPr>
          <a:xfrm>
            <a:off x="4357800" y="15001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трелка вниз 9"/>
          <p:cNvSpPr/>
          <p:nvPr/>
        </p:nvSpPr>
        <p:spPr>
          <a:xfrm>
            <a:off x="6929280" y="150012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642960"/>
            <a:ext cx="818352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Формы государства по Аристотелю</a:t>
            </a: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cxnSp>
        <p:nvCxnSpPr>
          <p:cNvPr id="217" name="Соединительная линия уступом 3"/>
          <p:cNvCxnSpPr/>
          <p:nvPr/>
        </p:nvCxnSpPr>
        <p:spPr>
          <a:xfrm>
            <a:off x="2428560" y="1928520"/>
            <a:ext cx="5358600" cy="3143880"/>
          </a:xfrm>
          <a:prstGeom prst="straightConnector1">
            <a:avLst/>
          </a:prstGeom>
          <a:ln w="9360">
            <a:solidFill>
              <a:srgbClr val="ff8000"/>
            </a:solidFill>
            <a:round/>
            <a:headEnd len="med" type="arrow" w="med"/>
            <a:tailEnd len="med" type="arrow" w="med"/>
          </a:ln>
        </p:spPr>
      </p:cxnSp>
      <p:sp>
        <p:nvSpPr>
          <p:cNvPr id="218" name="TextBox 5"/>
          <p:cNvSpPr/>
          <p:nvPr/>
        </p:nvSpPr>
        <p:spPr>
          <a:xfrm>
            <a:off x="5357880" y="3071880"/>
            <a:ext cx="3143160" cy="1313640"/>
          </a:xfrm>
          <a:prstGeom prst="rect">
            <a:avLst/>
          </a:prstGeom>
          <a:solidFill>
            <a:srgbClr val="9a7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АВИ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л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ристокра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2000160" y="2143080"/>
            <a:ext cx="3071880" cy="1313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ПРАВИ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мокра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лигарх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и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57160" y="5143320"/>
            <a:ext cx="7429680" cy="6426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ГИПОТЕЗ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9" name="Picture 3" descr="C:\Documents and Settings\Admin\Мои документы\Мои рисунки\entrepreneur1.jpg"/>
          <p:cNvPicPr/>
          <p:nvPr/>
        </p:nvPicPr>
        <p:blipFill>
          <a:blip r:embed="rId1"/>
          <a:stretch/>
        </p:blipFill>
        <p:spPr>
          <a:xfrm>
            <a:off x="1643040" y="642960"/>
            <a:ext cx="56196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00120" y="500040"/>
            <a:ext cx="5572080" cy="571680"/>
          </a:xfrm>
          <a:prstGeom prst="rect">
            <a:avLst/>
          </a:prstGeom>
          <a:noFill/>
          <a:ln w="57240">
            <a:solidFill>
              <a:srgbClr val="0070c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Юридические факт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Прямоугольник 2"/>
          <p:cNvSpPr/>
          <p:nvPr/>
        </p:nvSpPr>
        <p:spPr>
          <a:xfrm>
            <a:off x="785880" y="1857240"/>
            <a:ext cx="3357360" cy="500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"/>
          <p:cNvSpPr/>
          <p:nvPr/>
        </p:nvSpPr>
        <p:spPr>
          <a:xfrm>
            <a:off x="4643280" y="1857240"/>
            <a:ext cx="3500640" cy="500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3286080" y="2928960"/>
            <a:ext cx="2500200" cy="5713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авоме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5"/>
          <p:cNvSpPr/>
          <p:nvPr/>
        </p:nvSpPr>
        <p:spPr>
          <a:xfrm>
            <a:off x="6000840" y="2928960"/>
            <a:ext cx="2928960" cy="5713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еправоме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6"/>
          <p:cNvSpPr/>
          <p:nvPr/>
        </p:nvSpPr>
        <p:spPr>
          <a:xfrm>
            <a:off x="1428840" y="3857760"/>
            <a:ext cx="3357360" cy="5713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юридические 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7"/>
          <p:cNvSpPr/>
          <p:nvPr/>
        </p:nvSpPr>
        <p:spPr>
          <a:xfrm>
            <a:off x="4286160" y="4714920"/>
            <a:ext cx="2071800" cy="5713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ост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6643800" y="4714920"/>
            <a:ext cx="2214360" cy="5713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****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трелка вниз 9"/>
          <p:cNvSpPr/>
          <p:nvPr/>
        </p:nvSpPr>
        <p:spPr>
          <a:xfrm>
            <a:off x="2428920" y="1214280"/>
            <a:ext cx="357120" cy="50040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трелка вниз 10"/>
          <p:cNvSpPr/>
          <p:nvPr/>
        </p:nvSpPr>
        <p:spPr>
          <a:xfrm>
            <a:off x="5929200" y="1214280"/>
            <a:ext cx="4287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трелка вниз 11"/>
          <p:cNvSpPr/>
          <p:nvPr/>
        </p:nvSpPr>
        <p:spPr>
          <a:xfrm>
            <a:off x="5000760" y="257184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трелка вниз 12"/>
          <p:cNvSpPr/>
          <p:nvPr/>
        </p:nvSpPr>
        <p:spPr>
          <a:xfrm>
            <a:off x="7000920" y="257184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трелка вниз 15"/>
          <p:cNvSpPr/>
          <p:nvPr/>
        </p:nvSpPr>
        <p:spPr>
          <a:xfrm>
            <a:off x="4143240" y="3571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18"/>
          <p:cNvCxnSpPr/>
          <p:nvPr/>
        </p:nvCxnSpPr>
        <p:spPr>
          <a:xfrm flipH="1">
            <a:off x="5857560" y="3643200"/>
            <a:ext cx="1000800" cy="85824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314" name="Прямая со стрелкой 20"/>
          <p:cNvCxnSpPr/>
          <p:nvPr/>
        </p:nvCxnSpPr>
        <p:spPr>
          <a:xfrm>
            <a:off x="7500960" y="3643200"/>
            <a:ext cx="714960" cy="92952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56880" y="4642920"/>
            <a:ext cx="5643720" cy="1071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ЕСТУПЛ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16" name="Picture 3" descr="C:\Documents and Settings\Admin\Мои документы\Мои рисунки\-12373~1.JPG"/>
          <p:cNvPicPr/>
          <p:nvPr/>
        </p:nvPicPr>
        <p:blipFill>
          <a:blip r:embed="rId1"/>
          <a:stretch/>
        </p:blipFill>
        <p:spPr>
          <a:xfrm>
            <a:off x="2071800" y="785880"/>
            <a:ext cx="52149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71800" y="785520"/>
            <a:ext cx="5572080" cy="63180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Verdana"/>
              </a:rPr>
              <a:t>Виды бирж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357120" y="2143080"/>
            <a:ext cx="2214720" cy="7146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ов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3"/>
          <p:cNvSpPr/>
          <p:nvPr/>
        </p:nvSpPr>
        <p:spPr>
          <a:xfrm>
            <a:off x="2928960" y="2143080"/>
            <a:ext cx="1928880" cy="7146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алю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5143680" y="2143080"/>
            <a:ext cx="1857240" cy="6429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Фонд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7143840" y="2143080"/>
            <a:ext cx="1714320" cy="6429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трелка вниз 6"/>
          <p:cNvSpPr/>
          <p:nvPr/>
        </p:nvSpPr>
        <p:spPr>
          <a:xfrm>
            <a:off x="2071800" y="157176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трелка вниз 7"/>
          <p:cNvSpPr/>
          <p:nvPr/>
        </p:nvSpPr>
        <p:spPr>
          <a:xfrm>
            <a:off x="3643200" y="157176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трелка вниз 8"/>
          <p:cNvSpPr/>
          <p:nvPr/>
        </p:nvSpPr>
        <p:spPr>
          <a:xfrm>
            <a:off x="5715000" y="157176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трелка вниз 9"/>
          <p:cNvSpPr/>
          <p:nvPr/>
        </p:nvSpPr>
        <p:spPr>
          <a:xfrm>
            <a:off x="7358040" y="1500120"/>
            <a:ext cx="28584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57240" y="5000760"/>
            <a:ext cx="5786640" cy="642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БИРЖА ТРУД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7" name="Picture 3" descr="C:\Documents and Settings\Admin\Мои документы\Мои рисунки\politic237.jpg"/>
          <p:cNvPicPr/>
          <p:nvPr/>
        </p:nvPicPr>
        <p:blipFill>
          <a:blip r:embed="rId1"/>
          <a:stretch/>
        </p:blipFill>
        <p:spPr>
          <a:xfrm>
            <a:off x="2643120" y="642960"/>
            <a:ext cx="35719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500960" cy="631800"/>
          </a:xfrm>
          <a:prstGeom prst="rect">
            <a:avLst/>
          </a:prstGeom>
          <a:solidFill>
            <a:srgbClr val="baad8d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Фазы экономического цикл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Скругленный прямоугольник 2"/>
          <p:cNvSpPr/>
          <p:nvPr/>
        </p:nvSpPr>
        <p:spPr>
          <a:xfrm>
            <a:off x="285840" y="2500200"/>
            <a:ext cx="1857240" cy="8575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риз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3"/>
          <p:cNvSpPr/>
          <p:nvPr/>
        </p:nvSpPr>
        <p:spPr>
          <a:xfrm>
            <a:off x="2500200" y="2500200"/>
            <a:ext cx="1928880" cy="8575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4"/>
          <p:cNvSpPr/>
          <p:nvPr/>
        </p:nvSpPr>
        <p:spPr>
          <a:xfrm>
            <a:off x="4714920" y="2500200"/>
            <a:ext cx="2000160" cy="8575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жи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5"/>
          <p:cNvSpPr/>
          <p:nvPr/>
        </p:nvSpPr>
        <p:spPr>
          <a:xfrm>
            <a:off x="6929280" y="2500200"/>
            <a:ext cx="1785960" cy="8575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Стрелка вниз 6"/>
          <p:cNvSpPr/>
          <p:nvPr/>
        </p:nvSpPr>
        <p:spPr>
          <a:xfrm>
            <a:off x="1214280" y="1500120"/>
            <a:ext cx="285840" cy="85716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трелка вниз 7"/>
          <p:cNvSpPr/>
          <p:nvPr/>
        </p:nvSpPr>
        <p:spPr>
          <a:xfrm>
            <a:off x="3286080" y="1571760"/>
            <a:ext cx="285840" cy="785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низ 8"/>
          <p:cNvSpPr/>
          <p:nvPr/>
        </p:nvSpPr>
        <p:spPr>
          <a:xfrm>
            <a:off x="5357880" y="1571760"/>
            <a:ext cx="285840" cy="785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низ 9"/>
          <p:cNvSpPr/>
          <p:nvPr/>
        </p:nvSpPr>
        <p:spPr>
          <a:xfrm>
            <a:off x="7572240" y="1571760"/>
            <a:ext cx="28584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0200" y="4928760"/>
            <a:ext cx="4500720" cy="857160"/>
          </a:xfrm>
          <a:prstGeom prst="rect">
            <a:avLst/>
          </a:prstGeom>
          <a:solidFill>
            <a:srgbClr val="e69ca4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ПОДЪЕМ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8" name="Picture 3" descr="C:\Documents and Settings\Admin\Мои документы\Мои рисунки\1_1_~1.BMP"/>
          <p:cNvPicPr/>
          <p:nvPr/>
        </p:nvPicPr>
        <p:blipFill>
          <a:blip r:embed="rId1"/>
          <a:stretch/>
        </p:blipFill>
        <p:spPr>
          <a:xfrm>
            <a:off x="2357280" y="714240"/>
            <a:ext cx="442440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56840" y="642960"/>
            <a:ext cx="6643800" cy="774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Виды этнос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Овал 2"/>
          <p:cNvSpPr/>
          <p:nvPr/>
        </p:nvSpPr>
        <p:spPr>
          <a:xfrm>
            <a:off x="214200" y="2500200"/>
            <a:ext cx="1857600" cy="12859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3"/>
          <p:cNvSpPr/>
          <p:nvPr/>
        </p:nvSpPr>
        <p:spPr>
          <a:xfrm>
            <a:off x="2286000" y="2428920"/>
            <a:ext cx="1785960" cy="13572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л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Овал 4"/>
          <p:cNvSpPr/>
          <p:nvPr/>
        </p:nvSpPr>
        <p:spPr>
          <a:xfrm>
            <a:off x="4357800" y="2428920"/>
            <a:ext cx="1643040" cy="13572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Овал 5"/>
          <p:cNvSpPr/>
          <p:nvPr/>
        </p:nvSpPr>
        <p:spPr>
          <a:xfrm>
            <a:off x="6286680" y="2428920"/>
            <a:ext cx="2286000" cy="128592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арод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трелка вниз 6"/>
          <p:cNvSpPr/>
          <p:nvPr/>
        </p:nvSpPr>
        <p:spPr>
          <a:xfrm>
            <a:off x="1357200" y="1643040"/>
            <a:ext cx="14292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низ 7"/>
          <p:cNvSpPr/>
          <p:nvPr/>
        </p:nvSpPr>
        <p:spPr>
          <a:xfrm>
            <a:off x="3143160" y="1571760"/>
            <a:ext cx="214560" cy="71424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трелка вниз 8"/>
          <p:cNvSpPr/>
          <p:nvPr/>
        </p:nvSpPr>
        <p:spPr>
          <a:xfrm>
            <a:off x="5072040" y="15717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трелка вниз 9"/>
          <p:cNvSpPr/>
          <p:nvPr/>
        </p:nvSpPr>
        <p:spPr>
          <a:xfrm>
            <a:off x="7215120" y="150012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14320" y="4928760"/>
            <a:ext cx="6143400" cy="857160"/>
          </a:xfrm>
          <a:prstGeom prst="rect">
            <a:avLst/>
          </a:prstGeom>
          <a:solidFill>
            <a:srgbClr val="d3cbb6"/>
          </a:solidFill>
          <a:ln w="28440">
            <a:solidFill>
              <a:srgbClr val="00206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НАРОДНОСТ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49" name="Picture 3" descr="C:\Documents and Settings\Admin\Мои документы\Мои рисунки\64047711_narod_russiahorz.jpg"/>
          <p:cNvPicPr/>
          <p:nvPr/>
        </p:nvPicPr>
        <p:blipFill>
          <a:blip r:embed="rId1"/>
          <a:stretch/>
        </p:blipFill>
        <p:spPr>
          <a:xfrm>
            <a:off x="1571760" y="642960"/>
            <a:ext cx="6215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571320"/>
            <a:ext cx="8183520" cy="5713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Стадии законотворческого процесс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Скругленный прямоугольник 2"/>
          <p:cNvSpPr/>
          <p:nvPr/>
        </p:nvSpPr>
        <p:spPr>
          <a:xfrm>
            <a:off x="642960" y="1428840"/>
            <a:ext cx="7786800" cy="6429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Законодательная инициат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3"/>
          <p:cNvSpPr/>
          <p:nvPr/>
        </p:nvSpPr>
        <p:spPr>
          <a:xfrm>
            <a:off x="714240" y="2428920"/>
            <a:ext cx="7715520" cy="6429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одготовка законопроекта и обсуждение его в Государственной Ду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4"/>
          <p:cNvSpPr/>
          <p:nvPr/>
        </p:nvSpPr>
        <p:spPr>
          <a:xfrm>
            <a:off x="714240" y="3357720"/>
            <a:ext cx="7715520" cy="6429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ринятие закона в Государственной Ду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5"/>
          <p:cNvSpPr/>
          <p:nvPr/>
        </p:nvSpPr>
        <p:spPr>
          <a:xfrm>
            <a:off x="714240" y="4286160"/>
            <a:ext cx="7715520" cy="6429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ринятие закона в Совете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6"/>
          <p:cNvSpPr/>
          <p:nvPr/>
        </p:nvSpPr>
        <p:spPr>
          <a:xfrm>
            <a:off x="785880" y="5214960"/>
            <a:ext cx="7643880" cy="5713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одписание закона Президентом. Обнародование зак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5000" y="1356840"/>
            <a:ext cx="2571840" cy="114300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ОНАРХ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3" descr="C:\Documents and Settings\Admin\Мои документы\Мои рисунки\mzl_oqjwrlrw.png"/>
          <p:cNvPicPr/>
          <p:nvPr/>
        </p:nvPicPr>
        <p:blipFill>
          <a:blip r:embed="rId1"/>
          <a:stretch/>
        </p:blipFill>
        <p:spPr>
          <a:xfrm>
            <a:off x="785880" y="71424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Главные вопросы экономи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Скругленный прямоугольник 2"/>
          <p:cNvSpPr/>
          <p:nvPr/>
        </p:nvSpPr>
        <p:spPr>
          <a:xfrm>
            <a:off x="642960" y="2214720"/>
            <a:ext cx="2500200" cy="20714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РОИЗВОД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3"/>
          <p:cNvSpPr/>
          <p:nvPr/>
        </p:nvSpPr>
        <p:spPr>
          <a:xfrm>
            <a:off x="3500280" y="2214720"/>
            <a:ext cx="2214720" cy="20714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******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4"/>
          <p:cNvSpPr/>
          <p:nvPr/>
        </p:nvSpPr>
        <p:spPr>
          <a:xfrm>
            <a:off x="6072120" y="2214720"/>
            <a:ext cx="2428920" cy="20714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ЛЯ 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ПРОИЗВОД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5"/>
          <p:cNvSpPr/>
          <p:nvPr/>
        </p:nvSpPr>
        <p:spPr>
          <a:xfrm>
            <a:off x="1714680" y="1357200"/>
            <a:ext cx="285480" cy="71460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6"/>
          <p:cNvSpPr/>
          <p:nvPr/>
        </p:nvSpPr>
        <p:spPr>
          <a:xfrm>
            <a:off x="4429080" y="1285920"/>
            <a:ext cx="285840" cy="785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трелка вниз 7"/>
          <p:cNvSpPr/>
          <p:nvPr/>
        </p:nvSpPr>
        <p:spPr>
          <a:xfrm>
            <a:off x="7143840" y="1285920"/>
            <a:ext cx="285840" cy="785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5071680"/>
            <a:ext cx="8183520" cy="785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Verdana"/>
              </a:rPr>
              <a:t>Ответ: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</a:rPr>
              <a:t> Как производить?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4" name="Picture 3" descr="C:\Documents and Settings\Admin\Мои документы\Мои рисунки\wpid-span-classtitletextOblastnomu-deputatu-svetit-statya-za-nezakonnoe-bpredprinimatelstvobspan-0.jpg"/>
          <p:cNvPicPr/>
          <p:nvPr/>
        </p:nvPicPr>
        <p:blipFill>
          <a:blip r:embed="rId1"/>
          <a:stretch/>
        </p:blipFill>
        <p:spPr>
          <a:xfrm>
            <a:off x="1714680" y="785880"/>
            <a:ext cx="5537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85920" y="785520"/>
            <a:ext cx="6858000" cy="63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рганизация государств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3643200" y="357192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конвегрге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785880" y="2928960"/>
            <a:ext cx="2286000" cy="703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ци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5929200" y="2857680"/>
            <a:ext cx="2214720" cy="703800"/>
          </a:xfrm>
          <a:prstGeom prst="rect">
            <a:avLst/>
          </a:prstGeom>
          <a:solidFill>
            <a:srgbClr val="9a7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апит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Двойная стрелка влево/вправо 8"/>
          <p:cNvSpPr/>
          <p:nvPr/>
        </p:nvSpPr>
        <p:spPr>
          <a:xfrm>
            <a:off x="3714840" y="3286080"/>
            <a:ext cx="1500120" cy="357120"/>
          </a:xfrm>
          <a:prstGeom prst="leftRight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3357720" y="24289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мешанное об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14440" y="785520"/>
            <a:ext cx="3214440" cy="85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щество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571680" y="2786040"/>
            <a:ext cx="2000160" cy="520560"/>
          </a:xfrm>
          <a:prstGeom prst="rect">
            <a:avLst/>
          </a:prstGeom>
          <a:solidFill>
            <a:srgbClr val="9a7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и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3286080" y="2786040"/>
            <a:ext cx="2357640" cy="459720"/>
          </a:xfrm>
          <a:prstGeom prst="rect">
            <a:avLst/>
          </a:prstGeom>
          <a:solidFill>
            <a:srgbClr val="a08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в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6286680" y="2714760"/>
            <a:ext cx="2000160" cy="459720"/>
          </a:xfrm>
          <a:prstGeom prst="rect">
            <a:avLst/>
          </a:prstGeom>
          <a:solidFill>
            <a:srgbClr val="4ea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Двойная стрелка влево/вправо 9"/>
          <p:cNvSpPr/>
          <p:nvPr/>
        </p:nvSpPr>
        <p:spPr>
          <a:xfrm>
            <a:off x="2786040" y="3000240"/>
            <a:ext cx="357120" cy="71640"/>
          </a:xfrm>
          <a:prstGeom prst="leftRightArrow">
            <a:avLst>
              <a:gd name="adj1" fmla="val 50000"/>
              <a:gd name="adj2" fmla="val 49849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Двойная стрелка влево/вправо 10"/>
          <p:cNvSpPr/>
          <p:nvPr/>
        </p:nvSpPr>
        <p:spPr>
          <a:xfrm>
            <a:off x="5786280" y="3000240"/>
            <a:ext cx="428760" cy="71640"/>
          </a:xfrm>
          <a:prstGeom prst="leftRightArrow">
            <a:avLst>
              <a:gd name="adj1" fmla="val 50000"/>
              <a:gd name="adj2" fmla="val 49874"/>
            </a:avLst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28880" y="5071680"/>
            <a:ext cx="5000400" cy="50004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Ответ: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ЦИВИЛИЗАЦ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Picture 5" descr="C:\Documents and Settings\Admin\Мои документы\Мои рисунки\Podmsh129.jpg"/>
          <p:cNvPicPr/>
          <p:nvPr/>
        </p:nvPicPr>
        <p:blipFill>
          <a:blip r:embed="rId1"/>
          <a:stretch/>
        </p:blipFill>
        <p:spPr>
          <a:xfrm>
            <a:off x="1928880" y="1214280"/>
            <a:ext cx="48672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падная цивилиз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cxnSp>
        <p:nvCxnSpPr>
          <p:cNvPr id="237" name="Прямая со стрелкой 3"/>
          <p:cNvCxnSpPr/>
          <p:nvPr/>
        </p:nvCxnSpPr>
        <p:spPr>
          <a:xfrm flipH="1">
            <a:off x="1285560" y="1428480"/>
            <a:ext cx="1286640" cy="157212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38" name="Прямая со стрелкой 5"/>
          <p:cNvCxnSpPr>
            <a:stCxn id="236" idx="2"/>
          </p:cNvCxnSpPr>
          <p:nvPr/>
        </p:nvCxnSpPr>
        <p:spPr>
          <a:xfrm flipH="1">
            <a:off x="4399920" y="1357200"/>
            <a:ext cx="143640" cy="336960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39" name="Прямая со стрелкой 7"/>
          <p:cNvCxnSpPr>
            <a:stCxn id="236" idx="2"/>
          </p:cNvCxnSpPr>
          <p:nvPr/>
        </p:nvCxnSpPr>
        <p:spPr>
          <a:xfrm>
            <a:off x="6571080" y="1428480"/>
            <a:ext cx="1143720" cy="157212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sp>
        <p:nvSpPr>
          <p:cNvPr id="240" name="TextBox 8"/>
          <p:cNvSpPr/>
          <p:nvPr/>
        </p:nvSpPr>
        <p:spPr>
          <a:xfrm>
            <a:off x="357120" y="3286080"/>
            <a:ext cx="2286000" cy="398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хног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9"/>
          <p:cNvSpPr/>
          <p:nvPr/>
        </p:nvSpPr>
        <p:spPr>
          <a:xfrm>
            <a:off x="3357720" y="4857840"/>
            <a:ext cx="2428560" cy="500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0"/>
          <p:cNvSpPr/>
          <p:nvPr/>
        </p:nvSpPr>
        <p:spPr>
          <a:xfrm>
            <a:off x="6500880" y="3214800"/>
            <a:ext cx="2214360" cy="500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3880" y="4714560"/>
            <a:ext cx="7358040" cy="85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Ответ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ИНДУСТРИАЛЬНАЯ -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АУЧНО – ТЕХНИЧЕСКА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-</a:t>
            </a:r>
            <a:endParaRPr b="1" lang="en-US" sz="1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Picture 3" descr="C:\Documents and Settings\Admin\Мои документы\Мои рисунки\kolaza_uznem_1.jpg"/>
          <p:cNvPicPr/>
          <p:nvPr/>
        </p:nvPicPr>
        <p:blipFill>
          <a:blip r:embed="rId1"/>
          <a:stretch/>
        </p:blipFill>
        <p:spPr>
          <a:xfrm>
            <a:off x="3071880" y="642960"/>
            <a:ext cx="5391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286400" cy="56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Типы экономических систе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cxnSp>
        <p:nvCxnSpPr>
          <p:cNvPr id="246" name="Прямая со стрелкой 3"/>
          <p:cNvCxnSpPr/>
          <p:nvPr/>
        </p:nvCxnSpPr>
        <p:spPr>
          <a:xfrm>
            <a:off x="6357960" y="1785600"/>
            <a:ext cx="929520" cy="150084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47" name="Прямая со стрелкой 5"/>
          <p:cNvCxnSpPr/>
          <p:nvPr/>
        </p:nvCxnSpPr>
        <p:spPr>
          <a:xfrm flipH="1">
            <a:off x="4500360" y="1714320"/>
            <a:ext cx="72000" cy="314388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cxnSp>
        <p:nvCxnSpPr>
          <p:cNvPr id="248" name="Прямая со стрелкой 8"/>
          <p:cNvCxnSpPr/>
          <p:nvPr/>
        </p:nvCxnSpPr>
        <p:spPr>
          <a:xfrm flipH="1">
            <a:off x="1356840" y="1785600"/>
            <a:ext cx="1286640" cy="1786680"/>
          </a:xfrm>
          <a:prstGeom prst="straightConnector1">
            <a:avLst/>
          </a:prstGeom>
          <a:ln w="9360">
            <a:solidFill>
              <a:srgbClr val="ff8000"/>
            </a:solidFill>
            <a:round/>
            <a:tailEnd len="med" type="arrow" w="med"/>
          </a:ln>
        </p:spPr>
      </p:cxnSp>
      <p:sp>
        <p:nvSpPr>
          <p:cNvPr id="249" name="TextBox 9"/>
          <p:cNvSpPr/>
          <p:nvPr/>
        </p:nvSpPr>
        <p:spPr>
          <a:xfrm>
            <a:off x="428760" y="3786120"/>
            <a:ext cx="2000160" cy="398880"/>
          </a:xfrm>
          <a:prstGeom prst="rect">
            <a:avLst/>
          </a:prstGeom>
          <a:solidFill>
            <a:srgbClr val="a088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3286080" y="5072040"/>
            <a:ext cx="2500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ан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6500880" y="3714840"/>
            <a:ext cx="2214360" cy="398880"/>
          </a:xfrm>
          <a:prstGeom prst="rect">
            <a:avLst/>
          </a:prstGeom>
          <a:solidFill>
            <a:srgbClr val="4ea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ын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44:54Z</dcterms:created>
  <dc:creator>Admin</dc:creator>
  <dc:description/>
  <dc:language>en-US</dc:language>
  <cp:lastModifiedBy>user</cp:lastModifiedBy>
  <dcterms:modified xsi:type="dcterms:W3CDTF">2020-11-10T18:13:32Z</dcterms:modified>
  <cp:revision>22</cp:revision>
  <dc:subject/>
  <dc:title>Подготовка к ЕГ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669</vt:lpwstr>
  </property>
</Properties>
</file>