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9A0-7C8D-47DC-AD5C-8BE79017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098-A1C6-4CFF-BE25-AAF55C3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17A-61BF-464C-BEE0-10E7A797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CB6-56F7-4A5D-8C1A-1908DBFF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8EB4-0721-40F6-8626-3FA0127E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C94B-0EEF-49F0-AF6D-CFA2A184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75FE-4D8C-4A31-B13C-53DDD7B0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CFBB-61BA-4D8B-9E18-A9552051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8E25-61D1-4556-830D-E8630D3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6BFA-8146-4545-A443-DD383C68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5BDD-C02C-4609-8339-644F489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61D-980A-4FB4-A4BD-317A1E1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48C9-6532-412C-BB68-C668084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B967-7228-4496-AD24-8AAED220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6DAA-66AA-4905-9E04-E8DC5986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F019-C361-4176-A8E2-0D58D53B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B0C-794B-4219-9B3C-D4E2EBAE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E544-E35F-498B-A364-5E79B80F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79A4-61F9-4CD0-A9FA-2C73929D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F2DF-1FF7-42A4-A740-0AF4DC5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78B7-1366-46D2-9E00-AF6F9CF9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C42C1-D8CA-4B51-A086-64481C5C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828-CDC5-4C3A-B257-658EC70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6D67-5B91-4AD2-9612-DB6B2B6F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22A8-055D-48EF-AAFB-794581EF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9C34-80AC-4BB1-BCCD-B27535D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1572-52CB-41D5-89BD-7408BAE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DE00-2ED0-43AC-B254-AA7ADA4D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7E44-29F4-4101-B90D-C9D8EBB4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DB5F-20EB-4C01-A559-7C18104D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1D9A-69DD-4ADB-8CBC-B2F1012C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2D57-E0B8-4531-9462-AC4AA933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EABC-20F9-4A6E-ACD1-4A3CD2DA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A3A-5534-4860-BEE1-BE225503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4244-D390-40C3-AB8D-D452BF43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F938-252C-4B77-AA25-FD74633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2FF4-B1EB-4F6C-9991-D79BD37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C336-B050-43BC-ACD6-47B2A46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782A9-E8D8-43C3-A8D5-0A2D43E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DC3B-FD79-49B2-9DED-76ADFF16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DF3E-F45B-4378-A54D-6518ABDD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FF91-D272-457C-9F35-21D45AC9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9F11-99CE-4877-A5D5-9F74CEF4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FCBCB-7DB1-44FF-AAE6-1601169F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268-B91B-433D-8775-DE14A68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F20D-C591-46B7-8096-56CC688A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26D0B-578E-4E69-8C77-53983618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3053-E483-424C-AFA0-AEAE267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3B58-7D4A-43D9-8DF7-71B9194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5147A-D1E9-4F73-9E6D-4964FF1E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A598D-86AD-47A0-B800-3936AB4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DAF8-0F60-4BE8-A448-08F21F0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8E80-EBC2-497B-AC7D-6C03D41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E8F6A-B598-40C6-9D31-28270621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CAD2-BEC9-4C77-B9EE-33EB7006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E64-9399-4481-861B-A6A93C4B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8AD4-5ECB-4292-910E-E9186820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EFD-3100-4545-8919-E379B47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2D1-D18B-4242-BA10-93832B9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FCA-FFB8-4349-BF4D-A7300F5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A45-18FC-43E7-985F-88C514BC708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C65F-14FE-4A8F-8F80-73BD999812C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E9FE-195B-4CD6-902E-24CB862BEB2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0A47-5764-4277-AE80-AA43C059E1F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61C9-5A92-419B-B9EF-84300F76A8D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C044-3187-4874-A00D-6B84A850F9D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765C-88AC-4A10-8912-80212D622074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3A21-A02E-460B-A21E-F7322492E31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398B-8872-4BBD-A8AB-C86A0EB7246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3A61-9A19-4D54-8A2B-25DE6A7B95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928800"/>
            <a:ext cx="777240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одготовка к ЕГЭ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3000" y="3785760"/>
            <a:ext cx="7143840" cy="614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Часть «В» схемы - зад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2960" y="4714920"/>
            <a:ext cx="7500960" cy="92880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РАДИЦИОН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Picture 3" descr="C:\Documents and Settings\Admin\Мои документы\Мои рисунки\1161774600.jpg"/>
          <p:cNvPicPr/>
          <p:nvPr/>
        </p:nvPicPr>
        <p:blipFill>
          <a:blip r:embed="rId1"/>
          <a:stretch/>
        </p:blipFill>
        <p:spPr>
          <a:xfrm>
            <a:off x="1643040" y="6429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42680" y="928800"/>
            <a:ext cx="6072120" cy="107136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акторы производства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 факторные доход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55" name="Прямая со стрелкой 3"/>
          <p:cNvCxnSpPr/>
          <p:nvPr/>
        </p:nvCxnSpPr>
        <p:spPr>
          <a:xfrm flipH="1">
            <a:off x="856440" y="2070720"/>
            <a:ext cx="1358280" cy="121500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56" name="Прямая со стрелкой 5"/>
          <p:cNvCxnSpPr/>
          <p:nvPr/>
        </p:nvCxnSpPr>
        <p:spPr>
          <a:xfrm>
            <a:off x="7429680" y="2142720"/>
            <a:ext cx="1072080" cy="107244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57" name="Прямая со стрелкой 8"/>
          <p:cNvCxnSpPr/>
          <p:nvPr/>
        </p:nvCxnSpPr>
        <p:spPr>
          <a:xfrm flipH="1">
            <a:off x="3214080" y="2214720"/>
            <a:ext cx="786600" cy="207180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58" name="Прямая со стрелкой 10"/>
          <p:cNvCxnSpPr/>
          <p:nvPr/>
        </p:nvCxnSpPr>
        <p:spPr>
          <a:xfrm>
            <a:off x="5713920" y="2142720"/>
            <a:ext cx="857880" cy="20725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sp>
        <p:nvSpPr>
          <p:cNvPr id="259" name="TextBox 11"/>
          <p:cNvSpPr/>
          <p:nvPr/>
        </p:nvSpPr>
        <p:spPr>
          <a:xfrm>
            <a:off x="428760" y="3571920"/>
            <a:ext cx="17859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2571840" y="4500720"/>
            <a:ext cx="1357200" cy="459720"/>
          </a:xfrm>
          <a:prstGeom prst="rect">
            <a:avLst/>
          </a:prstGeom>
          <a:solidFill>
            <a:srgbClr val="ba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5286240" y="4357800"/>
            <a:ext cx="1857600" cy="459720"/>
          </a:xfrm>
          <a:prstGeom prst="rect">
            <a:avLst/>
          </a:prstGeom>
          <a:solidFill>
            <a:srgbClr val="dac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7358040" y="3286080"/>
            <a:ext cx="1285920" cy="4597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804960" y="43578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2788560" y="5214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5579640" y="507204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429680" y="3929040"/>
            <a:ext cx="14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рабо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572000"/>
            <a:ext cx="6715080" cy="714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ЕДПРИНИМАТЕЛЬСТВО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3" descr="C:\Documents and Settings\Admin\Мои документы\Мои рисунки\innovationanddesignprocess.jpg"/>
          <p:cNvPicPr/>
          <p:nvPr/>
        </p:nvPicPr>
        <p:blipFill>
          <a:blip r:embed="rId1"/>
          <a:stretch/>
        </p:blipFill>
        <p:spPr>
          <a:xfrm>
            <a:off x="2571840" y="500040"/>
            <a:ext cx="39290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71760" y="856800"/>
            <a:ext cx="6572160" cy="56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сновные виды налог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Двойная стрелка влево/вправо 4"/>
          <p:cNvSpPr/>
          <p:nvPr/>
        </p:nvSpPr>
        <p:spPr>
          <a:xfrm>
            <a:off x="3286080" y="2928960"/>
            <a:ext cx="2571840" cy="71424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785880" y="2928960"/>
            <a:ext cx="2143080" cy="58140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6286680" y="3000240"/>
            <a:ext cx="2214360" cy="581400"/>
          </a:xfrm>
          <a:prstGeom prst="rect">
            <a:avLst/>
          </a:prstGeom>
          <a:solidFill>
            <a:srgbClr val="14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*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572080" y="2499840"/>
            <a:ext cx="2928960" cy="785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СВЕННЫ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3" descr="C:\Documents and Settings\Admin\Мои документы\Мои рисунки\548616725.jpg"/>
          <p:cNvPicPr/>
          <p:nvPr/>
        </p:nvPicPr>
        <p:blipFill>
          <a:blip r:embed="rId1"/>
          <a:stretch/>
        </p:blipFill>
        <p:spPr>
          <a:xfrm>
            <a:off x="714240" y="642960"/>
            <a:ext cx="4605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авоотношение собственни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Стрелка вниз 2"/>
          <p:cNvSpPr/>
          <p:nvPr/>
        </p:nvSpPr>
        <p:spPr>
          <a:xfrm>
            <a:off x="1143000" y="1643040"/>
            <a:ext cx="642960" cy="2071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трелка вниз 3"/>
          <p:cNvSpPr/>
          <p:nvPr/>
        </p:nvSpPr>
        <p:spPr>
          <a:xfrm>
            <a:off x="7000920" y="1714680"/>
            <a:ext cx="571320" cy="19285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низ 4"/>
          <p:cNvSpPr/>
          <p:nvPr/>
        </p:nvSpPr>
        <p:spPr>
          <a:xfrm>
            <a:off x="4143240" y="1643040"/>
            <a:ext cx="642960" cy="3286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428760" y="3929040"/>
            <a:ext cx="2214360" cy="39888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6215040" y="3714840"/>
            <a:ext cx="2428920" cy="39888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3571920" y="5214960"/>
            <a:ext cx="2000160" cy="39888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57480" y="2428920"/>
            <a:ext cx="378612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АСПОРЯЖЕНИ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3" descr="C:\Documents and Settings\Admin\Мои документы\Мои рисунки\untitled.bmp"/>
          <p:cNvPicPr/>
          <p:nvPr/>
        </p:nvPicPr>
        <p:blipFill>
          <a:blip r:embed="rId1"/>
          <a:stretch/>
        </p:blipFill>
        <p:spPr>
          <a:xfrm>
            <a:off x="642960" y="571680"/>
            <a:ext cx="41432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856800"/>
            <a:ext cx="8183520" cy="500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иды юридической ответственности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2571840" y="1643040"/>
            <a:ext cx="4643280" cy="5716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дминистр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71840" y="2643120"/>
            <a:ext cx="4643280" cy="6429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ражда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2643120" y="3571920"/>
            <a:ext cx="4572000" cy="7142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****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2643120" y="4572000"/>
            <a:ext cx="4572000" cy="7858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сциплина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500800" y="2714760"/>
            <a:ext cx="2928960" cy="714240"/>
          </a:xfrm>
          <a:prstGeom prst="rect">
            <a:avLst/>
          </a:prstGeom>
          <a:solidFill>
            <a:srgbClr val="d3cb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ГОЛОВНА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0" name="Picture 3" descr="C:\Documents and Settings\Admin\Мои документы\Мои рисунки\SMALL_~1.JPG"/>
          <p:cNvPicPr/>
          <p:nvPr/>
        </p:nvPicPr>
        <p:blipFill>
          <a:blip r:embed="rId1"/>
          <a:stretch/>
        </p:blipFill>
        <p:spPr>
          <a:xfrm>
            <a:off x="785880" y="78588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4857840" cy="70344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аучное позна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428760" y="2000160"/>
            <a:ext cx="2643120" cy="228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по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огадки, выдвигаемые в ходе научног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3357720" y="2000160"/>
            <a:ext cx="2428560" cy="228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стема взаимосвязанных утверждений, зак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6143760" y="2000160"/>
            <a:ext cx="2500200" cy="228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Зак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ыводы о существенных, объективных, повторяющихся связях между предметами и явл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трелка вниз 5"/>
          <p:cNvSpPr/>
          <p:nvPr/>
        </p:nvSpPr>
        <p:spPr>
          <a:xfrm>
            <a:off x="2357280" y="15001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трелка вниз 6"/>
          <p:cNvSpPr/>
          <p:nvPr/>
        </p:nvSpPr>
        <p:spPr>
          <a:xfrm>
            <a:off x="4357800" y="1500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вниз 9"/>
          <p:cNvSpPr/>
          <p:nvPr/>
        </p:nvSpPr>
        <p:spPr>
          <a:xfrm>
            <a:off x="6929280" y="15001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642960"/>
            <a:ext cx="81835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Формы государства по Аристотелю</a:t>
            </a: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17" name="Соединительная линия уступом 3"/>
          <p:cNvCxnSpPr/>
          <p:nvPr/>
        </p:nvCxnSpPr>
        <p:spPr>
          <a:xfrm>
            <a:off x="2428560" y="1928520"/>
            <a:ext cx="5358600" cy="3143880"/>
          </a:xfrm>
          <a:prstGeom prst="straightConnector1">
            <a:avLst/>
          </a:prstGeom>
          <a:ln w="9360">
            <a:solidFill>
              <a:srgbClr val="ff8000"/>
            </a:solidFill>
            <a:round/>
            <a:headEnd len="med" type="arrow" w="med"/>
            <a:tailEnd len="med" type="arrow" w="med"/>
          </a:ln>
        </p:spPr>
      </p:cxnSp>
      <p:sp>
        <p:nvSpPr>
          <p:cNvPr id="218" name="TextBox 5"/>
          <p:cNvSpPr/>
          <p:nvPr/>
        </p:nvSpPr>
        <p:spPr>
          <a:xfrm>
            <a:off x="5357880" y="3071880"/>
            <a:ext cx="3143160" cy="131364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АВИ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ристокр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000160" y="2143080"/>
            <a:ext cx="3071880" cy="131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ПРАВИ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мокр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лигарх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57160" y="5143320"/>
            <a:ext cx="7429680" cy="6426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ГИПОТЕ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9" name="Picture 3" descr="C:\Documents and Settings\Admin\Мои документы\Мои рисунки\entrepreneur1.jpg"/>
          <p:cNvPicPr/>
          <p:nvPr/>
        </p:nvPicPr>
        <p:blipFill>
          <a:blip r:embed="rId1"/>
          <a:stretch/>
        </p:blipFill>
        <p:spPr>
          <a:xfrm>
            <a:off x="1643040" y="642960"/>
            <a:ext cx="56196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5572080" cy="5716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Юридические фак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785880" y="1857240"/>
            <a:ext cx="335736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4643280" y="1857240"/>
            <a:ext cx="350064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3286080" y="2928960"/>
            <a:ext cx="250020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авом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6000840" y="2928960"/>
            <a:ext cx="292896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правом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1428840" y="3857760"/>
            <a:ext cx="335736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юридические 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7"/>
          <p:cNvSpPr/>
          <p:nvPr/>
        </p:nvSpPr>
        <p:spPr>
          <a:xfrm>
            <a:off x="4286160" y="4714920"/>
            <a:ext cx="207180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ст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6643800" y="4714920"/>
            <a:ext cx="221436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трелка вниз 9"/>
          <p:cNvSpPr/>
          <p:nvPr/>
        </p:nvSpPr>
        <p:spPr>
          <a:xfrm>
            <a:off x="2428920" y="1214280"/>
            <a:ext cx="357120" cy="50040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низ 10"/>
          <p:cNvSpPr/>
          <p:nvPr/>
        </p:nvSpPr>
        <p:spPr>
          <a:xfrm>
            <a:off x="5929200" y="1214280"/>
            <a:ext cx="4287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трелка вниз 11"/>
          <p:cNvSpPr/>
          <p:nvPr/>
        </p:nvSpPr>
        <p:spPr>
          <a:xfrm>
            <a:off x="5000760" y="257184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трелка вниз 12"/>
          <p:cNvSpPr/>
          <p:nvPr/>
        </p:nvSpPr>
        <p:spPr>
          <a:xfrm>
            <a:off x="7000920" y="257184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15"/>
          <p:cNvSpPr/>
          <p:nvPr/>
        </p:nvSpPr>
        <p:spPr>
          <a:xfrm>
            <a:off x="4143240" y="3571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 flipH="1">
            <a:off x="5857560" y="3643200"/>
            <a:ext cx="1000800" cy="85824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314" name="Прямая со стрелкой 20"/>
          <p:cNvCxnSpPr/>
          <p:nvPr/>
        </p:nvCxnSpPr>
        <p:spPr>
          <a:xfrm>
            <a:off x="7500960" y="3643200"/>
            <a:ext cx="714960" cy="9295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56880" y="4642920"/>
            <a:ext cx="5643720" cy="1071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ЕСТУПЛ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6" name="Picture 3" descr="C:\Documents and Settings\Admin\Мои документы\Мои рисунки\-12373~1.JPG"/>
          <p:cNvPicPr/>
          <p:nvPr/>
        </p:nvPicPr>
        <p:blipFill>
          <a:blip r:embed="rId1"/>
          <a:stretch/>
        </p:blipFill>
        <p:spPr>
          <a:xfrm>
            <a:off x="2071800" y="785880"/>
            <a:ext cx="52149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71800" y="785520"/>
            <a:ext cx="5572080" cy="63180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Виды бирж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357120" y="2143080"/>
            <a:ext cx="2214720" cy="7146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ов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928960" y="2143080"/>
            <a:ext cx="1928880" cy="7146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алю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5143680" y="2143080"/>
            <a:ext cx="1857240" cy="6429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Фонд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7143840" y="2143080"/>
            <a:ext cx="1714320" cy="6429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трелка вниз 6"/>
          <p:cNvSpPr/>
          <p:nvPr/>
        </p:nvSpPr>
        <p:spPr>
          <a:xfrm>
            <a:off x="2071800" y="15717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7"/>
          <p:cNvSpPr/>
          <p:nvPr/>
        </p:nvSpPr>
        <p:spPr>
          <a:xfrm>
            <a:off x="3643200" y="15717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8"/>
          <p:cNvSpPr/>
          <p:nvPr/>
        </p:nvSpPr>
        <p:spPr>
          <a:xfrm>
            <a:off x="5715000" y="15717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трелка вниз 9"/>
          <p:cNvSpPr/>
          <p:nvPr/>
        </p:nvSpPr>
        <p:spPr>
          <a:xfrm>
            <a:off x="7358040" y="1500120"/>
            <a:ext cx="2858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57240" y="5000760"/>
            <a:ext cx="5786640" cy="642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БИРЖА ТРУД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7" name="Picture 3" descr="C:\Documents and Settings\Admin\Мои документы\Мои рисунки\politic237.jpg"/>
          <p:cNvPicPr/>
          <p:nvPr/>
        </p:nvPicPr>
        <p:blipFill>
          <a:blip r:embed="rId1"/>
          <a:stretch/>
        </p:blipFill>
        <p:spPr>
          <a:xfrm>
            <a:off x="2643120" y="642960"/>
            <a:ext cx="35719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500960" cy="631800"/>
          </a:xfrm>
          <a:prstGeom prst="rect">
            <a:avLst/>
          </a:prstGeom>
          <a:solidFill>
            <a:srgbClr val="baad8d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Фазы экономического цикл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Скругленный прямоугольник 2"/>
          <p:cNvSpPr/>
          <p:nvPr/>
        </p:nvSpPr>
        <p:spPr>
          <a:xfrm>
            <a:off x="285840" y="2500200"/>
            <a:ext cx="185724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риз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2500200" y="2500200"/>
            <a:ext cx="192888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4714920" y="2500200"/>
            <a:ext cx="200016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жи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6929280" y="2500200"/>
            <a:ext cx="178596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низ 6"/>
          <p:cNvSpPr/>
          <p:nvPr/>
        </p:nvSpPr>
        <p:spPr>
          <a:xfrm>
            <a:off x="1214280" y="1500120"/>
            <a:ext cx="28584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низ 7"/>
          <p:cNvSpPr/>
          <p:nvPr/>
        </p:nvSpPr>
        <p:spPr>
          <a:xfrm>
            <a:off x="3286080" y="1571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8"/>
          <p:cNvSpPr/>
          <p:nvPr/>
        </p:nvSpPr>
        <p:spPr>
          <a:xfrm>
            <a:off x="5357880" y="1571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>
            <a:off x="7572240" y="1571760"/>
            <a:ext cx="28584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0200" y="4928760"/>
            <a:ext cx="4500720" cy="85716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ОДЪЕМ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8" name="Picture 3" descr="C:\Documents and Settings\Admin\Мои документы\Мои рисунки\1_1_~1.BMP"/>
          <p:cNvPicPr/>
          <p:nvPr/>
        </p:nvPicPr>
        <p:blipFill>
          <a:blip r:embed="rId1"/>
          <a:stretch/>
        </p:blipFill>
        <p:spPr>
          <a:xfrm>
            <a:off x="2357280" y="714240"/>
            <a:ext cx="44244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56840" y="642960"/>
            <a:ext cx="6643800" cy="774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иды этно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Овал 2"/>
          <p:cNvSpPr/>
          <p:nvPr/>
        </p:nvSpPr>
        <p:spPr>
          <a:xfrm>
            <a:off x="214200" y="2500200"/>
            <a:ext cx="1857600" cy="12859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3"/>
          <p:cNvSpPr/>
          <p:nvPr/>
        </p:nvSpPr>
        <p:spPr>
          <a:xfrm>
            <a:off x="2286000" y="2428920"/>
            <a:ext cx="1785960" cy="13572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л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4"/>
          <p:cNvSpPr/>
          <p:nvPr/>
        </p:nvSpPr>
        <p:spPr>
          <a:xfrm>
            <a:off x="4357800" y="2428920"/>
            <a:ext cx="1643040" cy="13572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6286680" y="2428920"/>
            <a:ext cx="2286000" cy="12859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аро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низ 6"/>
          <p:cNvSpPr/>
          <p:nvPr/>
        </p:nvSpPr>
        <p:spPr>
          <a:xfrm>
            <a:off x="1357200" y="1643040"/>
            <a:ext cx="14292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низ 7"/>
          <p:cNvSpPr/>
          <p:nvPr/>
        </p:nvSpPr>
        <p:spPr>
          <a:xfrm>
            <a:off x="3143160" y="1571760"/>
            <a:ext cx="214560" cy="71424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низ 8"/>
          <p:cNvSpPr/>
          <p:nvPr/>
        </p:nvSpPr>
        <p:spPr>
          <a:xfrm>
            <a:off x="5072040" y="1571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низ 9"/>
          <p:cNvSpPr/>
          <p:nvPr/>
        </p:nvSpPr>
        <p:spPr>
          <a:xfrm>
            <a:off x="7215120" y="1500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14320" y="4928760"/>
            <a:ext cx="6143400" cy="857160"/>
          </a:xfrm>
          <a:prstGeom prst="rect">
            <a:avLst/>
          </a:prstGeom>
          <a:solidFill>
            <a:srgbClr val="d3cbb6"/>
          </a:solidFill>
          <a:ln w="2844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НАРОДНОСТ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9" name="Picture 3" descr="C:\Documents and Settings\Admin\Мои документы\Мои рисунки\64047711_narod_russiahorz.jpg"/>
          <p:cNvPicPr/>
          <p:nvPr/>
        </p:nvPicPr>
        <p:blipFill>
          <a:blip r:embed="rId1"/>
          <a:stretch/>
        </p:blipFill>
        <p:spPr>
          <a:xfrm>
            <a:off x="1571760" y="64296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571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Стадии законотворческого процесс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Скругленный прямоугольник 2"/>
          <p:cNvSpPr/>
          <p:nvPr/>
        </p:nvSpPr>
        <p:spPr>
          <a:xfrm>
            <a:off x="642960" y="1428840"/>
            <a:ext cx="778680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Законодательная инициа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714240" y="2428920"/>
            <a:ext cx="771552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дготовка законопроекта и обсуждение его в Государственной Д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4"/>
          <p:cNvSpPr/>
          <p:nvPr/>
        </p:nvSpPr>
        <p:spPr>
          <a:xfrm>
            <a:off x="714240" y="3357720"/>
            <a:ext cx="771552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инятие закона в Государственной Д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5"/>
          <p:cNvSpPr/>
          <p:nvPr/>
        </p:nvSpPr>
        <p:spPr>
          <a:xfrm>
            <a:off x="714240" y="4286160"/>
            <a:ext cx="771552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инятие закона в Совете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6"/>
          <p:cNvSpPr/>
          <p:nvPr/>
        </p:nvSpPr>
        <p:spPr>
          <a:xfrm>
            <a:off x="785880" y="5214960"/>
            <a:ext cx="764388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дписание закона Президентом. Обнародование за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5000" y="1356840"/>
            <a:ext cx="2571840" cy="114300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ОНАРХ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3" descr="C:\Documents and Settings\Admin\Мои документы\Мои рисунки\mzl_oqjwrlrw.png"/>
          <p:cNvPicPr/>
          <p:nvPr/>
        </p:nvPicPr>
        <p:blipFill>
          <a:blip r:embed="rId1"/>
          <a:stretch/>
        </p:blipFill>
        <p:spPr>
          <a:xfrm>
            <a:off x="785880" y="71424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Главные вопросы экономи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Скругленный прямоугольник 2"/>
          <p:cNvSpPr/>
          <p:nvPr/>
        </p:nvSpPr>
        <p:spPr>
          <a:xfrm>
            <a:off x="642960" y="2214720"/>
            <a:ext cx="2500200" cy="20714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ОИЗВОД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3"/>
          <p:cNvSpPr/>
          <p:nvPr/>
        </p:nvSpPr>
        <p:spPr>
          <a:xfrm>
            <a:off x="3500280" y="2214720"/>
            <a:ext cx="2214720" cy="20714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******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072120" y="2214720"/>
            <a:ext cx="2428920" cy="20714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ЛЯ 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ОИЗВОД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5"/>
          <p:cNvSpPr/>
          <p:nvPr/>
        </p:nvSpPr>
        <p:spPr>
          <a:xfrm>
            <a:off x="1714680" y="1357200"/>
            <a:ext cx="285480" cy="71460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6"/>
          <p:cNvSpPr/>
          <p:nvPr/>
        </p:nvSpPr>
        <p:spPr>
          <a:xfrm>
            <a:off x="4429080" y="1285920"/>
            <a:ext cx="285840" cy="785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низ 7"/>
          <p:cNvSpPr/>
          <p:nvPr/>
        </p:nvSpPr>
        <p:spPr>
          <a:xfrm>
            <a:off x="7143840" y="1285920"/>
            <a:ext cx="285840" cy="785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5071680"/>
            <a:ext cx="8183520" cy="785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Verdana"/>
              </a:rPr>
              <a:t>Ответ: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Как производить?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4" name="Picture 3" descr="C:\Documents and Settings\Admin\Мои документы\Мои рисунки\wpid-span-classtitletextOblastnomu-deputatu-svetit-statya-za-nezakonnoe-bpredprinimatelstvobspan-0.jpg"/>
          <p:cNvPicPr/>
          <p:nvPr/>
        </p:nvPicPr>
        <p:blipFill>
          <a:blip r:embed="rId1"/>
          <a:stretch/>
        </p:blipFill>
        <p:spPr>
          <a:xfrm>
            <a:off x="1714680" y="785880"/>
            <a:ext cx="5537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85920" y="785520"/>
            <a:ext cx="6858000" cy="63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рганизация государст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3643200" y="35719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конвегрг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785880" y="2928960"/>
            <a:ext cx="2286000" cy="703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ци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5929200" y="2857680"/>
            <a:ext cx="2214720" cy="70380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пит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Двойная стрелка влево/вправо 8"/>
          <p:cNvSpPr/>
          <p:nvPr/>
        </p:nvSpPr>
        <p:spPr>
          <a:xfrm>
            <a:off x="3714840" y="3286080"/>
            <a:ext cx="1500120" cy="35712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3357720" y="24289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мешанное 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14440" y="785520"/>
            <a:ext cx="3214440" cy="85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щество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71680" y="2786040"/>
            <a:ext cx="2000160" cy="52056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286080" y="2786040"/>
            <a:ext cx="2357640" cy="45972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в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6286680" y="2714760"/>
            <a:ext cx="2000160" cy="45972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Двойная стрелка влево/вправо 9"/>
          <p:cNvSpPr/>
          <p:nvPr/>
        </p:nvSpPr>
        <p:spPr>
          <a:xfrm>
            <a:off x="2786040" y="3000240"/>
            <a:ext cx="357120" cy="71640"/>
          </a:xfrm>
          <a:prstGeom prst="leftRightArrow">
            <a:avLst>
              <a:gd name="adj1" fmla="val 50000"/>
              <a:gd name="adj2" fmla="val 4984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войная стрелка влево/вправо 10"/>
          <p:cNvSpPr/>
          <p:nvPr/>
        </p:nvSpPr>
        <p:spPr>
          <a:xfrm>
            <a:off x="5786280" y="3000240"/>
            <a:ext cx="428760" cy="71640"/>
          </a:xfrm>
          <a:prstGeom prst="leftRightArrow">
            <a:avLst>
              <a:gd name="adj1" fmla="val 50000"/>
              <a:gd name="adj2" fmla="val 49874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28880" y="5071680"/>
            <a:ext cx="5000400" cy="50004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ИВИЛИЗАЦ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5" descr="C:\Documents and Settings\Admin\Мои документы\Мои рисунки\Podmsh129.jpg"/>
          <p:cNvPicPr/>
          <p:nvPr/>
        </p:nvPicPr>
        <p:blipFill>
          <a:blip r:embed="rId1"/>
          <a:stretch/>
        </p:blipFill>
        <p:spPr>
          <a:xfrm>
            <a:off x="1928880" y="1214280"/>
            <a:ext cx="48672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падная цивилиз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37" name="Прямая со стрелкой 3"/>
          <p:cNvCxnSpPr/>
          <p:nvPr/>
        </p:nvCxnSpPr>
        <p:spPr>
          <a:xfrm flipH="1">
            <a:off x="1285560" y="1428480"/>
            <a:ext cx="1286640" cy="15721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38" name="Прямая со стрелкой 5"/>
          <p:cNvCxnSpPr>
            <a:stCxn id="236" idx="2"/>
          </p:cNvCxnSpPr>
          <p:nvPr/>
        </p:nvCxnSpPr>
        <p:spPr>
          <a:xfrm flipH="1">
            <a:off x="4399920" y="1357200"/>
            <a:ext cx="143640" cy="336960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39" name="Прямая со стрелкой 7"/>
          <p:cNvCxnSpPr>
            <a:stCxn id="236" idx="2"/>
          </p:cNvCxnSpPr>
          <p:nvPr/>
        </p:nvCxnSpPr>
        <p:spPr>
          <a:xfrm>
            <a:off x="6571080" y="1428480"/>
            <a:ext cx="1143720" cy="15721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sp>
        <p:nvSpPr>
          <p:cNvPr id="240" name="TextBox 8"/>
          <p:cNvSpPr/>
          <p:nvPr/>
        </p:nvSpPr>
        <p:spPr>
          <a:xfrm>
            <a:off x="357120" y="3286080"/>
            <a:ext cx="228600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хног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9"/>
          <p:cNvSpPr/>
          <p:nvPr/>
        </p:nvSpPr>
        <p:spPr>
          <a:xfrm>
            <a:off x="3357720" y="4857840"/>
            <a:ext cx="242856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0"/>
          <p:cNvSpPr/>
          <p:nvPr/>
        </p:nvSpPr>
        <p:spPr>
          <a:xfrm>
            <a:off x="6500880" y="3214800"/>
            <a:ext cx="221436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4714560"/>
            <a:ext cx="7358040" cy="85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Ответ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ИНДУСТРИАЛЬНАЯ -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АУЧНО – ТЕХНИЧЕСКА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1" lang="en-US" sz="1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3" descr="C:\Documents and Settings\Admin\Мои документы\Мои рисунки\kolaza_uznem_1.jpg"/>
          <p:cNvPicPr/>
          <p:nvPr/>
        </p:nvPicPr>
        <p:blipFill>
          <a:blip r:embed="rId1"/>
          <a:stretch/>
        </p:blipFill>
        <p:spPr>
          <a:xfrm>
            <a:off x="3071880" y="642960"/>
            <a:ext cx="5391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286400" cy="5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Типы экономических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46" name="Прямая со стрелкой 3"/>
          <p:cNvCxnSpPr/>
          <p:nvPr/>
        </p:nvCxnSpPr>
        <p:spPr>
          <a:xfrm>
            <a:off x="6357960" y="1785600"/>
            <a:ext cx="929520" cy="150084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47" name="Прямая со стрелкой 5"/>
          <p:cNvCxnSpPr/>
          <p:nvPr/>
        </p:nvCxnSpPr>
        <p:spPr>
          <a:xfrm flipH="1">
            <a:off x="4500360" y="1714320"/>
            <a:ext cx="72000" cy="314388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48" name="Прямая со стрелкой 8"/>
          <p:cNvCxnSpPr/>
          <p:nvPr/>
        </p:nvCxnSpPr>
        <p:spPr>
          <a:xfrm flipH="1">
            <a:off x="1356840" y="1785600"/>
            <a:ext cx="1286640" cy="178668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sp>
        <p:nvSpPr>
          <p:cNvPr id="249" name="TextBox 9"/>
          <p:cNvSpPr/>
          <p:nvPr/>
        </p:nvSpPr>
        <p:spPr>
          <a:xfrm>
            <a:off x="428760" y="3786120"/>
            <a:ext cx="2000160" cy="39888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3286080" y="5072040"/>
            <a:ext cx="2500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ан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6500880" y="3714840"/>
            <a:ext cx="2214360" cy="39888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4:54Z</dcterms:created>
  <dc:creator>Admin</dc:creator>
  <dc:description/>
  <dc:language>en-US</dc:language>
  <cp:lastModifiedBy>user</cp:lastModifiedBy>
  <dcterms:modified xsi:type="dcterms:W3CDTF">2020-11-10T18:13:32Z</dcterms:modified>
  <cp:revision>22</cp:revision>
  <dc:subject/>
  <dc:title>Подготовка к ЕГ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669</vt:lpwstr>
  </property>
</Properties>
</file>