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EEB1-20F4-4B7D-918F-EA6A8821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781-392D-4B20-9E0F-92DA781E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979-7CE2-4F84-810D-77BB88F3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575-2CF9-4B6C-A4F8-D7837CE3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51B7-FE02-47C3-B738-539BA07E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8C92-3336-46BB-9C44-87B7AF7F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F449-A561-4220-A1DA-5609363D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4ABF-9A68-4732-9A05-237E7FC4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E3B7-CF2D-4CBC-B338-D4A85125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4BEA-CCB9-494C-B9EE-0F8FDCE7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CB77-447C-4EDA-ACD2-C22715A8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A22-CC5E-45A3-BA71-52DB1A36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DAFB-D34F-40A4-8069-5438E9CB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978C-E4FB-4B80-9649-0012B992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B393-F310-4E6E-8E4D-0C9B7895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AEE6-CF41-4C0C-8508-7FB4852D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C84D-3ACC-487A-9BC0-A614570B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BE0-F1C0-4642-9243-ACC4497F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28D-2ECF-4E96-ADC4-5DA167C9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101-5129-4BE6-BE67-71807F70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1E2F-5C78-437A-8A20-CA01D6BC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685-6F10-4A8A-BFBC-12A4C500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B82-301F-44A1-B552-A9A42294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4FA-1E9B-4592-A797-FD5977B0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4D2A-E0AB-4684-AB7F-0CD7C8689C8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4455-3BC3-437A-B224-57634790F0D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естры милосердия в Росс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Содержимое 3" descr="1307327.jpg"/>
          <p:cNvPicPr/>
          <p:nvPr/>
        </p:nvPicPr>
        <p:blipFill>
          <a:blip r:embed="rId1"/>
          <a:stretch/>
        </p:blipFill>
        <p:spPr>
          <a:xfrm>
            <a:off x="2666880" y="24192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440" y="4812120"/>
            <a:ext cx="5486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Рисунок 4" descr="сестры крестовоздвиженской общины с пироговым.JPG"/>
          <p:cNvPicPr/>
          <p:nvPr/>
        </p:nvPicPr>
        <p:blipFill>
          <a:blip r:embed="rId1"/>
          <a:srcRect l="0" t="928" r="0" b="92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28880" y="4857840"/>
            <a:ext cx="56433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1913 году в России в 109 общинах работали 3442 сестры милосерд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началу Первой мировой войны(1914), только в госпиталях их насчитывалось около 20 ты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В годы Первой мировой войны императрица Александра Федоровна со своими дочерьми Ольгой ,Татьяной, Марией и Анастасией тоже стали сестрами милосердия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Содержимое 4" descr="1-922[1].jpg"/>
          <p:cNvPicPr/>
          <p:nvPr/>
        </p:nvPicPr>
        <p:blipFill>
          <a:blip r:embed="rId1"/>
          <a:stretch/>
        </p:blipFill>
        <p:spPr>
          <a:xfrm>
            <a:off x="357120" y="1571760"/>
            <a:ext cx="3301920" cy="504180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5" descr="1[1].jpg"/>
          <p:cNvPicPr/>
          <p:nvPr/>
        </p:nvPicPr>
        <p:blipFill>
          <a:blip r:embed="rId2"/>
          <a:stretch/>
        </p:blipFill>
        <p:spPr>
          <a:xfrm>
            <a:off x="4286160" y="2143080"/>
            <a:ext cx="4572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вгустейшие особы ассистировали при операциях, дежурили сиделками у постелей раненых, выполняли любую работу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Содержимое 5" descr="24792566_86[1].jpg"/>
          <p:cNvPicPr/>
          <p:nvPr/>
        </p:nvPicPr>
        <p:blipFill>
          <a:blip r:embed="rId1"/>
          <a:stretch/>
        </p:blipFill>
        <p:spPr>
          <a:xfrm>
            <a:off x="4890960" y="1500120"/>
            <a:ext cx="4253040" cy="329580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7" descr="4050[1].jpg"/>
          <p:cNvPicPr/>
          <p:nvPr/>
        </p:nvPicPr>
        <p:blipFill>
          <a:blip r:embed="rId2"/>
          <a:stretch/>
        </p:blipFill>
        <p:spPr>
          <a:xfrm>
            <a:off x="357120" y="3000240"/>
            <a:ext cx="4357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естрички Великой Отечественной войны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Содержимое 4" descr="1205337613_okazanie_pervojj_medicinskojj_pomoshhi.[1].jpg"/>
          <p:cNvPicPr/>
          <p:nvPr/>
        </p:nvPicPr>
        <p:blipFill>
          <a:blip r:embed="rId1"/>
          <a:stretch/>
        </p:blipFill>
        <p:spPr>
          <a:xfrm>
            <a:off x="357120" y="1428840"/>
            <a:ext cx="4038840" cy="2774880"/>
          </a:xfrm>
          <a:prstGeom prst="rect">
            <a:avLst/>
          </a:prstGeom>
          <a:ln w="0">
            <a:noFill/>
          </a:ln>
        </p:spPr>
      </p:pic>
      <p:pic>
        <p:nvPicPr>
          <p:cNvPr id="128" name="Содержимое 5" descr="7413c4cc17da[1].jpg"/>
          <p:cNvPicPr/>
          <p:nvPr/>
        </p:nvPicPr>
        <p:blipFill>
          <a:blip r:embed="rId2"/>
          <a:stretch/>
        </p:blipFill>
        <p:spPr>
          <a:xfrm>
            <a:off x="1428840" y="4500720"/>
            <a:ext cx="4038480" cy="2092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Users\Владелец\Desktop\сестры милосердия\4_1[1].jpg"/>
          <p:cNvPicPr/>
          <p:nvPr/>
        </p:nvPicPr>
        <p:blipFill>
          <a:blip r:embed="rId3"/>
          <a:stretch/>
        </p:blipFill>
        <p:spPr>
          <a:xfrm>
            <a:off x="6072120" y="1571760"/>
            <a:ext cx="2648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естры милосердия наших дне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Содержимое 6" descr="_MG_8531_5[1].jpg"/>
          <p:cNvPicPr/>
          <p:nvPr/>
        </p:nvPicPr>
        <p:blipFill>
          <a:blip r:embed="rId1"/>
          <a:stretch/>
        </p:blipFill>
        <p:spPr>
          <a:xfrm>
            <a:off x="938160" y="1600200"/>
            <a:ext cx="3076560" cy="2171880"/>
          </a:xfrm>
          <a:prstGeom prst="rect">
            <a:avLst/>
          </a:prstGeom>
          <a:ln w="0">
            <a:noFill/>
          </a:ln>
        </p:spPr>
      </p:pic>
      <p:pic>
        <p:nvPicPr>
          <p:cNvPr id="132" name="Содержимое 8" descr="0904034m[1].jpg"/>
          <p:cNvPicPr/>
          <p:nvPr/>
        </p:nvPicPr>
        <p:blipFill>
          <a:blip r:embed="rId2"/>
          <a:stretch/>
        </p:blipFill>
        <p:spPr>
          <a:xfrm>
            <a:off x="5159520" y="1600200"/>
            <a:ext cx="3016080" cy="2171880"/>
          </a:xfrm>
          <a:prstGeom prst="rect">
            <a:avLst/>
          </a:prstGeom>
          <a:ln w="0">
            <a:noFill/>
          </a:ln>
        </p:spPr>
      </p:pic>
      <p:pic>
        <p:nvPicPr>
          <p:cNvPr id="133" name="Содержимое 7" descr="12[1].jpg"/>
          <p:cNvPicPr/>
          <p:nvPr/>
        </p:nvPicPr>
        <p:blipFill>
          <a:blip r:embed="rId3"/>
          <a:stretch/>
        </p:blipFill>
        <p:spPr>
          <a:xfrm>
            <a:off x="928800" y="4071960"/>
            <a:ext cx="3071880" cy="2286000"/>
          </a:xfrm>
          <a:prstGeom prst="rect">
            <a:avLst/>
          </a:prstGeom>
          <a:ln w="0">
            <a:noFill/>
          </a:ln>
        </p:spPr>
      </p:pic>
      <p:pic>
        <p:nvPicPr>
          <p:cNvPr id="134" name="Содержимое 9" descr="mnogo_raznyh_prev[1].jpg"/>
          <p:cNvPicPr/>
          <p:nvPr/>
        </p:nvPicPr>
        <p:blipFill>
          <a:blip r:embed="rId4"/>
          <a:stretch/>
        </p:blipFill>
        <p:spPr>
          <a:xfrm>
            <a:off x="5072040" y="4000680"/>
            <a:ext cx="3279960" cy="22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стоки благотворительности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 ноября 1796 г. Император Павел Петрович передал под попечительство жены Марии Федоровны Воспитательное обще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смерти императрицы, Николай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отмечая ее заслуги, 14 ноября 1828 г.  учредил особый Мариинский знак отличия за беспорочную службу на поприще благотворитель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" descr="Императрица Мария Федоровна"/>
          <p:cNvPicPr/>
          <p:nvPr/>
        </p:nvPicPr>
        <p:blipFill>
          <a:blip r:embed="rId1"/>
          <a:stretch/>
        </p:blipFill>
        <p:spPr>
          <a:xfrm>
            <a:off x="5003640" y="1413000"/>
            <a:ext cx="3457800" cy="49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ри их участии в Петербурге и Москве возникли первые общины сестер милосерд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56800" y="5643360"/>
            <a:ext cx="37861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нцесса Терезия Ольденбург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Содержимое 6" descr="Терезия Ольденбургская.jpg"/>
          <p:cNvPicPr/>
          <p:nvPr/>
        </p:nvPicPr>
        <p:blipFill>
          <a:blip r:embed="rId1"/>
          <a:stretch/>
        </p:blipFill>
        <p:spPr>
          <a:xfrm>
            <a:off x="714240" y="1643040"/>
            <a:ext cx="3184560" cy="3951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43200" y="5643720"/>
            <a:ext cx="5500800" cy="92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сковский врач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ааз Ф.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Содержимое 7" descr="Ф.П. Гааз.jpg"/>
          <p:cNvPicPr/>
          <p:nvPr/>
        </p:nvPicPr>
        <p:blipFill>
          <a:blip r:embed="rId2"/>
          <a:stretch/>
        </p:blipFill>
        <p:spPr>
          <a:xfrm>
            <a:off x="5929200" y="1643040"/>
            <a:ext cx="247032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06728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В 1854 г. Великая княгиня Елена Павловна учредила общину сестер милосердия,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84720" y="4005360"/>
            <a:ext cx="446400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которая называла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Крестовоздвиженска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10" descr="Княжна Елена Павловна"/>
          <p:cNvPicPr/>
          <p:nvPr/>
        </p:nvPicPr>
        <p:blipFill>
          <a:blip r:embed="rId1"/>
          <a:stretch/>
        </p:blipFill>
        <p:spPr>
          <a:xfrm>
            <a:off x="539640" y="3213000"/>
            <a:ext cx="2719440" cy="336564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6" descr="37317[1].jpg"/>
          <p:cNvPicPr/>
          <p:nvPr/>
        </p:nvPicPr>
        <p:blipFill>
          <a:blip r:embed="rId2"/>
          <a:stretch/>
        </p:blipFill>
        <p:spPr>
          <a:xfrm>
            <a:off x="3857760" y="1074600"/>
            <a:ext cx="496224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42447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уководство и организационную деятельность осуществлял знаменитый врач, основоположник полевой хирургии Николай Пирог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6" descr="пирогов"/>
          <p:cNvPicPr/>
          <p:nvPr/>
        </p:nvPicPr>
        <p:blipFill>
          <a:blip r:embed="rId1"/>
          <a:stretch/>
        </p:blipFill>
        <p:spPr>
          <a:xfrm>
            <a:off x="4643280" y="549360"/>
            <a:ext cx="43084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естры Крестовоздвиженской общины- участницы обороны Севастополя 1854-1855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гг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8 из прибывших на фронт женщин были награждены медалью "За оборону Севастополя", среди них – Е. Бакунина, Е. Карцева, А. Стахович, Е.Хитрово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10" descr="бакунина"/>
          <p:cNvPicPr/>
          <p:nvPr/>
        </p:nvPicPr>
        <p:blipFill>
          <a:blip r:embed="rId1"/>
          <a:stretch/>
        </p:blipFill>
        <p:spPr>
          <a:xfrm>
            <a:off x="179280" y="3429000"/>
            <a:ext cx="2125800" cy="2979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карцщва лиза петровнв"/>
          <p:cNvPicPr/>
          <p:nvPr/>
        </p:nvPicPr>
        <p:blipFill>
          <a:blip r:embed="rId2"/>
          <a:stretch/>
        </p:blipFill>
        <p:spPr>
          <a:xfrm>
            <a:off x="2395440" y="3429000"/>
            <a:ext cx="2100240" cy="2984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стахович александра петровна"/>
          <p:cNvPicPr/>
          <p:nvPr/>
        </p:nvPicPr>
        <p:blipFill>
          <a:blip r:embed="rId3"/>
          <a:stretch/>
        </p:blipFill>
        <p:spPr>
          <a:xfrm>
            <a:off x="4572000" y="3429000"/>
            <a:ext cx="2111400" cy="3024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хитрово"/>
          <p:cNvPicPr/>
          <p:nvPr/>
        </p:nvPicPr>
        <p:blipFill>
          <a:blip r:embed="rId4"/>
          <a:stretch/>
        </p:blipFill>
        <p:spPr>
          <a:xfrm>
            <a:off x="6780240" y="3429000"/>
            <a:ext cx="19969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Первая русская сестра милосердия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Даша Севастопольская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Такой ее изобразил художник Ф. А. Рубо на полотне панорамы «Оборона Севастополя 1854-1855 гг.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Содержимое 4" descr="tr_6929.jpg"/>
          <p:cNvPicPr/>
          <p:nvPr/>
        </p:nvPicPr>
        <p:blipFill>
          <a:blip r:embed="rId1"/>
          <a:stretch/>
        </p:blipFill>
        <p:spPr>
          <a:xfrm>
            <a:off x="1214280" y="2071800"/>
            <a:ext cx="6748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Флоренс Найтингейл , английская сестра милосердия, и высшая награда для сестер милосердия ее имени, учрежденная в 1912 году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Содержимое 4" descr="Флоренс Найтингейл.jpg"/>
          <p:cNvPicPr/>
          <p:nvPr/>
        </p:nvPicPr>
        <p:blipFill>
          <a:blip r:embed="rId1"/>
          <a:stretch/>
        </p:blipFill>
        <p:spPr>
          <a:xfrm>
            <a:off x="928800" y="1743120"/>
            <a:ext cx="2928960" cy="446400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5" descr="1912 высшая награда.jpg"/>
          <p:cNvPicPr/>
          <p:nvPr/>
        </p:nvPicPr>
        <p:blipFill>
          <a:blip r:embed="rId2"/>
          <a:stretch/>
        </p:blipFill>
        <p:spPr>
          <a:xfrm>
            <a:off x="5572080" y="2714760"/>
            <a:ext cx="316548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естры милосердия принимали участие во всех войнах второй половины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XIX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столетия. Они самоотверженно трудились в госпиталях, на перевязочных пунктах, на передово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Содержимое 3" descr="767677330[1].jpg"/>
          <p:cNvPicPr/>
          <p:nvPr/>
        </p:nvPicPr>
        <p:blipFill>
          <a:blip r:embed="rId1"/>
          <a:stretch/>
        </p:blipFill>
        <p:spPr>
          <a:xfrm>
            <a:off x="1571760" y="1785960"/>
            <a:ext cx="5978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5:35:57Z</dcterms:created>
  <dc:creator>Владелец</dc:creator>
  <dc:description/>
  <dc:language>en-US</dc:language>
  <cp:lastModifiedBy>Ольга</cp:lastModifiedBy>
  <dcterms:modified xsi:type="dcterms:W3CDTF">2020-11-10T11:27:03Z</dcterms:modified>
  <cp:revision>59</cp:revision>
  <dc:subject/>
  <dc:title>Слайд 1</dc:title>
</cp:coreProperties>
</file>