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737B-6F19-420A-9F92-41B9C9009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439A-F601-44D1-B1FF-41E48F0D6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A087-9837-4DB8-9708-7B3014011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84BE-296F-4FEC-9361-EFFEE7711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53764-C155-4E22-A4CC-4F117E6A3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573E1-81D0-4517-A6D8-517423C41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ECE20-9440-434E-A2FA-634FA2FA8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ED652-BEA6-43BA-8AED-36FF7AF6F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9953D-A761-4E06-AF1E-4BEFC71A0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638DC-4D91-441E-982A-2FBA33449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0B91C-7747-4372-9F4B-2511D9C3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F82B-64D2-4AD0-9302-ADBAD3512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A4242-4229-4874-B9BC-A0A9090D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8B2C0-F6CA-4093-BB3F-C54F5607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702E6-55A9-4C93-AD96-3EFF3C226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B2FBA-75A2-4FB5-B3C3-21CB2B185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BB3CC-0CC0-439C-A199-0A801D605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8CC5-21E7-404C-9FBA-C14D247D6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4614-391B-49A1-8707-7E9C3937D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E8C0-7617-4B79-AEA2-94FB97278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54A2-BEF9-4283-AA82-D0C32D08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CCE7-D035-4492-8EB2-D7492675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D9CD-ABD6-4A46-964A-C9F74517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1C0B-D945-4B52-9732-7E3937EC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D9610-60B3-4A1B-BB48-9253BE08E030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D84E3-ADBB-42DC-B973-79D8E4F540B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естры милосердия в Росси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9" name="Содержимое 3" descr="1307327.jpg"/>
          <p:cNvPicPr/>
          <p:nvPr/>
        </p:nvPicPr>
        <p:blipFill>
          <a:blip r:embed="rId1"/>
          <a:stretch/>
        </p:blipFill>
        <p:spPr>
          <a:xfrm>
            <a:off x="2666880" y="241920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2440" y="4812120"/>
            <a:ext cx="5486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8" name="Рисунок 4" descr="сестры крестовоздвиженской общины с пироговым.JPG"/>
          <p:cNvPicPr/>
          <p:nvPr/>
        </p:nvPicPr>
        <p:blipFill>
          <a:blip r:embed="rId1"/>
          <a:srcRect l="0" t="928" r="0" b="928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28880" y="4857840"/>
            <a:ext cx="564336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 1913 году в России в 109 общинах работали 3442 сестры милосерд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 началу Первой мировой войны(1914), только в госпиталях их насчитывалось около 20 тыс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В годы Первой мировой войны императрица Александра Федоровна со своими дочерьми Ольгой ,Татьяной, Марией и Анастасией тоже стали сестрами милосердия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1" name="Содержимое 4" descr="1-922[1].jpg"/>
          <p:cNvPicPr/>
          <p:nvPr/>
        </p:nvPicPr>
        <p:blipFill>
          <a:blip r:embed="rId1"/>
          <a:stretch/>
        </p:blipFill>
        <p:spPr>
          <a:xfrm>
            <a:off x="357120" y="1571760"/>
            <a:ext cx="3301920" cy="5041800"/>
          </a:xfrm>
          <a:prstGeom prst="rect">
            <a:avLst/>
          </a:prstGeom>
          <a:ln w="0">
            <a:noFill/>
          </a:ln>
        </p:spPr>
      </p:pic>
      <p:pic>
        <p:nvPicPr>
          <p:cNvPr id="122" name="Содержимое 5" descr="1[1].jpg"/>
          <p:cNvPicPr/>
          <p:nvPr/>
        </p:nvPicPr>
        <p:blipFill>
          <a:blip r:embed="rId2"/>
          <a:stretch/>
        </p:blipFill>
        <p:spPr>
          <a:xfrm>
            <a:off x="4286160" y="2143080"/>
            <a:ext cx="457200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Августейшие особы ассистировали при операциях, дежурили сиделками у постелей раненых, выполняли любую работу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4" name="Содержимое 5" descr="24792566_86[1].jpg"/>
          <p:cNvPicPr/>
          <p:nvPr/>
        </p:nvPicPr>
        <p:blipFill>
          <a:blip r:embed="rId1"/>
          <a:stretch/>
        </p:blipFill>
        <p:spPr>
          <a:xfrm>
            <a:off x="4890960" y="1500120"/>
            <a:ext cx="4253040" cy="3295800"/>
          </a:xfrm>
          <a:prstGeom prst="rect">
            <a:avLst/>
          </a:prstGeom>
          <a:ln w="0">
            <a:noFill/>
          </a:ln>
        </p:spPr>
      </p:pic>
      <p:pic>
        <p:nvPicPr>
          <p:cNvPr id="125" name="Содержимое 7" descr="4050[1].jpg"/>
          <p:cNvPicPr/>
          <p:nvPr/>
        </p:nvPicPr>
        <p:blipFill>
          <a:blip r:embed="rId2"/>
          <a:stretch/>
        </p:blipFill>
        <p:spPr>
          <a:xfrm>
            <a:off x="357120" y="3000240"/>
            <a:ext cx="43578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Сестрички Великой Отечественной войны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7" name="Содержимое 4" descr="1205337613_okazanie_pervojj_medicinskojj_pomoshhi.[1].jpg"/>
          <p:cNvPicPr/>
          <p:nvPr/>
        </p:nvPicPr>
        <p:blipFill>
          <a:blip r:embed="rId1"/>
          <a:stretch/>
        </p:blipFill>
        <p:spPr>
          <a:xfrm>
            <a:off x="357120" y="1428840"/>
            <a:ext cx="4038840" cy="2774880"/>
          </a:xfrm>
          <a:prstGeom prst="rect">
            <a:avLst/>
          </a:prstGeom>
          <a:ln w="0">
            <a:noFill/>
          </a:ln>
        </p:spPr>
      </p:pic>
      <p:pic>
        <p:nvPicPr>
          <p:cNvPr id="128" name="Содержимое 5" descr="7413c4cc17da[1].jpg"/>
          <p:cNvPicPr/>
          <p:nvPr/>
        </p:nvPicPr>
        <p:blipFill>
          <a:blip r:embed="rId2"/>
          <a:stretch/>
        </p:blipFill>
        <p:spPr>
          <a:xfrm>
            <a:off x="1428840" y="4500720"/>
            <a:ext cx="4038480" cy="2092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C:\Users\Владелец\Desktop\сестры милосердия\4_1[1].jpg"/>
          <p:cNvPicPr/>
          <p:nvPr/>
        </p:nvPicPr>
        <p:blipFill>
          <a:blip r:embed="rId3"/>
          <a:stretch/>
        </p:blipFill>
        <p:spPr>
          <a:xfrm>
            <a:off x="6072120" y="1571760"/>
            <a:ext cx="26481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Сестры милосердия наших дней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1" name="Содержимое 6" descr="_MG_8531_5[1].jpg"/>
          <p:cNvPicPr/>
          <p:nvPr/>
        </p:nvPicPr>
        <p:blipFill>
          <a:blip r:embed="rId1"/>
          <a:stretch/>
        </p:blipFill>
        <p:spPr>
          <a:xfrm>
            <a:off x="938160" y="1600200"/>
            <a:ext cx="3076560" cy="2171880"/>
          </a:xfrm>
          <a:prstGeom prst="rect">
            <a:avLst/>
          </a:prstGeom>
          <a:ln w="0">
            <a:noFill/>
          </a:ln>
        </p:spPr>
      </p:pic>
      <p:pic>
        <p:nvPicPr>
          <p:cNvPr id="132" name="Содержимое 8" descr="0904034m[1].jpg"/>
          <p:cNvPicPr/>
          <p:nvPr/>
        </p:nvPicPr>
        <p:blipFill>
          <a:blip r:embed="rId2"/>
          <a:stretch/>
        </p:blipFill>
        <p:spPr>
          <a:xfrm>
            <a:off x="5159520" y="1600200"/>
            <a:ext cx="3016080" cy="2171880"/>
          </a:xfrm>
          <a:prstGeom prst="rect">
            <a:avLst/>
          </a:prstGeom>
          <a:ln w="0">
            <a:noFill/>
          </a:ln>
        </p:spPr>
      </p:pic>
      <p:pic>
        <p:nvPicPr>
          <p:cNvPr id="133" name="Содержимое 7" descr="12[1].jpg"/>
          <p:cNvPicPr/>
          <p:nvPr/>
        </p:nvPicPr>
        <p:blipFill>
          <a:blip r:embed="rId3"/>
          <a:stretch/>
        </p:blipFill>
        <p:spPr>
          <a:xfrm>
            <a:off x="928800" y="4071960"/>
            <a:ext cx="3071880" cy="2286000"/>
          </a:xfrm>
          <a:prstGeom prst="rect">
            <a:avLst/>
          </a:prstGeom>
          <a:ln w="0">
            <a:noFill/>
          </a:ln>
        </p:spPr>
      </p:pic>
      <p:pic>
        <p:nvPicPr>
          <p:cNvPr id="134" name="Содержимое 9" descr="mnogo_raznyh_prev[1].jpg"/>
          <p:cNvPicPr/>
          <p:nvPr/>
        </p:nvPicPr>
        <p:blipFill>
          <a:blip r:embed="rId4"/>
          <a:stretch/>
        </p:blipFill>
        <p:spPr>
          <a:xfrm>
            <a:off x="5072040" y="4000680"/>
            <a:ext cx="3279960" cy="22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Истоки благотворительности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85840" y="159984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2 ноября 1796 г. Император Павел Петрович передал под попечительство жены Марии Федоровны Воспитательное обществ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 смерти императрицы, Николай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отмечая ее заслуги, 14 ноября 1828 г.  учредил особый Мариинский знак отличия за беспорочную службу на поприще благотворительност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6" descr="Императрица Мария Федоровна"/>
          <p:cNvPicPr/>
          <p:nvPr/>
        </p:nvPicPr>
        <p:blipFill>
          <a:blip r:embed="rId1"/>
          <a:stretch/>
        </p:blipFill>
        <p:spPr>
          <a:xfrm>
            <a:off x="5003640" y="1413000"/>
            <a:ext cx="3457800" cy="49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При их участии в Петербурге и Москве возникли первые общины сестер милосердия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56800" y="5643360"/>
            <a:ext cx="3786120" cy="92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инцесса Терезия Ольденбургск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Содержимое 6" descr="Терезия Ольденбургская.jpg"/>
          <p:cNvPicPr/>
          <p:nvPr/>
        </p:nvPicPr>
        <p:blipFill>
          <a:blip r:embed="rId1"/>
          <a:stretch/>
        </p:blipFill>
        <p:spPr>
          <a:xfrm>
            <a:off x="714240" y="1643040"/>
            <a:ext cx="3184560" cy="39513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43200" y="5643720"/>
            <a:ext cx="5500800" cy="92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Московский врач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Гааз Ф.П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Содержимое 7" descr="Ф.П. Гааз.jpg"/>
          <p:cNvPicPr/>
          <p:nvPr/>
        </p:nvPicPr>
        <p:blipFill>
          <a:blip r:embed="rId2"/>
          <a:stretch/>
        </p:blipFill>
        <p:spPr>
          <a:xfrm>
            <a:off x="5929200" y="1643040"/>
            <a:ext cx="247032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067280" cy="22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В 1854 г. Великая княгиня Елена Павловна учредила общину сестер милосердия,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284720" y="4005360"/>
            <a:ext cx="4464000" cy="21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которая называлас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Крестовоздвиженска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10" descr="Княжна Елена Павловна"/>
          <p:cNvPicPr/>
          <p:nvPr/>
        </p:nvPicPr>
        <p:blipFill>
          <a:blip r:embed="rId1"/>
          <a:stretch/>
        </p:blipFill>
        <p:spPr>
          <a:xfrm>
            <a:off x="539640" y="3213000"/>
            <a:ext cx="2719440" cy="3365640"/>
          </a:xfrm>
          <a:prstGeom prst="rect">
            <a:avLst/>
          </a:prstGeom>
          <a:ln w="0">
            <a:noFill/>
          </a:ln>
        </p:spPr>
      </p:pic>
      <p:pic>
        <p:nvPicPr>
          <p:cNvPr id="101" name="Содержимое 6" descr="37317[1].jpg"/>
          <p:cNvPicPr/>
          <p:nvPr/>
        </p:nvPicPr>
        <p:blipFill>
          <a:blip r:embed="rId2"/>
          <a:stretch/>
        </p:blipFill>
        <p:spPr>
          <a:xfrm>
            <a:off x="3857760" y="1074600"/>
            <a:ext cx="4962240" cy="32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50560" y="1484280"/>
            <a:ext cx="424476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Руководство и организационную деятельность осуществлял знаменитый врач, основоположник полевой хирургии Николай Пирогов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6" descr="пирогов"/>
          <p:cNvPicPr/>
          <p:nvPr/>
        </p:nvPicPr>
        <p:blipFill>
          <a:blip r:embed="rId1"/>
          <a:stretch/>
        </p:blipFill>
        <p:spPr>
          <a:xfrm>
            <a:off x="4643280" y="549360"/>
            <a:ext cx="430848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Сестры Крестовоздвиженской общины- участницы обороны Севастополя 1854-1855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гг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68 из прибывших на фронт женщин были награждены медалью "За оборону Севастополя", среди них – Е. Бакунина, Е. Карцева, А. Стахович, Е.Хитрово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10" descr="бакунина"/>
          <p:cNvPicPr/>
          <p:nvPr/>
        </p:nvPicPr>
        <p:blipFill>
          <a:blip r:embed="rId1"/>
          <a:stretch/>
        </p:blipFill>
        <p:spPr>
          <a:xfrm>
            <a:off x="179280" y="3429000"/>
            <a:ext cx="2125800" cy="2979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карцщва лиза петровнв"/>
          <p:cNvPicPr/>
          <p:nvPr/>
        </p:nvPicPr>
        <p:blipFill>
          <a:blip r:embed="rId2"/>
          <a:stretch/>
        </p:blipFill>
        <p:spPr>
          <a:xfrm>
            <a:off x="2395440" y="3429000"/>
            <a:ext cx="2100240" cy="2984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стахович александра петровна"/>
          <p:cNvPicPr/>
          <p:nvPr/>
        </p:nvPicPr>
        <p:blipFill>
          <a:blip r:embed="rId3"/>
          <a:stretch/>
        </p:blipFill>
        <p:spPr>
          <a:xfrm>
            <a:off x="4572000" y="3429000"/>
            <a:ext cx="2111400" cy="3024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хитрово"/>
          <p:cNvPicPr/>
          <p:nvPr/>
        </p:nvPicPr>
        <p:blipFill>
          <a:blip r:embed="rId4"/>
          <a:stretch/>
        </p:blipFill>
        <p:spPr>
          <a:xfrm>
            <a:off x="6780240" y="3429000"/>
            <a:ext cx="19969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Первая русская сестра милосердия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Даша Севастопольская.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Такой ее изобразил художник Ф. А. Рубо на полотне панорамы «Оборона Севастополя 1854-1855 гг.»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1" name="Содержимое 4" descr="tr_6929.jpg"/>
          <p:cNvPicPr/>
          <p:nvPr/>
        </p:nvPicPr>
        <p:blipFill>
          <a:blip r:embed="rId1"/>
          <a:stretch/>
        </p:blipFill>
        <p:spPr>
          <a:xfrm>
            <a:off x="1214280" y="2071800"/>
            <a:ext cx="67485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Флоренс Найтингейл , английская сестра милосердия, и высшая награда для сестер милосердия ее имени, учрежденная в 1912 году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3" name="Содержимое 4" descr="Флоренс Найтингейл.jpg"/>
          <p:cNvPicPr/>
          <p:nvPr/>
        </p:nvPicPr>
        <p:blipFill>
          <a:blip r:embed="rId1"/>
          <a:stretch/>
        </p:blipFill>
        <p:spPr>
          <a:xfrm>
            <a:off x="928800" y="1743120"/>
            <a:ext cx="2928960" cy="4464000"/>
          </a:xfrm>
          <a:prstGeom prst="rect">
            <a:avLst/>
          </a:prstGeom>
          <a:ln w="0">
            <a:noFill/>
          </a:ln>
        </p:spPr>
      </p:pic>
      <p:pic>
        <p:nvPicPr>
          <p:cNvPr id="114" name="Содержимое 5" descr="1912 высшая награда.jpg"/>
          <p:cNvPicPr/>
          <p:nvPr/>
        </p:nvPicPr>
        <p:blipFill>
          <a:blip r:embed="rId2"/>
          <a:stretch/>
        </p:blipFill>
        <p:spPr>
          <a:xfrm>
            <a:off x="5572080" y="2714760"/>
            <a:ext cx="3165480" cy="32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Сестры милосердия принимали участие во всех войнах второй половины 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XIX 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столетия. Они самоотверженно трудились в госпиталях, на перевязочных пунктах, на передовой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6" name="Содержимое 3" descr="767677330[1].jpg"/>
          <p:cNvPicPr/>
          <p:nvPr/>
        </p:nvPicPr>
        <p:blipFill>
          <a:blip r:embed="rId1"/>
          <a:stretch/>
        </p:blipFill>
        <p:spPr>
          <a:xfrm>
            <a:off x="1571760" y="1785960"/>
            <a:ext cx="59785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5T15:35:57Z</dcterms:created>
  <dc:creator>Владелец</dc:creator>
  <dc:description/>
  <dc:language>en-US</dc:language>
  <cp:lastModifiedBy>Ольга</cp:lastModifiedBy>
  <dcterms:modified xsi:type="dcterms:W3CDTF">2020-11-10T11:27:03Z</dcterms:modified>
  <cp:revision>59</cp:revision>
  <dc:subject/>
  <dc:title>Слайд 1</dc:title>
</cp:coreProperties>
</file>