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8037-BFD3-4F8E-B4DC-F444C0A08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B127-8DBC-4E6A-9BF2-9427A0EF8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D5B-BFF2-4702-9021-9AA53125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506-7690-4A9F-8617-66EA526F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F99-67C8-49EB-9574-C0247D75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17E-49D6-46DA-8345-E815D19E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A82-5A40-485E-AC52-0BED0FF7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B78-1C29-46CC-A843-49DB8EFA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A19-2C4F-4188-A10C-91B753DB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D29-F416-4C76-8E7B-48C8D026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211-7D1D-4ABD-872F-27091DA5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30A-CA97-4CCB-B89A-F0F1BA85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A6F-83E1-4A70-8061-473CA18C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206-7D64-40B7-A2F4-AF9DE986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2AF3-441C-4662-A3C2-C2712AFC2B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5840-2DBF-4A9D-BA85-851D50C41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50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еспечение информационной безопасности дет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484360" y="3537000"/>
            <a:ext cx="475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85676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циальные сет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Быть или не быть, вот в чем вопрос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ижний колонтитул 1"/>
          <p:cNvSpPr/>
          <p:nvPr/>
        </p:nvSpPr>
        <p:spPr>
          <a:xfrm>
            <a:off x="3124080" y="6237360"/>
            <a:ext cx="289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240000" y="1765440"/>
            <a:ext cx="226872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ьза и вред социальных с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доступна, указанная информац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2855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Размещая информацию на персональной странице, в том числе, свои персональные данные, Пользователь осознает и соглашается с тем, что указанная информация может быть доступна другим пользователям сети Интернет»  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6.jpg"/>
          <p:cNvPicPr/>
          <p:nvPr/>
        </p:nvPicPr>
        <p:blipFill>
          <a:blip r:embed="rId1"/>
          <a:stretch/>
        </p:blipFill>
        <p:spPr>
          <a:xfrm>
            <a:off x="324000" y="3357720"/>
            <a:ext cx="4752720" cy="2592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5651640" y="310680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Выдержка из Правил «ВКонтакте», которые почти никто не читает при регистраци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ональные данные - вся информация, указанная Вами при регистрации и в дальнейшем размещаемая на страниц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4240" y="2214360"/>
            <a:ext cx="4786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мер телеф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, класс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едения о предпочтениях (группы, посты 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еопози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55520" y="-449568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07800" y="-434340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55520" y="-226224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07800" y="-210996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460440" y="-195732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155520" y="-2316240"/>
            <a:ext cx="66675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"/>
          <p:cNvPicPr/>
          <p:nvPr/>
        </p:nvPicPr>
        <p:blipFill>
          <a:blip r:embed="rId1"/>
          <a:stretch/>
        </p:blipFill>
        <p:spPr>
          <a:xfrm>
            <a:off x="4819680" y="2556000"/>
            <a:ext cx="4006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ки размещения информации в се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32000" y="1268280"/>
            <a:ext cx="720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я может попасть в руки злоумышленника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ение (размещенный Вами пост сегодня, через несколько лет может вызвать у Вас чувства стыда и неуместнос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ственность (общаясь в соц.сетях можно оскорбить человека, за что предусмотрена ответственность - статья 5.61 КоАП Р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родител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Вашем будущем (учеба, работа…). Интернет «помнит всё»!!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иртуальная реа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!!!! Второе слово точно отражает суть дел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ё, что происходит в Сети, реально, и опасности там тоже реаль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28656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общаться в С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95580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Не выкладывайте личную информацию (совместные фотографии, видео, иные данные) о ваших друзьях в Интернет без их разреш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е отправляйте свои персональные данные, а также свои видео и фото людям, с которыми вы познакомились в Интернете, тем более если вы не знаете их в реальной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ри общении с другими пользователями старайтесь быть вежливыми, деликатными, тактичными и дружелюбн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тарайтесь не реагировать на обидные комментарии, хамство и грубость други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Если решить проблему мирным путем не удалось, напишите жалобу администратору сайта, потребуйте заблокировать обидч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Если администратор сайта отказался вам помочь, прекратите пользоваться таким ресурсом и удалите оттуда свои дан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Не используйте Сеть для распространения сплетен, угроз или хулиган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е встречайтесь в реальной жизни с онлайн-знакомыми без разрешения родителей или в отсутствие взросл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6021360" y="4508640"/>
            <a:ext cx="2820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8" descr="10.jpg"/>
          <p:cNvPicPr/>
          <p:nvPr/>
        </p:nvPicPr>
        <p:blipFill>
          <a:blip r:embed="rId1"/>
          <a:stretch/>
        </p:blipFill>
        <p:spPr>
          <a:xfrm>
            <a:off x="5003640" y="4076640"/>
            <a:ext cx="3853080" cy="247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опасность Ваших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1196640"/>
            <a:ext cx="85010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акже как и личный дом с вещами и ценностями, надо держать взаперти свой аккаунт с личной информа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и составлении паролей рекомендуется придерживаться следующих правил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ароль должен содержать не менее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шест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 состав пароля могут входить цифры, латинские буквы, пробелы и специальные символы (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.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 и др. 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комендуется составлять пароль из смешанного набора цифровых и буквенных (прописных и строчных) 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е используйте в качестве парол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щеупотребительные слова и устойчивые словосочета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боры символов, представляющие собой комбинации клавиш, расположенных подряд на клавиатуре, такие как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werty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23456789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azxsw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и т. п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ерсональные данные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мена, фамили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дреса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омера паспорто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траховых свидетельств и т.д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портале персональныеданные.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0000" y="2133720"/>
            <a:ext cx="7786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есь Вы найдете различные материалы, которые были разработаны специалистами Роскомнадзора, не только для педагогов и родителей, которые хотят помочь детям понять важность конфиденциальности личной жизни при использовании цифровых технологий, но также для молодых людей, которые с легкостью и энтузиазмом используют среду Интер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тал поможет детям понимать последствия, которые информационные технологии могут оказать на личную жизнь, и предоставить им инструменты и информацию, необходимые для принятия решений в вопросах виртуально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4" descr="http://school55rzn.ucoz.ru/2016/3/banner_pers_dannye.jpg"/>
          <p:cNvPicPr/>
          <p:nvPr/>
        </p:nvPicPr>
        <p:blipFill>
          <a:blip r:embed="rId1"/>
          <a:stretch/>
        </p:blipFill>
        <p:spPr>
          <a:xfrm>
            <a:off x="2008080" y="1341360"/>
            <a:ext cx="460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24868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://socdep.adm44.ru/i/u/61knopka.jpg"/>
          <p:cNvPicPr/>
          <p:nvPr/>
        </p:nvPicPr>
        <p:blipFill>
          <a:blip r:embed="rId1"/>
          <a:stretch/>
        </p:blipFill>
        <p:spPr>
          <a:xfrm>
            <a:off x="1332000" y="2565360"/>
            <a:ext cx="6408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03:37Z</dcterms:created>
  <dc:creator>Shevcov</dc:creator>
  <dc:description/>
  <dc:language>en-US</dc:language>
  <cp:lastModifiedBy>Конкина Анна Сергеевна</cp:lastModifiedBy>
  <dcterms:modified xsi:type="dcterms:W3CDTF">2020-06-02T01:44:57Z</dcterms:modified>
  <cp:revision>41</cp:revision>
  <dc:subject/>
  <dc:title>Безопасность в в сети Интернет</dc:title>
</cp:coreProperties>
</file>