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 проект Роскомнадзора сайт: персональныеданные.д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 Краснояр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6788-9172-42E9-A5DF-76A8316AA0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BFBE-FAD7-42D0-9855-22370CA277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 Краснояр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Верхний колонтитул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 проект Роскомнадзора сайт: персональныеданные.д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658E-DAF1-4197-BCE2-C8D6AE44C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5369-4ED3-4CCC-B8BB-41A47D68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D313-7B18-480E-9E10-85BF31C8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B46E-9E0E-4DA7-AAAC-1554526B4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9E70-159B-4024-A190-929A4993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767D-6FDC-408D-8A7A-DEAEBD89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BF9A-A4A9-4477-9BF7-BF53ED2F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6C91-18F3-4EAD-A3C5-93AEB375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A549-89DD-4ADF-92DA-CA113CB2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D940-B71C-4119-A1AE-7ADB1C18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E6E9-ED45-43B8-B4A1-7C95C187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8D9B-7B27-4DD5-91CA-529EC190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5AAB-9187-407F-B3B6-46A625D81B3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F235-9600-4468-8A0D-DA18D9B1A6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5009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еспечение информационной безопасности дет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2484360" y="3537000"/>
            <a:ext cx="4751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428400"/>
            <a:ext cx="85676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циальные сети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Быть или не быть, вот в чем вопрос…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Нижний колонтитул 1"/>
          <p:cNvSpPr/>
          <p:nvPr/>
        </p:nvSpPr>
        <p:spPr>
          <a:xfrm>
            <a:off x="3124080" y="6237360"/>
            <a:ext cx="2895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3240000" y="1765440"/>
            <a:ext cx="2268720" cy="3190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ьза и вред социальных с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му доступна, указанная информаци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760" y="128556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Размещая информацию на персональной странице, в том числе, свои персональные данные, Пользователь осознает и соглашается с тем, что указанная информация может быть доступна другим пользователям сети Интернет»  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6.jpg"/>
          <p:cNvPicPr/>
          <p:nvPr/>
        </p:nvPicPr>
        <p:blipFill>
          <a:blip r:embed="rId1"/>
          <a:stretch/>
        </p:blipFill>
        <p:spPr>
          <a:xfrm>
            <a:off x="324000" y="3357720"/>
            <a:ext cx="4752720" cy="25923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5651640" y="3106800"/>
            <a:ext cx="314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* Выдержка из Правил «ВКонтакте», которые почти никто не читает при регистраци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сональные данные - вся информация, указанная Вами при регистрации и в дальнейшем размещаемая на страниц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14240" y="2214360"/>
            <a:ext cx="478656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И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mai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омер телефо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Школа, класс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дре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т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едения о предпочтениях (группы, посты и т.д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еопозиц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P-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дре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т.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155520" y="-4495680"/>
            <a:ext cx="6667560" cy="93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307800" y="-4343400"/>
            <a:ext cx="6667560" cy="93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155520" y="-2262240"/>
            <a:ext cx="666756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307800" y="-2109960"/>
            <a:ext cx="666756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7"/>
          <p:cNvSpPr/>
          <p:nvPr/>
        </p:nvSpPr>
        <p:spPr>
          <a:xfrm>
            <a:off x="460440" y="-1957320"/>
            <a:ext cx="666756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3"/>
          <p:cNvSpPr/>
          <p:nvPr/>
        </p:nvSpPr>
        <p:spPr>
          <a:xfrm>
            <a:off x="155520" y="-2316240"/>
            <a:ext cx="66675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4" descr=""/>
          <p:cNvPicPr/>
          <p:nvPr/>
        </p:nvPicPr>
        <p:blipFill>
          <a:blip r:embed="rId1"/>
          <a:stretch/>
        </p:blipFill>
        <p:spPr>
          <a:xfrm>
            <a:off x="4819680" y="2556000"/>
            <a:ext cx="400680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420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иски размещения информации в сет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332000" y="1268280"/>
            <a:ext cx="72007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формация может попасть в руки злоумышленника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зросление (размещенный Вами пост сегодня, через несколько лет может вызвать у Вас чувства стыда и неуместност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ветственность (общаясь в соц.сетях можно оскорбить человека, за что предусмотрена ответственность - статья 5.61 КоАП РФ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мещаемая Вами информация, может негативно отразиться на родител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мещаемая Вами информация, может негативно отразиться на Вашем будущем (учеба, работа…). Интернет «помнит всё»!!!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Виртуальная реальн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!!!! Второе слово точно отражает суть дела: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сё, что происходит в Сети, реально, и опасности там тоже реальн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1187280" y="4292640"/>
            <a:ext cx="286560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к общаться в Се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000" y="955800"/>
            <a:ext cx="77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Не выкладывайте личную информацию (совместные фотографии, видео, иные данные) о ваших друзьях в Интернет без их разрешен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Не отправляйте свои персональные данные, а также свои видео и фото людям, с которыми вы познакомились в Интернете, тем более если вы не знаете их в реальной жиз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При общении с другими пользователями старайтесь быть вежливыми, деликатными, тактичными и дружелюбны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Старайтесь не реагировать на обидные комментарии, хамство и грубость других пользова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Если решить проблему мирным путем не удалось, напишите жалобу администратору сайта, потребуйте заблокировать обидчи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 Если администратор сайта отказался вам помочь, прекратите пользоваться таким ресурсом и удалите оттуда свои данны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. Не используйте Сеть для распространения сплетен, угроз или хулиган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. Не встречайтесь в реальной жизни с онлайн-знакомыми без разрешения родителей или в отсутствие взрослого челове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6021360" y="4508640"/>
            <a:ext cx="28209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8" descr="10.jpg"/>
          <p:cNvPicPr/>
          <p:nvPr/>
        </p:nvPicPr>
        <p:blipFill>
          <a:blip r:embed="rId1"/>
          <a:stretch/>
        </p:blipFill>
        <p:spPr>
          <a:xfrm>
            <a:off x="5003640" y="4076640"/>
            <a:ext cx="3853080" cy="2470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7120" y="4287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зопасность Ваших да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4000" y="1196640"/>
            <a:ext cx="85010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Также как и личный дом с вещами и ценностями, надо держать взаперти свой аккаунт с личной информацие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При составлении паролей рекомендуется придерживаться следующих правил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ароль должен содержать не менее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шести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 символо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 состав пароля могут входить цифры, латинские буквы, пробелы и специальные символы («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», «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», «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», «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», «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», «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». «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» и др. 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екомендуется составлять пароль из смешанного набора цифровых и буквенных (прописных и строчных) символо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Не используйте в качестве пароля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бщеупотребительные слова и устойчивые словосочетания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боры символов, представляющие собой комбинации клавиш, расположенных подряд на клавиатуре, такие как: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qwerty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123456789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qazxsw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 и т. п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ерсональные данные: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имена, фамилии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адреса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номера паспортов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страховых свидетельств и т.д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 портале персональныеданные.де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00000" y="2133720"/>
            <a:ext cx="77868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десь Вы найдете различные материалы, которые были разработаны специалистами Роскомнадзора, не только для педагогов и родителей, которые хотят помочь детям понять важность конфиденциальности личной жизни при использовании цифровых технологий, но также для молодых людей, которые с легкостью и энтузиазмом используют среду Интерн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ртал поможет детям понимать последствия, которые информационные технологии могут оказать на личную жизнь, и предоставить им инструменты и информацию, необходимые для принятия решений в вопросах виртуальной жиз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Объект 4" descr="http://school55rzn.ucoz.ru/2016/3/banner_pers_dannye.jpg"/>
          <p:cNvPicPr/>
          <p:nvPr/>
        </p:nvPicPr>
        <p:blipFill>
          <a:blip r:embed="rId1"/>
          <a:stretch/>
        </p:blipFill>
        <p:spPr>
          <a:xfrm>
            <a:off x="2008080" y="1341360"/>
            <a:ext cx="46087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1196640"/>
            <a:ext cx="8248680" cy="16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проект Роскомнадзора "Персональныеданные.дети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http://socdep.adm44.ru/i/u/61knopka.jpg"/>
          <p:cNvPicPr/>
          <p:nvPr/>
        </p:nvPicPr>
        <p:blipFill>
          <a:blip r:embed="rId1"/>
          <a:stretch/>
        </p:blipFill>
        <p:spPr>
          <a:xfrm>
            <a:off x="1332000" y="2565360"/>
            <a:ext cx="6408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0T01:03:37Z</dcterms:created>
  <dc:creator>Shevcov</dc:creator>
  <dc:description/>
  <dc:language>en-US</dc:language>
  <cp:lastModifiedBy>Конкина Анна Сергеевна</cp:lastModifiedBy>
  <dcterms:modified xsi:type="dcterms:W3CDTF">2020-06-02T01:44:57Z</dcterms:modified>
  <cp:revision>41</cp:revision>
  <dc:subject/>
  <dc:title>Безопасность в в сети Интернет</dc:title>
</cp:coreProperties>
</file>