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98C-44E9-421C-8E4C-CC6CEB89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250-265B-43A9-AF03-81E727F2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EDA-099C-49D0-ABB0-FD71D165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4A0-6783-4186-98D4-6AD9C5EB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61A-3800-4FA4-AD67-2A6D8AEE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8D3-30CC-49F3-9E6E-E7FCA42C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0F1-24C7-4485-A83A-B5B7281F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89B-14E2-46B6-97A1-278BC29E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5DF-44F6-442B-80A1-0739BB17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016-C953-4A4F-A001-E141A5D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723-A4FD-43AC-B8EA-4F386A6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450-3341-4511-84FE-6EE11E6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A310-E06B-4BEF-8C17-078530097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87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Прямоугольник 1" descr=""/>
          <p:cNvPicPr/>
          <p:nvPr/>
        </p:nvPicPr>
        <p:blipFill>
          <a:blip r:embed="rId6"/>
          <a:stretch/>
        </p:blipFill>
        <p:spPr>
          <a:xfrm>
            <a:off x="1066680" y="-12600"/>
            <a:ext cx="6858000" cy="1566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7"/>
          <a:stretch/>
        </p:blipFill>
        <p:spPr>
          <a:xfrm>
            <a:off x="646200" y="3730680"/>
            <a:ext cx="2938320" cy="175572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6"/>
          <p:cNvSpPr/>
          <p:nvPr/>
        </p:nvSpPr>
        <p:spPr>
          <a:xfrm>
            <a:off x="3581280" y="1447920"/>
            <a:ext cx="5067360" cy="495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81280" y="1600200"/>
            <a:ext cx="48592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262673"/>
                </a:solidFill>
                <a:uFillTx/>
                <a:latin typeface="Arial"/>
              </a:rPr>
              <a:t>Thema</a:t>
            </a:r>
            <a:r>
              <a:rPr b="1" lang="ru-RU" sz="3200" spc="-1" strike="noStrike" u="sng">
                <a:solidFill>
                  <a:srgbClr val="262673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Meine Familie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я семья.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»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8" descr=""/>
          <p:cNvPicPr/>
          <p:nvPr/>
        </p:nvPicPr>
        <p:blipFill>
          <a:blip r:embed="rId8"/>
          <a:stretch/>
        </p:blipFill>
        <p:spPr>
          <a:xfrm>
            <a:off x="689040" y="6022800"/>
            <a:ext cx="2895480" cy="7066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"/>
          <p:cNvPicPr/>
          <p:nvPr/>
        </p:nvPicPr>
        <p:blipFill>
          <a:blip r:embed="rId9"/>
          <a:stretch/>
        </p:blipFill>
        <p:spPr>
          <a:xfrm>
            <a:off x="4113360" y="3311640"/>
            <a:ext cx="40971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24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32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69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Прямоугольник 3" descr=""/>
          <p:cNvPicPr/>
          <p:nvPr/>
        </p:nvPicPr>
        <p:blipFill>
          <a:blip r:embed="rId6"/>
          <a:stretch/>
        </p:blipFill>
        <p:spPr>
          <a:xfrm>
            <a:off x="536400" y="304920"/>
            <a:ext cx="8114040" cy="920520"/>
          </a:xfrm>
          <a:prstGeom prst="rect">
            <a:avLst/>
          </a:prstGeom>
          <a:ln w="0">
            <a:noFill/>
          </a:ln>
        </p:spPr>
      </p:pic>
      <p:sp>
        <p:nvSpPr>
          <p:cNvPr id="200" name="Скругленный прямоугольник 6"/>
          <p:cNvSpPr/>
          <p:nvPr/>
        </p:nvSpPr>
        <p:spPr>
          <a:xfrm>
            <a:off x="990720" y="1305000"/>
            <a:ext cx="7619760" cy="509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371600" y="121932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ься с Порядком работы (слайд №3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ыучить новый материал. Выполнить письменное задание в тетр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66680" y="2971800"/>
            <a:ext cx="74678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делать фотографию выполненной в тетради рабо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ить  фото на проверку учителю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товой Т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ой поч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tatandkotova@mail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названии фотографии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указать Фамилию, имя, класс,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ы в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hats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  отправлят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204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12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49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6"/>
          <p:cNvSpPr/>
          <p:nvPr/>
        </p:nvSpPr>
        <p:spPr>
          <a:xfrm>
            <a:off x="863640" y="228600"/>
            <a:ext cx="7594560" cy="647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1"/>
          <p:cNvSpPr/>
          <p:nvPr/>
        </p:nvSpPr>
        <p:spPr>
          <a:xfrm>
            <a:off x="1384200" y="228600"/>
            <a:ext cx="654048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рядок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дату в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ишите тему урока (слайд№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мотрите видеоурок по ссыл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s://www.youtube.com/watch?v=b0IOo6wpw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 на немецком на тему СЕМЬЯ. Члены семьи на немец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ишите немецкие слова из видеофильма  в тетрадь и выуч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ите письменно в тетради задание из электронного учебни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стр.63 упр.9А )</a:t>
            </a: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слова в предложения и переведите полученный текст на русский язык.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ный учебник/ Тема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home</cp:lastModifiedBy>
  <dcterms:modified xsi:type="dcterms:W3CDTF">2020-11-10T09:44:06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