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C4B-711B-4574-8531-91D9B819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9DA-1E77-489D-B0DB-40294438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958-17F4-49E3-AAD8-3B02247A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93C-C94E-46B7-8D12-01B365E7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06BF-C321-4D3D-A665-4A90CDF7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6BA4-6DD9-44C9-8C01-AC2790FC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ADBB-CB73-4060-AA5D-3BC3A210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38C6-7CD0-46B6-8B75-8922F6EE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A57F-CEBA-49D5-9AC8-C00718D6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2B89-9E65-475C-8542-1ADF94A5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97A7-BED0-4645-9B09-F0A95880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BB6-68BF-4EB6-A50D-92D069E4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BFDE-BEED-4AC0-A80B-5DA92F1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DF75-77C1-4AF8-A240-8162DAA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0F23-9108-471C-B5BA-031893E7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3522-F665-499F-8EAC-69AD2DF3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758B-976F-4A74-9F3C-98F22095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A81-264E-4231-9BA5-B68553E6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72F-B387-408E-A13D-0201FA20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3E9-612B-4C65-ABED-0566D100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96F-4B3B-4D8E-BB38-661BEACF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32E-B881-4C7E-A96D-6FC5609D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ECE-77AC-46E1-8C54-CD0AF153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18A-4E59-453A-AE9F-BD43F3E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49B1-48FB-4CB2-8032-3B99F96BDD7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4BBF-6513-48AA-84D3-E3995B0608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432160" cy="2166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ОРОВЫЙ ОБРАЗ ЖИЗН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849760" cy="2135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76720" y="1484280"/>
            <a:ext cx="475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з жизни- вошедший в привычку способ жизнедеятельности, поведения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ОРОВ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48000" y="35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зическое        псих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3280" y="2997360"/>
            <a:ext cx="50328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6560" y="30700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офилактика наркомании и табакокур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 Курить опиум- все равно, что выпрыгивать из поезда на полном ходу»  Жан Кокт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КОТИК – от греческого 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rko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», что означает оцепенеть, сделаться нечувствительны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867280" y="1843200"/>
            <a:ext cx="1657440" cy="173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508720" y="3860640"/>
            <a:ext cx="2446200" cy="2664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4360" y="61657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СЬ  СКАЗАТЬ  « НЕТ»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  здоровом теле – здоровый ду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 природы есть закон – счастлив будет только тот, кто здоровье сбережет.        Прочь гони-ка все хворобы!                     Поучись-ка быть  здоровым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95760" y="1679400"/>
            <a:ext cx="2343240" cy="2030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435640" y="4146480"/>
            <a:ext cx="2460600" cy="177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оровье семьи - здоровье на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ношения в семье между отцом и матерью – наглядный пример для ребенка и основа духовного благополуч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 здоровья конкретно существующего поколения зависят здоровье и счастье последующег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761080" y="1808280"/>
            <a:ext cx="1817640" cy="177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783400" y="4129200"/>
            <a:ext cx="1763640" cy="1814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ОПРОС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36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ак вы понимаете «здоровый образ жизн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чему надо беречь глаза , зрение? Как это надо делать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ак вы понимаете принцип «Не навреди»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3635280" cy="241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5729400" y="4183200"/>
            <a:ext cx="1873080" cy="170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9:03:54Z</dcterms:created>
  <dc:creator>A0001</dc:creator>
  <dc:description/>
  <dc:language>en-US</dc:language>
  <cp:lastModifiedBy>Спортзал</cp:lastModifiedBy>
  <dcterms:modified xsi:type="dcterms:W3CDTF">2008-11-28T03:44:22Z</dcterms:modified>
  <cp:revision>20</cp:revision>
  <dc:subject/>
  <dc:title>ЗДОРОВЫЙ  ОБРАЗ  ЖИЗНИ</dc:title>
</cp:coreProperties>
</file>