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698-7296-4E2D-964B-5BF96BA3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76A-7786-493C-929D-1D00447B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EA2-5648-44D2-9312-5B03E0BB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1EE-AEF9-4AAA-950A-C78CFC62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317E-0387-4658-B122-98E2D93F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925F-D5F0-496C-941E-F8BF6B5C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F7BA-3D50-4433-9D55-F9D93B4C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BD8C-B37D-40A9-AFCA-EBA2397D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FC21-0716-44E6-8B42-C313BADA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DC76-CBFB-4DEA-90B4-BD3DAD75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2D03-985B-4DB5-B6A3-586BA252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2EA-81FF-438F-9EB8-B74B42EE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422F-1094-4B54-B0EE-871D6423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7C06-770A-44B4-A6BA-2EC0A553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8416-D5E7-414C-9C2D-D91A1C2A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91DD-1B01-43D6-834E-7E1068BD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1973-91C7-49BE-BEBB-001DE4FC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BA5-7E12-4B8C-8459-0B36AFB6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7D6-61DE-487E-9359-B85F6CA3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8F3-2FE2-4D4D-B09F-D62F8ADE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167-546B-4CB3-AE47-DE3AE160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B7A-1405-4326-994E-C74B0174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C0E-2A36-4F30-A12D-86240509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D33-6362-461D-B9C1-9A4BC8F3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355E-6BD6-4545-8455-B51E9FE2551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7A95-07FF-4D68-B316-52267C932EB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432160" cy="2166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ДОРОВЫЙ ОБРАЗ ЖИЗН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849760" cy="2135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276720" y="1484280"/>
            <a:ext cx="475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з жизни- вошедший в привычку способ жизнедеятельности, поведения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ДОРОВ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48000" y="35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изическое        псих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643280" y="2997360"/>
            <a:ext cx="50328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6560" y="30700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офилактика наркомании и табакокуре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468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 Курить опиум- все равно, что выпрыгивать из поезда на полном ходу»  Жан Кокт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РКОТИК – от греческого «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rkoo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», что означает оцепенеть, сделаться нечувствительны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867280" y="1843200"/>
            <a:ext cx="1657440" cy="1733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508720" y="3860640"/>
            <a:ext cx="2446200" cy="2664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4360" y="61657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СЬ  СКАЗАТЬ  « НЕТ»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3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  здоровом теле – здоровый ду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 природы есть закон – счастлив будет только тот, кто здоровье сбережет.        Прочь гони-ка все хворобы!                     Поучись-ка быть  здоровым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95760" y="1679400"/>
            <a:ext cx="2343240" cy="2030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435640" y="4146480"/>
            <a:ext cx="2460600" cy="177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доровье семьи - здоровье нац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ношения в семье между отцом и матерью – наглядный пример для ребенка и основа духовного благополуч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 здоровья конкретно существующего поколения зависят здоровье и счастье последующего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761080" y="1808280"/>
            <a:ext cx="1817640" cy="177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783400" y="4129200"/>
            <a:ext cx="1763640" cy="1814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ОПРОС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36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ак вы понимаете «здоровый образ жизни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чему надо беречь глаза , зрение? Как это надо делать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ак вы понимаете принцип «Не навреди»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3635280" cy="241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5729400" y="4183200"/>
            <a:ext cx="1873080" cy="170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09:03:54Z</dcterms:created>
  <dc:creator>A0001</dc:creator>
  <dc:description/>
  <dc:language>en-US</dc:language>
  <cp:lastModifiedBy>Спортзал</cp:lastModifiedBy>
  <dcterms:modified xsi:type="dcterms:W3CDTF">2008-11-28T03:44:22Z</dcterms:modified>
  <cp:revision>20</cp:revision>
  <dc:subject/>
  <dc:title>ЗДОРОВЫЙ  ОБРАЗ  ЖИЗНИ</dc:title>
</cp:coreProperties>
</file>