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108A7-96D5-4514-9776-DA4547572C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5F0E-D1BB-48D7-964D-63941E747A5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 сути, это переносная палатка, которая имеет конусообразную форму и отлично приспособлена к условиям тундры. Снег легко скатывается с крутой поверхности чума, поэтому при переезде на новое место чум можно разобрать, не прилагая лишних усилий для очистки строения от снега. Кроме того, форма конуса делает чум устойчивым к сильным ветрам и метел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ь летний и зимний варианты чумов. Летом он накрывается корой или мешковиной, а вход завешивается грубой тканью (например, той же мешковиной). Зимой же используют шкуры оленей, сшитых в одно полотнище, а вход завешивают отдельной шкурой. А для того, чтобы ветер не проникал в чум, к его основанию с наружной стороны подгребают сне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 центре чума располагается печь, служащая источником тепла и приспособленная для приготовления пищи. Жар от печи поднимается вверх и не позволяет осадкам попадать внутрь чума — они просто испаряются под действием высокой температур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0E07-F639-47C8-A9A2-F7B50BC6529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одной гипотезе алеуты пришли с северо-восточного азиатского побережья, согласно другой – с Аляски. Когда Алеутские острова вместе с Аляской были проданы США, часть жителей перекочевала на Командоры. С 1970-х годов они обосновались в селе Никольском Камчатской области, численность их по переписи 2010 года 482 человека. Особенности жизни командорских алеутов определялись изолированностью остро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еутский язык предположительно обособился 3–4 тыс. лет назад и считался одним из древних эскимосских диалектов. Первая грамматика была составлена в начале XIX века на основе кириллицы. По оценкам лингвистов, сегодня лишь два десятка человек пожилого возраста являются носителями родного язы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695B-7912-4292-80CB-D87FBF2E4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BCFC-D990-4127-A5EE-4BA51DA3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4BDF-8C13-4978-BF85-5F4B1AE5E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489E-A5A9-4701-B389-22B25062C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88476-D6D3-46D1-A0D6-D7C18F381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A7D2-6E9B-4DAE-A91D-1F09A192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880C-0367-4BFA-B47D-4ED82A8D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C0326-984A-4320-B787-A06810EE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9004-30FD-435B-B008-B8D54DB2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6B51-AEFF-4EDC-8292-16349496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526B-5550-443B-8CDF-DB5C4B3B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FD7A-2ACB-4AB7-96DA-8BC673F7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1B63-3DEC-451B-B83F-78466545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BD9F8-4C79-4794-A06C-EC28ADE2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4A8E-1BE8-4F98-B3DC-0A1B4038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29C28-E910-4CD2-BC03-21E7464FE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6DA37-2798-4EFA-94F5-AFFB52036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7BD0-C4BC-4F06-8632-4CFD1A34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BE26-4BD2-43C1-890F-A0A3D4B4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7969-FA40-4A71-ABFF-64C10FD0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8081-38B2-4BF4-841E-49C44CD5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2EAE-9A4B-4380-824B-A12858C4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1A8A-D81E-43E8-B2C6-85845C7F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07FB-D814-4B43-A28F-98BA83C1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3250-2FA4-4E18-9197-4601BD9FC4DE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1057-CF2C-46DC-A26C-29161CE689EC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457200" y="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Verdana"/>
              </a:rPr>
              <a:t>Как живут люди Крайнего Севера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838080" y="55468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полнила Турова О.Б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Рисунок 1" descr="http://chert-poberi.ru/wp-content/uploads/proga/111/images1/201705/igor7-01051717220122_2.jpg"/>
          <p:cNvPicPr/>
          <p:nvPr/>
        </p:nvPicPr>
        <p:blipFill>
          <a:blip r:embed="rId1"/>
          <a:stretch/>
        </p:blipFill>
        <p:spPr>
          <a:xfrm>
            <a:off x="1752480" y="1600200"/>
            <a:ext cx="592452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Рисунок 5" descr="https://img.tyt.by/720x720s/n/nedvizhimost/00/4/37chu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15456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6" descr="https://img.tyt.by/720x720s/n/nedvizhimost/0d/d/13chum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15960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3" descr="http://cn13.nevsedoma.com.ua/photo/236/4/leahovcf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533520" y="228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бо за внимание!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те географию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Picture 6" descr=""/>
          <p:cNvPicPr/>
          <p:nvPr/>
        </p:nvPicPr>
        <p:blipFill>
          <a:blip r:embed="rId1"/>
          <a:stretch/>
        </p:blipFill>
        <p:spPr>
          <a:xfrm>
            <a:off x="3814920" y="2747880"/>
            <a:ext cx="2890800" cy="2600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"/>
          <p:cNvPicPr/>
          <p:nvPr/>
        </p:nvPicPr>
        <p:blipFill>
          <a:blip r:embed="rId2"/>
          <a:stretch/>
        </p:blipFill>
        <p:spPr>
          <a:xfrm>
            <a:off x="-2971800" y="2819520"/>
            <a:ext cx="29718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22222E-006 L 0.6415 -0.00139 E">
                                      <p:cBhvr>
                                        <p:cTn id="69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556E-017 -4.44444E-006 L 0.34583 -0.00555 E">
                                      <p:cBhvr>
                                        <p:cTn id="73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акие народы там живут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нцы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венки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Нанайц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Алеуты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Рисунок 2" descr="http://wambl.ru/wp-content/uploads/2015/11/original1.jpg"/>
          <p:cNvPicPr/>
          <p:nvPr/>
        </p:nvPicPr>
        <p:blipFill>
          <a:blip r:embed="rId1"/>
          <a:stretch/>
        </p:blipFill>
        <p:spPr>
          <a:xfrm>
            <a:off x="0" y="4013280"/>
            <a:ext cx="5181480" cy="284472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4" descr="http://i.ucrazy.ru/files/i/2008.8.4/people_11.jpg"/>
          <p:cNvPicPr/>
          <p:nvPr/>
        </p:nvPicPr>
        <p:blipFill>
          <a:blip r:embed="rId2"/>
          <a:stretch/>
        </p:blipFill>
        <p:spPr>
          <a:xfrm>
            <a:off x="4495680" y="1295280"/>
            <a:ext cx="4648320" cy="296244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3" descr="http://cn13.nevsedoma.com.ua/photo/236/4/leahovcf.jpg"/>
          <p:cNvPicPr/>
          <p:nvPr/>
        </p:nvPicPr>
        <p:blipFill>
          <a:blip r:embed="rId3"/>
          <a:stretch/>
        </p:blipFill>
        <p:spPr>
          <a:xfrm>
            <a:off x="5181480" y="4211640"/>
            <a:ext cx="396252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енцы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нцы – кочевой народ в России, населяющий евразийское побережье Северного Ледовитого океана от Кольского полуострова до Таймыра. Необходимость выживать в суровых условиях Крайнего Севера приучила их сооружать чумы, заниматься оленеводством, шить шубы из шкур и питаться сырым мясом с кровью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ждый год ненцы двигаются на тысячи километров древними маршрутами миграции оленей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Рисунок 4" descr="http://i.ucrazy.ru/files/i/2008.8.4/people_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вен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Место проживания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— Республика Саха (Якутия), Хабаровский край, Магаданская и Камчатская област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Язык, говоры, наречия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Язык — тунгусо-маньчжурская группа алтайской семьи языков. В эвенском языке более десяти говоров, объединенных в восточное, среднее и западное наречия. Эвенский считают родным 43,9 %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Рисунок 7" descr="http://www.kamchatsky-krai.ru/images/aven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НАНАЙЦЫ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ьды (устаревшее название),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народ в России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 Живут по нижнему течению реки Амур и правым притокам реки Уссури в Хабаровском крае и Приморском крае РФ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Рисунок 10" descr="http://vev.ru/uploads/images/00/58/33/2014/06/05/6e143e.jpg"/>
          <p:cNvPicPr/>
          <p:nvPr/>
        </p:nvPicPr>
        <p:blipFill>
          <a:blip r:embed="rId1"/>
          <a:stretch/>
        </p:blipFill>
        <p:spPr>
          <a:xfrm>
            <a:off x="0" y="220680"/>
            <a:ext cx="5257800" cy="66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Алеу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вание «алеут» русского происхождения. Оно было дано после открытия Алеутских островов и впервые встречается в документах в 1747 году, тогда же началось и изучение алеутов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Рисунок 11" descr="https://media.nazaccent.ru/cache/a1/fe/a1fee350d1edbb4317f17cb836a5ef66.jpg"/>
          <p:cNvPicPr/>
          <p:nvPr/>
        </p:nvPicPr>
        <p:blipFill>
          <a:blip r:embed="rId1"/>
          <a:stretch/>
        </p:blipFill>
        <p:spPr>
          <a:xfrm>
            <a:off x="0" y="0"/>
            <a:ext cx="5165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Жилища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ум представляет собой универсальное жилище кочевых народов Севера, занимающихся оленеводством – ненцев, хантов, коми и энцев. Любопытно, но вопреки часто встречающему мнению и словам небезызвестной песни «Чукча в чуме ждет рассвета», чукчи в чумах никогда не жили и не живут – на самом деле их жилища называются ярангами. Возможно, путаница возникла из-за созвучности слов «чум» и «чукча». А возможно, что эти два несколько похожие между собой строения просто путают и называют не своими именами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Рисунок 1" descr="Чум на &quot;Бит Жизни!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Яранга – национальное жилище народов Чукотки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ы уже говорили, яранга имеет некоторое сходство с чумом и представляет собой переносное жилище кочевых коряков, чукчей, юкагиров и эвенков. Яранга обладает круглым планом и вертикальным деревянным каркасом, который сооружен из шестов и увенчан коническим куполом. Снаружи шесты покрыты моржовыми, оленьими или китовыми шкурами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Рисунок 3" descr="Яранга на &quot;Бит Жизни!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59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Иглу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776160"/>
            <a:ext cx="876312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акие куполообразные постройки существуют и сегодня: обычно они имеют высоту порядка 2 м и диаметр около 3-4 м. Если снег неглубокий, то вход в иглу обустраивается в стене, к которой пристраивается дополнительный коридор из ледяных (снежных) блоков. При глубоком снеге вход в жилище находится прямо в полу, а снаружи к нему проложен коридор. Очень важно, чтобы вход в дом находился ниже уровня пола, так как это обеспечивает приток кислорода и отток более тяжелого углекислого газа, а также позволяет сохранить в помещении тепло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Рисунок 4" descr="Иглу на &quot;Бит Жизни!&quot;"/>
          <p:cNvPicPr/>
          <p:nvPr/>
        </p:nvPicPr>
        <p:blipFill>
          <a:blip r:embed="rId1"/>
          <a:stretch/>
        </p:blipFill>
        <p:spPr>
          <a:xfrm>
            <a:off x="-3492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13T16:52:18Z</dcterms:created>
  <dc:creator>Егор</dc:creator>
  <dc:description/>
  <dc:language>en-US</dc:language>
  <cp:lastModifiedBy>Windows 10</cp:lastModifiedBy>
  <dcterms:modified xsi:type="dcterms:W3CDTF">2020-11-10T07:37:4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