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1882-B5F9-45C4-A8AC-3018C24173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8439-5BF3-4A7C-82C8-51305699251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 сути, это переносная палатка, которая имеет конусообразную форму и отлично приспособлена к условиям тундры. Снег легко скатывается с крутой поверхности чума, поэтому при переезде на новое место чум можно разобрать, не прилагая лишних усилий для очистки строения от снега. Кроме того, форма конуса делает чум устойчивым к сильным ветрам и метел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ь летний и зимний варианты чумов. Летом он накрывается корой или мешковиной, а вход завешивается грубой тканью (например, той же мешковиной). Зимой же используют шкуры оленей, сшитых в одно полотнище, а вход завешивают отдельной шкурой. А для того, чтобы ветер не проникал в чум, к его основанию с наружной стороны подгребают сне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 центре чума располагается печь, служащая источником тепла и приспособленная для приготовления пищи. Жар от печи поднимается вверх и не позволяет осадкам попадать внутрь чума — они просто испаряются под действием высокой температур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C2B7-0BA5-481C-96E6-C7DCD014D87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одной гипотезе алеуты пришли с северо-восточного азиатского побережья, согласно другой – с Аляски. Когда Алеутские острова вместе с Аляской были проданы США, часть жителей перекочевала на Командоры. С 1970-х годов они обосновались в селе Никольском Камчатской области, численность их по переписи 2010 года 482 человека. Особенности жизни командорских алеутов определялись изолированностью остро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еутский язык предположительно обособился 3–4 тыс. лет назад и считался одним из древних эскимосских диалектов. Первая грамматика была составлена в начале XIX века на основе кириллицы. По оценкам лингвистов, сегодня лишь два десятка человек пожилого возраста являются носителями родного язы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3341-F4B0-4F78-9AE1-F94BE9247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6E46-72E4-4910-B85C-7B15678F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1184-36FC-4CB5-81FF-CEA4848C7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53E1-5708-43F5-BB8D-3E0A9319E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732E-E29D-4B8C-A0CC-312E59927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4B53-D04E-491A-B539-BC995B40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BD2B0-A08B-413D-940D-37D25D63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AB9F-5A7C-4C6E-AF65-6F4968E9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8CE4-C5A5-4362-922B-58B2B88F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53B3-957E-45D4-834D-99A91EF3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C600-0181-4F8C-BFFD-99FF183A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DDA1-F357-4801-8831-8BECC074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E04A7-914E-4D6A-B51B-F074E5FD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1DB8-859B-4A6E-9D6C-15D3B2F3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7DE89-8ED9-4293-A805-909B51DD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E572-81E9-449A-88AD-CC0877EE2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D2C6-748F-4F76-9905-741283904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0610-BC58-4032-975A-2C0E30B9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B025-FEEE-42E9-AF41-F767C7C2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FD64-45C7-42B9-B8C8-D8CD1DAB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A44A-6C14-4641-8382-B3960FE3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2627-26CD-45B3-91E5-84A91053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0644-13ED-4DD2-82FF-6EC32788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6D36-87F2-448E-938E-343BA67B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97E1-BD5F-418B-8FB8-2B2C59B6D553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EBE1-F64B-4844-8B6B-71D23B9FF811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457200" y="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Verdana"/>
              </a:rPr>
              <a:t>Как живут люди Крайнего Севера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838080" y="55468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полнила Турова О.Б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Рисунок 1" descr="http://chert-poberi.ru/wp-content/uploads/proga/111/images1/201705/igor7-01051717220122_2.jpg"/>
          <p:cNvPicPr/>
          <p:nvPr/>
        </p:nvPicPr>
        <p:blipFill>
          <a:blip r:embed="rId1"/>
          <a:stretch/>
        </p:blipFill>
        <p:spPr>
          <a:xfrm>
            <a:off x="1752480" y="1600200"/>
            <a:ext cx="592452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Рисунок 5" descr="https://img.tyt.by/720x720s/n/nedvizhimost/00/4/37chu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15456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6" descr="https://img.tyt.by/720x720s/n/nedvizhimost/0d/d/13chum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15960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3" descr="http://cn13.nevsedoma.com.ua/photo/236/4/leahovcf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533520" y="228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бо за внимание!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те географию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Picture 6" descr=""/>
          <p:cNvPicPr/>
          <p:nvPr/>
        </p:nvPicPr>
        <p:blipFill>
          <a:blip r:embed="rId1"/>
          <a:stretch/>
        </p:blipFill>
        <p:spPr>
          <a:xfrm>
            <a:off x="3814920" y="2747880"/>
            <a:ext cx="2890800" cy="2600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"/>
          <p:cNvPicPr/>
          <p:nvPr/>
        </p:nvPicPr>
        <p:blipFill>
          <a:blip r:embed="rId2"/>
          <a:stretch/>
        </p:blipFill>
        <p:spPr>
          <a:xfrm>
            <a:off x="-2971800" y="2819520"/>
            <a:ext cx="29718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22222E-006 L 0.6415 -0.00139 E">
                                      <p:cBhvr>
                                        <p:cTn id="69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556E-017 -4.44444E-006 L 0.34583 -0.00555 E">
                                      <p:cBhvr>
                                        <p:cTn id="73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акие народы там живут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нцы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венки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Нанайц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Алеуты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Рисунок 2" descr="http://wambl.ru/wp-content/uploads/2015/11/original1.jpg"/>
          <p:cNvPicPr/>
          <p:nvPr/>
        </p:nvPicPr>
        <p:blipFill>
          <a:blip r:embed="rId1"/>
          <a:stretch/>
        </p:blipFill>
        <p:spPr>
          <a:xfrm>
            <a:off x="0" y="4013280"/>
            <a:ext cx="5181480" cy="284472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4" descr="http://i.ucrazy.ru/files/i/2008.8.4/people_11.jpg"/>
          <p:cNvPicPr/>
          <p:nvPr/>
        </p:nvPicPr>
        <p:blipFill>
          <a:blip r:embed="rId2"/>
          <a:stretch/>
        </p:blipFill>
        <p:spPr>
          <a:xfrm>
            <a:off x="4495680" y="1295280"/>
            <a:ext cx="4648320" cy="296244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3" descr="http://cn13.nevsedoma.com.ua/photo/236/4/leahovcf.jpg"/>
          <p:cNvPicPr/>
          <p:nvPr/>
        </p:nvPicPr>
        <p:blipFill>
          <a:blip r:embed="rId3"/>
          <a:stretch/>
        </p:blipFill>
        <p:spPr>
          <a:xfrm>
            <a:off x="5181480" y="4211640"/>
            <a:ext cx="396252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енцы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нцы – кочевой народ в России, населяющий евразийское побережье Северного Ледовитого океана от Кольского полуострова до Таймыра. Необходимость выживать в суровых условиях Крайнего Севера приучила их сооружать чумы, заниматься оленеводством, шить шубы из шкур и питаться сырым мясом с кровью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ждый год ненцы двигаются на тысячи километров древними маршрутами миграции оленей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Рисунок 4" descr="http://i.ucrazy.ru/files/i/2008.8.4/people_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вен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Место проживания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— Республика Саха (Якутия), Хабаровский край, Магаданская и Камчатская област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Язык, говоры, наречия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Язык — тунгусо-маньчжурская группа алтайской семьи языков. В эвенском языке более десяти говоров, объединенных в восточное, среднее и западное наречия. Эвенский считают родным 43,9 %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Рисунок 7" descr="http://www.kamchatsky-krai.ru/images/aven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НАНАЙЦЫ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ьды (устаревшее название),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народ в России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 Живут по нижнему течению реки Амур и правым притокам реки Уссури в Хабаровском крае и Приморском крае РФ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Рисунок 10" descr="http://vev.ru/uploads/images/00/58/33/2014/06/05/6e143e.jpg"/>
          <p:cNvPicPr/>
          <p:nvPr/>
        </p:nvPicPr>
        <p:blipFill>
          <a:blip r:embed="rId1"/>
          <a:stretch/>
        </p:blipFill>
        <p:spPr>
          <a:xfrm>
            <a:off x="0" y="220680"/>
            <a:ext cx="5257800" cy="66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Алеу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вание «алеут» русского происхождения. Оно было дано после открытия Алеутских островов и впервые встречается в документах в 1747 году, тогда же началось и изучение алеутов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Рисунок 11" descr="https://media.nazaccent.ru/cache/a1/fe/a1fee350d1edbb4317f17cb836a5ef66.jpg"/>
          <p:cNvPicPr/>
          <p:nvPr/>
        </p:nvPicPr>
        <p:blipFill>
          <a:blip r:embed="rId1"/>
          <a:stretch/>
        </p:blipFill>
        <p:spPr>
          <a:xfrm>
            <a:off x="0" y="0"/>
            <a:ext cx="5165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Жилища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ум представляет собой универсальное жилище кочевых народов Севера, занимающихся оленеводством – ненцев, хантов, коми и энцев. Любопытно, но вопреки часто встречающему мнению и словам небезызвестной песни «Чукча в чуме ждет рассвета», чукчи в чумах никогда не жили и не живут – на самом деле их жилища называются ярангами. Возможно, путаница возникла из-за созвучности слов «чум» и «чукча». А возможно, что эти два несколько похожие между собой строения просто путают и называют не своими именами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Рисунок 1" descr="Чум на &quot;Бит Жизни!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Яранга – национальное жилище народов Чукотки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ы уже говорили, яранга имеет некоторое сходство с чумом и представляет собой переносное жилище кочевых коряков, чукчей, юкагиров и эвенков. Яранга обладает круглым планом и вертикальным деревянным каркасом, который сооружен из шестов и увенчан коническим куполом. Снаружи шесты покрыты моржовыми, оленьими или китовыми шкурами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Рисунок 3" descr="Яранга на &quot;Бит Жизни!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59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Иглу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776160"/>
            <a:ext cx="876312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акие куполообразные постройки существуют и сегодня: обычно они имеют высоту порядка 2 м и диаметр около 3-4 м. Если снег неглубокий, то вход в иглу обустраивается в стене, к которой пристраивается дополнительный коридор из ледяных (снежных) блоков. При глубоком снеге вход в жилище находится прямо в полу, а снаружи к нему проложен коридор. Очень важно, чтобы вход в дом находился ниже уровня пола, так как это обеспечивает приток кислорода и отток более тяжелого углекислого газа, а также позволяет сохранить в помещении тепло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Рисунок 4" descr="Иглу на &quot;Бит Жизни!&quot;"/>
          <p:cNvPicPr/>
          <p:nvPr/>
        </p:nvPicPr>
        <p:blipFill>
          <a:blip r:embed="rId1"/>
          <a:stretch/>
        </p:blipFill>
        <p:spPr>
          <a:xfrm>
            <a:off x="-3492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13T16:52:18Z</dcterms:created>
  <dc:creator>Егор</dc:creator>
  <dc:description/>
  <dc:language>en-US</dc:language>
  <cp:lastModifiedBy>Windows 10</cp:lastModifiedBy>
  <dcterms:modified xsi:type="dcterms:W3CDTF">2020-11-10T07:37:4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