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1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FFC699-72B3-4B30-88B7-06ABF4799C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18FF1B-19FF-4E41-B589-B2384CCFF4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4BAF1D-B197-4B6E-8544-A741B5E4FB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974F5C-66F6-46F0-802E-D3F54BE6E0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92EB31-8E2F-40D9-A292-33C188B78F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9D8806-0529-4092-A3F1-D59BB4878F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88DDF8-E90A-4528-9573-EF77DDF564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9B82AB-5BAA-4540-9ED4-8D0C10202C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32E1A0-99FE-4654-97D8-472E97651F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8D9ECC-8B32-460D-A56A-7B2C63CE58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1DCEAD-8FFD-4455-8136-EAB11DD8D2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81F454-A8FD-47D6-9E97-0EAC12EC46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E0B405-40D6-4EDF-A6B8-7AB51BA922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FA0A30-A9B1-48C6-AF33-8FAB7CE83D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B7AE0E-2383-4F33-A498-00E35D3CC2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372CF1-CF9D-4358-827F-795263D46E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E0AFD3-3C68-4290-AB69-C707407079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79574B-165D-436D-BD18-2F02FC400D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BA3383-44E0-4673-BF29-B5FB9AEBDC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7A0299-FD27-4A3B-A38D-2C6BD97F07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42D790-F4F8-4E9E-B18B-14CA8F1D38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407DD8C-F80E-48CE-8966-F6EB8A47B33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BEDABB9-D6DC-47D4-8A94-6E20D63D4B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509E808-28AD-42C2-B055-77D75C72D2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6950CF5-68DA-4B33-A636-A9EC900395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86CB160-9F44-4D24-8BB2-10C58F28B89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3D3090-B9F4-4BC9-9853-A144700F9F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F821AE-0F46-4C32-A98A-243925C1A9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87AD26-E167-4264-8DD2-F349A047BE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A7FF95-09A9-4CDF-BDEF-2885A0B8BC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0E51B-19BC-48A7-AC51-90FEB9A14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75F994-D553-46A0-B4CB-0BCB1181DA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C8311E4-DDFA-47E7-82FC-18D5D84C950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326CF30-052A-413F-9FF2-F7952056976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1B107E7-78AD-4C3F-B76F-604CBA1E977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C84E9FF-EE4B-449F-BD48-C150F8A8771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776F2E3-C8DB-4EBA-9EBB-B4C74B209C1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AC59BF-D095-4ED4-B682-600E85A699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7D6135F-6366-47B7-85B5-72E9E11FA0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2FABD27-21E2-4ED5-AFD0-8289F39678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9226BF-631B-489E-AFBA-812BFC8292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368B3-9CEA-4086-B961-F9C4280CA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2B7A6F-4715-4CB1-9FBC-33C7DFFAC7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91F416-83CA-481C-8EEC-0DD8B20615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034581F-BAF1-4B1B-88D3-2A8822A2F0C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B548F33-BFAF-4627-BB66-38F96485C9D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2D92D55-BCFB-4195-9630-F0C45E94F78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8AC94-CA0E-4F47-91A3-536510D94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EDF11-6FEC-404E-945E-1BFD6ED8E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04318-50FE-4037-9D06-3AC1854FF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FEEC4-408C-436A-82E6-298ED6828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F986E-D273-43D1-9579-3572A22F0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4D98F-2F05-44E6-A686-44067A674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8E5AB-3242-4350-B888-A0549A7CB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7C43C-6020-4BE7-9388-20ADF1C44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92349-F125-4B77-A833-111BFCF5B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361A0-A92F-42B3-8831-22CBFF961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FC12CE-8972-43E8-B28C-5A51BB2AC7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B7D42A-E8FF-4D99-9424-5DE164391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10E15-BACF-4572-9438-1701C6D3B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CE479-D773-4C9A-B584-C0DB8130F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B92BA-4F51-4C8C-A5DE-296F7BCD0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E0C46-BDF9-41DF-8D39-D9898838C3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1923C-CEC5-4332-894F-881C7A347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66408-BA17-40CB-B625-2C39EA225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AFD2F-30D5-4ACB-AF10-E178EC36C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D122B-FF00-41C1-8B93-1F0414AE8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69813E-7213-4463-BF4F-29F9A2249F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43699A-08E5-4E3D-95E2-B8F4F223CA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416D63-287B-4F65-934E-AD0130021D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EDBC70-CEC6-4548-B2DA-99C1B5298D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C85969-05A9-46E6-BEE9-2469A756CE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20EDA1-19F7-45DB-AEDF-456B94F5DA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1B521E-5554-467F-88E5-F2FB7D79F6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DBD5F9-5A4B-4A81-A26F-8F1984AB36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BA278B-6319-4D91-B1AA-C96C7F8E72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5A5289-E755-458E-A4ED-43D6A37DBE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583B0D-7129-4473-BA82-06064D155E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FED374-5E93-4A5E-8802-8D498D8B0E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1B847B-C47D-405B-B3EE-40C674AC47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195097-9B03-4951-9509-33E9F532CA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98EFB6-8793-4EB1-803C-0DE83C4FAE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5A4A17-8A64-4909-9274-DC22FFBF35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FC6239-3864-4063-BC76-6E7C1454AC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5AA8EF-4FB9-4410-92B8-5063595312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EA8C17-107F-41B5-A576-DAD8EEC2BF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0BE86A-B7E6-47C6-8868-1D1C427679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BD7463-C6DF-45A3-921F-B91031918F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904C81-4FF6-43BC-B8F3-77C9EECD7C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D8508A-CF23-46A2-BA16-F10CFCE8F2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F5798F-E951-4946-8800-BA7B6C03DF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FED7CF-3FD5-4EA2-BD07-FFABC4AEF1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13D43E-7C92-452B-99D1-E37457D99B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C3ADE7-1C03-4FFC-8B15-688DB9F334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75F02C-AE6B-42D3-B50B-29A28EC9D1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6E4C26-CEB3-4016-90C2-EEC9BEE23B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B1FD77-EEFB-4066-AD37-456DBF42D4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02A3B4-B34D-429F-B273-9855D0542C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D4983F-B987-40C7-B5B5-E189629C74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B48EBF-6ADF-4AAB-9E5B-B1192B8116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4EC77C-321E-43D4-863B-4BB48BC1DA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2E2363-57C8-4766-8924-E330991F47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D14110-A9C1-4DA1-81AF-3619772186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4CDF75-854E-42EE-89D8-CB62AFBC0F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854EC4-E9FC-4276-9C78-71536B8FCB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957228-CF77-497E-9924-0141D87499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DDEAEE-847D-430A-A4C0-89605609AD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35B9E8-786F-4382-B134-C289E1CE88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6819E1-B56F-434F-A457-8EA8293531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3463B7-7B4F-4E30-89F2-A57B2F9807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6D0511-D225-4583-8C10-D8C0BBD508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568694-E71E-4213-B0ED-2F7C8C35C0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DED03F-A9DB-435C-81A9-A0EA6B15A4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75F9AE-0548-45E1-833F-B3F80E7BF0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13F4EB-556C-4135-BBDE-A7BA5134F1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58BEDF-60F2-49B1-AC3F-6DFB32C82C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9AD0AF-B286-47F8-B888-5C39545A70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FDE0CB-0776-4565-8329-35927C9047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4A5BBF-DF2F-4D2B-8E9F-D39395E516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EECB36-ED22-4EE3-AEB9-0F0307C313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8C9C3E-0428-4A0E-AA25-AD7A98B9DC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8BD17E-1BA1-4605-85C3-75C340D511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1E5B7F-2E3B-4E84-9AD4-7052F4E0A0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D3AE56-341C-4510-8078-9383216E0F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E55F9D-516B-4496-A53D-C7F6D44E33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1653AF-AFB4-4654-A17A-C59423DC98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1EBA1D-216D-4645-BEC7-DFB01F58F5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EEA9FD-C8BF-481F-9750-5D2FB2D13A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A8F65C-B3F2-4F89-A88C-259CA3A6BC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E342B2-545F-49A2-B3D6-99EFD1B2E0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5E8659-1221-47B6-83EC-6F0C5E833B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F0F8C0-7BE6-4343-9A7D-45AC178D861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5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52677-88D7-4345-86FE-92CE36244051}"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9"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90"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996F0-764A-4C09-B84E-C100C072211F}"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8"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29"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64E5C-73FC-4494-BDA0-77B5A64112E9}"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7"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6BAB-CC54-40A3-BD2A-AC2D23765FF7}"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76"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AD7AD-2B27-4752-8A1D-4FB3036059BE}"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1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B5FF8-AF02-4022-A238-1314F3007CCA}"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54"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4E37C-7C03-450F-B0FE-F430D6AA6A28}"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15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95"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B4855-06CA-427B-AC1B-5570717CB488}"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3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D8C58-FB70-40CA-A0C8-B57F57130D39}"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73"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77E51-BBE2-45B9-8AC5-6E4431F5148D}"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12"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94D2B-D192-4CB1-BBB6-159D673A3E73}"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7" name="Группа 1"/>
          <p:cNvGrpSpPr/>
          <p:nvPr/>
        </p:nvGrpSpPr>
        <p:grpSpPr>
          <a:xfrm>
            <a:off x="1357200" y="2214720"/>
            <a:ext cx="7358040" cy="3538440"/>
            <a:chOff x="1357200" y="2214720"/>
            <a:chExt cx="7358040" cy="3538440"/>
          </a:xfrm>
        </p:grpSpPr>
        <p:sp>
          <p:nvSpPr>
            <p:cNvPr id="468" name="Прямоугольник 6"/>
            <p:cNvSpPr/>
            <p:nvPr/>
          </p:nvSpPr>
          <p:spPr>
            <a:xfrm>
              <a:off x="1357200" y="2214720"/>
              <a:ext cx="7358040" cy="36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Прямоугольник 3"/>
            <p:cNvSpPr/>
            <p:nvPr/>
          </p:nvSpPr>
          <p:spPr>
            <a:xfrm>
              <a:off x="3300120" y="5348520"/>
              <a:ext cx="3368520" cy="40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0" name="Прямоугольник 5"/>
          <p:cNvSpPr/>
          <p:nvPr/>
        </p:nvSpPr>
        <p:spPr>
          <a:xfrm>
            <a:off x="1357200" y="1357200"/>
            <a:ext cx="7286760" cy="539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omic Sans MS"/>
              </a:rPr>
              <a:t>Жизнь ежей в неволе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исследовательская работа                                     ученицы 4-в класса Усть-Баргузинской средней общеобразовательной школы имени К.М.Шелковникова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Comic Sans MS"/>
              </a:rPr>
              <a:t>Лукьяновой Илон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Руководитель: </a:t>
            </a:r>
            <a:r>
              <a:rPr b="1" lang="ru-RU" sz="2400" spc="-1" strike="noStrike">
                <a:solidFill>
                  <a:srgbClr val="c00000"/>
                </a:solidFill>
                <a:latin typeface="Comic Sans MS"/>
              </a:rPr>
              <a:t>Булатова О.А</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643040" y="274320"/>
            <a:ext cx="704376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c00000"/>
                </a:solidFill>
                <a:latin typeface="Comic Sans MS"/>
              </a:rPr>
              <a:t>Активность в разное время суток</a:t>
            </a:r>
            <a:endParaRPr b="0" lang="en-US" sz="3200" spc="-1" strike="noStrike">
              <a:solidFill>
                <a:srgbClr val="000000"/>
              </a:solidFill>
              <a:latin typeface="Calibri"/>
            </a:endParaRPr>
          </a:p>
        </p:txBody>
      </p:sp>
      <p:sp>
        <p:nvSpPr>
          <p:cNvPr id="496" name=""/>
          <p:cNvSpPr txBox="1"/>
          <p:nvPr/>
        </p:nvSpPr>
        <p:spPr>
          <a:xfrm>
            <a:off x="1643040" y="1600200"/>
            <a:ext cx="7143840" cy="4525920"/>
          </a:xfrm>
          <a:prstGeom prst="rect">
            <a:avLst/>
          </a:prstGeom>
          <a:noFill/>
          <a:ln w="0">
            <a:noFill/>
          </a:ln>
        </p:spPr>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omic Sans MS"/>
              </a:rPr>
              <a:t>Раннее утро</a:t>
            </a:r>
            <a:r>
              <a:rPr b="1" lang="ru-RU" sz="2000" spc="-1" strike="noStrike">
                <a:solidFill>
                  <a:srgbClr val="000000"/>
                </a:solidFill>
                <a:latin typeface="Comic Sans MS"/>
              </a:rPr>
              <a:t> – хождение, поиск укромного места для отдыха, еда, устройство в коробке, кряхтение, шуршание, сопение.</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omic Sans MS"/>
              </a:rPr>
              <a:t>День </a:t>
            </a:r>
            <a:r>
              <a:rPr b="1" lang="ru-RU" sz="2000" spc="-1" strike="noStrike">
                <a:solidFill>
                  <a:srgbClr val="000000"/>
                </a:solidFill>
                <a:latin typeface="Comic Sans MS"/>
              </a:rPr>
              <a:t>– спит примерно до 20 -21ч.</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omic Sans MS"/>
              </a:rPr>
              <a:t>Вечер</a:t>
            </a:r>
            <a:r>
              <a:rPr b="1" lang="ru-RU" sz="2000" spc="-1" strike="noStrike">
                <a:solidFill>
                  <a:srgbClr val="000000"/>
                </a:solidFill>
                <a:latin typeface="Comic Sans MS"/>
              </a:rPr>
              <a:t> – шуршание, сопение, вылазка, следование к месту трапезы, еда.</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omic Sans MS"/>
              </a:rPr>
              <a:t>Ночь</a:t>
            </a:r>
            <a:r>
              <a:rPr b="1" lang="ru-RU" sz="2000" spc="-1" strike="noStrike">
                <a:solidFill>
                  <a:srgbClr val="000000"/>
                </a:solidFill>
                <a:latin typeface="Comic Sans MS"/>
              </a:rPr>
              <a:t> – бодрствует (сопение, фырчанье, топот, шум).</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omic Sans MS"/>
              </a:rPr>
              <a:t>Выводы: </a:t>
            </a:r>
            <a:r>
              <a:rPr b="0" lang="ru-RU" sz="2000" spc="-1" strike="noStrike">
                <a:solidFill>
                  <a:srgbClr val="c00000"/>
                </a:solidFill>
                <a:latin typeface="Calibri"/>
              </a:rPr>
              <a:t> </a:t>
            </a:r>
            <a:r>
              <a:rPr b="1" lang="ru-RU" sz="2000" spc="-1" strike="noStrike">
                <a:solidFill>
                  <a:srgbClr val="000000"/>
                </a:solidFill>
                <a:latin typeface="Comic Sans MS"/>
              </a:rPr>
              <a:t>таким образом, подтвердилась ночная активность животных, но и не исключена непродолжительная дневная активность.</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Рисунок 7" descr="i.jpg"/>
          <p:cNvPicPr/>
          <p:nvPr/>
        </p:nvPicPr>
        <p:blipFill>
          <a:blip r:embed="rId1"/>
          <a:stretch/>
        </p:blipFill>
        <p:spPr>
          <a:xfrm>
            <a:off x="1500120" y="4071960"/>
            <a:ext cx="1857600" cy="1239840"/>
          </a:xfrm>
          <a:prstGeom prst="rect">
            <a:avLst/>
          </a:prstGeom>
          <a:ln w="0">
            <a:noFill/>
          </a:ln>
        </p:spPr>
      </p:pic>
      <p:sp>
        <p:nvSpPr>
          <p:cNvPr id="498" name="PlaceHolder 1"/>
          <p:cNvSpPr>
            <a:spLocks noGrp="1"/>
          </p:cNvSpPr>
          <p:nvPr>
            <p:ph type="title"/>
          </p:nvPr>
        </p:nvSpPr>
        <p:spPr>
          <a:xfrm>
            <a:off x="1285920" y="274320"/>
            <a:ext cx="74008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omic Sans MS"/>
              </a:rPr>
              <a:t>Наблюдение за совместным проживанием с другими животными.</a:t>
            </a:r>
            <a:endParaRPr b="0" lang="en-US" sz="2800" spc="-1" strike="noStrike">
              <a:solidFill>
                <a:srgbClr val="000000"/>
              </a:solidFill>
              <a:latin typeface="Calibri"/>
            </a:endParaRPr>
          </a:p>
        </p:txBody>
      </p:sp>
      <p:pic>
        <p:nvPicPr>
          <p:cNvPr id="499" name="Содержимое 5" descr="bleofar.jpg"/>
          <p:cNvPicPr/>
          <p:nvPr/>
        </p:nvPicPr>
        <p:blipFill>
          <a:blip r:embed="rId2"/>
          <a:stretch/>
        </p:blipFill>
        <p:spPr>
          <a:xfrm>
            <a:off x="1785960" y="1500120"/>
            <a:ext cx="1500120" cy="1309680"/>
          </a:xfrm>
          <a:prstGeom prst="rect">
            <a:avLst/>
          </a:prstGeom>
          <a:ln w="0">
            <a:noFill/>
          </a:ln>
        </p:spPr>
      </p:pic>
      <p:sp>
        <p:nvSpPr>
          <p:cNvPr id="500" name=""/>
          <p:cNvSpPr txBox="1"/>
          <p:nvPr/>
        </p:nvSpPr>
        <p:spPr>
          <a:xfrm>
            <a:off x="3714840" y="1599840"/>
            <a:ext cx="4929120" cy="4971960"/>
          </a:xfrm>
          <a:prstGeom prst="rect">
            <a:avLst/>
          </a:prstGeom>
          <a:noFill/>
          <a:ln w="0">
            <a:noFill/>
          </a:ln>
        </p:spPr>
        <p:txBody>
          <a:bodyPr lIns="90000" rIns="90000" tIns="46800" bIns="46800" anchor="t">
            <a:normAutofit fontScale="93000"/>
          </a:bodyPr>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     </a:t>
            </a:r>
            <a:r>
              <a:rPr b="1" lang="ru-RU" sz="2000" spc="-1" strike="noStrike">
                <a:solidFill>
                  <a:srgbClr val="000000"/>
                </a:solidFill>
                <a:latin typeface="Comic Sans MS"/>
              </a:rPr>
              <a:t>Оба относятся друг к другу          с осторожностью, боятся друг друга.</a:t>
            </a: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      </a:t>
            </a:r>
            <a:r>
              <a:rPr b="1" lang="ru-RU" sz="2000" spc="-1" strike="noStrike">
                <a:solidFill>
                  <a:srgbClr val="000000"/>
                </a:solidFill>
                <a:latin typeface="Comic Sans MS"/>
              </a:rPr>
              <a:t>Черепаха боится ежа, а ёж нет.</a:t>
            </a: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      </a:t>
            </a:r>
            <a:r>
              <a:rPr b="1" lang="ru-RU" sz="2000" spc="-1" strike="noStrike">
                <a:solidFill>
                  <a:srgbClr val="000000"/>
                </a:solidFill>
                <a:latin typeface="Comic Sans MS"/>
              </a:rPr>
              <a:t>Кошка не обращает на ежа никакого внимания. Ёж тоже.</a:t>
            </a: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omic Sans MS"/>
              </a:rPr>
              <a:t>      </a:t>
            </a:r>
            <a:r>
              <a:rPr b="1" lang="ru-RU" sz="2000" spc="-1" strike="noStrike">
                <a:solidFill>
                  <a:srgbClr val="c00000"/>
                </a:solidFill>
                <a:latin typeface="Comic Sans MS"/>
              </a:rPr>
              <a:t>Выводы: </a:t>
            </a:r>
            <a:r>
              <a:rPr b="1" lang="ru-RU" sz="1800" spc="-1" strike="noStrike">
                <a:solidFill>
                  <a:srgbClr val="000000"/>
                </a:solidFill>
                <a:latin typeface="Comic Sans MS"/>
              </a:rPr>
              <a:t>к соседству в доме с другими домашними животными они относятся нейтрально. А вот домашние животные предпочитают с ежами не сталкиваться.</a:t>
            </a:r>
            <a:endParaRPr b="0" lang="en-US" sz="18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    </a:t>
            </a:r>
            <a:endParaRPr b="0" lang="en-US" sz="2000" spc="-1" strike="noStrike">
              <a:solidFill>
                <a:srgbClr val="000000"/>
              </a:solidFill>
              <a:latin typeface="Calibri"/>
            </a:endParaRPr>
          </a:p>
        </p:txBody>
      </p:sp>
      <p:pic>
        <p:nvPicPr>
          <p:cNvPr id="501" name="Рисунок 6" descr="1264499.jpg"/>
          <p:cNvPicPr/>
          <p:nvPr/>
        </p:nvPicPr>
        <p:blipFill>
          <a:blip r:embed="rId3"/>
          <a:stretch/>
        </p:blipFill>
        <p:spPr>
          <a:xfrm>
            <a:off x="1714680" y="2428920"/>
            <a:ext cx="1714320" cy="1714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1785600" y="274320"/>
            <a:ext cx="690084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Comic Sans MS"/>
              </a:rPr>
              <a:t>Изучение избирательности мясных продуктов</a:t>
            </a:r>
            <a:endParaRPr b="0" lang="en-US" sz="3200" spc="-1" strike="noStrike">
              <a:solidFill>
                <a:srgbClr val="000000"/>
              </a:solidFill>
              <a:latin typeface="Calibri"/>
            </a:endParaRPr>
          </a:p>
        </p:txBody>
      </p:sp>
      <p:pic>
        <p:nvPicPr>
          <p:cNvPr id="503" name="Схема 7" descr=""/>
          <p:cNvPicPr/>
          <p:nvPr/>
        </p:nvPicPr>
        <p:blipFill>
          <a:blip r:embed="rId1"/>
          <a:stretch/>
        </p:blipFill>
        <p:spPr>
          <a:xfrm>
            <a:off x="1639800" y="1584360"/>
            <a:ext cx="7053480" cy="456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357200" y="274320"/>
            <a:ext cx="73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Comic Sans MS"/>
              </a:rPr>
              <a:t>Изучение избирательности       рыбных продуктов</a:t>
            </a:r>
            <a:endParaRPr b="0" lang="en-US" sz="3200" spc="-1" strike="noStrike">
              <a:solidFill>
                <a:srgbClr val="000000"/>
              </a:solidFill>
              <a:latin typeface="Calibri"/>
            </a:endParaRPr>
          </a:p>
        </p:txBody>
      </p:sp>
      <p:pic>
        <p:nvPicPr>
          <p:cNvPr id="505" name="Схема 7" descr=""/>
          <p:cNvPicPr/>
          <p:nvPr/>
        </p:nvPicPr>
        <p:blipFill>
          <a:blip r:embed="rId1"/>
          <a:stretch/>
        </p:blipFill>
        <p:spPr>
          <a:xfrm>
            <a:off x="1554120" y="1779480"/>
            <a:ext cx="6791400" cy="3992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357200" y="274320"/>
            <a:ext cx="73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Comic Sans MS"/>
              </a:rPr>
              <a:t>Изучение избирательности кормов среди овощей и фруктов</a:t>
            </a:r>
            <a:endParaRPr b="0" lang="en-US" sz="3200" spc="-1" strike="noStrike">
              <a:solidFill>
                <a:srgbClr val="000000"/>
              </a:solidFill>
              <a:latin typeface="Calibri"/>
            </a:endParaRPr>
          </a:p>
        </p:txBody>
      </p:sp>
      <p:pic>
        <p:nvPicPr>
          <p:cNvPr id="507" name="Схема 4" descr=""/>
          <p:cNvPicPr/>
          <p:nvPr/>
        </p:nvPicPr>
        <p:blipFill>
          <a:blip r:embed="rId1"/>
          <a:stretch/>
        </p:blipFill>
        <p:spPr>
          <a:xfrm>
            <a:off x="2341440" y="1584360"/>
            <a:ext cx="6364440" cy="4151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499760" y="428400"/>
            <a:ext cx="7186680" cy="1214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Comic Sans MS"/>
              </a:rPr>
              <a:t>Изучение избирательности среди молочных и яичных продуктов</a:t>
            </a:r>
            <a:endParaRPr b="0" lang="en-US" sz="3200" spc="-1" strike="noStrike">
              <a:solidFill>
                <a:srgbClr val="000000"/>
              </a:solidFill>
              <a:latin typeface="Calibri"/>
            </a:endParaRPr>
          </a:p>
        </p:txBody>
      </p:sp>
      <p:pic>
        <p:nvPicPr>
          <p:cNvPr id="509" name="Схема 4" descr=""/>
          <p:cNvPicPr/>
          <p:nvPr/>
        </p:nvPicPr>
        <p:blipFill>
          <a:blip r:embed="rId1"/>
          <a:stretch/>
        </p:blipFill>
        <p:spPr>
          <a:xfrm>
            <a:off x="1566720" y="1596960"/>
            <a:ext cx="7126560" cy="4535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499760" y="274320"/>
            <a:ext cx="71866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Comic Sans MS"/>
              </a:rPr>
              <a:t>Предпочитаемые продукты</a:t>
            </a:r>
            <a:br>
              <a:rPr sz="3200"/>
            </a:br>
            <a:endParaRPr b="0" lang="en-US" sz="3200" spc="-1" strike="noStrike">
              <a:solidFill>
                <a:srgbClr val="000000"/>
              </a:solidFill>
              <a:latin typeface="Calibri"/>
            </a:endParaRPr>
          </a:p>
        </p:txBody>
      </p:sp>
      <p:pic>
        <p:nvPicPr>
          <p:cNvPr id="511" name="Object 2" descr=""/>
          <p:cNvPicPr/>
          <p:nvPr/>
        </p:nvPicPr>
        <p:blipFill>
          <a:blip r:embed="rId1"/>
          <a:stretch/>
        </p:blipFill>
        <p:spPr>
          <a:xfrm>
            <a:off x="1857240" y="1643040"/>
            <a:ext cx="6096240" cy="4067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571760" y="274320"/>
            <a:ext cx="711504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omic Sans MS"/>
              </a:rPr>
              <a:t>Рекомендации по содержанию ежей в неволе     (клетка для ежа)</a:t>
            </a:r>
            <a:endParaRPr b="0" lang="en-US" sz="2000" spc="-1" strike="noStrike">
              <a:solidFill>
                <a:srgbClr val="000000"/>
              </a:solidFill>
              <a:latin typeface="Calibri"/>
            </a:endParaRPr>
          </a:p>
        </p:txBody>
      </p:sp>
      <p:pic>
        <p:nvPicPr>
          <p:cNvPr id="513" name="Содержимое 7" descr="IMG_20160105_045558.jpg"/>
          <p:cNvPicPr/>
          <p:nvPr/>
        </p:nvPicPr>
        <p:blipFill>
          <a:blip r:embed="rId1"/>
          <a:stretch/>
        </p:blipFill>
        <p:spPr>
          <a:xfrm>
            <a:off x="1428840" y="1143000"/>
            <a:ext cx="2824200" cy="2117880"/>
          </a:xfrm>
          <a:prstGeom prst="rect">
            <a:avLst/>
          </a:prstGeom>
          <a:ln w="0">
            <a:noFill/>
          </a:ln>
        </p:spPr>
      </p:pic>
      <p:sp>
        <p:nvSpPr>
          <p:cNvPr id="514" name=""/>
          <p:cNvSpPr txBox="1"/>
          <p:nvPr/>
        </p:nvSpPr>
        <p:spPr>
          <a:xfrm>
            <a:off x="4648320" y="857160"/>
            <a:ext cx="4038480" cy="5268960"/>
          </a:xfrm>
          <a:prstGeom prst="rect">
            <a:avLst/>
          </a:prstGeom>
          <a:noFill/>
          <a:ln w="0">
            <a:noFill/>
          </a:ln>
        </p:spPr>
        <p:txBody>
          <a:bodyPr lIns="90000" rIns="90000" tIns="46800" bIns="46800" anchor="t">
            <a:normAutofit fontScale="96000"/>
          </a:bodyPr>
          <a:p>
            <a:pPr marL="438840" indent="-438840">
              <a:lnSpc>
                <a:spcPct val="10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Поселите его в довольно просторной клетке, в которой будет место для небольшого домика, лотка, кормушки.</a:t>
            </a:r>
            <a:endParaRPr b="0" lang="en-US" sz="1800" spc="-1" strike="noStrike">
              <a:solidFill>
                <a:srgbClr val="000000"/>
              </a:solidFill>
              <a:latin typeface="Calibri"/>
            </a:endParaRPr>
          </a:p>
          <a:p>
            <a:pPr marL="438840" indent="-438840">
              <a:lnSpc>
                <a:spcPct val="10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Повесьте сбоку клетки специальную поилку, зверек постепенно приучится утолять жажду с её помощью, и клетка не будет мокрой из-за воды.</a:t>
            </a:r>
            <a:endParaRPr b="0" lang="en-US" sz="1800" spc="-1" strike="noStrike">
              <a:solidFill>
                <a:srgbClr val="000000"/>
              </a:solidFill>
              <a:latin typeface="Calibri"/>
            </a:endParaRPr>
          </a:p>
          <a:p>
            <a:pPr marL="438840" indent="-438840">
              <a:lnSpc>
                <a:spcPct val="10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Чтобы не было неприятного запаха, положите на дно клетки наполнитель, поверх наполнителя положите в клетку подстилку из небольшого количества соломы, мха и сухой листвы или стружки.</a:t>
            </a:r>
            <a:endParaRPr b="0" lang="en-US" sz="1800" spc="-1" strike="noStrike">
              <a:solidFill>
                <a:srgbClr val="000000"/>
              </a:solidFill>
              <a:latin typeface="Calibri"/>
            </a:endParaRPr>
          </a:p>
          <a:p>
            <a:pPr marL="438840" indent="-438840">
              <a:lnSpc>
                <a:spcPct val="10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5" name="Рисунок 8" descr="IMG_20160105_045616.jpg"/>
          <p:cNvPicPr/>
          <p:nvPr/>
        </p:nvPicPr>
        <p:blipFill>
          <a:blip r:embed="rId2"/>
          <a:stretch/>
        </p:blipFill>
        <p:spPr>
          <a:xfrm>
            <a:off x="1357200" y="3857760"/>
            <a:ext cx="2857680" cy="2143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499760" y="274320"/>
            <a:ext cx="71866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Comic Sans MS"/>
              </a:rPr>
              <a:t>Рекомендации по содержанию ежей в неволе</a:t>
            </a:r>
            <a:r>
              <a:rPr b="1" lang="ru-RU" sz="4400" spc="-1" strike="noStrike">
                <a:solidFill>
                  <a:srgbClr val="c00000"/>
                </a:solidFill>
                <a:latin typeface="Comic Sans MS"/>
              </a:rPr>
              <a:t>.</a:t>
            </a:r>
            <a:endParaRPr b="0" lang="en-US" sz="4400" spc="-1" strike="noStrike">
              <a:solidFill>
                <a:srgbClr val="000000"/>
              </a:solidFill>
              <a:latin typeface="Calibri"/>
            </a:endParaRPr>
          </a:p>
        </p:txBody>
      </p:sp>
      <p:sp>
        <p:nvSpPr>
          <p:cNvPr id="517" name=""/>
          <p:cNvSpPr txBox="1"/>
          <p:nvPr/>
        </p:nvSpPr>
        <p:spPr>
          <a:xfrm>
            <a:off x="1643040" y="1599840"/>
            <a:ext cx="7043760" cy="49006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Убирайтесь в клетке 1─2 раза в неделю, чаще этого не делайте, так как при этом ежик может испытывать стресс.</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Если животное напугано или боится, не нужно с ним играть, так как тогда оно может укусить.</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Иногда ежику нужно дать возможность побегать, для этого отгородите часть квартирной территории, чтобы он не убежал, иначе потом придется искать его. Вполне вероятно, ёж хорошо спрячется и возвестит о том, что он здесь громким ночным топотом.</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Нужно знать, что у ежей острые когти, это может нанести вред полу, поэтому постелите на него картон, газеты, чтобы сохранить паркет и ламинат в порядк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571760" y="274320"/>
            <a:ext cx="711504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Comic Sans MS"/>
              </a:rPr>
              <a:t>Рекомендации по содержанию ежей в неволе.</a:t>
            </a:r>
            <a:endParaRPr b="0" lang="en-US" sz="3200" spc="-1" strike="noStrike">
              <a:solidFill>
                <a:srgbClr val="000000"/>
              </a:solidFill>
              <a:latin typeface="Calibri"/>
            </a:endParaRPr>
          </a:p>
        </p:txBody>
      </p:sp>
      <p:sp>
        <p:nvSpPr>
          <p:cNvPr id="519" name=""/>
          <p:cNvSpPr txBox="1"/>
          <p:nvPr/>
        </p:nvSpPr>
        <p:spPr>
          <a:xfrm>
            <a:off x="1571760" y="1600200"/>
            <a:ext cx="711504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Летом можно создать ему комфортные условия проживания. Для этого постройте ему вольер. Также постелите туда мох, солому, листья. Из этих природных материалов он сам построит убежище. Чтобы во время дождя ему было сухо, сделайте над частью вольера непромокаемую крышу. </a:t>
            </a:r>
            <a:endParaRPr b="0" lang="en-US" sz="2000" spc="-1" strike="noStrike">
              <a:solidFill>
                <a:srgbClr val="000000"/>
              </a:solidFill>
              <a:latin typeface="Calibri"/>
            </a:endParaRPr>
          </a:p>
          <a:p>
            <a:pPr marL="343080" indent="-34308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mic Sans MS"/>
              </a:rPr>
              <a:t> </a:t>
            </a:r>
            <a:r>
              <a:rPr b="1" lang="ru-RU" sz="2000" spc="-1" strike="noStrike">
                <a:solidFill>
                  <a:srgbClr val="000000"/>
                </a:solidFill>
                <a:latin typeface="Comic Sans MS"/>
              </a:rPr>
              <a:t>В норе убирайтесь не чаще 1─2 раза в месяц, чтобы не пугать животное</a:t>
            </a:r>
            <a:r>
              <a:rPr b="0" lang="ru-RU" sz="1400" spc="-1" strike="noStrike">
                <a:solidFill>
                  <a:srgbClr val="000000"/>
                </a:solidFill>
                <a:latin typeface="Calibri"/>
              </a:rPr>
              <a:t>.</a:t>
            </a:r>
            <a:endParaRPr b="0" lang="en-US" sz="14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1" lang="ru-RU" sz="2000" spc="-1" strike="noStrike">
                <a:solidFill>
                  <a:srgbClr val="000000"/>
                </a:solidFill>
                <a:latin typeface="Comic Sans MS"/>
              </a:rPr>
              <a:t>В естественных условиях обитания ежи все теплое время года кормятся, накапливая жир. Когда еж впадает в спячку, жир помогает пережить зим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Picture 8" descr="F:\Илона\20160824_201852.jpg"/>
          <p:cNvPicPr/>
          <p:nvPr/>
        </p:nvPicPr>
        <p:blipFill>
          <a:blip r:embed="rId1"/>
          <a:stretch/>
        </p:blipFill>
        <p:spPr>
          <a:xfrm>
            <a:off x="1071720" y="500040"/>
            <a:ext cx="1769760" cy="2882880"/>
          </a:xfrm>
          <a:prstGeom prst="rect">
            <a:avLst/>
          </a:prstGeom>
          <a:ln w="0">
            <a:noFill/>
          </a:ln>
        </p:spPr>
      </p:pic>
      <p:pic>
        <p:nvPicPr>
          <p:cNvPr id="472" name="Picture 2" descr="F:\Илона\IMG_20161227_151836.jpg"/>
          <p:cNvPicPr/>
          <p:nvPr/>
        </p:nvPicPr>
        <p:blipFill>
          <a:blip r:embed="rId2"/>
          <a:stretch/>
        </p:blipFill>
        <p:spPr>
          <a:xfrm>
            <a:off x="2643120" y="2000160"/>
            <a:ext cx="2214720" cy="2952720"/>
          </a:xfrm>
          <a:prstGeom prst="rect">
            <a:avLst/>
          </a:prstGeom>
          <a:ln w="0">
            <a:noFill/>
          </a:ln>
        </p:spPr>
      </p:pic>
      <p:grpSp>
        <p:nvGrpSpPr>
          <p:cNvPr id="473" name="Группа 6"/>
          <p:cNvGrpSpPr/>
          <p:nvPr/>
        </p:nvGrpSpPr>
        <p:grpSpPr>
          <a:xfrm>
            <a:off x="1357200" y="2357280"/>
            <a:ext cx="7500960" cy="3097440"/>
            <a:chOff x="1357200" y="2357280"/>
            <a:chExt cx="7500960" cy="3097440"/>
          </a:xfrm>
        </p:grpSpPr>
        <p:sp>
          <p:nvSpPr>
            <p:cNvPr id="474" name="Прямоугольник 4"/>
            <p:cNvSpPr/>
            <p:nvPr/>
          </p:nvSpPr>
          <p:spPr>
            <a:xfrm>
              <a:off x="1357200" y="2357280"/>
              <a:ext cx="75009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Прямоугольник 5"/>
            <p:cNvSpPr/>
            <p:nvPr/>
          </p:nvSpPr>
          <p:spPr>
            <a:xfrm>
              <a:off x="2479320" y="5085000"/>
              <a:ext cx="5321520" cy="36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PlaceHolder 1"/>
          <p:cNvSpPr>
            <a:spLocks noGrp="1"/>
          </p:cNvSpPr>
          <p:nvPr>
            <p:ph type="title"/>
          </p:nvPr>
        </p:nvSpPr>
        <p:spPr>
          <a:xfrm>
            <a:off x="3142800" y="274680"/>
            <a:ext cx="5543640" cy="1582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Comic Sans MS"/>
              </a:rPr>
              <a:t>Мои домашние питомцы: </a:t>
            </a:r>
            <a:r>
              <a:rPr b="1" lang="ru-RU" sz="2400" spc="-1" strike="noStrike">
                <a:solidFill>
                  <a:srgbClr val="000000"/>
                </a:solidFill>
                <a:latin typeface="Comic Sans MS"/>
              </a:rPr>
              <a:t>морская свинка, попугай, пятнистый эублефар (леопардовый геккон), черепаха, кошка, собака.</a:t>
            </a:r>
            <a:br>
              <a:rPr sz="2000"/>
            </a:br>
            <a:endParaRPr b="0" lang="en-US" sz="2400" spc="-1" strike="noStrike">
              <a:solidFill>
                <a:srgbClr val="000000"/>
              </a:solidFill>
              <a:latin typeface="Calibri"/>
            </a:endParaRPr>
          </a:p>
        </p:txBody>
      </p:sp>
      <p:pic>
        <p:nvPicPr>
          <p:cNvPr id="477" name="Picture 9" descr="F:\Илона\IMG_20161117_110600.jpg"/>
          <p:cNvPicPr/>
          <p:nvPr/>
        </p:nvPicPr>
        <p:blipFill>
          <a:blip r:embed="rId3"/>
          <a:stretch/>
        </p:blipFill>
        <p:spPr>
          <a:xfrm>
            <a:off x="4429080" y="2976480"/>
            <a:ext cx="2214720" cy="2952720"/>
          </a:xfrm>
          <a:prstGeom prst="rect">
            <a:avLst/>
          </a:prstGeom>
          <a:ln w="0">
            <a:noFill/>
          </a:ln>
        </p:spPr>
      </p:pic>
      <p:pic>
        <p:nvPicPr>
          <p:cNvPr id="478" name="Picture 7" descr="F:\Илона\IMG_20161227_152101.jpg"/>
          <p:cNvPicPr/>
          <p:nvPr/>
        </p:nvPicPr>
        <p:blipFill>
          <a:blip r:embed="rId4"/>
          <a:stretch/>
        </p:blipFill>
        <p:spPr>
          <a:xfrm>
            <a:off x="6143760" y="3833640"/>
            <a:ext cx="2000160" cy="2667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643040" y="499680"/>
            <a:ext cx="7043760" cy="917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omic Sans MS"/>
              </a:rPr>
              <a:t>Моя гипотеза подтвердилась</a:t>
            </a:r>
            <a:endParaRPr b="0" lang="en-US" sz="2800" spc="-1" strike="noStrike">
              <a:solidFill>
                <a:srgbClr val="000000"/>
              </a:solidFill>
              <a:latin typeface="Calibri"/>
            </a:endParaRPr>
          </a:p>
        </p:txBody>
      </p:sp>
      <p:pic>
        <p:nvPicPr>
          <p:cNvPr id="521" name="Содержимое 5" descr="IMG_20160105_050950.jpg"/>
          <p:cNvPicPr/>
          <p:nvPr/>
        </p:nvPicPr>
        <p:blipFill>
          <a:blip r:embed="rId1"/>
          <a:stretch/>
        </p:blipFill>
        <p:spPr>
          <a:xfrm>
            <a:off x="1500120" y="2711520"/>
            <a:ext cx="3071880" cy="2303280"/>
          </a:xfrm>
          <a:prstGeom prst="rect">
            <a:avLst/>
          </a:prstGeom>
          <a:ln w="0">
            <a:noFill/>
          </a:ln>
        </p:spPr>
      </p:pic>
      <p:sp>
        <p:nvSpPr>
          <p:cNvPr id="522"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  </a:t>
            </a:r>
            <a:r>
              <a:rPr b="1" lang="ru-RU" sz="2000" spc="-1" strike="noStrike">
                <a:solidFill>
                  <a:srgbClr val="000000"/>
                </a:solidFill>
                <a:latin typeface="Comic Sans MS"/>
              </a:rPr>
              <a:t>Если правильно ухаживать за ежами, обеспечить им комфортные условия проживания, кормить и вкусной, и полезной пищей, уделять внимание, тогда в вашем доме поселится настоящий преданный друг, который принесет много радости, положительных эмоций и взрослым, и детям.</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285560" y="274680"/>
            <a:ext cx="7072200" cy="1440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00000"/>
                </a:solidFill>
                <a:latin typeface="Comic Sans MS"/>
              </a:rPr>
              <a:t>Недавно в моём живом уголке появился                                     ещё один житель – </a:t>
            </a:r>
            <a:r>
              <a:rPr b="1" lang="ru-RU" sz="2400" spc="-1" strike="noStrike">
                <a:solidFill>
                  <a:srgbClr val="c00000"/>
                </a:solidFill>
                <a:latin typeface="Comic Sans MS"/>
              </a:rPr>
              <a:t>ёжик Топтыжка.</a:t>
            </a:r>
            <a:endParaRPr b="0" lang="en-US" sz="2400" spc="-1" strike="noStrike">
              <a:solidFill>
                <a:srgbClr val="000000"/>
              </a:solidFill>
              <a:latin typeface="Calibri"/>
            </a:endParaRPr>
          </a:p>
        </p:txBody>
      </p:sp>
      <p:pic>
        <p:nvPicPr>
          <p:cNvPr id="480" name="Содержимое 6" descr="IMG_20160105_051006.jpg"/>
          <p:cNvPicPr/>
          <p:nvPr/>
        </p:nvPicPr>
        <p:blipFill>
          <a:blip r:embed="rId1"/>
          <a:stretch/>
        </p:blipFill>
        <p:spPr>
          <a:xfrm>
            <a:off x="2143080" y="1785960"/>
            <a:ext cx="5881680" cy="441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680"/>
            <a:ext cx="8229600" cy="1797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Comic Sans MS"/>
              </a:rPr>
              <a:t>Цель исследования:</a:t>
            </a:r>
            <a:br>
              <a:rPr sz="2400"/>
            </a:br>
            <a:r>
              <a:rPr b="1" lang="ru-RU" sz="2400" spc="-1" strike="noStrike">
                <a:solidFill>
                  <a:srgbClr val="000000"/>
                </a:solidFill>
                <a:latin typeface="Comic Sans MS"/>
              </a:rPr>
              <a:t> изучить образ жизни ежей в неволе.</a:t>
            </a:r>
            <a:br>
              <a:rPr sz="2400"/>
            </a:br>
            <a:endParaRPr b="0" lang="en-US" sz="2400" spc="-1" strike="noStrike">
              <a:solidFill>
                <a:srgbClr val="000000"/>
              </a:solidFill>
              <a:latin typeface="Calibri"/>
            </a:endParaRPr>
          </a:p>
        </p:txBody>
      </p:sp>
      <p:sp>
        <p:nvSpPr>
          <p:cNvPr id="482" name=""/>
          <p:cNvSpPr txBox="1"/>
          <p:nvPr/>
        </p:nvSpPr>
        <p:spPr>
          <a:xfrm>
            <a:off x="1357200" y="1428840"/>
            <a:ext cx="7329600" cy="500040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Comic Sans MS"/>
              </a:rPr>
              <a:t>Задач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1. Изучить образ жизни ежей                             по литературным источника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2. Составить характеристику объекта наблюдений.</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3. Провести ряд наблюдений за образом жизни и поведения ежа в неволе.</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4. Провести ряд исследований по выбору еды.</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5. Составить рекомендации по содержанию ежей в неволе.</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357200" y="785520"/>
            <a:ext cx="7500960" cy="1428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Comic Sans MS"/>
              </a:rPr>
              <a:t>Гипотеза исследования:</a:t>
            </a:r>
            <a:br>
              <a:rPr sz="2400"/>
            </a:br>
            <a:r>
              <a:rPr b="1" lang="ru-RU" sz="2400" spc="-1" strike="noStrike">
                <a:solidFill>
                  <a:srgbClr val="000000"/>
                </a:solidFill>
                <a:latin typeface="Comic Sans MS"/>
              </a:rPr>
              <a:t>Ежей можно содержать в домашних условиях.</a:t>
            </a:r>
            <a:br>
              <a:rPr sz="2400"/>
            </a:br>
            <a:endParaRPr b="0" lang="en-US" sz="2400" spc="-1" strike="noStrike">
              <a:solidFill>
                <a:srgbClr val="000000"/>
              </a:solidFill>
              <a:latin typeface="Calibri"/>
            </a:endParaRPr>
          </a:p>
        </p:txBody>
      </p:sp>
      <p:pic>
        <p:nvPicPr>
          <p:cNvPr id="484" name="Содержимое 3" descr="609538_zhilische-ezha-v-prirode.jpg"/>
          <p:cNvPicPr/>
          <p:nvPr/>
        </p:nvPicPr>
        <p:blipFill>
          <a:blip r:embed="rId1"/>
          <a:stretch/>
        </p:blipFill>
        <p:spPr>
          <a:xfrm>
            <a:off x="2282760" y="1857240"/>
            <a:ext cx="5692680" cy="426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357200" y="571680"/>
            <a:ext cx="7329600" cy="846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omic Sans MS"/>
              </a:rPr>
              <a:t>Интересные факты о ежах.</a:t>
            </a:r>
            <a:endParaRPr b="0" lang="en-US" sz="4000" spc="-1" strike="noStrike">
              <a:solidFill>
                <a:srgbClr val="000000"/>
              </a:solidFill>
              <a:latin typeface="Calibri"/>
            </a:endParaRPr>
          </a:p>
        </p:txBody>
      </p:sp>
      <p:sp>
        <p:nvSpPr>
          <p:cNvPr id="486" name=""/>
          <p:cNvSpPr txBox="1"/>
          <p:nvPr/>
        </p:nvSpPr>
        <p:spPr>
          <a:xfrm>
            <a:off x="1499760" y="1571760"/>
            <a:ext cx="7186680" cy="4643280"/>
          </a:xfrm>
          <a:prstGeom prst="rect">
            <a:avLst/>
          </a:prstGeom>
          <a:noFill/>
          <a:ln w="0">
            <a:noFill/>
          </a:ln>
        </p:spPr>
        <p:txBody>
          <a:bodyPr lIns="90000" rIns="90000" tIns="46800" bIns="46800" anchor="t">
            <a:normAutofit fontScale="93000"/>
          </a:bodyPr>
          <a:p>
            <a:pPr marL="425160" indent="-425160">
              <a:lnSpc>
                <a:spcPct val="10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Ежи появились на Земле около 15 миллионов лет назад.</a:t>
            </a:r>
            <a:endParaRPr b="0" lang="en-US" sz="2000" spc="-1" strike="noStrike">
              <a:solidFill>
                <a:srgbClr val="000000"/>
              </a:solidFill>
              <a:latin typeface="Calibri"/>
            </a:endParaRPr>
          </a:p>
          <a:p>
            <a:pPr marL="425160" indent="-425160">
              <a:lnSpc>
                <a:spcPct val="10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2. У среднестатистического ежа примерно 10 тысяч иголок. Они обновляются раз в три года.</a:t>
            </a:r>
            <a:endParaRPr b="0" lang="en-US" sz="2000" spc="-1" strike="noStrike">
              <a:solidFill>
                <a:srgbClr val="000000"/>
              </a:solidFill>
              <a:latin typeface="Calibri"/>
            </a:endParaRPr>
          </a:p>
          <a:p>
            <a:pPr marL="425160" indent="-425160">
              <a:lnSpc>
                <a:spcPct val="10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3. У ежа насчитывается 36 зубов, которые, как и у людей, могут выпасть к старости.</a:t>
            </a:r>
            <a:endParaRPr b="0" lang="en-US" sz="2000" spc="-1" strike="noStrike">
              <a:solidFill>
                <a:srgbClr val="000000"/>
              </a:solidFill>
              <a:latin typeface="Calibri"/>
            </a:endParaRPr>
          </a:p>
          <a:p>
            <a:pPr marL="425160" indent="-425160">
              <a:lnSpc>
                <a:spcPct val="10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4. Зимняя спячка ежей длится 128 дней.</a:t>
            </a:r>
            <a:endParaRPr b="0" lang="en-US" sz="2000" spc="-1" strike="noStrike">
              <a:solidFill>
                <a:srgbClr val="000000"/>
              </a:solidFill>
              <a:latin typeface="Calibri"/>
            </a:endParaRPr>
          </a:p>
          <a:p>
            <a:pPr marL="425160" indent="-425160">
              <a:lnSpc>
                <a:spcPct val="10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5. У большинства видов ежей есть хвост. Правда, он очень короткий – всего 3 см, поэтому его не видно из-под иголок.</a:t>
            </a:r>
            <a:endParaRPr b="0" lang="en-US" sz="2000" spc="-1" strike="noStrike">
              <a:solidFill>
                <a:srgbClr val="000000"/>
              </a:solidFill>
              <a:latin typeface="Calibri"/>
            </a:endParaRPr>
          </a:p>
          <a:p>
            <a:pPr marL="425160" indent="-425160">
              <a:lnSpc>
                <a:spcPct val="10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Ежи больше, чем какие-либо другие животные, страдают от укусов клещей. Когда еж бежит по траве, он словно гребнем «вычесывает» из нее паразитов, которые охотно селятся на несчастном зверьке</a:t>
            </a:r>
            <a:r>
              <a:rPr b="0" lang="ru-RU"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omic Sans MS"/>
              </a:rPr>
              <a:t>Мифы о ежах.</a:t>
            </a:r>
            <a:endParaRPr b="0" lang="en-US" sz="4000" spc="-1" strike="noStrike">
              <a:solidFill>
                <a:srgbClr val="000000"/>
              </a:solidFill>
              <a:latin typeface="Calibri"/>
            </a:endParaRPr>
          </a:p>
        </p:txBody>
      </p:sp>
      <p:sp>
        <p:nvSpPr>
          <p:cNvPr id="488" name=""/>
          <p:cNvSpPr txBox="1"/>
          <p:nvPr/>
        </p:nvSpPr>
        <p:spPr>
          <a:xfrm>
            <a:off x="1643040" y="1071720"/>
            <a:ext cx="7043760" cy="5054400"/>
          </a:xfrm>
          <a:prstGeom prst="rect">
            <a:avLst/>
          </a:prstGeom>
          <a:noFill/>
          <a:ln w="0">
            <a:noFill/>
          </a:ln>
        </p:spPr>
        <p:txBody>
          <a:bodyPr lIns="90000" rIns="90000" tIns="46800" bIns="46800" anchor="t">
            <a:normAutofit fontScale="97000"/>
          </a:bodyPr>
          <a:p>
            <a:pPr marL="443160" indent="-443160">
              <a:lnSpc>
                <a:spcPct val="10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Ежики не охотятся на мышей – это миф. Они, может быть, и рады были бы полакомиться мышатиной, но догнать мышь не способны.</a:t>
            </a:r>
            <a:endParaRPr b="0" lang="en-US" sz="2000" spc="-1" strike="noStrike">
              <a:solidFill>
                <a:srgbClr val="000000"/>
              </a:solidFill>
              <a:latin typeface="Calibri"/>
            </a:endParaRPr>
          </a:p>
          <a:p>
            <a:pPr marL="443160" indent="-443160">
              <a:lnSpc>
                <a:spcPct val="10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В детских книжках часто можно увидеть ежика, несущего на спине яблоко. На самом деле ежи не накалывают на спинные иглы ни яблоки, ни грибы, ни прочие крупные предметы – они физически не способны свернуться так, чтобы это сделать.</a:t>
            </a:r>
            <a:endParaRPr b="0" lang="en-US" sz="2000" spc="-1" strike="noStrike">
              <a:solidFill>
                <a:srgbClr val="000000"/>
              </a:solidFill>
              <a:latin typeface="Calibri"/>
            </a:endParaRPr>
          </a:p>
          <a:p>
            <a:pPr marL="443160" indent="-443160">
              <a:lnSpc>
                <a:spcPct val="10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Как оказалось, эти животные совсем не едят яблок! Растительную пищу ежи не усваивают. Они, конечно, могут её употреблять, но редко. А питаются ёжики грызунами, насекомыми, ящерицами, лягушками.</a:t>
            </a:r>
            <a:endParaRPr b="0" lang="en-US" sz="2000" spc="-1" strike="noStrike">
              <a:solidFill>
                <a:srgbClr val="000000"/>
              </a:solidFill>
              <a:latin typeface="Calibri"/>
            </a:endParaRPr>
          </a:p>
          <a:p>
            <a:pPr marL="443160" indent="-443160">
              <a:lnSpc>
                <a:spcPct val="10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Ежи не делают запасов на зиму,так как зимой они впадают в спячк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714320" y="642960"/>
            <a:ext cx="6972120" cy="32860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90" name=""/>
          <p:cNvSpPr txBox="1"/>
          <p:nvPr/>
        </p:nvSpPr>
        <p:spPr>
          <a:xfrm>
            <a:off x="1428480" y="4143240"/>
            <a:ext cx="7257960" cy="1982880"/>
          </a:xfrm>
          <a:prstGeom prst="rect">
            <a:avLst/>
          </a:prstGeom>
          <a:noFill/>
          <a:ln w="0">
            <a:noFill/>
          </a:ln>
        </p:spPr>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     </a:t>
            </a:r>
            <a:r>
              <a:rPr b="1" lang="ru-RU" sz="2000" spc="-1" strike="noStrike">
                <a:solidFill>
                  <a:srgbClr val="000000"/>
                </a:solidFill>
                <a:latin typeface="Comic Sans MS"/>
              </a:rPr>
              <a:t>Период беременности</a:t>
            </a:r>
            <a:r>
              <a:rPr b="0" lang="ru-RU" sz="2000" spc="-1" strike="noStrike">
                <a:solidFill>
                  <a:srgbClr val="000000"/>
                </a:solidFill>
                <a:latin typeface="Comic Sans MS"/>
              </a:rPr>
              <a:t> ежихи – 7 недель. В году бывает один приплод, от 3 до 6 (иногда до 7-8) детенышей.</a:t>
            </a:r>
            <a:r>
              <a:rPr b="1" lang="ru-RU" sz="2000" spc="-1" strike="noStrike">
                <a:solidFill>
                  <a:srgbClr val="000000"/>
                </a:solidFill>
                <a:latin typeface="Comic Sans MS"/>
              </a:rPr>
              <a:t> Ежата рождаются </a:t>
            </a:r>
            <a:r>
              <a:rPr b="0" lang="ru-RU" sz="2000" spc="-1" strike="noStrike">
                <a:solidFill>
                  <a:srgbClr val="000000"/>
                </a:solidFill>
                <a:latin typeface="Comic Sans MS"/>
              </a:rPr>
              <a:t>слепыми, с ярко-розовой кожей, без иголок. Иголки (сначала мягкие) начинают появляться через несколько часов после рождения. Глаза у ежат открываются на 16-й день.</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Rectangle 1"/>
          <p:cNvSpPr/>
          <p:nvPr/>
        </p:nvSpPr>
        <p:spPr>
          <a:xfrm>
            <a:off x="-1259280" y="105480"/>
            <a:ext cx="116625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inherit"/>
                <a:ea typeface="Times New Roman"/>
              </a:rPr>
              <a:t>Ежата рождаются слепыми</a:t>
            </a:r>
            <a:r>
              <a:rPr b="0" lang="ru-RU" sz="1000" spc="-1" strike="noStrike">
                <a:solidFill>
                  <a:srgbClr val="000000"/>
                </a:solidFill>
                <a:latin typeface="Arial"/>
                <a:ea typeface="Times New Roman"/>
              </a:rPr>
              <a:t>. с ярко-розовой кожей, без иголок. Иголки (сначала мягкие) начинают появляться через несколько часов после рождения. Глаза у ежат открываются на 16-й день.</a:t>
            </a:r>
            <a:endParaRPr b="0" lang="en-US" sz="1000" spc="-1" strike="noStrike">
              <a:solidFill>
                <a:srgbClr val="000000"/>
              </a:solidFill>
              <a:latin typeface="Arial"/>
            </a:endParaRPr>
          </a:p>
        </p:txBody>
      </p:sp>
      <p:pic>
        <p:nvPicPr>
          <p:cNvPr id="492" name="Рисунок 5" descr="91047.jpg"/>
          <p:cNvPicPr/>
          <p:nvPr/>
        </p:nvPicPr>
        <p:blipFill>
          <a:blip r:embed="rId1"/>
          <a:stretch/>
        </p:blipFill>
        <p:spPr>
          <a:xfrm>
            <a:off x="2214720" y="714240"/>
            <a:ext cx="6251400" cy="3292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285920" y="274320"/>
            <a:ext cx="7400880" cy="1297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Comic Sans MS"/>
              </a:rPr>
              <a:t>Характеристика объекта наблюдения</a:t>
            </a:r>
            <a:endParaRPr b="0" lang="en-US" sz="3600" spc="-1" strike="noStrike">
              <a:solidFill>
                <a:srgbClr val="000000"/>
              </a:solidFill>
              <a:latin typeface="Calibri"/>
            </a:endParaRPr>
          </a:p>
        </p:txBody>
      </p:sp>
      <p:sp>
        <p:nvSpPr>
          <p:cNvPr id="494" name=""/>
          <p:cNvSpPr txBox="1"/>
          <p:nvPr/>
        </p:nvSpPr>
        <p:spPr>
          <a:xfrm>
            <a:off x="1428480" y="1857240"/>
            <a:ext cx="7257960" cy="42688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Класс – Млекопитающи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Отряд – Насекомоядны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 </a:t>
            </a:r>
            <a:r>
              <a:rPr b="1" lang="ru-RU" sz="2000" spc="-1" strike="noStrike">
                <a:solidFill>
                  <a:srgbClr val="000000"/>
                </a:solidFill>
                <a:latin typeface="Comic Sans MS"/>
              </a:rPr>
              <a:t>Вид - Европейский (обыкновенный) ёж</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Вес 750 г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Длина – 35см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Пол – мужской</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Имя – Топтыжк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Характерные черты: острое рыльце, маленькие чёрные глазки, большой рот. Голова, спина, бока покрыты острыми иглами серого цвета, бурыми на концах, а шея и брюшко – густыми желтовато - серыми волосками.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7T17:01:55Z</dcterms:created>
  <dc:creator>Фокина Лидия Петровна</dc:creator>
  <dc:description/>
  <cp:keywords>Шаблон презентации</cp:keywords>
  <dc:language>en-US</dc:language>
  <cp:lastModifiedBy>User</cp:lastModifiedBy>
  <dcterms:modified xsi:type="dcterms:W3CDTF">2017-03-11T12:03:29Z</dcterms:modified>
  <cp:revision>54</cp:revision>
  <dc:subject/>
  <dc:title>Тетрадь на спирали</dc:title>
</cp:coreProperties>
</file>