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9B3898-1A69-441F-B68A-1A70E14B4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9FAC6-2AF8-4428-8F3A-F9C8EC2102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57500C-D824-42DB-8A77-59FFCABC66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CF594-E3D0-4F94-B927-69E1F9C38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87200-0369-48C1-BC58-35C334A48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F1D32-C2CC-453D-B631-89F3104DEA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DEDB1-12EE-4A97-9B11-96C7B84CA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11A8B6-8FE5-4608-90CF-A1F4A38CA1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FF112E-7A46-43FD-BF7D-6ED021CB2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8512B2-20EF-4F0F-94E2-165184D114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111128-2836-4109-915D-6E776E1B3A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1D3B0-3D8F-4862-887D-D411C4B32B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143BED-6BA7-4779-9CE1-5C820EBB8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F95A3-43EF-47D9-A967-2FF46C6F29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A2E05E-C784-4AB0-8B5F-BFBD206F0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C76AC-A0E1-45B6-AEE8-8257845BF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992B0-108D-4E10-8EF0-67E77C1500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63D59-C8AF-44DD-9818-637AAEF48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602D9B-0ECA-462F-80C0-8F7CAF46C3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1A82C7-0346-4E9B-933D-9FD2D6EA4D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8F0CE7-047F-4327-8B87-FC6E12D3D7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23B58A-7420-4F54-A23E-092C31BED9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50BB88-0D16-411D-9BDC-79EA5E4877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6C1058-CC6B-4368-B182-68D6377672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894004-7DCD-438C-BAA3-D84820F666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EB298C-54E5-4F46-9FDE-92999BE9FE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9D6E35-D04C-4516-8786-46F8797268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EFD15E-30E8-4532-866C-B131304D6F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CE4F56-537A-4565-94B6-F375B1670E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1D890E-FADB-4773-80A8-873876CF94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7FDB8-F7CD-4908-A491-AD4677112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50CA6A-11A5-4959-9013-3B63E23F18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72B680-7A45-49B3-91FE-27DBF71B79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82A9B6-B662-46DB-8D6B-A4007B8A2C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BA4A86-4875-4463-9B9C-917865D492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5C466A-8734-4F1C-902F-3B600652FC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662D2A-06E7-4A05-9884-DFDD260466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01B390-486C-4013-A261-E0B2C8F3D4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28BE8A-0B98-45CD-8944-AEB417C86C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F9A600-7039-43B6-8320-F635ED9109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BBB465-2381-4AAA-BFC2-5DA293EA24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9AAEE-8AC2-46DD-B272-A31B44BF2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0E609B-7CFE-4742-B4EA-4148FF1A89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F48DA0-46DF-4727-9237-1F6F168124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818643-220B-4231-9F28-AAECB238D1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A616C8-5E8B-456D-BFE3-D0899BA0A9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D22E78-B529-43C3-8A82-4EEAF548AB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FD770-89EA-42F7-A82E-F1192CE9D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40899-806A-4B5A-899D-A3D3E45C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4FBF-205B-4C3F-BD41-93C06244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F3C86-7AD8-4D0D-B1AA-8AC68E76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7EFF-59E6-4752-8F41-8829CC93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867F4-EA5F-4B02-B094-E49F178A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49D3D-1C82-4CC9-A3DF-50B97EC0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AB24-E337-48D3-9C25-4A50C6C2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4ACC4-D8EE-4255-AB2D-3007EF018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B04C4-85EF-4C1F-9954-DA270CE5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574F5-727E-42C6-93E2-6100EBF28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3B951-1497-4F48-B341-F5CF2322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BE7A3-825B-49BB-9A26-29C526CAE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84DB0-B08E-4C42-9262-9A9759CB0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59277-C127-4BE1-9433-CADCE2203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77E0F-7B0D-40AF-BF5F-8F3D0F589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52883-E2D6-449D-AF8C-907A87D7D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A4FB-035C-4E44-80B8-85B14F883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11181-62AD-4E16-9AFA-0F89D8E17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A059D-ACAB-4293-ADF3-0DD781E95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D00FD-09F9-4C7C-B8C8-DA7FFA38B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60A19-08C2-400C-8286-3FA7BCD02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50CA6B-4960-47B2-8A0F-62BBF1563C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F7B5C-0BC9-4EF6-B1F4-E9444F833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19EBA-BA41-4AA6-90A8-2C07D6C71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2E4CE-941E-430C-8530-5B560563B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8790A-4076-4777-BAAD-3298BEA77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496B3-2631-495F-B11E-672E697BB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DC969-E4E0-4E73-BC51-A38581772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B22F0-D29A-4A4B-9571-F4D53F2EA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8EE27-3A26-4623-AF30-BB4276E45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5FDD1-BB8F-4949-92B2-7FEF761C7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6D58A5-3595-4673-970C-B6B60DA18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D03683-ACF5-423A-B63F-C40BAFDD8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ECE8F5-5BC2-4B5C-8D0A-A4A0042E3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8CCBD8-C794-4F9F-B0EB-468EDA0EA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DE405-9F39-434C-9FA0-D056A9B93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11850-F734-4B52-8DB5-319CC8007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150A4-B185-435B-B816-AE36FF6A6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0A15F-7F82-4C24-8568-342E992961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DAF0A-D0CE-4769-959C-23F7959A4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39967-5A58-4FD9-A4A7-BF4CC20D5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5258F-40E8-44DD-A001-BA46EF3BE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737A1-6117-4734-9060-4E19A86639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A7A1B5-B74B-4FDF-959F-638A754B27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371EF4-1F98-4CF6-A10F-0A3669583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B73174-0CEC-4891-83A3-2272651BBA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21E97-2E7B-4A9C-A535-38C7D9820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C6387-F694-407C-B3FE-5C258E9E6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84880-13F2-4CBC-809F-7324923EC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884A2-1356-4C40-9BFC-E0F53F2B8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F34FA-F97F-4FD9-94FB-4F6B7F666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BD583-2B5D-49AE-B5E8-F9732E008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500AD-BDFE-4169-B432-7AB95E3AD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DCCAC-C819-4CE0-B249-D16F784BB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A4D69-ADAF-46AB-A399-219DB956D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98F3A8-9241-44B1-8394-6F32B5C38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04D94F-A17F-4B85-9546-FA87FA7C4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05045F-3F12-4E79-B3A1-138987F3F9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9EAF8-6873-4D61-A5E0-A24C54FB4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0293A-181C-441C-BD32-F606FACC5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3FBAB5-7367-4988-8B0B-5D2FD0441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3B968-4AB9-4FB9-BC88-04399CEDD9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4DF5A-A1EA-4353-B906-0DD28B9AD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2B6174-4E51-4EA0-83CE-0B7AE0091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C86398-251F-49AB-8D79-4B65B0F4F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35152-70E7-415A-A415-D1145D36E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85A4B-7B91-4339-A22C-0221266FA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F3036-9A32-45EE-B16C-792E759A6B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16F85-88DA-41E2-ADD0-7A17EEABBA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4D3CB5-FCA0-4F17-8152-B870429716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E9F3AE-B91B-4EF2-9FCF-21CE50E64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12AEF-1609-4224-A5E3-4C92B1EB35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5963D2-9BA9-472A-BCD1-3FB5C66CDD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1C820-1810-4F76-BB31-E7AD622376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E46DA-7A04-4903-B2D0-40DCAFC58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7404B-2287-4535-93F8-CB271E992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0F49-4A31-4824-980F-CA8F73C226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1DEE6-306D-409A-B26E-BE79AAA87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48A45-7CB3-40E9-9C60-F10658904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5818A4-9FEE-4D2E-A10B-BB79C72E8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99589E-9999-4A01-B994-C12E8C34AD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BD1864-D1DE-496E-B5BE-1FAA598EDF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93AC6-A043-4B85-832F-A8D1A46CA4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E5B77-F6AB-484F-9E8E-5F1E843654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8AB8-7988-4F52-A6EA-92AC147FAAC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9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36E3-E9E8-4B7C-B55C-C5C989D21D5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2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B934-9F26-4EA3-8D3C-9F94C1A8153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976D-CFBF-4B5C-A1F4-A116FD38957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F511-C0E6-4D7A-ADEE-B34A5DD78BB5}"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1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1270-EAF2-4237-8010-7022ED60188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5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7941-73E9-4069-8E28-D5A330A5452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4395-ED4A-47CC-9207-0BBD4B162EB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3CA7-2048-4956-BE1C-5F49C867D7D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F47D-9D4B-407A-823B-D2C2DD742EF3}"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C5F8-DD7E-4FBA-AE44-69C30038D6B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Группа 1"/>
          <p:cNvGrpSpPr/>
          <p:nvPr/>
        </p:nvGrpSpPr>
        <p:grpSpPr>
          <a:xfrm>
            <a:off x="1357200" y="2214720"/>
            <a:ext cx="7358040" cy="3538440"/>
            <a:chOff x="1357200" y="2214720"/>
            <a:chExt cx="7358040" cy="3538440"/>
          </a:xfrm>
        </p:grpSpPr>
        <p:sp>
          <p:nvSpPr>
            <p:cNvPr id="468" name="Прямоугольник 6"/>
            <p:cNvSpPr/>
            <p:nvPr/>
          </p:nvSpPr>
          <p:spPr>
            <a:xfrm>
              <a:off x="1357200" y="2214720"/>
              <a:ext cx="735804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Прямоугольник 3"/>
            <p:cNvSpPr/>
            <p:nvPr/>
          </p:nvSpPr>
          <p:spPr>
            <a:xfrm>
              <a:off x="3300120" y="5348520"/>
              <a:ext cx="3368520" cy="40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Прямоугольник 5"/>
          <p:cNvSpPr/>
          <p:nvPr/>
        </p:nvSpPr>
        <p:spPr>
          <a:xfrm>
            <a:off x="1357200" y="1357200"/>
            <a:ext cx="7286760" cy="53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Жизнь ежей в невол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сследовательская работа                                     ученицы 4-в класса Усть-Баргузинской средней общеобразовательной школы имени К.М.Шелковников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Лукьяновой Ило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уководитель: </a:t>
            </a:r>
            <a:r>
              <a:rPr b="1" lang="ru-RU" sz="2400" spc="-1" strike="noStrike">
                <a:solidFill>
                  <a:srgbClr val="c00000"/>
                </a:solidFill>
                <a:latin typeface="Comic Sans MS"/>
              </a:rPr>
              <a:t>Булатова О.А</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643040" y="274320"/>
            <a:ext cx="70437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c00000"/>
                </a:solidFill>
                <a:latin typeface="Comic Sans MS"/>
              </a:rPr>
              <a:t>Активность в разное время суток</a:t>
            </a:r>
            <a:endParaRPr b="0" lang="en-US" sz="3200" spc="-1" strike="noStrike">
              <a:solidFill>
                <a:srgbClr val="000000"/>
              </a:solidFill>
              <a:latin typeface="Calibri"/>
            </a:endParaRPr>
          </a:p>
        </p:txBody>
      </p:sp>
      <p:sp>
        <p:nvSpPr>
          <p:cNvPr id="496" name=""/>
          <p:cNvSpPr txBox="1"/>
          <p:nvPr/>
        </p:nvSpPr>
        <p:spPr>
          <a:xfrm>
            <a:off x="1643040" y="1600200"/>
            <a:ext cx="714384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Раннее утро</a:t>
            </a:r>
            <a:r>
              <a:rPr b="1" lang="ru-RU" sz="2000" spc="-1" strike="noStrike">
                <a:solidFill>
                  <a:srgbClr val="000000"/>
                </a:solidFill>
                <a:latin typeface="Comic Sans MS"/>
              </a:rPr>
              <a:t> – хождение, поиск укромного места для отдыха, еда, устройство в коробке, кряхтение, шуршание, сопен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День </a:t>
            </a:r>
            <a:r>
              <a:rPr b="1" lang="ru-RU" sz="2000" spc="-1" strike="noStrike">
                <a:solidFill>
                  <a:srgbClr val="000000"/>
                </a:solidFill>
                <a:latin typeface="Comic Sans MS"/>
              </a:rPr>
              <a:t>– спит примерно до 20 -21ч.</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Вечер</a:t>
            </a:r>
            <a:r>
              <a:rPr b="1" lang="ru-RU" sz="2000" spc="-1" strike="noStrike">
                <a:solidFill>
                  <a:srgbClr val="000000"/>
                </a:solidFill>
                <a:latin typeface="Comic Sans MS"/>
              </a:rPr>
              <a:t> – шуршание, сопение, вылазка, следование к месту трапезы, ед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Ночь</a:t>
            </a:r>
            <a:r>
              <a:rPr b="1" lang="ru-RU" sz="2000" spc="-1" strike="noStrike">
                <a:solidFill>
                  <a:srgbClr val="000000"/>
                </a:solidFill>
                <a:latin typeface="Comic Sans MS"/>
              </a:rPr>
              <a:t> – бодрствует (сопение, фырчанье, топот, шу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Выводы: </a:t>
            </a:r>
            <a:r>
              <a:rPr b="0" lang="ru-RU" sz="2000" spc="-1" strike="noStrike">
                <a:solidFill>
                  <a:srgbClr val="c00000"/>
                </a:solidFill>
                <a:latin typeface="Calibri"/>
              </a:rPr>
              <a:t> </a:t>
            </a:r>
            <a:r>
              <a:rPr b="1" lang="ru-RU" sz="2000" spc="-1" strike="noStrike">
                <a:solidFill>
                  <a:srgbClr val="000000"/>
                </a:solidFill>
                <a:latin typeface="Comic Sans MS"/>
              </a:rPr>
              <a:t>таким образом, подтвердилась ночная активность животных, но и не исключена непродолжительная дневная активность.</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Рисунок 7" descr="i.jpg"/>
          <p:cNvPicPr/>
          <p:nvPr/>
        </p:nvPicPr>
        <p:blipFill>
          <a:blip r:embed="rId1"/>
          <a:stretch/>
        </p:blipFill>
        <p:spPr>
          <a:xfrm>
            <a:off x="1500120" y="4071960"/>
            <a:ext cx="1857600" cy="1239840"/>
          </a:xfrm>
          <a:prstGeom prst="rect">
            <a:avLst/>
          </a:prstGeom>
          <a:ln w="0">
            <a:noFill/>
          </a:ln>
        </p:spPr>
      </p:pic>
      <p:sp>
        <p:nvSpPr>
          <p:cNvPr id="498" name="PlaceHolder 1"/>
          <p:cNvSpPr>
            <a:spLocks noGrp="1"/>
          </p:cNvSpPr>
          <p:nvPr>
            <p:ph type="title"/>
          </p:nvPr>
        </p:nvSpPr>
        <p:spPr>
          <a:xfrm>
            <a:off x="1285920" y="274320"/>
            <a:ext cx="7400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mic Sans MS"/>
              </a:rPr>
              <a:t>Наблюдение за совместным проживанием с другими животными.</a:t>
            </a:r>
            <a:endParaRPr b="0" lang="en-US" sz="2800" spc="-1" strike="noStrike">
              <a:solidFill>
                <a:srgbClr val="000000"/>
              </a:solidFill>
              <a:latin typeface="Calibri"/>
            </a:endParaRPr>
          </a:p>
        </p:txBody>
      </p:sp>
      <p:pic>
        <p:nvPicPr>
          <p:cNvPr id="499" name="Содержимое 5" descr="bleofar.jpg"/>
          <p:cNvPicPr/>
          <p:nvPr/>
        </p:nvPicPr>
        <p:blipFill>
          <a:blip r:embed="rId2"/>
          <a:stretch/>
        </p:blipFill>
        <p:spPr>
          <a:xfrm>
            <a:off x="1785960" y="1500120"/>
            <a:ext cx="1500120" cy="1309680"/>
          </a:xfrm>
          <a:prstGeom prst="rect">
            <a:avLst/>
          </a:prstGeom>
          <a:ln w="0">
            <a:noFill/>
          </a:ln>
        </p:spPr>
      </p:pic>
      <p:sp>
        <p:nvSpPr>
          <p:cNvPr id="500" name=""/>
          <p:cNvSpPr txBox="1"/>
          <p:nvPr/>
        </p:nvSpPr>
        <p:spPr>
          <a:xfrm>
            <a:off x="3714840" y="1599840"/>
            <a:ext cx="4929120" cy="4971960"/>
          </a:xfrm>
          <a:prstGeom prst="rect">
            <a:avLst/>
          </a:prstGeom>
          <a:noFill/>
          <a:ln w="0">
            <a:noFill/>
          </a:ln>
        </p:spPr>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Оба относятся друг к другу          с осторожностью, боятся друг друга.</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Черепаха боится ежа, а ёж нет.</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Кошка не обращает на ежа никакого внимания. Ёж тоже.</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      </a:t>
            </a:r>
            <a:r>
              <a:rPr b="1" lang="ru-RU" sz="2000" spc="-1" strike="noStrike">
                <a:solidFill>
                  <a:srgbClr val="c00000"/>
                </a:solidFill>
                <a:latin typeface="Comic Sans MS"/>
              </a:rPr>
              <a:t>Выводы: </a:t>
            </a:r>
            <a:r>
              <a:rPr b="1" lang="ru-RU" sz="1800" spc="-1" strike="noStrike">
                <a:solidFill>
                  <a:srgbClr val="000000"/>
                </a:solidFill>
                <a:latin typeface="Comic Sans MS"/>
              </a:rPr>
              <a:t>к соседству в доме с другими домашними животными они относятся нейтрально. А вот домашние животные предпочитают с ежами не сталкиваться.</a:t>
            </a:r>
            <a:endParaRPr b="0" lang="en-US" sz="18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endParaRPr b="0" lang="en-US" sz="2000" spc="-1" strike="noStrike">
              <a:solidFill>
                <a:srgbClr val="000000"/>
              </a:solidFill>
              <a:latin typeface="Calibri"/>
            </a:endParaRPr>
          </a:p>
        </p:txBody>
      </p:sp>
      <p:pic>
        <p:nvPicPr>
          <p:cNvPr id="501" name="Рисунок 6" descr="1264499.jpg"/>
          <p:cNvPicPr/>
          <p:nvPr/>
        </p:nvPicPr>
        <p:blipFill>
          <a:blip r:embed="rId3"/>
          <a:stretch/>
        </p:blipFill>
        <p:spPr>
          <a:xfrm>
            <a:off x="1714680" y="242892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785600" y="274320"/>
            <a:ext cx="69008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мясных продуктов</a:t>
            </a:r>
            <a:endParaRPr b="0" lang="en-US" sz="3200" spc="-1" strike="noStrike">
              <a:solidFill>
                <a:srgbClr val="000000"/>
              </a:solidFill>
              <a:latin typeface="Calibri"/>
            </a:endParaRPr>
          </a:p>
        </p:txBody>
      </p:sp>
      <p:pic>
        <p:nvPicPr>
          <p:cNvPr id="503" name="Схема 7" descr=""/>
          <p:cNvPicPr/>
          <p:nvPr/>
        </p:nvPicPr>
        <p:blipFill>
          <a:blip r:embed="rId1"/>
          <a:stretch/>
        </p:blipFill>
        <p:spPr>
          <a:xfrm>
            <a:off x="1639800" y="1584360"/>
            <a:ext cx="705348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57200" y="274320"/>
            <a:ext cx="73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рыбных продуктов</a:t>
            </a:r>
            <a:endParaRPr b="0" lang="en-US" sz="3200" spc="-1" strike="noStrike">
              <a:solidFill>
                <a:srgbClr val="000000"/>
              </a:solidFill>
              <a:latin typeface="Calibri"/>
            </a:endParaRPr>
          </a:p>
        </p:txBody>
      </p:sp>
      <p:pic>
        <p:nvPicPr>
          <p:cNvPr id="505" name="Схема 7" descr=""/>
          <p:cNvPicPr/>
          <p:nvPr/>
        </p:nvPicPr>
        <p:blipFill>
          <a:blip r:embed="rId1"/>
          <a:stretch/>
        </p:blipFill>
        <p:spPr>
          <a:xfrm>
            <a:off x="1554120" y="1779480"/>
            <a:ext cx="6791400" cy="399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357200" y="274320"/>
            <a:ext cx="73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кормов среди овощей и фруктов</a:t>
            </a:r>
            <a:endParaRPr b="0" lang="en-US" sz="3200" spc="-1" strike="noStrike">
              <a:solidFill>
                <a:srgbClr val="000000"/>
              </a:solidFill>
              <a:latin typeface="Calibri"/>
            </a:endParaRPr>
          </a:p>
        </p:txBody>
      </p:sp>
      <p:pic>
        <p:nvPicPr>
          <p:cNvPr id="507" name="Схема 4" descr=""/>
          <p:cNvPicPr/>
          <p:nvPr/>
        </p:nvPicPr>
        <p:blipFill>
          <a:blip r:embed="rId1"/>
          <a:stretch/>
        </p:blipFill>
        <p:spPr>
          <a:xfrm>
            <a:off x="2341440" y="1584360"/>
            <a:ext cx="6364440" cy="41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99760" y="428400"/>
            <a:ext cx="7186680" cy="121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среди молочных и яичных продуктов</a:t>
            </a:r>
            <a:endParaRPr b="0" lang="en-US" sz="3200" spc="-1" strike="noStrike">
              <a:solidFill>
                <a:srgbClr val="000000"/>
              </a:solidFill>
              <a:latin typeface="Calibri"/>
            </a:endParaRPr>
          </a:p>
        </p:txBody>
      </p:sp>
      <p:pic>
        <p:nvPicPr>
          <p:cNvPr id="509" name="Схема 4" descr=""/>
          <p:cNvPicPr/>
          <p:nvPr/>
        </p:nvPicPr>
        <p:blipFill>
          <a:blip r:embed="rId1"/>
          <a:stretch/>
        </p:blipFill>
        <p:spPr>
          <a:xfrm>
            <a:off x="1566720" y="1596960"/>
            <a:ext cx="7126560" cy="45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99760" y="274320"/>
            <a:ext cx="71866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Предпочитаемые продукты</a:t>
            </a:r>
            <a:br>
              <a:rPr sz="3200"/>
            </a:br>
            <a:endParaRPr b="0" lang="en-US" sz="3200" spc="-1" strike="noStrike">
              <a:solidFill>
                <a:srgbClr val="000000"/>
              </a:solidFill>
              <a:latin typeface="Calibri"/>
            </a:endParaRPr>
          </a:p>
        </p:txBody>
      </p:sp>
      <p:pic>
        <p:nvPicPr>
          <p:cNvPr id="511" name="Object 2" descr=""/>
          <p:cNvPicPr/>
          <p:nvPr/>
        </p:nvPicPr>
        <p:blipFill>
          <a:blip r:embed="rId1"/>
          <a:stretch/>
        </p:blipFill>
        <p:spPr>
          <a:xfrm>
            <a:off x="1857240" y="1643040"/>
            <a:ext cx="6096240" cy="406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Рекомендации по содержанию ежей в неволе     (клетка для ежа)</a:t>
            </a:r>
            <a:endParaRPr b="0" lang="en-US" sz="2000" spc="-1" strike="noStrike">
              <a:solidFill>
                <a:srgbClr val="000000"/>
              </a:solidFill>
              <a:latin typeface="Calibri"/>
            </a:endParaRPr>
          </a:p>
        </p:txBody>
      </p:sp>
      <p:pic>
        <p:nvPicPr>
          <p:cNvPr id="513" name="Содержимое 7" descr="IMG_20160105_045558.jpg"/>
          <p:cNvPicPr/>
          <p:nvPr/>
        </p:nvPicPr>
        <p:blipFill>
          <a:blip r:embed="rId1"/>
          <a:stretch/>
        </p:blipFill>
        <p:spPr>
          <a:xfrm>
            <a:off x="1428840" y="1143000"/>
            <a:ext cx="2824200" cy="2117880"/>
          </a:xfrm>
          <a:prstGeom prst="rect">
            <a:avLst/>
          </a:prstGeom>
          <a:ln w="0">
            <a:noFill/>
          </a:ln>
        </p:spPr>
      </p:pic>
      <p:sp>
        <p:nvSpPr>
          <p:cNvPr id="514" name=""/>
          <p:cNvSpPr txBox="1"/>
          <p:nvPr/>
        </p:nvSpPr>
        <p:spPr>
          <a:xfrm>
            <a:off x="4648320" y="857160"/>
            <a:ext cx="4038480" cy="5268960"/>
          </a:xfrm>
          <a:prstGeom prst="rect">
            <a:avLst/>
          </a:prstGeom>
          <a:noFill/>
          <a:ln w="0">
            <a:noFill/>
          </a:ln>
        </p:spPr>
        <p:txBody>
          <a:bodyPr lIns="90000" rIns="90000" tIns="46800" bIns="46800" anchor="t">
            <a:normAutofit fontScale="96000"/>
          </a:bodyPr>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оселите его в довольно просторной клетке, в которой будет место для небольшого домика, лотка, кормушки.</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овесьте сбоку клетки специальную поилку, зверек постепенно приучится утолять жажду с её помощью, и клетка не будет мокрой из-за воды.</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Чтобы не было неприятного запаха, положите на дно клетки наполнитель, поверх наполнителя положите в клетку подстилку из небольшого количества соломы, мха и сухой листвы или стружки.</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5" name="Рисунок 8" descr="IMG_20160105_045616.jpg"/>
          <p:cNvPicPr/>
          <p:nvPr/>
        </p:nvPicPr>
        <p:blipFill>
          <a:blip r:embed="rId2"/>
          <a:stretch/>
        </p:blipFill>
        <p:spPr>
          <a:xfrm>
            <a:off x="1357200" y="385776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99760" y="274320"/>
            <a:ext cx="71866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Рекомендации по содержанию ежей в неволе</a:t>
            </a:r>
            <a:r>
              <a:rPr b="1" lang="ru-RU" sz="4400" spc="-1" strike="noStrike">
                <a:solidFill>
                  <a:srgbClr val="c00000"/>
                </a:solidFill>
                <a:latin typeface="Comic Sans MS"/>
              </a:rPr>
              <a:t>.</a:t>
            </a:r>
            <a:endParaRPr b="0" lang="en-US" sz="4400" spc="-1" strike="noStrike">
              <a:solidFill>
                <a:srgbClr val="000000"/>
              </a:solidFill>
              <a:latin typeface="Calibri"/>
            </a:endParaRPr>
          </a:p>
        </p:txBody>
      </p:sp>
      <p:sp>
        <p:nvSpPr>
          <p:cNvPr id="517" name=""/>
          <p:cNvSpPr txBox="1"/>
          <p:nvPr/>
        </p:nvSpPr>
        <p:spPr>
          <a:xfrm>
            <a:off x="1643040" y="1599840"/>
            <a:ext cx="7043760" cy="4900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бирайтесь в клетке 1─2 раза в неделю, чаще этого не делайте, так как при этом ежик может испытывать стрес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сли животное напугано или боится, не нужно с ним играть, так как тогда оно может укусить.</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огда ежику нужно дать возможность побегать, для этого отгородите часть квартирной территории, чтобы он не убежал, иначе потом придется искать его. Вполне вероятно, ёж хорошо спрячется и возвестит о том, что он здесь громким ночным топото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ужно знать, что у ежей острые когти, это может нанести вред полу, поэтому постелите на него картон, газеты, чтобы сохранить паркет и ламинат в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Рекомендации по содержанию ежей в неволе.</a:t>
            </a:r>
            <a:endParaRPr b="0" lang="en-US" sz="3200" spc="-1" strike="noStrike">
              <a:solidFill>
                <a:srgbClr val="000000"/>
              </a:solidFill>
              <a:latin typeface="Calibri"/>
            </a:endParaRPr>
          </a:p>
        </p:txBody>
      </p:sp>
      <p:sp>
        <p:nvSpPr>
          <p:cNvPr id="519" name=""/>
          <p:cNvSpPr txBox="1"/>
          <p:nvPr/>
        </p:nvSpPr>
        <p:spPr>
          <a:xfrm>
            <a:off x="1571760" y="1600200"/>
            <a:ext cx="711504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Летом можно создать ему комфортные условия проживания. Для этого постройте ему вольер. Также постелите туда мох, солому, листья. Из этих природных материалов он сам построит убежище. Чтобы во время дождя ему было сухо, сделайте над частью вольера непромокаемую крышу. </a:t>
            </a:r>
            <a:endParaRPr b="0" lang="en-US" sz="2000" spc="-1" strike="noStrike">
              <a:solidFill>
                <a:srgbClr val="000000"/>
              </a:solidFill>
              <a:latin typeface="Calibri"/>
            </a:endParaRPr>
          </a:p>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 </a:t>
            </a:r>
            <a:r>
              <a:rPr b="1" lang="ru-RU" sz="2000" spc="-1" strike="noStrike">
                <a:solidFill>
                  <a:srgbClr val="000000"/>
                </a:solidFill>
                <a:latin typeface="Comic Sans MS"/>
              </a:rPr>
              <a:t>В норе убирайтесь не чаще 1─2 раза в месяц, чтобы не пугать животное</a:t>
            </a:r>
            <a:r>
              <a:rPr b="0" lang="ru-RU"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2000" spc="-1" strike="noStrike">
                <a:solidFill>
                  <a:srgbClr val="000000"/>
                </a:solidFill>
                <a:latin typeface="Comic Sans MS"/>
              </a:rPr>
              <a:t>В естественных условиях обитания ежи все теплое время года кормятся, накапливая жир. Когда еж впадает в спячку, жир помогает пережить зим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8" descr="F:\Илона\20160824_201852.jpg"/>
          <p:cNvPicPr/>
          <p:nvPr/>
        </p:nvPicPr>
        <p:blipFill>
          <a:blip r:embed="rId1"/>
          <a:stretch/>
        </p:blipFill>
        <p:spPr>
          <a:xfrm>
            <a:off x="1071720" y="500040"/>
            <a:ext cx="1769760" cy="2882880"/>
          </a:xfrm>
          <a:prstGeom prst="rect">
            <a:avLst/>
          </a:prstGeom>
          <a:ln w="0">
            <a:noFill/>
          </a:ln>
        </p:spPr>
      </p:pic>
      <p:pic>
        <p:nvPicPr>
          <p:cNvPr id="472" name="Picture 2" descr="F:\Илона\IMG_20161227_151836.jpg"/>
          <p:cNvPicPr/>
          <p:nvPr/>
        </p:nvPicPr>
        <p:blipFill>
          <a:blip r:embed="rId2"/>
          <a:stretch/>
        </p:blipFill>
        <p:spPr>
          <a:xfrm>
            <a:off x="2643120" y="2000160"/>
            <a:ext cx="2214720" cy="2952720"/>
          </a:xfrm>
          <a:prstGeom prst="rect">
            <a:avLst/>
          </a:prstGeom>
          <a:ln w="0">
            <a:noFill/>
          </a:ln>
        </p:spPr>
      </p:pic>
      <p:grpSp>
        <p:nvGrpSpPr>
          <p:cNvPr id="473" name="Группа 6"/>
          <p:cNvGrpSpPr/>
          <p:nvPr/>
        </p:nvGrpSpPr>
        <p:grpSpPr>
          <a:xfrm>
            <a:off x="1357200" y="2357280"/>
            <a:ext cx="7500960" cy="3097440"/>
            <a:chOff x="1357200" y="2357280"/>
            <a:chExt cx="7500960" cy="3097440"/>
          </a:xfrm>
        </p:grpSpPr>
        <p:sp>
          <p:nvSpPr>
            <p:cNvPr id="474" name="Прямоугольник 4"/>
            <p:cNvSpPr/>
            <p:nvPr/>
          </p:nvSpPr>
          <p:spPr>
            <a:xfrm>
              <a:off x="1357200" y="2357280"/>
              <a:ext cx="75009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Прямоугольник 5"/>
            <p:cNvSpPr/>
            <p:nvPr/>
          </p:nvSpPr>
          <p:spPr>
            <a:xfrm>
              <a:off x="2479320" y="5085000"/>
              <a:ext cx="532152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PlaceHolder 1"/>
          <p:cNvSpPr>
            <a:spLocks noGrp="1"/>
          </p:cNvSpPr>
          <p:nvPr>
            <p:ph type="title"/>
          </p:nvPr>
        </p:nvSpPr>
        <p:spPr>
          <a:xfrm>
            <a:off x="3142800" y="274680"/>
            <a:ext cx="5543640" cy="158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Мои домашние питомцы: </a:t>
            </a:r>
            <a:r>
              <a:rPr b="1" lang="ru-RU" sz="2400" spc="-1" strike="noStrike">
                <a:solidFill>
                  <a:srgbClr val="000000"/>
                </a:solidFill>
                <a:latin typeface="Comic Sans MS"/>
              </a:rPr>
              <a:t>морская свинка, попугай, пятнистый эублефар (леопардовый геккон), черепаха, кошка, собака.</a:t>
            </a:r>
            <a:br>
              <a:rPr sz="2000"/>
            </a:br>
            <a:endParaRPr b="0" lang="en-US" sz="2400" spc="-1" strike="noStrike">
              <a:solidFill>
                <a:srgbClr val="000000"/>
              </a:solidFill>
              <a:latin typeface="Calibri"/>
            </a:endParaRPr>
          </a:p>
        </p:txBody>
      </p:sp>
      <p:pic>
        <p:nvPicPr>
          <p:cNvPr id="477" name="Picture 9" descr="F:\Илона\IMG_20161117_110600.jpg"/>
          <p:cNvPicPr/>
          <p:nvPr/>
        </p:nvPicPr>
        <p:blipFill>
          <a:blip r:embed="rId3"/>
          <a:stretch/>
        </p:blipFill>
        <p:spPr>
          <a:xfrm>
            <a:off x="4429080" y="2976480"/>
            <a:ext cx="2214720" cy="2952720"/>
          </a:xfrm>
          <a:prstGeom prst="rect">
            <a:avLst/>
          </a:prstGeom>
          <a:ln w="0">
            <a:noFill/>
          </a:ln>
        </p:spPr>
      </p:pic>
      <p:pic>
        <p:nvPicPr>
          <p:cNvPr id="478" name="Picture 7" descr="F:\Илона\IMG_20161227_152101.jpg"/>
          <p:cNvPicPr/>
          <p:nvPr/>
        </p:nvPicPr>
        <p:blipFill>
          <a:blip r:embed="rId4"/>
          <a:stretch/>
        </p:blipFill>
        <p:spPr>
          <a:xfrm>
            <a:off x="6143760" y="3833640"/>
            <a:ext cx="2000160" cy="26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43040" y="499680"/>
            <a:ext cx="7043760" cy="91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mic Sans MS"/>
              </a:rPr>
              <a:t>Моя гипотеза подтвердилась</a:t>
            </a:r>
            <a:endParaRPr b="0" lang="en-US" sz="2800" spc="-1" strike="noStrike">
              <a:solidFill>
                <a:srgbClr val="000000"/>
              </a:solidFill>
              <a:latin typeface="Calibri"/>
            </a:endParaRPr>
          </a:p>
        </p:txBody>
      </p:sp>
      <p:pic>
        <p:nvPicPr>
          <p:cNvPr id="521" name="Содержимое 5" descr="IMG_20160105_050950.jpg"/>
          <p:cNvPicPr/>
          <p:nvPr/>
        </p:nvPicPr>
        <p:blipFill>
          <a:blip r:embed="rId1"/>
          <a:stretch/>
        </p:blipFill>
        <p:spPr>
          <a:xfrm>
            <a:off x="1500120" y="2711520"/>
            <a:ext cx="3071880" cy="2303280"/>
          </a:xfrm>
          <a:prstGeom prst="rect">
            <a:avLst/>
          </a:prstGeom>
          <a:ln w="0">
            <a:noFill/>
          </a:ln>
        </p:spPr>
      </p:pic>
      <p:sp>
        <p:nvSpPr>
          <p:cNvPr id="52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000" spc="-1" strike="noStrike">
                <a:solidFill>
                  <a:srgbClr val="000000"/>
                </a:solidFill>
                <a:latin typeface="Comic Sans MS"/>
              </a:rPr>
              <a:t>Если правильно ухаживать за ежами, обеспечить им комфортные условия проживания, кормить и вкусной, и полезной пищей, уделять внимание, тогда в вашем доме поселится настоящий преданный друг, который принесет много радости, положительных эмоций и взрослым, и дет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85560" y="274680"/>
            <a:ext cx="707220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Comic Sans MS"/>
              </a:rPr>
              <a:t>Недавно в моём живом уголке появился                                     ещё один житель – </a:t>
            </a:r>
            <a:r>
              <a:rPr b="1" lang="ru-RU" sz="2400" spc="-1" strike="noStrike">
                <a:solidFill>
                  <a:srgbClr val="c00000"/>
                </a:solidFill>
                <a:latin typeface="Comic Sans MS"/>
              </a:rPr>
              <a:t>ёжик Топтыжка.</a:t>
            </a:r>
            <a:endParaRPr b="0" lang="en-US" sz="2400" spc="-1" strike="noStrike">
              <a:solidFill>
                <a:srgbClr val="000000"/>
              </a:solidFill>
              <a:latin typeface="Calibri"/>
            </a:endParaRPr>
          </a:p>
        </p:txBody>
      </p:sp>
      <p:pic>
        <p:nvPicPr>
          <p:cNvPr id="480" name="Содержимое 6" descr="IMG_20160105_051006.jpg"/>
          <p:cNvPicPr/>
          <p:nvPr/>
        </p:nvPicPr>
        <p:blipFill>
          <a:blip r:embed="rId1"/>
          <a:stretch/>
        </p:blipFill>
        <p:spPr>
          <a:xfrm>
            <a:off x="2143080" y="1785960"/>
            <a:ext cx="5881680" cy="441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680"/>
            <a:ext cx="8229600" cy="1797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Цель исследования:</a:t>
            </a:r>
            <a:br>
              <a:rPr sz="2400"/>
            </a:br>
            <a:r>
              <a:rPr b="1" lang="ru-RU" sz="2400" spc="-1" strike="noStrike">
                <a:solidFill>
                  <a:srgbClr val="000000"/>
                </a:solidFill>
                <a:latin typeface="Comic Sans MS"/>
              </a:rPr>
              <a:t> изучить образ жизни ежей в неволе.</a:t>
            </a:r>
            <a:br>
              <a:rPr sz="2400"/>
            </a:br>
            <a:endParaRPr b="0" lang="en-US" sz="2400" spc="-1" strike="noStrike">
              <a:solidFill>
                <a:srgbClr val="000000"/>
              </a:solidFill>
              <a:latin typeface="Calibri"/>
            </a:endParaRPr>
          </a:p>
        </p:txBody>
      </p:sp>
      <p:sp>
        <p:nvSpPr>
          <p:cNvPr id="482" name=""/>
          <p:cNvSpPr txBox="1"/>
          <p:nvPr/>
        </p:nvSpPr>
        <p:spPr>
          <a:xfrm>
            <a:off x="1357200" y="1428840"/>
            <a:ext cx="7329600" cy="500040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Задач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1. Изучить образ жизни ежей                             по литературным источника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2. Составить характеристику объекта наблюден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3. Провести ряд наблюдений за образом жизни и поведения ежа в невол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4. Провести ряд исследований по выбору ед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5. Составить рекомендации по содержанию ежей в невол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357200" y="785520"/>
            <a:ext cx="7500960" cy="1428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Гипотеза исследования:</a:t>
            </a:r>
            <a:br>
              <a:rPr sz="2400"/>
            </a:br>
            <a:r>
              <a:rPr b="1" lang="ru-RU" sz="2400" spc="-1" strike="noStrike">
                <a:solidFill>
                  <a:srgbClr val="000000"/>
                </a:solidFill>
                <a:latin typeface="Comic Sans MS"/>
              </a:rPr>
              <a:t>Ежей можно содержать в домашних условиях.</a:t>
            </a:r>
            <a:br>
              <a:rPr sz="2400"/>
            </a:br>
            <a:endParaRPr b="0" lang="en-US" sz="2400" spc="-1" strike="noStrike">
              <a:solidFill>
                <a:srgbClr val="000000"/>
              </a:solidFill>
              <a:latin typeface="Calibri"/>
            </a:endParaRPr>
          </a:p>
        </p:txBody>
      </p:sp>
      <p:pic>
        <p:nvPicPr>
          <p:cNvPr id="484" name="Содержимое 3" descr="609538_zhilische-ezha-v-prirode.jpg"/>
          <p:cNvPicPr/>
          <p:nvPr/>
        </p:nvPicPr>
        <p:blipFill>
          <a:blip r:embed="rId1"/>
          <a:stretch/>
        </p:blipFill>
        <p:spPr>
          <a:xfrm>
            <a:off x="2282760" y="1857240"/>
            <a:ext cx="5692680" cy="426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357200" y="571680"/>
            <a:ext cx="7329600" cy="84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Интересные факты о ежах.</a:t>
            </a:r>
            <a:endParaRPr b="0" lang="en-US" sz="4000" spc="-1" strike="noStrike">
              <a:solidFill>
                <a:srgbClr val="000000"/>
              </a:solidFill>
              <a:latin typeface="Calibri"/>
            </a:endParaRPr>
          </a:p>
        </p:txBody>
      </p:sp>
      <p:sp>
        <p:nvSpPr>
          <p:cNvPr id="486" name=""/>
          <p:cNvSpPr txBox="1"/>
          <p:nvPr/>
        </p:nvSpPr>
        <p:spPr>
          <a:xfrm>
            <a:off x="1499760" y="1571760"/>
            <a:ext cx="7186680" cy="4643280"/>
          </a:xfrm>
          <a:prstGeom prst="rect">
            <a:avLst/>
          </a:prstGeom>
          <a:noFill/>
          <a:ln w="0">
            <a:noFill/>
          </a:ln>
        </p:spPr>
        <p:txBody>
          <a:bodyPr lIns="90000" rIns="90000" tIns="46800" bIns="46800" anchor="t">
            <a:normAutofit fontScale="93000"/>
          </a:bodyPr>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появились на Земле около 15 миллионов лет назад.</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2. У среднестатистического ежа примерно 10 тысяч иголок. Они обновляются раз в три года.</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3. У ежа насчитывается 36 зубов, которые, как и у людей, могут выпасть к старости.</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4. Зимняя спячка ежей длится 128 дней.</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5. У большинства видов ежей есть хвост. Правда, он очень короткий – всего 3 см, поэтому его не видно из-под иголок.</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больше, чем какие-либо другие животные, страдают от укусов клещей. Когда еж бежит по траве, он словно гребнем «вычесывает» из нее паразитов, которые охотно селятся на несчастном зверьке</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Мифы о ежах.</a:t>
            </a:r>
            <a:endParaRPr b="0" lang="en-US" sz="4000" spc="-1" strike="noStrike">
              <a:solidFill>
                <a:srgbClr val="000000"/>
              </a:solidFill>
              <a:latin typeface="Calibri"/>
            </a:endParaRPr>
          </a:p>
        </p:txBody>
      </p:sp>
      <p:sp>
        <p:nvSpPr>
          <p:cNvPr id="488" name=""/>
          <p:cNvSpPr txBox="1"/>
          <p:nvPr/>
        </p:nvSpPr>
        <p:spPr>
          <a:xfrm>
            <a:off x="1643040" y="1071720"/>
            <a:ext cx="7043760" cy="5054400"/>
          </a:xfrm>
          <a:prstGeom prst="rect">
            <a:avLst/>
          </a:prstGeom>
          <a:noFill/>
          <a:ln w="0">
            <a:noFill/>
          </a:ln>
        </p:spPr>
        <p:txBody>
          <a:bodyPr lIns="90000" rIns="90000" tIns="46800" bIns="46800" anchor="t">
            <a:normAutofit fontScale="97000"/>
          </a:bodyPr>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ки не охотятся на мышей – это миф. Они, может быть, и рады были бы полакомиться мышатиной, но догнать мышь не способны.</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 детских книжках часто можно увидеть ежика, несущего на спине яблоко. На самом деле ежи не накалывают на спинные иглы ни яблоки, ни грибы, ни прочие крупные предметы – они физически не способны свернуться так, чтобы это сделать.</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Как оказалось, эти животные совсем не едят яблок! Растительную пищу ежи не усваивают. Они, конечно, могут её употреблять, но редко. А питаются ёжики грызунами, насекомыми, ящерицами, лягушками.</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не делают запасов на зиму,так как зимой они впадают в спячк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642960"/>
            <a:ext cx="6972120" cy="3286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0" name=""/>
          <p:cNvSpPr txBox="1"/>
          <p:nvPr/>
        </p:nvSpPr>
        <p:spPr>
          <a:xfrm>
            <a:off x="1428480" y="4143240"/>
            <a:ext cx="7257960" cy="198288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Период беременности</a:t>
            </a:r>
            <a:r>
              <a:rPr b="0" lang="ru-RU" sz="2000" spc="-1" strike="noStrike">
                <a:solidFill>
                  <a:srgbClr val="000000"/>
                </a:solidFill>
                <a:latin typeface="Comic Sans MS"/>
              </a:rPr>
              <a:t> ежихи – 7 недель. В году бывает один приплод, от 3 до 6 (иногда до 7-8) детенышей.</a:t>
            </a:r>
            <a:r>
              <a:rPr b="1" lang="ru-RU" sz="2000" spc="-1" strike="noStrike">
                <a:solidFill>
                  <a:srgbClr val="000000"/>
                </a:solidFill>
                <a:latin typeface="Comic Sans MS"/>
              </a:rPr>
              <a:t> Ежата рождаются </a:t>
            </a:r>
            <a:r>
              <a:rPr b="0" lang="ru-RU" sz="2000" spc="-1" strike="noStrike">
                <a:solidFill>
                  <a:srgbClr val="000000"/>
                </a:solidFill>
                <a:latin typeface="Comic Sans MS"/>
              </a:rPr>
              <a:t>слепыми, с ярко-розовой кожей, без иголок. Иголки (сначала мягкие) начинают появляться через несколько часов после рождения. Глаза у ежат открываются на 16-й день.</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Rectangle 1"/>
          <p:cNvSpPr/>
          <p:nvPr/>
        </p:nvSpPr>
        <p:spPr>
          <a:xfrm>
            <a:off x="-1259280" y="105480"/>
            <a:ext cx="1166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inherit"/>
                <a:ea typeface="Times New Roman"/>
              </a:rPr>
              <a:t>Ежата рождаются слепыми</a:t>
            </a:r>
            <a:r>
              <a:rPr b="0" lang="ru-RU" sz="1000" spc="-1" strike="noStrike">
                <a:solidFill>
                  <a:srgbClr val="000000"/>
                </a:solidFill>
                <a:latin typeface="Arial"/>
                <a:ea typeface="Times New Roman"/>
              </a:rPr>
              <a:t>. с ярко-розовой кожей, без иголок. Иголки (сначала мягкие) начинают появляться через несколько часов после рождения. Глаза у ежат открываются на 16-й день.</a:t>
            </a:r>
            <a:endParaRPr b="0" lang="en-US" sz="1000" spc="-1" strike="noStrike">
              <a:solidFill>
                <a:srgbClr val="000000"/>
              </a:solidFill>
              <a:latin typeface="Arial"/>
            </a:endParaRPr>
          </a:p>
        </p:txBody>
      </p:sp>
      <p:pic>
        <p:nvPicPr>
          <p:cNvPr id="492" name="Рисунок 5" descr="91047.jpg"/>
          <p:cNvPicPr/>
          <p:nvPr/>
        </p:nvPicPr>
        <p:blipFill>
          <a:blip r:embed="rId1"/>
          <a:stretch/>
        </p:blipFill>
        <p:spPr>
          <a:xfrm>
            <a:off x="2214720" y="714240"/>
            <a:ext cx="6251400" cy="329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85920" y="274320"/>
            <a:ext cx="7400880" cy="1297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omic Sans MS"/>
              </a:rPr>
              <a:t>Характеристика объекта наблюдения</a:t>
            </a:r>
            <a:endParaRPr b="0" lang="en-US" sz="3600" spc="-1" strike="noStrike">
              <a:solidFill>
                <a:srgbClr val="000000"/>
              </a:solidFill>
              <a:latin typeface="Calibri"/>
            </a:endParaRPr>
          </a:p>
        </p:txBody>
      </p:sp>
      <p:sp>
        <p:nvSpPr>
          <p:cNvPr id="494" name=""/>
          <p:cNvSpPr txBox="1"/>
          <p:nvPr/>
        </p:nvSpPr>
        <p:spPr>
          <a:xfrm>
            <a:off x="1428480" y="1857240"/>
            <a:ext cx="7257960" cy="4268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Класс – Млекопитающ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Отряд – Насекомоядны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Вид - Европейский (обыкновенный) ёж</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ес 750 г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Длина – 35см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ол – мужско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мя – Топтыж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Характерные черты: острое рыльце, маленькие чёрные глазки, большой рот. Голова, спина, бока покрыты острыми иглами серого цвета, бурыми на концах, а шея и брюшко – густыми желтовато - серыми волосками.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17:01:55Z</dcterms:created>
  <dc:creator>Фокина Лидия Петровна</dc:creator>
  <dc:description/>
  <cp:keywords>Шаблон презентации</cp:keywords>
  <dc:language>en-US</dc:language>
  <cp:lastModifiedBy>User</cp:lastModifiedBy>
  <dcterms:modified xsi:type="dcterms:W3CDTF">2017-03-11T12:03:29Z</dcterms:modified>
  <cp:revision>54</cp:revision>
  <dc:subject/>
  <dc:title>Тетрадь на спирали</dc:title>
</cp:coreProperties>
</file>