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AFB7-B850-4187-9CFE-92DD1B1B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ADF5-4B26-479F-AEB0-6CD0A61E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97C-3B36-4248-9365-A42C5BA5B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2262-B673-486D-877A-137DF54C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A79E-4C1C-4190-8228-0AAF073A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823D-6B99-4B92-869C-A867572D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4F97-9FE7-4C70-A0A1-BE56BD7D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D0AC-C641-480D-92EA-E21C1C93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1853-D67B-46B5-99D9-DA95AC02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87FC-43C8-46EB-8E7D-CD1FFF38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812B-38E1-4E53-8F86-5055EAAF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998F-976F-41E4-A581-0A57670C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1126-0607-45F7-8C69-8462AA03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7C97-C7E1-41E9-9CF7-E805BAD8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92CD-16DB-424D-9FEA-9E6B366B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1D5F-D7A2-4999-A680-BDAC5878B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9B11-7296-47BE-A312-0982163BC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43FED-DBD5-4671-BBA0-BD6D13DF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51CF9-9823-4380-9E28-C1534422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C8A3D-FCC7-4C26-9D91-E09C96AC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50D5D-6B97-47CC-A41B-C7617ECB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A3957-62A5-47EE-83E3-3643F945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B53A-E5A1-48A5-A9C3-21EAE23B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90B44-838A-43D7-9E3B-AC5D83A2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3D302-1E31-41CC-9D40-9CE5C2BF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74776-3452-481B-AC55-AFF2C4FE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51C28-C84E-4D82-81DE-FADDB889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7DAE7-8ECB-4457-B160-00B47096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26C77-4883-4371-BEA2-A71EA870B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1F430-22EF-439D-BBBD-9A6268CC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BF79D-E88D-43DA-84F3-F51C8A1A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2FD51-C9D8-42BB-A030-1CF2E732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ED617-7802-4C0A-A420-D7EC0987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22AF-B0D3-4D39-AB73-0D15D515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9F610-2B81-4E9D-9BAA-026BA8C5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AB059-33D4-45C8-BDD3-C21B453A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67415-5C5C-4F1D-9756-420154B0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A270A-298D-41EB-B492-E2157FD6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33E9A-E6F4-4F9F-B258-A483E90E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53122-B4E5-4995-A728-1743134E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5B459-F62D-4A91-8AED-FDD42065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12A3D-8D41-4E48-90EE-E52E1D49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42680-611A-43DF-A080-85CE2FC4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4ACC-01EB-4AA6-9A13-6698990A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8DC4-E203-498F-B823-09D292A6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2F0C-5A72-444F-B349-35FD5D23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4915-3BCA-4278-A88C-83E83C56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89CA-BEBE-4D6D-8617-5B9CFA9B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72DB-6B9B-43CD-9D87-66227AA58E56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 flipH="1">
            <a:off x="8227800" y="7920"/>
            <a:ext cx="3809880" cy="3809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Straight Connector 16"/>
          <p:cNvSpPr/>
          <p:nvPr/>
        </p:nvSpPr>
        <p:spPr>
          <a:xfrm flipH="1">
            <a:off x="6108480" y="92160"/>
            <a:ext cx="6080040" cy="60800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traight Connector 18"/>
          <p:cNvSpPr/>
          <p:nvPr/>
        </p:nvSpPr>
        <p:spPr>
          <a:xfrm flipH="1">
            <a:off x="7236000" y="228600"/>
            <a:ext cx="4952880" cy="4952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Straight Connector 20"/>
          <p:cNvSpPr/>
          <p:nvPr/>
        </p:nvSpPr>
        <p:spPr>
          <a:xfrm flipH="1">
            <a:off x="7335360" y="31680"/>
            <a:ext cx="4853160" cy="485316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Straight Connector 22"/>
          <p:cNvSpPr/>
          <p:nvPr/>
        </p:nvSpPr>
        <p:spPr>
          <a:xfrm flipH="1">
            <a:off x="7845120" y="609480"/>
            <a:ext cx="4343400" cy="434340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F407-42B1-47DF-843B-A7144E54BED2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94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83CA-69BB-4CD8-B573-922D6451326A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43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38BA-A10F-4F6C-803F-A4DA6ED72937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molsk.ru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Rectangle 2" descr=""/>
          <p:cNvPicPr/>
          <p:nvPr/>
        </p:nvPicPr>
        <p:blipFill>
          <a:blip r:embed="rId1"/>
          <a:stretch/>
        </p:blipFill>
        <p:spPr>
          <a:xfrm>
            <a:off x="-6480" y="1487520"/>
            <a:ext cx="12204720" cy="116352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5"/>
          <p:cNvSpPr/>
          <p:nvPr/>
        </p:nvSpPr>
        <p:spPr>
          <a:xfrm>
            <a:off x="762120" y="5000760"/>
            <a:ext cx="5905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удент группы  МС-1-1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ьянце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гений Виталье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7"/>
          <p:cNvSpPr/>
          <p:nvPr/>
        </p:nvSpPr>
        <p:spPr>
          <a:xfrm>
            <a:off x="7143840" y="5000760"/>
            <a:ext cx="504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оводитель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ьяно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рина Анатол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Рисунок 8" descr="http://www.smolsk.ru/img/smolbuidcolledg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57120"/>
            <a:ext cx="1714680" cy="142884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10"/>
          <p:cNvSpPr/>
          <p:nvPr/>
        </p:nvSpPr>
        <p:spPr>
          <a:xfrm>
            <a:off x="2476440" y="428760"/>
            <a:ext cx="75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БПОУ «Смоленский строительный колледж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9" descr="D:\ЕЛЕНА\картинки\Гербы Смоленска\Герб Смоленска красный.bmp"/>
          <p:cNvPicPr/>
          <p:nvPr/>
        </p:nvPicPr>
        <p:blipFill>
          <a:blip r:embed="rId4"/>
          <a:stretch/>
        </p:blipFill>
        <p:spPr>
          <a:xfrm>
            <a:off x="10382400" y="285840"/>
            <a:ext cx="1538280" cy="1463760"/>
          </a:xfrm>
          <a:prstGeom prst="rect">
            <a:avLst/>
          </a:prstGeom>
          <a:ln w="0">
            <a:noFill/>
          </a:ln>
        </p:spPr>
      </p:pic>
      <p:pic>
        <p:nvPicPr>
          <p:cNvPr id="197" name="Rectangle 2" descr=""/>
          <p:cNvPicPr/>
          <p:nvPr/>
        </p:nvPicPr>
        <p:blipFill>
          <a:blip r:embed="rId5"/>
          <a:stretch/>
        </p:blipFill>
        <p:spPr>
          <a:xfrm>
            <a:off x="762120" y="2706840"/>
            <a:ext cx="10959840" cy="21571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"/>
          <p:cNvSpPr/>
          <p:nvPr/>
        </p:nvSpPr>
        <p:spPr>
          <a:xfrm>
            <a:off x="4000680" y="858960"/>
            <a:ext cx="428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сия: 08.01.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тер сухого строитель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000" y="477720"/>
            <a:ext cx="104137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r" pos="593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ТЕХНОЛОГИЯ КРЕПЛЕНИЯ ПАНЕЛЕЙ, ОБЛИЦОВАННЫХ ШПОНОМ ИЗ ЦЕННЫХ ПОРОД ДРЕВЕСИНЫ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4000" y="3209760"/>
            <a:ext cx="8421480" cy="13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r" pos="593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 Подготовка помещения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r" pos="593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2 Способы крепления панелей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r" pos="593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3 Соединение и монтаж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8" name="Объект 3" descr=""/>
          <p:cNvPicPr/>
          <p:nvPr/>
        </p:nvPicPr>
        <p:blipFill>
          <a:blip r:embed="rId1"/>
          <a:stretch/>
        </p:blipFill>
        <p:spPr>
          <a:xfrm>
            <a:off x="684360" y="0"/>
            <a:ext cx="10451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0" name="Объект 3" descr=""/>
          <p:cNvPicPr/>
          <p:nvPr/>
        </p:nvPicPr>
        <p:blipFill>
          <a:blip r:embed="rId1"/>
          <a:stretch/>
        </p:blipFill>
        <p:spPr>
          <a:xfrm>
            <a:off x="684360" y="0"/>
            <a:ext cx="10426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2" name="Объект 3" descr=""/>
          <p:cNvPicPr/>
          <p:nvPr/>
        </p:nvPicPr>
        <p:blipFill>
          <a:blip r:embed="rId1"/>
          <a:stretch/>
        </p:blipFill>
        <p:spPr>
          <a:xfrm>
            <a:off x="684360" y="0"/>
            <a:ext cx="10413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880" y="225360"/>
            <a:ext cx="92887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r" pos="593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ТЕХНОЛОГИЯ ОКРАШИВАНИЯ ПОВЕРХНОСТЕ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ЕЕВЫМИ СОСТАВАМ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523520" y="2185560"/>
            <a:ext cx="10225080" cy="267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r" pos="593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 Приготовление состава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r" pos="593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2 Указания к работе и инструменты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r" pos="593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3 Подготовка и окрашивание старых поверхностей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r" pos="593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4 Подготовка и окрашивание новых поверхностей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r" pos="593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5 Дефекты работы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r" pos="593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6 Техника безопасности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000" y="4849560"/>
            <a:ext cx="1041372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2" name="Объект 3" descr=""/>
          <p:cNvPicPr/>
          <p:nvPr/>
        </p:nvPicPr>
        <p:blipFill>
          <a:blip r:embed="rId1"/>
          <a:srcRect l="0" t="0" r="-296" b="5650"/>
          <a:stretch/>
        </p:blipFill>
        <p:spPr>
          <a:xfrm>
            <a:off x="871560" y="0"/>
            <a:ext cx="10404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Объект 6" descr=""/>
          <p:cNvPicPr/>
          <p:nvPr/>
        </p:nvPicPr>
        <p:blipFill>
          <a:blip r:embed="rId1"/>
          <a:stretch/>
        </p:blipFill>
        <p:spPr>
          <a:xfrm>
            <a:off x="684360" y="0"/>
            <a:ext cx="10539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6" name="Объект 3" descr=""/>
          <p:cNvPicPr/>
          <p:nvPr/>
        </p:nvPicPr>
        <p:blipFill>
          <a:blip r:embed="rId1"/>
          <a:stretch/>
        </p:blipFill>
        <p:spPr>
          <a:xfrm>
            <a:off x="684360" y="0"/>
            <a:ext cx="105519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360" y="794880"/>
            <a:ext cx="929952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r" pos="593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МЕХАНИЗИРОВАННОЕ НАНЕСЕНИЕ РАСТВОРА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84000" y="2693520"/>
            <a:ext cx="985500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r" pos="593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 Преимущества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r" pos="593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2 Принцип работы агрегата и технология нанесения раствора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r" pos="593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3 Разновидность смесей для аппаратов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r" pos="593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4 Техника безопасности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0" name="Объект 3" descr=""/>
          <p:cNvPicPr/>
          <p:nvPr/>
        </p:nvPicPr>
        <p:blipFill>
          <a:blip r:embed="rId1"/>
          <a:stretch/>
        </p:blipFill>
        <p:spPr>
          <a:xfrm>
            <a:off x="684360" y="-39600"/>
            <a:ext cx="10539360" cy="6897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2" name="Объект 3" descr=""/>
          <p:cNvPicPr/>
          <p:nvPr/>
        </p:nvPicPr>
        <p:blipFill>
          <a:blip r:embed="rId1"/>
          <a:stretch/>
        </p:blipFill>
        <p:spPr>
          <a:xfrm>
            <a:off x="684360" y="0"/>
            <a:ext cx="105138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4" name="Объект 3" descr=""/>
          <p:cNvPicPr/>
          <p:nvPr/>
        </p:nvPicPr>
        <p:blipFill>
          <a:blip r:embed="rId1"/>
          <a:stretch/>
        </p:blipFill>
        <p:spPr>
          <a:xfrm>
            <a:off x="684360" y="0"/>
            <a:ext cx="10488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04T20:18:08Z</dcterms:created>
  <dc:creator>вкп</dc:creator>
  <dc:description/>
  <dc:language>en-US</dc:language>
  <cp:lastModifiedBy>trpunkt_ord1</cp:lastModifiedBy>
  <dcterms:modified xsi:type="dcterms:W3CDTF">2020-11-11T03:40:31Z</dcterms:modified>
  <cp:revision>11</cp:revision>
  <dc:subject/>
  <dc:title>I. ТЕХНОЛОГИЯ ОКРАШИВАНИЯ ПОВЕРХНОСТЕЙ КЛЕЕВЫМИ СОСТАВАМИ</dc:title>
</cp:coreProperties>
</file>