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BA1-AC76-4158-8FDB-52B59C62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7F2-4B4A-4ECB-9D69-8B7FBEA9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B4F-AA0A-479C-A9FF-B6127A39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B79-3559-4AA4-820C-C94E199C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DC3C-F444-4277-AC1E-E1C1D103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0B83-6AAE-4C5E-92C5-97C7C47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9C1E-CD73-4A15-8CF4-5F5F3B82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3C5E-D62D-47E0-B73E-D6AE3495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825F-211C-47D3-9A9C-9DD5805D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8045-E62C-4903-83F3-AF63C389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BF7B-6C95-4488-B7FB-3732E2D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183-B12A-41E4-AD14-45A376DF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035C-FDC6-4F24-81CE-29AB299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906-9DA1-4793-B907-EB49CDA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440F-82E8-48BC-935E-C7587574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4E5-9FF6-4290-8819-7AEC1E0D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3BE9-0E92-4E6D-9C72-32A22EA5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7BD8B-A892-45DD-839B-3DC506CD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31EE4-990D-41EC-A985-272B3515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5B9DD-0073-44D8-83A9-26E7C290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E8725-18AF-4B79-BB3D-CFBF261A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A06F2-A107-4859-8895-C7B954B6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2F3-9FA4-4200-BD72-B2B05F9D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D8C22-9CE5-4171-A5B8-C9B7B7B2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C2225-FF05-49C8-9AFA-D3A6071D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1603E-0371-413A-9C1C-B32EAC3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8B0AE-5D47-4A3A-825C-66A04E8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1E1CA-C035-4C1C-A103-FA6379CB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23CA1-86D8-49D0-B057-E31375AA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5C804-28FC-4B3C-94C0-780A977A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09245-E42E-42C2-9F53-DC850989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A8A60-6B34-4C03-B773-B59D7E5C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69600-C194-4E1B-A5AA-0FE3BF01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AC0-804B-49EA-B721-BCFDCF99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B599A-E944-4B43-A58F-6F98E089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C2B3-8249-4624-9462-28474A72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1834-1909-4D79-A6F9-5BA8137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684C-3A06-499D-BEE5-2237826E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91F6-4169-426E-AB7F-11B4544F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6424-B4B1-413D-ABF2-D9032F4C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F92C3-01EC-4469-89F0-BB069872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E061-25F2-4686-B525-AEB1A33C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417A4-32AF-47D9-858B-B4664477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F7F-F042-49FC-B757-26EA9356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21A-684F-40F7-A9C8-F87FE92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E29-3E8E-4092-BA97-6D0F425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FA1-A806-43C4-924E-C1EFF2E0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686-1D7A-422E-94A0-5B98A7A0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8843-7A69-4E3A-BE59-33F812BABBA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8A9B-8B0D-4D02-99A4-F9106CE2DA6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DBB2-9EF6-46EB-8C6B-6E123FEE3DF9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D3BB-B8C5-468C-A4D6-7F3113F86A9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458200" cy="21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rebuchet MS"/>
              </a:rPr>
              <a:t>Дискретная случайная величина, закон ее распределения</a:t>
            </a:r>
            <a:endParaRPr b="0" lang="en-US" sz="44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68360" y="436572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4d26"/>
                </a:solidFill>
                <a:latin typeface="Georgia"/>
              </a:rPr>
              <a:t>Числовые характеристики дискретной случайной величин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Задача 3*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Стрелок производит три выстрела по мишени. Вероятность попадания при каждом выстреле равна 0,6. Построить ряд (</a:t>
            </a:r>
            <a:r>
              <a:rPr b="0" i="1" lang="ru-RU" sz="3200" spc="-1" strike="noStrike">
                <a:solidFill>
                  <a:srgbClr val="93540a"/>
                </a:solidFill>
                <a:latin typeface="Georgia"/>
              </a:rPr>
              <a:t>используйте граф для нахождения вероятностей</a:t>
            </a: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) и многоугольник распределения числа попаданий в мишен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Задача 4**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Постройте граф и составьте закон распределения для числа подбрасывания монеты до появления «герба»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3540a"/>
                </a:solidFill>
                <a:latin typeface="Georgia"/>
              </a:rPr>
              <a:t>Это пример бесконечной случайной величи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Числовые характеристики ДСВ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0920" y="1916280"/>
            <a:ext cx="7561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Математическое ожидан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Дисперси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Среднеквадратическое отклонен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Математическое ожидание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Математическим ожиданием </a:t>
            </a:r>
            <a:r>
              <a:rPr b="1" lang="en-US" sz="2800" spc="-1" strike="noStrike">
                <a:solidFill>
                  <a:srgbClr val="dd7e0e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(</a:t>
            </a:r>
            <a:r>
              <a:rPr b="1" lang="en-US" sz="2800" spc="-1" strike="noStrike">
                <a:solidFill>
                  <a:srgbClr val="dd7e0e"/>
                </a:solidFill>
                <a:latin typeface="Georgia"/>
              </a:rPr>
              <a:t>X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ывают сумму произведений всех возможных значений случайной величины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 соответствующие вероятности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: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Georgia"/>
              </a:rPr>
              <a:t>M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) =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 +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+…+ х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n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Математическое ожидание – это число, которое указывает, какое 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среднее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значение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 случайной величины следует ожидать в результате проведения опыта или испыт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540a"/>
                </a:solidFill>
                <a:latin typeface="Trebuchet MS"/>
              </a:rPr>
              <a:t>Свойства математического ожидания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Georgia"/>
              </a:rPr>
              <a:t>M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) =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 +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+…+ х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n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1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, где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С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onst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2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3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 ± Y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±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4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·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   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где Х и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 - независимые случайные       величины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аспределения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задан таблице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математическое ожидание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195640" y="2781360"/>
          <a:ext cx="4483080" cy="831960"/>
        </p:xfrm>
        <a:graphic>
          <a:graphicData uri="http://schemas.openxmlformats.org/drawingml/2006/table">
            <a:tbl>
              <a:tblPr/>
              <a:tblGrid>
                <a:gridCol w="896760"/>
                <a:gridCol w="895320"/>
                <a:gridCol w="897120"/>
                <a:gridCol w="896760"/>
                <a:gridCol w="897120"/>
              </a:tblGrid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</a:tr>
            </a:tbl>
          </a:graphicData>
        </a:graphic>
      </p:graphicFrame>
      <p:sp>
        <p:nvSpPr>
          <p:cNvPr id="303" name="Прямоугольник 4"/>
          <p:cNvSpPr/>
          <p:nvPr/>
        </p:nvSpPr>
        <p:spPr>
          <a:xfrm>
            <a:off x="1002960" y="5157720"/>
            <a:ext cx="6431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Times New Roman"/>
              </a:rPr>
              <a:t>M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) =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 +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+…+ х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n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·р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Дисперсия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8000" y="1125000"/>
            <a:ext cx="903600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7e0e"/>
                </a:solidFill>
                <a:latin typeface="Georgia"/>
              </a:rPr>
              <a:t>Дисперсией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случайной величины Х</a:t>
            </a: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называют математическое ожидание квадрата ее отклонений от среднего значения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Для вычисл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                      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D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) = 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) - 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28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),</a:t>
            </a:r>
            <a:r>
              <a:rPr b="0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где  </a:t>
            </a:r>
            <a:r>
              <a:rPr b="1" i="1" lang="en-US" sz="2800" spc="-1" strike="noStrike" u="sng">
                <a:solidFill>
                  <a:srgbClr val="333a1d"/>
                </a:solidFill>
                <a:uFillTx/>
                <a:latin typeface="Georgia"/>
              </a:rPr>
              <a:t>M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333a1d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) = х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1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1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 + х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+…+ х</a:t>
            </a:r>
            <a:r>
              <a:rPr b="1" i="1" lang="en-US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n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en-US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Дисперсия характеризует </a:t>
            </a:r>
            <a:r>
              <a:rPr b="1" lang="ru-RU" sz="2400" spc="-1" strike="noStrike">
                <a:solidFill>
                  <a:srgbClr val="333a1d"/>
                </a:solidFill>
                <a:latin typeface="Georgia"/>
              </a:rPr>
              <a:t>степень отклонения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 значений случайной величины от ее среднего значения. На практике дисперсия служит для </a:t>
            </a:r>
            <a:r>
              <a:rPr b="1" lang="ru-RU" sz="2400" spc="-1" strike="noStrike">
                <a:solidFill>
                  <a:srgbClr val="333a1d"/>
                </a:solidFill>
                <a:latin typeface="Georgia"/>
              </a:rPr>
              <a:t>оценки меры риска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3540a"/>
                </a:solidFill>
                <a:latin typeface="Georgia"/>
              </a:rPr>
              <a:t>(Дисперсия всегда положительное число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"/>
              <p:cNvSpPr txBox="1"/>
              <p:nvPr/>
            </p:nvSpPr>
            <p:spPr>
              <a:xfrm>
                <a:off x="3708360" y="2060640"/>
                <a:ext cx="3816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540a"/>
                </a:solidFill>
                <a:latin typeface="Trebuchet MS"/>
              </a:rPr>
              <a:t>Свойства дисперсии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D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) =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) -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40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)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,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3540a"/>
                </a:solidFill>
                <a:latin typeface="Georgia"/>
              </a:rPr>
              <a:t>где  </a:t>
            </a:r>
            <a:r>
              <a:rPr b="1" i="1" lang="en-US" sz="32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32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32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) = х</a:t>
            </a:r>
            <a:r>
              <a:rPr b="1" i="1" lang="ru-RU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1</a:t>
            </a:r>
            <a:r>
              <a:rPr b="1" i="1" lang="ru-RU" sz="32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·р</a:t>
            </a:r>
            <a:r>
              <a:rPr b="1" i="1" lang="ru-RU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1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 + х</a:t>
            </a:r>
            <a:r>
              <a:rPr b="1" i="1" lang="ru-RU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·р</a:t>
            </a:r>
            <a:r>
              <a:rPr b="1" i="1" lang="ru-RU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+…+ х</a:t>
            </a:r>
            <a:r>
              <a:rPr b="1" i="1" lang="en-US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n</a:t>
            </a:r>
            <a:r>
              <a:rPr b="1" i="1" lang="ru-RU" sz="32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·р</a:t>
            </a:r>
            <a:r>
              <a:rPr b="1" i="1" lang="en-US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1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0, где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onst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2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ּ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ּ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3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±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+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, если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Х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независимые случайные величины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557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аспределения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задан таблице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дисперсию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195640" y="2781360"/>
          <a:ext cx="4483080" cy="831960"/>
        </p:xfrm>
        <a:graphic>
          <a:graphicData uri="http://schemas.openxmlformats.org/drawingml/2006/table">
            <a:tbl>
              <a:tblPr/>
              <a:tblGrid>
                <a:gridCol w="896760"/>
                <a:gridCol w="895320"/>
                <a:gridCol w="897120"/>
                <a:gridCol w="896760"/>
                <a:gridCol w="897120"/>
              </a:tblGrid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</a:tr>
            </a:tbl>
          </a:graphicData>
        </a:graphic>
      </p:graphicFrame>
      <p:sp>
        <p:nvSpPr>
          <p:cNvPr id="313" name="Прямоугольник 4"/>
          <p:cNvSpPr/>
          <p:nvPr/>
        </p:nvSpPr>
        <p:spPr>
          <a:xfrm>
            <a:off x="538920" y="4869000"/>
            <a:ext cx="79678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D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) =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M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 baseline="30000">
                <a:solidFill>
                  <a:srgbClr val="93540a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) -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M</a:t>
            </a:r>
            <a:r>
              <a:rPr b="1" i="1" lang="ru-RU" sz="4000" spc="-1" strike="noStrike" u="sng" baseline="30000">
                <a:solidFill>
                  <a:srgbClr val="93540a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),</a:t>
            </a:r>
            <a:r>
              <a:rPr b="0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a1d"/>
                </a:solidFill>
                <a:latin typeface="Times New Roman"/>
              </a:rPr>
              <a:t>где  </a:t>
            </a:r>
            <a:r>
              <a:rPr b="1" i="1" lang="en-US" sz="4000" spc="-1" strike="noStrike" u="sng">
                <a:solidFill>
                  <a:srgbClr val="333a1d"/>
                </a:solidFill>
                <a:uFillTx/>
                <a:latin typeface="Times New Roman"/>
              </a:rPr>
              <a:t>M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333a1d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 baseline="30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) = х</a:t>
            </a:r>
            <a:r>
              <a:rPr b="1" i="1" lang="ru-RU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1</a:t>
            </a:r>
            <a:r>
              <a:rPr b="1" i="1" lang="ru-RU" sz="4000" spc="-1" strike="noStrike" u="sng" baseline="30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·р</a:t>
            </a:r>
            <a:r>
              <a:rPr b="1" i="1" lang="ru-RU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1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 + х</a:t>
            </a:r>
            <a:r>
              <a:rPr b="1" i="1" lang="ru-RU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 baseline="30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·р</a:t>
            </a:r>
            <a:r>
              <a:rPr b="1" i="1" lang="ru-RU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+…+ х</a:t>
            </a:r>
            <a:r>
              <a:rPr b="1" i="1" lang="en-US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n</a:t>
            </a:r>
            <a:r>
              <a:rPr b="1" i="1" lang="ru-RU" sz="4000" spc="-1" strike="noStrike" u="sng" baseline="30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·р</a:t>
            </a:r>
            <a:r>
              <a:rPr b="1" i="1" lang="en-US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Среднеквадратическое отклонение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Дисперсия имеет размерность квадрата случайной величины: если ДСВ имеет размерность метры, то дисперсия измеряется в м</a:t>
            </a:r>
            <a:r>
              <a:rPr b="0" i="1" lang="ru-RU" sz="28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. Для того, чтобы оценка рассеяния значений случайной величины имела размерность самой величины, вычисляют среднеквадратичное откло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Положительное значение квадратного корня из дисперсии называют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среднеквадратическим отклонением</a:t>
            </a: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 (или стандартным отклонением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3132000" y="6165720"/>
                <a:ext cx="2160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СЛУЧАЙНАЯ   ВЕЛИЧИ</a:t>
            </a: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Н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196640"/>
            <a:ext cx="8929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личину, которая в результате опыта принимает только одно, зависящее от случая, числовое значение, назовем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случайной величин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Случайные величины обозначаются большими латинскими буквами (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1" i="1" lang="ru-RU" sz="20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1" i="1" lang="ru-RU" sz="20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Z</a:t>
            </a: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), а их возможные числовые значения – маленькими латинскими буквами (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1" i="1" lang="ru-RU" sz="20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1" i="1" lang="ru-RU" sz="20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z</a:t>
            </a: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540a"/>
                </a:solidFill>
                <a:latin typeface="Georgia"/>
              </a:rPr>
              <a:t>ПРИМЕРЫ</a:t>
            </a: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выпадения герба при подбрасывании моне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выпавших гербов при подбрасывании двух моне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Количество очков, выпадающих при подбрасывании игральной к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родившихся мальчиков (или девочек) среди ста новорожденны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Расстояние, которое пролетит снаряд при выстреле из оруд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Ошибка измерителя высо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Температура воздуха на следующий ден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57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аспределения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задан таблице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среднеквадратичное отклоне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195640" y="2781360"/>
          <a:ext cx="4483080" cy="831960"/>
        </p:xfrm>
        <a:graphic>
          <a:graphicData uri="http://schemas.openxmlformats.org/drawingml/2006/table">
            <a:tbl>
              <a:tblPr/>
              <a:tblGrid>
                <a:gridCol w="896760"/>
                <a:gridCol w="895320"/>
                <a:gridCol w="897120"/>
                <a:gridCol w="896760"/>
                <a:gridCol w="897120"/>
              </a:tblGrid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2268360" y="5157720"/>
                <a:ext cx="2961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8000" y="1196640"/>
            <a:ext cx="885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быльность двух инвестиционных проектов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млн. руб) задана законами распредел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й инвестиционный проект целесообразно выбрать для реализаци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32000" y="2421000"/>
          <a:ext cx="6332400" cy="1200240"/>
        </p:xfrm>
        <a:graphic>
          <a:graphicData uri="http://schemas.openxmlformats.org/drawingml/2006/table">
            <a:tbl>
              <a:tblPr/>
              <a:tblGrid>
                <a:gridCol w="703080"/>
                <a:gridCol w="703440"/>
                <a:gridCol w="704880"/>
                <a:gridCol w="703080"/>
                <a:gridCol w="703440"/>
                <a:gridCol w="703080"/>
                <a:gridCol w="704880"/>
                <a:gridCol w="703440"/>
                <a:gridCol w="703080"/>
              </a:tblGrid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1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40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партии из 10 деталей имеется 8 стандартных. Наудачу отобраны 2 детали. Составить закон распределения числа стандартных деталей среди отобранных. Найти  математическое ожидание, дисперсию и среднеквадратическое откло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2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78920" y="2249280"/>
            <a:ext cx="849636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оробке имеются 7 карандашей, из которых 4 красные. Из этой коробки наудачу извлекаются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 а)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 карандаша,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б)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3 карандаша. Определить закон распределения, математическое ожидание, дисперсию и среднеквадратическое отклонение случайной величины, равной числу не красных карандаш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3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22496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роить ряд распределения числа попаданий мячом в корзину при трех бросках, если вероятность попадания равна 0,4. Вычислить математическое ожидание, дисперсию и среднеквадратическое отклонение случайной величи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4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5280" y="2565360"/>
            <a:ext cx="822960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ь закон распределения, математическое ожидание, дисперсию и среднеквадратическое отклонение числа гербов при четырех подбрасываниях моне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5*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ройство состоит из трех независимо работающих элементов. Вероятность отказа каждого элемента в одном опыте равна 0,1. Составить закон распределения числа отказавших элементов в одном опыте. Найти математическое ожидание, дисперсию и среднеквадратическое откло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7e0e"/>
                </a:solidFill>
                <a:latin typeface="Trebuchet MS"/>
              </a:rPr>
              <a:t>Домашнее задание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0040" y="1928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урне 5 белых и 25 черных шаров. Вынул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а)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 шара,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б)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 ша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учайная величина –число вынутых черных шаров. Составить закон распределения, математическое ожидание, дисперсию и среднеквадратическое отклонение случайной величи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46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000" y="69228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Дискретная случайная величин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8000" y="1413000"/>
            <a:ext cx="8928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Случайная величина называется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дискретной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, если в результате опыта она принимает числовые значения, которые можно </a:t>
            </a:r>
            <a:r>
              <a:rPr b="0" lang="ru-RU" sz="2400" spc="-1" strike="noStrike" u="sng">
                <a:solidFill>
                  <a:srgbClr val="93540a"/>
                </a:solidFill>
                <a:uFillTx/>
                <a:latin typeface="Georgia"/>
              </a:rPr>
              <a:t>перечислить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 или поставить им  в соответствие элементы </a:t>
            </a:r>
            <a:r>
              <a:rPr b="0" lang="ru-RU" sz="2400" spc="-1" strike="noStrike" u="sng">
                <a:solidFill>
                  <a:srgbClr val="93540a"/>
                </a:solidFill>
                <a:uFillTx/>
                <a:latin typeface="Georgia"/>
              </a:rPr>
              <a:t>счётного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 множест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ким образом, дискретная случайная величина может быть как конечной, так и бесконечн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писания дискретной случайной величины (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ДС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 просто перечислить её значения недостаточно. Необходимо  для каждого значения найти соответствующую вероятно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роятность того, что случайная величина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римет то или иное значение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обозначают </a:t>
            </a:r>
            <a:r>
              <a:rPr b="1" i="1" lang="ru-RU" sz="2400" spc="-1" strike="noStrike">
                <a:solidFill>
                  <a:srgbClr val="93540a"/>
                </a:solidFill>
                <a:latin typeface="Georgia"/>
              </a:rPr>
              <a:t>Р(Х=а)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Какие из данных случайных величин будут </a:t>
            </a:r>
            <a:r>
              <a:rPr b="0" lang="ru-RU" sz="4000" spc="-1" strike="noStrike">
                <a:solidFill>
                  <a:srgbClr val="dd7e0e"/>
                </a:solidFill>
                <a:latin typeface="Trebuchet MS"/>
              </a:rPr>
              <a:t>дискретными</a:t>
            </a: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Число выпадения герба при подбрасывании монет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Число выпавших гербов при подбрасывании двух мон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Количество очков, выпадающих при подбрасывании игральной к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Число родившихся мальчиков (или девочек) среди ста новорожденн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Расстояние, которое пролетит снаряд при выстреле из оруд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Ошибка измерителя высот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Температура воздуха на следующий ден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Рассмотрим ДСВ на примере 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341000"/>
            <a:ext cx="8785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ДСВ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: 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число выпавших гербов при подбрасывании двух мон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Значения, которые принимает ДСВ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 baseline="-25000">
                <a:solidFill>
                  <a:srgbClr val="93540a"/>
                </a:solidFill>
                <a:latin typeface="Georgia"/>
              </a:rPr>
              <a:t>1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0, 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 baseline="-25000">
                <a:solidFill>
                  <a:srgbClr val="93540a"/>
                </a:solidFill>
                <a:latin typeface="Georgia"/>
              </a:rPr>
              <a:t>2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1, 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 baseline="-25000">
                <a:solidFill>
                  <a:srgbClr val="93540a"/>
                </a:solidFill>
                <a:latin typeface="Georgia"/>
              </a:rPr>
              <a:t>3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Вероятности того, что ДСВ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Х </a:t>
            </a: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примет  то или иное значение (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рассмотрим на графе</a:t>
            </a: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Р(Х=0)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1/4, 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Р(Х=1)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1/2, 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Р(Х=2)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1/4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Двенадцатиугольник 4"/>
          <p:cNvSpPr/>
          <p:nvPr/>
        </p:nvSpPr>
        <p:spPr>
          <a:xfrm>
            <a:off x="4716360" y="5661000"/>
            <a:ext cx="503280" cy="50472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Двенадцатиугольник 5"/>
          <p:cNvSpPr/>
          <p:nvPr/>
        </p:nvSpPr>
        <p:spPr>
          <a:xfrm>
            <a:off x="4716360" y="4508640"/>
            <a:ext cx="503280" cy="50472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Двенадцатиугольник 6"/>
          <p:cNvSpPr/>
          <p:nvPr/>
        </p:nvSpPr>
        <p:spPr>
          <a:xfrm>
            <a:off x="3276720" y="4724280"/>
            <a:ext cx="503280" cy="50508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Двенадцатиугольник 7"/>
          <p:cNvSpPr/>
          <p:nvPr/>
        </p:nvSpPr>
        <p:spPr>
          <a:xfrm>
            <a:off x="4716360" y="6237360"/>
            <a:ext cx="503280" cy="50472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Двенадцатиугольник 8"/>
          <p:cNvSpPr/>
          <p:nvPr/>
        </p:nvSpPr>
        <p:spPr>
          <a:xfrm>
            <a:off x="4716360" y="5084640"/>
            <a:ext cx="503280" cy="50508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Двенадцатиугольник 9"/>
          <p:cNvSpPr/>
          <p:nvPr/>
        </p:nvSpPr>
        <p:spPr>
          <a:xfrm>
            <a:off x="3276720" y="5805360"/>
            <a:ext cx="503280" cy="50328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6300720" y="5229360"/>
            <a:ext cx="432000" cy="520560"/>
          </a:xfrm>
          <a:prstGeom prst="rect">
            <a:avLst/>
          </a:prstGeom>
          <a:solidFill>
            <a:srgbClr val="f8c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40a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2"/>
          <p:cNvSpPr/>
          <p:nvPr/>
        </p:nvSpPr>
        <p:spPr>
          <a:xfrm flipV="1">
            <a:off x="2771640" y="5157720"/>
            <a:ext cx="576360" cy="43200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4"/>
          <p:cNvSpPr/>
          <p:nvPr/>
        </p:nvSpPr>
        <p:spPr>
          <a:xfrm>
            <a:off x="2771640" y="5589720"/>
            <a:ext cx="576360" cy="39996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 flipV="1">
            <a:off x="3780000" y="4694040"/>
            <a:ext cx="936360" cy="21564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8"/>
          <p:cNvSpPr/>
          <p:nvPr/>
        </p:nvSpPr>
        <p:spPr>
          <a:xfrm>
            <a:off x="3780000" y="4910040"/>
            <a:ext cx="936360" cy="35892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4"/>
          <p:cNvSpPr/>
          <p:nvPr/>
        </p:nvSpPr>
        <p:spPr>
          <a:xfrm flipV="1">
            <a:off x="3780000" y="5845320"/>
            <a:ext cx="936360" cy="27936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6"/>
          <p:cNvSpPr/>
          <p:nvPr/>
        </p:nvSpPr>
        <p:spPr>
          <a:xfrm>
            <a:off x="3780000" y="6124680"/>
            <a:ext cx="936360" cy="29664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33"/>
          <p:cNvSpPr/>
          <p:nvPr/>
        </p:nvSpPr>
        <p:spPr>
          <a:xfrm>
            <a:off x="5219640" y="4797360"/>
            <a:ext cx="1081080" cy="693720"/>
          </a:xfrm>
          <a:prstGeom prst="line">
            <a:avLst/>
          </a:prstGeom>
          <a:ln w="5724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35"/>
          <p:cNvSpPr/>
          <p:nvPr/>
        </p:nvSpPr>
        <p:spPr>
          <a:xfrm>
            <a:off x="5219640" y="5373720"/>
            <a:ext cx="1081080" cy="117360"/>
          </a:xfrm>
          <a:prstGeom prst="line">
            <a:avLst/>
          </a:prstGeom>
          <a:ln w="5724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37"/>
          <p:cNvSpPr/>
          <p:nvPr/>
        </p:nvSpPr>
        <p:spPr>
          <a:xfrm flipV="1">
            <a:off x="5219640" y="5516280"/>
            <a:ext cx="1081080" cy="328680"/>
          </a:xfrm>
          <a:prstGeom prst="line">
            <a:avLst/>
          </a:prstGeom>
          <a:ln w="5724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39"/>
          <p:cNvSpPr/>
          <p:nvPr/>
        </p:nvSpPr>
        <p:spPr>
          <a:xfrm flipV="1">
            <a:off x="5219640" y="5491080"/>
            <a:ext cx="1081080" cy="930240"/>
          </a:xfrm>
          <a:prstGeom prst="line">
            <a:avLst/>
          </a:prstGeom>
          <a:ln w="5724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кон распределения ДСВ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627280" y="2781360"/>
          <a:ext cx="3168720" cy="1079280"/>
        </p:xfrm>
        <a:graphic>
          <a:graphicData uri="http://schemas.openxmlformats.org/drawingml/2006/table">
            <a:tbl>
              <a:tblPr/>
              <a:tblGrid>
                <a:gridCol w="528840"/>
                <a:gridCol w="528480"/>
                <a:gridCol w="527040"/>
                <a:gridCol w="528480"/>
                <a:gridCol w="527040"/>
                <a:gridCol w="52884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</a:tr>
            </a:tbl>
          </a:graphicData>
        </a:graphic>
      </p:graphicFrame>
      <p:sp>
        <p:nvSpPr>
          <p:cNvPr id="256" name="Прямоугольник 4"/>
          <p:cNvSpPr/>
          <p:nvPr/>
        </p:nvSpPr>
        <p:spPr>
          <a:xfrm>
            <a:off x="250920" y="1557360"/>
            <a:ext cx="8785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Times New Roman"/>
              </a:rPr>
              <a:t>Соответствие между возможными значениями случайной величины и ее вероятностями называют </a:t>
            </a:r>
            <a:r>
              <a:rPr b="1" lang="ru-RU" sz="2400" spc="-1" strike="noStrike">
                <a:solidFill>
                  <a:srgbClr val="dd7e0e"/>
                </a:solidFill>
                <a:latin typeface="Times New Roman"/>
              </a:rPr>
              <a:t>законом распределения </a:t>
            </a:r>
            <a:r>
              <a:rPr b="0" lang="ru-RU" sz="2400" spc="-1" strike="noStrike">
                <a:solidFill>
                  <a:srgbClr val="333a1d"/>
                </a:solidFill>
                <a:latin typeface="Times New Roman"/>
              </a:rPr>
              <a:t>случайной величины и записывают в виде таблиц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в верхней строчке написаны значения случайной величины, а в нижней – под кажды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ероятн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Заметим, что событ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уют полную систему событий, поэтому сумма вероятностей в нижней строке всегда равна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d7e0e"/>
                </a:solidFill>
                <a:latin typeface="Times New Roman"/>
              </a:rPr>
              <a:t>Для нашего примера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Таблица 10" descr=""/>
          <p:cNvPicPr/>
          <p:nvPr/>
        </p:nvPicPr>
        <p:blipFill>
          <a:blip r:embed="rId1"/>
          <a:stretch/>
        </p:blipFill>
        <p:spPr>
          <a:xfrm>
            <a:off x="3560760" y="5565600"/>
            <a:ext cx="2462040" cy="11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Многоугольник распределения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8000" y="1413000"/>
            <a:ext cx="8928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афическим изображением закона распределения ДСВ является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многоугольник распредел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множество точек с координатами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последовательно соединенных отрезк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d7e0e"/>
                </a:solidFill>
                <a:latin typeface="Georgia"/>
              </a:rPr>
              <a:t>Для нашего примера: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4"/>
              <p:cNvSpPr txBox="1"/>
              <p:nvPr/>
            </p:nvSpPr>
            <p:spPr>
              <a:xfrm>
                <a:off x="4427640" y="422100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2"/>
              <p:cNvSpPr txBox="1"/>
              <p:nvPr/>
            </p:nvSpPr>
            <p:spPr>
              <a:xfrm>
                <a:off x="4284720" y="508464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7" name="Group 5"/>
          <p:cNvGrpSpPr/>
          <p:nvPr/>
        </p:nvGrpSpPr>
        <p:grpSpPr>
          <a:xfrm>
            <a:off x="3851280" y="4076640"/>
            <a:ext cx="3313080" cy="2405160"/>
            <a:chOff x="3851280" y="4076640"/>
            <a:chExt cx="3313080" cy="2405160"/>
          </a:xfrm>
        </p:grpSpPr>
        <p:sp>
          <p:nvSpPr>
            <p:cNvPr id="268" name="AutoShape 22"/>
            <p:cNvSpPr/>
            <p:nvPr/>
          </p:nvSpPr>
          <p:spPr>
            <a:xfrm>
              <a:off x="3851280" y="4076640"/>
              <a:ext cx="3313080" cy="24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AutoShape 21"/>
            <p:cNvCxnSpPr/>
            <p:nvPr/>
          </p:nvCxnSpPr>
          <p:spPr>
            <a:xfrm flipV="1">
              <a:off x="4698000" y="4195800"/>
              <a:ext cx="2880" cy="2084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AutoShape 20"/>
            <p:cNvCxnSpPr/>
            <p:nvPr/>
          </p:nvCxnSpPr>
          <p:spPr>
            <a:xfrm>
              <a:off x="4005720" y="5839920"/>
              <a:ext cx="29786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1" name="Text Box 19"/>
            <p:cNvSpPr/>
            <p:nvPr/>
          </p:nvSpPr>
          <p:spPr>
            <a:xfrm>
              <a:off x="4973760" y="5841360"/>
              <a:ext cx="26712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5460120" y="5835240"/>
              <a:ext cx="2682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4431600" y="5840280"/>
              <a:ext cx="2682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6"/>
            <p:cNvSpPr/>
            <p:nvPr/>
          </p:nvSpPr>
          <p:spPr>
            <a:xfrm>
              <a:off x="6716520" y="5840280"/>
              <a:ext cx="26712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х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5"/>
            <p:cNvSpPr/>
            <p:nvPr/>
          </p:nvSpPr>
          <p:spPr>
            <a:xfrm>
              <a:off x="4810320" y="4197600"/>
              <a:ext cx="26820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4161960" y="4197600"/>
              <a:ext cx="47052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11"/>
            <p:cNvSpPr/>
            <p:nvPr/>
          </p:nvSpPr>
          <p:spPr>
            <a:xfrm>
              <a:off x="4111200" y="4874040"/>
              <a:ext cx="47016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Oval 10"/>
            <p:cNvSpPr/>
            <p:nvPr/>
          </p:nvSpPr>
          <p:spPr>
            <a:xfrm>
              <a:off x="4632480" y="515988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9"/>
            <p:cNvSpPr/>
            <p:nvPr/>
          </p:nvSpPr>
          <p:spPr>
            <a:xfrm>
              <a:off x="5164920" y="4473360"/>
              <a:ext cx="759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585760" y="5159880"/>
              <a:ext cx="759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AutoShape 7"/>
            <p:cNvCxnSpPr/>
            <p:nvPr/>
          </p:nvCxnSpPr>
          <p:spPr>
            <a:xfrm flipV="1">
              <a:off x="4669920" y="4537440"/>
              <a:ext cx="507600" cy="69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AutoShape 6"/>
            <p:cNvCxnSpPr/>
            <p:nvPr/>
          </p:nvCxnSpPr>
          <p:spPr>
            <a:xfrm>
              <a:off x="5176440" y="4473000"/>
              <a:ext cx="420120" cy="68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8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9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a5b59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0"/>
          <p:cNvSpPr/>
          <p:nvPr/>
        </p:nvSpPr>
        <p:spPr>
          <a:xfrm>
            <a:off x="0" y="39060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Задача 1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В стопке лежат 10 тетрадей с одинаковой обложкой, 4 из которых  в линейку, остальные – в клетку. Саша наугад вынимает 2 тетради. Составьте закон распределения числа выбранных тетрадей в клетку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ru-RU" sz="3200" spc="-1" strike="noStrike">
                <a:solidFill>
                  <a:srgbClr val="93540a"/>
                </a:solidFill>
                <a:latin typeface="Georgia"/>
              </a:rPr>
              <a:t>используйте граф для нахождения вероятностей</a:t>
            </a: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) и постройте многоугольник распределения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Задача 2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Составьте закон распределения для суммы очков, выпадающих при подбрасывании  игральной кости (</a:t>
            </a:r>
            <a:r>
              <a:rPr b="0" i="1" lang="ru-RU" sz="3200" spc="-1" strike="noStrike">
                <a:solidFill>
                  <a:srgbClr val="93540a"/>
                </a:solidFill>
                <a:latin typeface="Georgia"/>
              </a:rPr>
              <a:t>используйте граф для нахождения вероятностей</a:t>
            </a: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) и постройте многоугольник распределения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pa</dc:creator>
  <dc:description/>
  <dc:language>en-US</dc:language>
  <cp:lastModifiedBy>Цеглярская Ольга Алексеевна</cp:lastModifiedBy>
  <dcterms:modified xsi:type="dcterms:W3CDTF">2019-02-04T11:08:24Z</dcterms:modified>
  <cp:revision>129</cp:revision>
  <dc:subject/>
  <dc:title>PowerPoint Presentation</dc:title>
</cp:coreProperties>
</file>