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782-6B59-4D36-B296-3037056B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973-C076-4BEF-B3E2-6FB30B9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74C-A125-4AC6-A1A3-DDB5CDA3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C28-93EB-4A16-9E25-41FFD19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53C9-4F72-4B5F-8856-1CE1B98F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2B107-B089-415A-BE83-2289E29C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9E5B9-7E3F-4E2A-A86E-79AB425C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94571-F4AE-458D-971F-86C8BB14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05A21-9002-4278-9AFC-3D82778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362DA-CF59-46E0-8A39-37F02204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AFDF5-3C37-44C8-B419-9D993FB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BE4-35A7-4D0C-AB66-5C4EB9D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4C07-F38C-4F74-949D-55CC6A9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8A966-9682-44AA-8331-F0F9BB4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EBE4A-2E16-4E22-8624-297249A1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996BB-2716-449B-A539-76923529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90764-0661-4AD1-B3C2-D4DB6E36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6A4-C92C-421B-BC60-24728185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A70-19C5-4C27-BA9C-DBBC1D56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4E5-385D-4B72-920B-DCCAB2F4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9B0-9794-410E-8C33-F6C0A871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A59-1588-49F0-942C-4B57296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559-2A61-4DF0-A6FD-68E9CF7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A7D-4D9A-46D1-A7F1-F3AA0838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DAC-BDE3-4902-8498-4568D8BE3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750-D407-455D-A733-3D29230277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литературного чтения по тем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уприн Александр Иван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рбос и Жуль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итель : Усачёва Н.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816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1030688"/>
          <p:cNvPicPr/>
          <p:nvPr/>
        </p:nvPicPr>
        <p:blipFill>
          <a:blip r:embed="rId1"/>
          <a:stretch/>
        </p:blipFill>
        <p:spPr>
          <a:xfrm>
            <a:off x="324000" y="357120"/>
            <a:ext cx="856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UsachevAV\Downloads\barbos_i_zhulka.png"/>
          <p:cNvPicPr/>
          <p:nvPr/>
        </p:nvPicPr>
        <p:blipFill>
          <a:blip r:embed="rId1"/>
          <a:stretch/>
        </p:blipFill>
        <p:spPr>
          <a:xfrm>
            <a:off x="2411280" y="836640"/>
            <a:ext cx="34578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684360" y="13413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dn01.ru/files/users/images/df/d0/dfd069a081a097f0479a8206e529336c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s://ds04.infourok.ru/uploads/ex/0836/00039e2d-3eeb7b16/img2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s://im0-tub-ru.yandex.net/i?id=be5ff0dbf8c64536292c8815469ecb20&amp;n=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700360" y="333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сточник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2124000" y="1197000"/>
            <a:ext cx="4967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вышел я из дома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шистый снег лежит кругом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ляжу - навстречу мой знакомы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жит по снегу босяком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2411280" y="3860640"/>
            <a:ext cx="453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вот мы радости не пряче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- неразлучные друзья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зжим и прыгаем, и скаче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н, и я, и он, и я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132000" y="333360"/>
            <a:ext cx="29671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ом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6732720" y="6093000"/>
            <a:ext cx="1935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В. Берестов.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исание Барбоса и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ба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шеная соб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езнь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виг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щание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единение в сара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исание Барбоса и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ба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шеная соб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виг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езнь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единение в сара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щание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381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Барб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ь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хмат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аккура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м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бия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ачу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зависим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рд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3280" y="549000"/>
            <a:ext cx="410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Жуль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лень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лика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стен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елю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ж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вер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Барб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ь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хмат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аккура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м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бия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ачу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зависим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рд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усли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Жуль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лень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лика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стен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елю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ж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вер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сстраш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68360" y="6021360"/>
            <a:ext cx="32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788000" y="602136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01680" y="260280"/>
            <a:ext cx="851832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0:23:08Z</dcterms:created>
  <dc:creator>useer</dc:creator>
  <dc:description/>
  <dc:language>en-US</dc:language>
  <cp:lastModifiedBy>Усачев Андрей Витальевич</cp:lastModifiedBy>
  <dcterms:modified xsi:type="dcterms:W3CDTF">2020-11-11T10:47:23Z</dcterms:modified>
  <cp:revision>3</cp:revision>
  <dc:subject/>
  <dc:title>Слайд 1</dc:title>
</cp:coreProperties>
</file>