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598-0DA6-4377-BE87-4E1ECD40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231-270F-4696-BDF6-E02FA789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CAA-F6D0-48D9-827B-D743AE8C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9EB-C980-493E-B611-BACD6F57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4F8D1-3658-4AA3-BE70-0A75F0A6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26906-BF40-478C-871C-3075C43D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DE30D-C893-4FB8-924C-861EBD1C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3A5CD-6987-49C1-9A4B-AF8BC464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FCB2D-5132-4915-927D-26B51651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CB013-14D9-47A5-8670-F8365B48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502F4-4D04-40B8-B74C-DE82727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774-3FEE-4749-A698-39F5F6B3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ACC99-EA8B-4050-819C-21DA5B47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E5DA7-BE32-4A95-B850-E50B90FD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54CD4-9236-42E1-9B63-9228AC87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5001B-7D80-4638-8D29-D9D08D8B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4AB13-A530-4A32-8F35-66589BDC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2C4-1F9F-46E9-BB7C-B25149A3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A6F-AE92-47B3-A9AD-08814FF3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99C-0346-460C-967A-5BECDB19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9DC-09B4-4DDD-B7A2-CB49A372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A0D-B0CF-4F35-B0EF-D141CA2B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5A1-26A1-4A52-9564-CE71649A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581-EE07-4751-B0A0-E0928178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ABFA-16DA-4FA3-A2FC-F9E9E4C10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D9FD-E0D5-4905-8B11-9DF8678AA6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ок литературного чтения по тем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уприн Александр Иван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рбос и Жульк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авитель : Усачёва Н.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8163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P1030688"/>
          <p:cNvPicPr/>
          <p:nvPr/>
        </p:nvPicPr>
        <p:blipFill>
          <a:blip r:embed="rId1"/>
          <a:stretch/>
        </p:blipFill>
        <p:spPr>
          <a:xfrm>
            <a:off x="324000" y="357120"/>
            <a:ext cx="8569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UsachevAV\Downloads\barbos_i_zhulka.png"/>
          <p:cNvPicPr/>
          <p:nvPr/>
        </p:nvPicPr>
        <p:blipFill>
          <a:blip r:embed="rId1"/>
          <a:stretch/>
        </p:blipFill>
        <p:spPr>
          <a:xfrm>
            <a:off x="2411280" y="836640"/>
            <a:ext cx="345780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684360" y="13413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cdn01.ru/files/users/images/df/d0/dfd069a081a097f0479a8206e529336c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s://ds04.infourok.ru/uploads/ex/0836/00039e2d-3eeb7b16/img22.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s://im0-tub-ru.yandex.net/i?id=be5ff0dbf8c64536292c8815469ecb20&amp;n=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700360" y="33336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Источник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2124000" y="1197000"/>
            <a:ext cx="49672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годня вышел я из дома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ушистый снег лежит кругом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ляжу - навстречу мой знакомы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жит по снегу босяком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2411280" y="3860640"/>
            <a:ext cx="4537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вот мы радости не прячем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 - неразлучные друзья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изжим и прыгаем, и скачем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он, и я, и он, и я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132000" y="333360"/>
            <a:ext cx="296712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ком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6732720" y="6093000"/>
            <a:ext cx="1935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В. Берестов.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исание Барбоса и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ужба соб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шеная соб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езнь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виг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щание соб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единение в сара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исание Барбоса и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ужба соб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шеная соб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виг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езнь Жуль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единение в сара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щание соба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3816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Барбо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ь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охмат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аккура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мел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бия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ачу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зависим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орд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3280" y="549000"/>
            <a:ext cx="410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Жуль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алень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лад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лика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стенч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ужелюб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ежл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верч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ж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Барбо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ь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охмат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аккура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мел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бия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ачу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зависим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орд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услив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ahoma"/>
              </a:rPr>
              <a:t>Жуль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алень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лад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ликат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застенч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ружелюб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ежл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верч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ж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сстраш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68360" y="6021360"/>
            <a:ext cx="32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788000" y="6021360"/>
            <a:ext cx="345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46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4872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01680" y="260280"/>
            <a:ext cx="851832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0:23:08Z</dcterms:created>
  <dc:creator>useer</dc:creator>
  <dc:description/>
  <dc:language>en-US</dc:language>
  <cp:lastModifiedBy>Усачев Андрей Витальевич</cp:lastModifiedBy>
  <dcterms:modified xsi:type="dcterms:W3CDTF">2020-11-11T10:47:23Z</dcterms:modified>
  <cp:revision>3</cp:revision>
  <dc:subject/>
  <dc:title>Слайд 1</dc:title>
</cp:coreProperties>
</file>