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5EA-A9E4-43DB-9265-97AACDF5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D39-A554-45E7-A966-A6F29B38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BDB-CA0C-4F89-B65F-AD43A2C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C04-AE05-42DD-A4D4-F89643A3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F53F-C84F-4DCA-827B-BB4CA830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727B-8BA3-42E9-BC25-E598AD1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1857-4141-434A-AC2B-32135C79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B56F-61F0-46D8-BD77-0B9EBE6A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537D-D068-4E14-BBF8-74D2E06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FB50-9683-4C6B-B4CB-07F31AC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871-D6C0-4921-9EC3-99DFBFB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A5E-7F4C-49CC-B854-CBE01D5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A35F-4313-456B-8BF5-5A8472AE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FFB-3974-47F6-9078-7C9655A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1A5C-7535-4030-84BC-4308D60C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C82B-9347-41CE-B302-BC51A694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2037-4261-4B86-B6A9-FFFC4BC5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870A-5E0D-4531-915D-84955F4E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939D-F86A-4570-8A2F-7FF0B037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3599-C40D-4387-B311-A5245238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2925E-D768-4A09-AE72-565C8563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07D4-5C82-4733-890D-15D8AC86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38B-9112-4FAB-A4BE-F0808889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68F5-C811-4B31-82B0-4BEF0B17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E8ED-FCF2-4CC2-89CF-4A001C5F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515F3-C258-4A13-B605-2E5EF9A0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2C89-654C-40A0-A354-A4D24003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977CC-7FCB-461B-BA8E-5F8F039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63E6-F515-4B71-A949-99078037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8ACA-2749-4F8D-8CAD-04796622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A5D7-A18E-48DB-9354-856B7C97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003E-F597-40DD-9023-8B3843E5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5517-71AD-4D18-B1DF-95E3B58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254-7DC3-4FB4-982A-5B0CB34F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B831-D583-416D-A30C-3BB1D91A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A56F-7D1B-41BA-BD56-4FEA247E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CF65B-BFF4-454A-8F37-7E0BAFE0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286BD-B59E-4873-A5DD-9271D33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0D77-43FC-4268-A244-91FE9C3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3B80-1D99-4AF4-ADB3-6B4E8BB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4E825-A02C-4F04-97B8-9EDB42B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AFDC1-69C5-4ED7-8F55-E7CABE9F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C39D7-E238-41D7-A02E-A1DEE272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08351-6A2A-4705-87DF-C76818AF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FC1-DCCC-4062-B2D2-A4B21127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E67F9-559B-4B86-9F46-9EDF9B39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9FF4F-A842-4B9F-8960-F7249AF8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7597-C33B-47FC-AE93-50D247A3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7CC0D-C386-4A8F-8C08-764DD997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B8AC-9C9B-453D-A7FB-E1A89EA3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89BDB-27C7-45F2-B522-2C1D8ED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E08A7-AE8A-439C-89E5-BD475E44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1F773-C0E6-40AE-B94F-DE62484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920BC-9C91-480A-911C-7D8190B9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37C1-2443-4012-ACB1-B0201A92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86B-EE3B-4E66-8AFB-5CA6046C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965F-FF0E-412E-95A5-59998A2A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0EA-B5A6-40BB-A93D-02E54214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DF8-DAD4-4EDF-B58F-4C1C957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101-9876-4324-AB47-4353E7B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22C-9D74-4F1D-AFCC-9F46B841E6C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886-486B-445E-AF9B-5A6791338E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3A04-578A-4498-B889-E9D84A27D7D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242A-87D2-4FC2-B097-EC4D28B4D34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495B-6553-4C00-80E6-6E314560EF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22" name="Object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78688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Анучкин Петр Яковле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3.12.1920 - 23.06.1969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мандир зенитно-пулемётной роты 1360-го зенитно-артиллерийского полка 29-й зенитно-артиллерийской дивизии 5-й гвардейской армии 1-го Украинского фронта, старший 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вание Героя Советского Союза с вручением ордена Ленина и медали "Золотая Звезда" (№ 7407) старшему лейтенанту Анучкину Петру Яковлевичу присвоено 10 апреля 1945 года за форсирование Одера, захват и удержание плацдарма на юго-западном берегу ре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Содержимое 4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2180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Брусов Иван Никифорович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10.04.1926 - 25.01.1945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Герой Советского Союз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Брусов Иван Никифорович – командир зенитно-пулемётного отделения 1995-го зенитно-артиллерийского полка 68-й зенитно-артиллерийской дивизии 4-й танковой армии 1-го Украинского фронта, младший сержант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10 апреля 1945 года за образцовое выполнение боевых заданий командования на фронте борьбы с немецко-фашистскими захватчиками и проявленные при этом отвагу и геройство младшему сержанту Брусову Ивану Никифоровичу посмертно присвоено звание Героя Советского Союз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Содержимое 8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407196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Кандауров Пётр Степано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05.1913 - 23.08.194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ндауров Пётр Степанович – командир 670-го зенитного артиллерийского полка 5-й зенитной артиллерийской дивизии резерва главного командования (7-я гвардейская армия, Степной фронт), майо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22 февраля 1944 года майору Кандаурову Петру Степановичу за участие в тяжелом бою под Харьковом присвоено звание Героя Советского Союза (посмертно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Содержимое 5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50028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Коломиец Михаил Марк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01.11.1918 - 06.08.201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ломиец Михаил Маркович – начальник Специального управления по вводу систем предупреждения о ракетном нападении, противоракетной и противокосмической обороны (город Красногорск Московской области), генерал-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от 21 февраля 1978 года за успехи в создании новейших военно-технических систем генерал-лейтенанту Коломийцу Михаилу Марковичу присвоено звание Героя Социалистического Труда с вручением ордена Ленина и золотой медали «Серп и Молот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Содержимое 6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407196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Ненашев Михаил Иван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 fontScale="99000"/>
          </a:bodyPr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01.11.1918 - 18.07.1993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нашев Михаил Иванович – начальник 5-го управления Главного управления вооружения войск ПВО страны, генерал-лейтен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иума Верховного Совета СССР («закрытым») от 18 февраля 1981 года за успешное создание системы предупреждения о ракетном нападении и постановку ее на боевое дежурство генерал-лейтенанту Ненашеву Михаилу Ивановичу присвоено звание Героя Социалистического Труда с вручением ордена Ленина и золотой медали «Серп и Молот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Содержимое 5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364356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Сухомлинский Василий Александрович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8387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8.09.1918 - 02.09.1970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ц.Труда Сухомлинский Василий Александрович - выдающийся советский педагог, директор Павлышской сельской средней школы, член-корреспондент Академии педагогических наук Союза Советских Социалистических Республи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Содержимое 6" descr=""/>
          <p:cNvPicPr/>
          <p:nvPr/>
        </p:nvPicPr>
        <p:blipFill>
          <a:blip r:embed="rId1"/>
          <a:stretch/>
        </p:blipFill>
        <p:spPr>
          <a:xfrm>
            <a:off x="785880" y="714240"/>
            <a:ext cx="3786120" cy="478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Маштаков Павел Семёнович 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4920" y="1447920"/>
            <a:ext cx="3795840" cy="51242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.05.1920 - 09.08.20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Советского Союз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штаков Павел Семёнович - командир 76-мм орудия 146-го гвардейского артиллерийского минометного полка 14-й гвардейской кавалерийской дивизии 7-го гвардейского кавалерийского корпуса 1-го Белорусского фронта, гвардии старший серж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 мая 1945 года сержант Маштаков П.С. вместе с гвардии старшиной Папышевым И.П. были ассистентами знаменосца гвардии старшего сержанта Шкирёва Ф.А. при встрече в Москве на Центральном аэродроме имени М.В. Фрунзе, прибывшего из поверженной гитлеровской столицы - Берлина Знамени Победы, которое они торжественно пронесли вдоль строя Почётного караула, мимо представителей Народного Комиссариата обороны СССР, московской общественности, пресс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Содержимое 5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371484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Белов Владимир Александрович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71720" y="1447920"/>
            <a:ext cx="2938680" cy="51242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6.08.1955 -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рой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лов Владимир Александрович - командир медицинской роты отдельной бригады Воздушно-десантных войск, подполковник медицинской служб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казом Президента Российской Федерации № 740 от 21 июля 1995 года за спасение жизни раненных в боях солдат и офицеров, мужество и героизм, подполковнику медицинской службы Владимиру Александровичу Белову присвоено звание Героя Российской Федерации с вручением медали «Золотая Звезд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929880"/>
            <a:ext cx="462600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6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36007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чная память Героям, отдавшим жизнь за Отечество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метроном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14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0004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мятная дата - День Героев Отечества - была утверждена федеральным законом в 2007 году.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менно 9 декабря 1769 года во времена правления императрицы Екатерины II был учрежден орден Святого Георгия Победоносца. В тот период орденом награждались офицеры и генералы, проявившие в боях и сражениях доблесть, смелость и отвагу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о 1917 года в этот день в России отмечался праздник георгиевских кавалеров. После Октябрьской революции 1917 года орден был упраздне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атус военной награды был возвращен ордену согласно Указу президента РФ от 8 августа 2000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вание Героя Советского Союза было учреждено Постановлением ЦИК СССР в апреле 1934 года. Первыми Героями 20 апреля 1934 были семь летчиков, спасших со льдины в Чукотском море экипаж ледокола "Челюскин"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дним советским Героем стал военный акванавт капитан 3-го ранга Анатолий Солодков, совершивший в 1991 году рекордное погружение на глубину 120 метров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 данным Главного управления кадров Министерства Обороны СССР в 1991 году перед распадом Советского Союза в нашей стране было 12745 Героев Советского Союза. Из них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дважды Героев Советского Союза - 153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трижды Героев Советского Союза – 3 (маршал Семен Буденном, летчики Иван Кожедуб и Александр Покрышкин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четырежды Героев Советского Союза – 2 (Георгий Жуков и Леонид Брежнев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женщин - 95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34 по 1940 годы - 626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41 по 1945 годы - 11038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·  за период с 1946 по 1990 годы - 108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чрежденный 8 ноября 1943 года орден Славы предназначался для награждения рядового и сержантского состава. Первым кавалером ордена 3-й степени был сапер Василий Малышев. До 1945 года кавалерами ордена 3-й степени стали 980 тыс человек, 2-й степени – 46 тыс, а полными кавалерами – 2562 человека. В 1975 году полные кавалеры ордена Славы получили равные права с Героями Советского Союза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357120"/>
            <a:ext cx="8183520" cy="478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ание Герой Российской Федерации и знак особого отличия - медаль "Золотая Звезда" были установлены 20 марта 1992 года. Первым их удостоился 11 апреля 1992 года космонавт Сергей Крикалев, ставший еще в апреле 1989 года Героем Советского Союза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42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фамилий нынешних Героев Российской Федерации есть и фамилии героев Великой Отечественной войны. На сегодняшний день более ста ветеранов ВОВ удостоены высокого звания Героя Росс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реди них - единственная в морской авиации женщина - штурмовик Лидия Шулайкина; разведчица Вера Волошина и командир авиационного звена Екатерина Буданова были удостоены этого звания посмертно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356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атной летописи современной России звания Героя Российской Федерации с 1992 года был удостоены свыше 870 граждан. Из них 408 получили это звание посмер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вым георгиевским кавалером Российской Федерации в 2008 году стал генерал-полковник Сергей Мак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оссия сегодня отмечает День Героев Отечества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356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лерея Геро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21:05:39Z</dcterms:created>
  <dc:creator>SamLab.ws</dc:creator>
  <dc:description/>
  <dc:language>en-US</dc:language>
  <cp:lastModifiedBy>SamLab.ws</cp:lastModifiedBy>
  <dcterms:modified xsi:type="dcterms:W3CDTF">2012-12-09T06:55:51Z</dcterms:modified>
  <cp:revision>12</cp:revision>
  <dc:subject/>
  <dc:title>Слайд 1</dc:title>
</cp:coreProperties>
</file>