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ECF-AA9D-4B8A-8ED7-C0CD7B27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ABB-0FD6-4348-ABAE-10A6D0B9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11C-08BC-4F52-A2C6-4D9985FD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8E6-39B6-421E-9ECF-DCCEB1AD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D6BC-B25A-49D6-9800-FEA78D5F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E75C-042C-49CE-85CA-2FD2485F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508-B9BF-4F11-A94A-ECA52D1B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657-0DC2-42C7-9A9C-FEC3764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2B2-6520-4788-ABA4-41601D49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2872-B1EC-412B-9E33-3450128A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C79A-F874-42DB-9D07-850D2C4A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C3C-6C3C-4FA3-B2B5-CC542182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C7BA-F858-4373-BFC2-F326CF2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800A-21A8-42D9-BE1A-AACCA74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F085-527A-422B-9C08-D6119177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10F6-A07E-4B90-8914-60CAC88A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2AA0-F686-4972-AA26-E8A118D0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CD3B-F983-41EC-B6DD-5ADC8699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E5E9-7401-4414-99AA-5FFE8F74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DF98-42A1-4B2D-91F7-7F5F0DA0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FBA3-DB7C-4FEB-A3BC-CAD8E9E3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2543-6A55-42BF-9900-BD74EFF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6D7-2FB0-46A0-87AB-D424BAD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B7DB-8EBD-4738-AD39-8FB1E2A9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62F2-74D3-4477-B647-4ED7D18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AE8F-3F14-4560-A3E2-7BC51A5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DA8B-CAC4-445A-9259-ACC1A2B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E3084-B149-4466-927A-D2D3627F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AF33-D667-45E2-B55E-5EE833BD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1413-2C05-4180-A88F-1F53FA08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D8A9-6667-44C8-B6B9-FE377BBF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3726-9466-4D18-AEA7-DF75C18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F6F8-FAF3-41D9-B325-CC02043E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44F-A1D6-4881-8251-F044974F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3806A-AAF7-473C-9B7A-704E089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77BF-1E7A-4DFA-863A-173E052F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25C5-CABB-40F3-9FB2-D049B42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DDCC-49DA-48BD-A859-A188966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B0E8-5A2F-4EE3-B4C1-9DAA659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C6CB-C48E-42B5-B9C5-A4D8FFA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2E3B-AA1E-4067-9B92-1C9E94C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C811-00EF-4D0C-926C-9EC47DF6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AE20F-F573-4356-BA5A-894FF241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1F60E-9EA7-48B9-A82D-7CA0C954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166-A48F-4399-96E3-6889B47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814A-4D77-43F2-A22C-F27EFCC3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823B-1A67-4F16-8E84-1A46319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1ACCA-4314-443C-BCCE-FF6837F0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1CB94-368B-4E46-930F-05D0B96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FDFA-AEF4-4115-94F2-B944D53D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3B86-55C8-4440-87C9-2404FF5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13D0-987A-4762-8C7D-EB9FF60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C26C4-C880-4BC5-A42B-81055889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8917-7F40-48A4-9912-D6482A13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AFA70-1F17-45F4-BDF5-6062D48C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A0E-C3EF-4F5A-A3DC-A92BFC7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0E14C-284F-4DD2-A44F-971A40DE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8A5-60DC-4E68-90E6-2FCF7C7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9BD-065C-4E7E-8506-44D93CC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19B-1BB8-4D28-AA2E-669D1F21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804F-E4B6-44F9-A140-D76392F0E86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921D-4B56-4EDE-A62A-6868C587958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7F5-E59D-454A-B20B-724164A0BD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FB5C-F434-4A24-B6EA-748892511E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D76C-4D28-4E22-B702-8DB38A59C3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Анучкин Петр Яковлевич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3.12.1920 - 23.06.1969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ветского Союза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мандир зенитно-пулемётной роты 1360-го зенитно-артиллерийского полка 29-й зенитно-артиллерийской дивизии 5-й гвардейской армии 1-го Украинского фронта, старший лейтен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вание Героя Советского Союза с вручением ордена Ленина и медали "Золотая Звезда" (№ 7407) старшему лейтенанту Анучкину Петру Яковлевичу присвоено 10 апреля 1945 года за форсирование Одера, захват и удержание плацдарма на юго-западном берегу ре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Содержимое 4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2180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Брусов Иван Никифорович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10.04.1926 - 25.01.194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Герой Советского Союз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Брусов Иван Никифорович – командир зенитно-пулемётного отделения 1995-го зенитно-артиллерийского полка 68-й зенитно-артиллерийской дивизии 4-й танковой армии 1-го Украинского фронта, младший сержант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от 10 апреля 1945 года за образцовое выполнение боевых заданий командования на фронте борьбы с немецко-фашистскими захватчиками и проявленные при этом отвагу и геройство младшему сержанту Брусову Ивану Никифоровичу посмертно присвоено звание Героя Советского Союз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Содержимое 8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407196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Кандауров Пётр Степанович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05.1913 - 23.08.194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ветского Сою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ндауров Пётр Степанович – командир 670-го зенитного артиллерийского полка 5-й зенитной артиллерийской дивизии резерва главного командования (7-я гвардейская армия, Степной фронт), майо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от 22 февраля 1944 года майору Кандаурову Петру Степановичу за участие в тяжелом бою под Харьковом присвоено звание Героя Советского Союза (посмертно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Содержимое 5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35002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Коломиец Михаил Маркович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838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01.11.1918 - 06.08.201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ц.Труд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ломиец Михаил Маркович – начальник Специального управления по вводу систем предупреждения о ракетном нападении, противоракетной и противокосмической обороны (город Красногорск Московской области), генерал-лейтен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от 21 февраля 1978 года за успехи в создании новейших военно-технических систем генерал-лейтенанту Коломийцу Михаилу Марковичу присвоено звание Героя Социалистического Труда с вручением ордена Ленина и золотой медали «Серп и Молот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Содержимое 6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407196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Ненашев Михаил Иванович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838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9000"/>
          </a:bodyPr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01.11.1918 - 18.07.1993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ц.Труд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нашев Михаил Иванович – начальник 5-го управления Главного управления вооружения войск ПВО страны, генерал-лейтен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(«закрытым») от 18 февраля 1981 года за успешное создание системы предупреждения о ракетном нападении и постановку ее на боевое дежурство генерал-лейтенанту Ненашеву Михаилу Ивановичу присвоено звание Героя Социалистического Труда с вручением ордена Ленина и золотой медали «Серп и Молот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Содержимое 5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6435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Сухомлинский Василий Александрович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838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8.09.1918 - 02.09.197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ц.Труда Сухомлинский Василий Александрович - выдающийся советский педагог, директор Павлышской сельской средней школы, член-корреспондент Академии педагогических наук Союза Советских Социалистических Республи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Содержимое 6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37861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Маштаков Павел Семёнович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4920" y="1447920"/>
            <a:ext cx="3795840" cy="51242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.05.1920 - 09.08.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ветского Союз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штаков Павел Семёнович - командир 76-мм орудия 146-го гвардейского артиллерийского минометного полка 14-й гвардейской кавалерийской дивизии 7-го гвардейского кавалерийского корпуса 1-го Белорусского фронта, гвардии старший серж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 мая 1945 года сержант Маштаков П.С. вместе с гвардии старшиной Папышевым И.П. были ассистентами знаменосца гвардии старшего сержанта Шкирёва Ф.А. при встрече в Москве на Центральном аэродроме имени М.В. Фрунзе, прибывшего из поверженной гитлеровской столицы - Берлина Знамени Победы, которое они торжественно пронесли вдоль строя Почётного караула, мимо представителей Народного Комиссариата обороны СССР, московской общественности, пресс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Содержимое 5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7148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Белов Владимир Александрович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571720" y="1447920"/>
            <a:ext cx="2938680" cy="51242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6.08.1955 -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лов Владимир Александрович - командир медицинской роты отдельной бригады Воздушно-десантных войск, подполковник медицинской служб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ента Российской Федерации № 740 от 21 июля 1995 года за спасение жизни раненных в боях солдат и офицеров, мужество и героизм, подполковнику медицинской службы Владимиру Александровичу Белову присвоено звание Героя Российской Федерации с вручением медали «Золотая Звезд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36007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чная память Героям, отдавшим жизнь за Отечеств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метроном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14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0004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мятная дата - День Героев Отечества - была утверждена федеральным законом в 2007 году.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нно 9 декабря 1769 года во времена правления императрицы Екатерины II был учрежден орден Святого Георгия Победоносца. В тот период орденом награждались офицеры и генералы, проявившие в боях и сражениях доблесть, смелость и отвагу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о 1917 года в этот день в России отмечался праздник георгиевских кавалеров. После Октябрьской революции 1917 года орден был упраздне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атус военной награды был возвращен ордену согласно Указу президента РФ от 8 августа 2000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вание Героя Советского Союза было учреждено Постановлением ЦИК СССР в апреле 1934 года. Первыми Героями 20 апреля 1934 были семь летчиков, спасших со льдины в Чукотском море экипаж ледокола "Челюскин"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дним советским Героем стал военный акванавт капитан 3-го ранга Анатолий Солодков, совершивший в 1991 году рекордное погружение на глубину 120 метров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 данным Главного управления кадров Министерства Обороны СССР в 1991 году перед распадом Советского Союза в нашей стране было 12745 Героев Советского Союза. Из них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дважды Героев Советского Союза - 153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трижды Героев Советского Союза – 3 (маршал Семен Буденном, летчики Иван Кожедуб и Александр Покрышкин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четырежды Героев Советского Союза – 2 (Георгий Жуков и Леонид Брежнев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женщин - 95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за период с 1934 по 1940 годы - 626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за период с 1941 по 1945 годы - 11038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за период с 1946 по 1990 годы - 108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чрежденный 8 ноября 1943 года орден Славы предназначался для награждения рядового и сержантского состава. Первым кавалером ордена 3-й степени был сапер Василий Малышев. До 1945 года кавалерами ордена 3-й степени стали 980 тыс человек, 2-й степени – 46 тыс, а полными кавалерами – 2562 человека. В 1975 году полные кавалеры ордена Славы получили равные права с Героями Советского Союза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ание Герой Российской Федерации и знак особого отличия - медаль "Золотая Звезда" были установлены 20 марта 1992 года. Первым их удостоился 11 апреля 1992 года космонавт Сергей Крикалев, ставший еще в апреле 1989 года Героем Советского Союз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42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реди фамилий нынешних Героев Российской Федерации есть и фамилии героев Великой Отечественной войны. На сегодняшний день более ста ветеранов ВОВ удостоены высокого звания Героя Росс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реди них - единственная в морской авиации женщина - штурмовик Лидия Шулайкина; разведчица Вера Волошина и командир авиационного звена Екатерина Буданова были удостоены этого звания посмертно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356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атной летописи современной России звания Героя Российской Федерации с 1992 года был удостоены свыше 870 граждан. Из них 408 получили это звание посмер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м георгиевским кавалером Российской Федерации в 2008 году стал генерал-полковник Сергей Мак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356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лерея Геро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21:05:39Z</dcterms:created>
  <dc:creator>SamLab.ws</dc:creator>
  <dc:description/>
  <dc:language>en-US</dc:language>
  <cp:lastModifiedBy>SamLab.ws</cp:lastModifiedBy>
  <dcterms:modified xsi:type="dcterms:W3CDTF">2012-12-09T06:55:51Z</dcterms:modified>
  <cp:revision>12</cp:revision>
  <dc:subject/>
  <dc:title>Слайд 1</dc:title>
</cp:coreProperties>
</file>