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36063" cy="68500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F904-20AA-49BC-8B04-F601FD62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FA61-696E-4C0B-A576-9FEF4780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DAC-3342-4E2A-A727-4F15866A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D83B-CB5E-4687-ABC9-0551BD2B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0A8F-F076-406B-91BB-31208F2A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8494-DBEA-4DA2-866A-6F4AA1B4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0BF4-4B5A-4886-B353-8A18ECE6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A4D4-721A-4AB4-A943-4032B1CC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1E03-E8CF-4974-80A4-9A446FA1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9C37-E125-4EFE-90E9-29808A13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B9BF-B5AE-4A2F-B792-307C0171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32DB-BE7C-4EF1-B6AE-E3B0B6F9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A9E3-9DB4-4B51-A549-34FB1A91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7C2C-262C-48D9-A357-108047E4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73A9-52C7-466F-B35F-210942FE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6D10-FA6D-45BC-B407-B634D457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63D1-A808-4150-8B8E-4DFF8B92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FF9-F054-4195-AC0D-32D8707F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466-7B64-44D4-881F-9DF077FD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EB55-9492-4097-BE2B-AAA028DA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252D-5FAC-49BE-A4AE-295451A7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82A-1BDC-4E29-A752-D27843FA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7195-83E8-44CA-9F4E-93C6EA28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054B-B0FE-40FB-86D7-0B48B702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94CA-7E0B-4A34-8F8B-6866A4FA057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403848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1231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64000" indent="-1231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6520" y="1598760"/>
            <a:ext cx="403704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1231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64000" indent="-1231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5760" y="3981600"/>
            <a:ext cx="403704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1231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64000" indent="-1231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645080" y="3981600"/>
            <a:ext cx="403704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1231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64000" indent="-1231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dt" idx="4"/>
          </p:nvPr>
        </p:nvSpPr>
        <p:spPr>
          <a:xfrm>
            <a:off x="455760" y="63532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 type="ftr" idx="5"/>
          </p:nvPr>
        </p:nvSpPr>
        <p:spPr>
          <a:xfrm>
            <a:off x="3122280" y="635328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8"/>
          <p:cNvSpPr>
            <a:spLocks noGrp="1"/>
          </p:cNvSpPr>
          <p:nvPr>
            <p:ph type="sldNum" idx="6"/>
          </p:nvPr>
        </p:nvSpPr>
        <p:spPr>
          <a:xfrm>
            <a:off x="6550200" y="63532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F90AD9-11E7-4DEB-B524-05D69A3AADA2}" type="slidenum">
              <a:rPr b="0" lang="ru-RU" sz="1200" spc="-1" strike="noStrike">
                <a:solidFill>
                  <a:srgbClr val="898989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frame29P"/>
          <p:cNvPicPr/>
          <p:nvPr/>
        </p:nvPicPr>
        <p:blipFill>
          <a:blip r:embed="rId1"/>
          <a:stretch/>
        </p:blipFill>
        <p:spPr>
          <a:xfrm>
            <a:off x="-1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"/>
          <p:cNvSpPr/>
          <p:nvPr/>
        </p:nvSpPr>
        <p:spPr>
          <a:xfrm>
            <a:off x="5410080" y="5030640"/>
            <a:ext cx="3470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спитатель пер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Хабарова Наталья Евгеньевн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3272760" y="6172200"/>
            <a:ext cx="193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. Челябинск, 2019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193680" y="228600"/>
            <a:ext cx="87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  <a:ea typeface="Arial"/>
              </a:rPr>
              <a:t>Муниципальное бюджетное дошкольное 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  <a:ea typeface="Arial"/>
              </a:rPr>
              <a:t>«Детский сад № 394 г. Челябинс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209520" y="2286000"/>
            <a:ext cx="883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Arial"/>
                <a:ea typeface="Arial"/>
              </a:rPr>
              <a:t>«Интерактивная педагогическая технолог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i="1" lang="ru-RU" sz="2600" spc="-1" strike="noStrike">
                <a:solidFill>
                  <a:srgbClr val="0070c0"/>
                </a:solidFill>
                <a:latin typeface="Arial"/>
                <a:ea typeface="Arial"/>
              </a:rPr>
              <a:t>в работе с детьми дошкольного возраста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2840040" y="152388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астер-класс для педагог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2"/>
          <a:stretch/>
        </p:blipFill>
        <p:spPr>
          <a:xfrm>
            <a:off x="384120" y="3462480"/>
            <a:ext cx="342576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http://questioningknee.com/images/55dfce7f4dd73.jpg"/>
          <p:cNvPicPr/>
          <p:nvPr/>
        </p:nvPicPr>
        <p:blipFill>
          <a:blip r:embed="rId2"/>
          <a:srcRect l="0" t="-2160" r="0" b="0"/>
          <a:stretch/>
        </p:blipFill>
        <p:spPr>
          <a:xfrm>
            <a:off x="228600" y="76320"/>
            <a:ext cx="2809800" cy="1224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7"/>
          <p:cNvSpPr/>
          <p:nvPr/>
        </p:nvSpPr>
        <p:spPr>
          <a:xfrm>
            <a:off x="343080" y="1219320"/>
            <a:ext cx="8458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ФГОС ДО предъявляет требования к организации образовательной деятельности в ДОО,  которая  должна быть направлена на познавательную активность дошкольника  в целом и иметь  выбор методов и приёмов обучения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овременных условиях ребёнок выступает в роли не “объекта”, а в роли “субъекта” образования, Ребёнок – Ли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й педагог- это ИКТ педагог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интеллект, коммуникабельность и творчество), профессионально владеющий всеми современными инновационными педагогическими технологиями, уверенный в эффективности применениях их в практике своей работы, умеющий импровизировать, творить, обучать и воспитыв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frame29P"/>
          <p:cNvPicPr/>
          <p:nvPr/>
        </p:nvPicPr>
        <p:blipFill>
          <a:blip r:embed="rId1"/>
          <a:stretch/>
        </p:blipFill>
        <p:spPr>
          <a:xfrm>
            <a:off x="-1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"/>
          <p:cNvSpPr/>
          <p:nvPr/>
        </p:nvSpPr>
        <p:spPr>
          <a:xfrm>
            <a:off x="209520" y="53352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одели обу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ссив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ребенок  выступает в роли «объекта» обучения (слушает и смотри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тивна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ребенок  выступает «субъектом» обучения (самостоятельная работа, творческие зада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актив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ребенок и педагог действуют взаим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актив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inter – между, active от act – действовать, действие – это способность взаимодействовать или находиться в режиме беседы, диалога с чем-либо (например, с компьютером) или кем-либо (человеком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rame29P"/>
          <p:cNvPicPr/>
          <p:nvPr/>
        </p:nvPicPr>
        <p:blipFill>
          <a:blip r:embed="rId1"/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"/>
          <p:cNvSpPr/>
          <p:nvPr/>
        </p:nvSpPr>
        <p:spPr>
          <a:xfrm>
            <a:off x="777960" y="2397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активные технологии  рассматриваются  в двух значени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4419720" y="43448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ованное взаимодействие непосредственно между детьми и педагогом без использования компьютера  - это интерактивные педагогические техн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4419720" y="121932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и, построенные на взаимодействии с компьютером и посредством компьютера – это Информационно - коммуникативные технологии (ИК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" descr=""/>
          <p:cNvPicPr/>
          <p:nvPr/>
        </p:nvPicPr>
        <p:blipFill>
          <a:blip r:embed="rId2"/>
          <a:stretch/>
        </p:blipFill>
        <p:spPr>
          <a:xfrm>
            <a:off x="960480" y="838080"/>
            <a:ext cx="335268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2" name="Рисунок 2" descr=""/>
          <p:cNvPicPr/>
          <p:nvPr/>
        </p:nvPicPr>
        <p:blipFill>
          <a:blip r:embed="rId3"/>
          <a:stretch/>
        </p:blipFill>
        <p:spPr>
          <a:xfrm>
            <a:off x="1003320" y="3919680"/>
            <a:ext cx="3309840" cy="2482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028" descr="frame29P"/>
          <p:cNvPicPr/>
          <p:nvPr/>
        </p:nvPicPr>
        <p:blipFill>
          <a:blip r:embed="rId1"/>
          <a:stretch/>
        </p:blipFill>
        <p:spPr>
          <a:xfrm>
            <a:off x="0" y="-34920"/>
            <a:ext cx="9140760" cy="6962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29"/>
          <p:cNvSpPr/>
          <p:nvPr/>
        </p:nvSpPr>
        <p:spPr>
          <a:xfrm>
            <a:off x="303120" y="0"/>
            <a:ext cx="8379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Формы организации образовательной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с применением  интерактивных   педагогических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30"/>
          <p:cNvSpPr/>
          <p:nvPr/>
        </p:nvSpPr>
        <p:spPr>
          <a:xfrm>
            <a:off x="227160" y="838080"/>
            <a:ext cx="8915400" cy="60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ронтальная форма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«Микрофон», «Мозговой штурм»,  «Незаконченное предложение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оперативная форма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«Работа в парах» («Лицом к лицу»),  «Один - вдвоем - все вместе»,  «Работа в малых группах», «Аквариум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активные иг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«Квест – игра», «Ролевая игра», «Драматизация»,  «Упрощенное судебное слушание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обучения в дискусс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«Выбери позицию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-ая младшая груп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   «Работа в парах», «Хоровод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редняя груп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            «Работа в парах», «Хоровод», «Цепочк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Карусель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аршая груп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           «Работа в парах», «Хоровод», «Цепочк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Карусель» «Интервью», «Работа в малых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уппах  (тройках)», Аквари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те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уп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                             «Работа в парах», «Хоровод»,  «Цепочка»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Карусель» «Интервью»,  «Работа в мал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уппах  (тройках)», «Аквариум»,«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руг», «Дерево знани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frame29P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"/>
          <p:cNvSpPr/>
          <p:nvPr/>
        </p:nvSpPr>
        <p:spPr>
          <a:xfrm>
            <a:off x="963360" y="111240"/>
            <a:ext cx="72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активные педагогические технологии в Д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3052800" y="3859200"/>
            <a:ext cx="58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«Цепоч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у этой технологии составляет последовательное решение каждым участником одной задачи. Наличие общей цели, одного общего результата создает обстановку сопереживания и взаимопомощи, заставляет общаться друг с другом, предлагать варианты решений задания, формирует у детей дошкольного возраста умения работать в коман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2"/>
          <a:stretch/>
        </p:blipFill>
        <p:spPr>
          <a:xfrm>
            <a:off x="431640" y="4191120"/>
            <a:ext cx="2522520" cy="1892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Рисунок 11" descr=""/>
          <p:cNvPicPr/>
          <p:nvPr/>
        </p:nvPicPr>
        <p:blipFill>
          <a:blip r:embed="rId3"/>
          <a:stretch/>
        </p:blipFill>
        <p:spPr>
          <a:xfrm>
            <a:off x="6153120" y="987480"/>
            <a:ext cx="2728800" cy="204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1" name="Прямоугольник 5"/>
          <p:cNvSpPr/>
          <p:nvPr/>
        </p:nvSpPr>
        <p:spPr>
          <a:xfrm>
            <a:off x="388800" y="911160"/>
            <a:ext cx="5578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«Интервь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ют на этапе закрепления или обобщения знаний, подведения итогов работы. Благодаря использованию этой технологии у детей активно развивается диалогическая речь, которая побуждает их к взаимодействию «взрослый-ребёнок», «ребёнок-ребёно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frame29P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8"/>
          <p:cNvSpPr/>
          <p:nvPr/>
        </p:nvSpPr>
        <p:spPr>
          <a:xfrm>
            <a:off x="3333600" y="3598920"/>
            <a:ext cx="556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хнология «Аквариум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орма диалога, когда ребятам предлагают обсудить проблему «перед лицом общественности», заключается в том, что несколько детей разыгрывают ситуацию в круге, а остальные наблюдают и анализируют.   Дает возможность увидеть своих сверстников со стороны, увидеть, как они общаются, как реагируют на чужую мысль, как улаживают назревающий конфликт, как аргументируют свою мысль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8" descr=""/>
          <p:cNvPicPr/>
          <p:nvPr/>
        </p:nvPicPr>
        <p:blipFill>
          <a:blip r:embed="rId2"/>
          <a:stretch/>
        </p:blipFill>
        <p:spPr>
          <a:xfrm>
            <a:off x="6066000" y="828720"/>
            <a:ext cx="2743200" cy="20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5" name="Прямоугольник 6"/>
          <p:cNvSpPr/>
          <p:nvPr/>
        </p:nvSpPr>
        <p:spPr>
          <a:xfrm>
            <a:off x="262080" y="149400"/>
            <a:ext cx="571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хнология «Карус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разуется два кольца: внутреннее и внешнее. Внутреннее кольцо-это стоящие неподвижно дети, обращенные лицом к внешнему кругу, а внешнее –  перемещаются по кругу через каждые 30 секунд. Таким образом, они успевают проговорить за несколько минут несколько тем и постараться убедить в своей правоте собеседника. Внедряется для организации работы в парах, стимулирует общение между детьми, формирует у ребенка такие нравственно-волевые качества, как взаимопомощь, навыки сотрудничества.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2982960" y="3673440"/>
            <a:ext cx="6035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бота в пар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ти  помощью предмета  выполнять задание по очереди взаимодействуют друг с другом, объединяясь в пары по желанию Воспитываются у них такие качества, как умение выслушивать ответы и не перебивать друг друга, совершенствуются умение договариваться, последовательно, сообща выполнять работу.   Выработать навыки сотрудничества в ситуации камерного 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"/>
          <p:cNvPicPr/>
          <p:nvPr/>
        </p:nvPicPr>
        <p:blipFill>
          <a:blip r:embed="rId2"/>
          <a:stretch/>
        </p:blipFill>
        <p:spPr>
          <a:xfrm>
            <a:off x="433440" y="4038480"/>
            <a:ext cx="2471760" cy="185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9" name="Прямоугольник 7"/>
          <p:cNvSpPr/>
          <p:nvPr/>
        </p:nvSpPr>
        <p:spPr>
          <a:xfrm>
            <a:off x="468360" y="685800"/>
            <a:ext cx="54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«Работа в малых группах.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тройках)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технологии групповой работы «в тройках» дает возможность трудиться на занятии всем детям. Ребята учатся оценивать свою работу, работу товарища, общаться, помогать друг другу. Принцип сотрудничества в процессе обучения   становится веду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7" descr=""/>
          <p:cNvPicPr/>
          <p:nvPr/>
        </p:nvPicPr>
        <p:blipFill>
          <a:blip r:embed="rId3"/>
          <a:stretch/>
        </p:blipFill>
        <p:spPr>
          <a:xfrm>
            <a:off x="6095880" y="654120"/>
            <a:ext cx="2656080" cy="199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"/>
          <p:cNvSpPr/>
          <p:nvPr/>
        </p:nvSpPr>
        <p:spPr>
          <a:xfrm>
            <a:off x="343080" y="228600"/>
            <a:ext cx="8458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интерактивной педагогической технологии –это интересное, творческое, перспективное направление педагогики , потому что она позволяет успешно решать 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ализовать качественно новую эффективную модель построения предметно- развивающейся среды и  самого образовательного   процесс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овать  комфортные условий  для  реализации взаимодействия в группах, взаиморазвития и взаимообогащения, обмена опыто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вает все компоненты устной речи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вает коммуникац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спитывает толерант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вает целостное воздействия на все многообразие мотивационных, интеллектуальных, эмоционально-волевых проявлений личности в период всего воспитательного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особствует формированию социальной позиции в дальнейш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4" descr=""/>
          <p:cNvPicPr/>
          <p:nvPr/>
        </p:nvPicPr>
        <p:blipFill>
          <a:blip r:embed="rId2"/>
          <a:stretch/>
        </p:blipFill>
        <p:spPr>
          <a:xfrm>
            <a:off x="2664000" y="4260960"/>
            <a:ext cx="34430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sa117</dc:creator>
  <dc:description/>
  <dc:language>en-US</dc:language>
  <cp:lastModifiedBy>Lisa117</cp:lastModifiedBy>
  <cp:lastPrinted>2017-01-24T20:58:23Z</cp:lastPrinted>
  <dcterms:modified xsi:type="dcterms:W3CDTF">2019-12-16T07:58:50Z</dcterms:modified>
  <cp:revision>2</cp:revision>
  <dc:subject/>
  <dc:title>PowerPoint Presentation</dc:title>
</cp:coreProperties>
</file>