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36063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841-E701-48AB-B720-DD226528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CAB-DE9D-46EC-B26A-A09588D2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34C-FA2E-42F3-B9A6-A9D4F211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4F1-DFCD-467C-84A6-6DC92DD2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962-90EF-47C9-9BB1-3229B7E5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CE6-AE70-41D6-9F00-1D1FCD8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723-4959-419D-A6A3-2B1D11D1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C335-DEEA-48FC-A2A7-42C16F95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E85B-252D-4626-905A-6EA1A345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0436-718C-415D-BE16-1DA587D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EB2-E328-485F-85DE-D0D8D102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059-B0E6-42FB-850F-5C27028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3741-5939-4DED-B96A-B810C81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C67B-D6B6-477B-A1EA-0DA6956D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763C-FD03-418F-8DC2-23A4FFD6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52D-2991-4A1A-BFFD-EE472DF5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289C-90A5-45B2-9270-F1B00288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C1C-12C2-4771-89B3-D1D4B01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8A5-D2C3-4A9B-ACCD-49C4AA1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281-57D0-4074-9860-2477834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94C-E2E8-4981-B138-F62F1C70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54E-4579-4844-BDCA-23DA7B1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3B7-FE54-473E-9AC6-24BA4E2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F54-F697-4FE0-94C9-DFE052B9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AD02-73CC-4A5B-AE27-B3717998793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403848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6520" y="1598760"/>
            <a:ext cx="403704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5760" y="3981600"/>
            <a:ext cx="403704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645080" y="3981600"/>
            <a:ext cx="4037040" cy="21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dt" idx="4"/>
          </p:nvPr>
        </p:nvSpPr>
        <p:spPr>
          <a:xfrm>
            <a:off x="455760" y="63532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ftr" idx="5"/>
          </p:nvPr>
        </p:nvSpPr>
        <p:spPr>
          <a:xfrm>
            <a:off x="3122280" y="6353280"/>
            <a:ext cx="289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8"/>
          <p:cNvSpPr>
            <a:spLocks noGrp="1"/>
          </p:cNvSpPr>
          <p:nvPr>
            <p:ph type="sldNum" idx="6"/>
          </p:nvPr>
        </p:nvSpPr>
        <p:spPr>
          <a:xfrm>
            <a:off x="6550200" y="63532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0F1B00-BB7A-4A59-8992-2F1C7DC44CD8}" type="slidenum">
              <a:rPr b="0" lang="ru-RU" sz="1200" spc="-1" strike="noStrike">
                <a:solidFill>
                  <a:srgbClr val="898989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rame29P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5410080" y="5030640"/>
            <a:ext cx="347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 пер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Хабарова Наталья Евгеньев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3272760" y="6172200"/>
            <a:ext cx="19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. Челябинск, 2019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93680" y="228600"/>
            <a:ext cx="87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  <a:ea typeface="Arial"/>
              </a:rPr>
              <a:t>Муниципальное бюджетное дошко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  <a:ea typeface="Arial"/>
              </a:rPr>
              <a:t>«Детский сад № 394 г. Челябин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209520" y="2286000"/>
            <a:ext cx="883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«Интерактивная педагогическая техн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i="1" lang="ru-RU" sz="2600" spc="-1" strike="noStrike">
                <a:solidFill>
                  <a:srgbClr val="0070c0"/>
                </a:solidFill>
                <a:latin typeface="Arial"/>
                <a:ea typeface="Arial"/>
              </a:rPr>
              <a:t>в работе с детьми дошкольного возраста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2840040" y="1523880"/>
            <a:ext cx="31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астер-класс для педагог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384120" y="3462480"/>
            <a:ext cx="3425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http://questioningknee.com/images/55dfce7f4dd73.jpg"/>
          <p:cNvPicPr/>
          <p:nvPr/>
        </p:nvPicPr>
        <p:blipFill>
          <a:blip r:embed="rId2"/>
          <a:srcRect l="0" t="-2160" r="0" b="0"/>
          <a:stretch/>
        </p:blipFill>
        <p:spPr>
          <a:xfrm>
            <a:off x="228600" y="76320"/>
            <a:ext cx="280980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343080" y="12193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ФГОС ДО предъявляет требования к организации образовательной деятельности в ДОО,  которая  должна быть направлена на познавательную активность дошкольника  в целом и иметь  выбор методов и приёмов обучени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овременных условиях ребёнок выступает в роли не “объекта”, а в роли “субъекта” образования, Ребёнок – Ли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й педагог- это ИКТ педагог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интеллект, коммуникабельность и творчество), профессионально владеющий всеми современными инновационными педагогическими технологиями, уверенный в эффективности применениях их в практике своей работы, умеющий импровизировать, творить, обучать и воспитыв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rame29P"/>
          <p:cNvPicPr/>
          <p:nvPr/>
        </p:nvPicPr>
        <p:blipFill>
          <a:blip r:embed="rId1"/>
          <a:stretch/>
        </p:blipFill>
        <p:spPr>
          <a:xfrm>
            <a:off x="-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209520" y="5335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одели об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ссив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ребенок  выступает в роли «объекта» обучения (слушает и смотр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на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ебенок  выступает «субъектом» обучения (самостоятельная работа, творческие зада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ебенок и педагог действуют взаим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inter – между, active от act – действовать, действие – это способность взаимодействовать или находиться в режиме беседы, диалога с чем-либо (например, с компьютером) или кем-либо (человеко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rame29P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777960" y="239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е технологии  рассматриваются  в двух значен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419720" y="43448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нное взаимодействие непосредственно между детьми и педагогом без использования компьютера  - это интерактивные педагогические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419720" y="12193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и, построенные на взаимодействии с компьютером и посредством компьютера – это Информационно - коммуникативные технологии (ИК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960480" y="838080"/>
            <a:ext cx="33526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Рисунок 2" descr=""/>
          <p:cNvPicPr/>
          <p:nvPr/>
        </p:nvPicPr>
        <p:blipFill>
          <a:blip r:embed="rId3"/>
          <a:stretch/>
        </p:blipFill>
        <p:spPr>
          <a:xfrm>
            <a:off x="1003320" y="3919680"/>
            <a:ext cx="3309840" cy="248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8" descr="frame29P"/>
          <p:cNvPicPr/>
          <p:nvPr/>
        </p:nvPicPr>
        <p:blipFill>
          <a:blip r:embed="rId1"/>
          <a:stretch/>
        </p:blipFill>
        <p:spPr>
          <a:xfrm>
            <a:off x="0" y="-34920"/>
            <a:ext cx="9140760" cy="6962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29"/>
          <p:cNvSpPr/>
          <p:nvPr/>
        </p:nvSpPr>
        <p:spPr>
          <a:xfrm>
            <a:off x="303120" y="0"/>
            <a:ext cx="8379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Формы организации образователь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с применением  интерактивных   педагогически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30"/>
          <p:cNvSpPr/>
          <p:nvPr/>
        </p:nvSpPr>
        <p:spPr>
          <a:xfrm>
            <a:off x="227160" y="838080"/>
            <a:ext cx="8915400" cy="60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ронтальная форма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Микрофон», «Мозговой штурм»,  «Незаконченное предложен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оперативная форма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Работа в парах» («Лицом к лицу»),  «Один - вдвоем - все вместе»,  «Работа в малых группах», «Аквариу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е иг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Квест – игра», «Ролевая игра», «Драматизация»,  «Упрощенное судебное слушание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обучения в дискусс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«Выбери позиц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-ая младша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«Работа в парах», «Хоровод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         «Работа в парах», «Хоровод», «Цепоч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русель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рша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        «Работа в парах», «Хоровод», «Цепочка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русель» «Интервью», «Работа в малых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х  (тройках)», Аквари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е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                             «Работа в парах», «Хоровод»,  «Цепочка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арусель» «Интервью»,  «Работа в мал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х  (тройках)», «Аквариум»,«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уг», «Дерево знани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rame29P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963360" y="11124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активные педагогические технологии в Д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052800" y="3859200"/>
            <a:ext cx="58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Цепоч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у этой технологии составляет последовательное решение каждым участником одной задачи. Наличие общей цели, одного общего результата создает обстановку сопереживания и взаимопомощи, заставляет общаться друг с другом, предлагать варианты решений задания, формирует у детей дошкольного возраста умения работать в коман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431640" y="4191120"/>
            <a:ext cx="2522520" cy="189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Рисунок 11" descr=""/>
          <p:cNvPicPr/>
          <p:nvPr/>
        </p:nvPicPr>
        <p:blipFill>
          <a:blip r:embed="rId3"/>
          <a:stretch/>
        </p:blipFill>
        <p:spPr>
          <a:xfrm>
            <a:off x="6153120" y="987480"/>
            <a:ext cx="2728800" cy="204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Прямоугольник 5"/>
          <p:cNvSpPr/>
          <p:nvPr/>
        </p:nvSpPr>
        <p:spPr>
          <a:xfrm>
            <a:off x="388800" y="911160"/>
            <a:ext cx="5578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Интервь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 на этапе закрепления или обобщения знаний, подведения итогов работы. Благодаря использованию этой технологии у детей активно развивается диалогическая речь, которая побуждает их к взаимодействию «взрослый-ребёнок», «ребёнок-ребёно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rame29P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8"/>
          <p:cNvSpPr/>
          <p:nvPr/>
        </p:nvSpPr>
        <p:spPr>
          <a:xfrm>
            <a:off x="3333600" y="3598920"/>
            <a:ext cx="55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ология «Аквариум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а диалога, когда ребятам предлагают обсудить проблему «перед лицом общественности», заключается в том, что несколько детей разыгрывают ситуацию в круге, а остальные наблюдают и анализируют.   Дает возможность увидеть своих сверстников со стороны, увидеть, как они общаются, как реагируют на чужую мысль, как улаживают назревающий конфликт, как аргументируют свою мысль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8" descr=""/>
          <p:cNvPicPr/>
          <p:nvPr/>
        </p:nvPicPr>
        <p:blipFill>
          <a:blip r:embed="rId2"/>
          <a:stretch/>
        </p:blipFill>
        <p:spPr>
          <a:xfrm>
            <a:off x="6066000" y="828720"/>
            <a:ext cx="274320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5" name="Прямоугольник 6"/>
          <p:cNvSpPr/>
          <p:nvPr/>
        </p:nvSpPr>
        <p:spPr>
          <a:xfrm>
            <a:off x="262080" y="14940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ология «Карус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уется два кольца: внутреннее и внешнее. Внутреннее кольцо-это стоящие неподвижно дети, обращенные лицом к внешнему кругу, а внешнее –  перемещаются по кругу через каждые 30 секунд. Таким образом, они успевают проговорить за несколько минут несколько тем и постараться убедить в своей правоте собеседника. Внедряется для организации работы в парах, стимулирует общение между детьми, формирует у ребенка такие нравственно-волевые качества, как взаимопомощь, навыки сотрудничества.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982960" y="3673440"/>
            <a:ext cx="6035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бота в па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и  помощью предмета  выполнять задание по очереди взаимодействуют друг с другом, объединяясь в пары по желанию Воспитываются у них такие качества, как умение выслушивать ответы и не перебивать друг друга, совершенствуются умение договариваться, последовательно, сообща выполнять работу.   Выработать навыки сотрудничества в ситуации камерного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"/>
          <p:cNvPicPr/>
          <p:nvPr/>
        </p:nvPicPr>
        <p:blipFill>
          <a:blip r:embed="rId2"/>
          <a:stretch/>
        </p:blipFill>
        <p:spPr>
          <a:xfrm>
            <a:off x="433440" y="4038480"/>
            <a:ext cx="2471760" cy="185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Прямоугольник 7"/>
          <p:cNvSpPr/>
          <p:nvPr/>
        </p:nvSpPr>
        <p:spPr>
          <a:xfrm>
            <a:off x="468360" y="6858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«Работа в малых группах. 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тройках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технологии групповой работы «в тройках» дает возможность трудиться на занятии всем детям. Ребята учатся оценивать свою работу, работу товарища, общаться, помогать друг другу. Принцип сотрудничества в процессе обучения   становится вед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7" descr=""/>
          <p:cNvPicPr/>
          <p:nvPr/>
        </p:nvPicPr>
        <p:blipFill>
          <a:blip r:embed="rId3"/>
          <a:stretch/>
        </p:blipFill>
        <p:spPr>
          <a:xfrm>
            <a:off x="6095880" y="654120"/>
            <a:ext cx="265608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343080" y="228600"/>
            <a:ext cx="8458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интерактивной педагогической технологии –это интересное, творческое, перспективное направление педагогики , потому что она позволяет успешно решать 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ализовать качественно новую эффективную модель построения предметно- развивающейся среды и  самого образовательного   процесс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ть  комфортные условий  для  реализации взаимодействия в группах, взаиморазвития и взаимообогащения, обмена опыто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все компоненты устной реч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коммуник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ет толерант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целостное воздействия на все многообразие мотивационных, интеллектуальных, эмоционально-волевых проявлений личности в период всего воспитательного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ует формированию социальной позиции в дальнейш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4" descr=""/>
          <p:cNvPicPr/>
          <p:nvPr/>
        </p:nvPicPr>
        <p:blipFill>
          <a:blip r:embed="rId2"/>
          <a:stretch/>
        </p:blipFill>
        <p:spPr>
          <a:xfrm>
            <a:off x="2664000" y="4260960"/>
            <a:ext cx="3443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sa117</dc:creator>
  <dc:description/>
  <dc:language>en-US</dc:language>
  <cp:lastModifiedBy>Lisa117</cp:lastModifiedBy>
  <cp:lastPrinted>2017-01-24T20:58:23Z</cp:lastPrinted>
  <dcterms:modified xsi:type="dcterms:W3CDTF">2019-12-16T07:58:50Z</dcterms:modified>
  <cp:revision>2</cp:revision>
  <dc:subject/>
  <dc:title>PowerPoint Presentation</dc:title>
</cp:coreProperties>
</file>