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975-B9F7-4F05-8931-9BE94AB7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579-98E0-40D3-9ABE-5CCEFFDD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34A-E4BD-4829-AF11-98B098BA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420-18CE-4A5E-8A88-FAE22D22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CFF4-0B75-4FC4-A1D9-D89A1BEA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06DD-2EEE-4240-B0BC-2A95B178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786A-81F3-4A2F-A98C-2E01A9A1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B7F3-1CA8-4185-81DB-10DA3BAF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6588-CC48-471A-8871-72E5A717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9A1F-675B-44BD-97C3-31CF9DCF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FFF4-65F8-48AD-A020-CF04B93C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61A-5879-410B-8452-B7896A1A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B29F-D0CB-4B9D-BAC8-3CC6D42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B401-BE23-4DD6-BF88-E0B07ABA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0A65-D6F6-4FC1-BC58-B0D1F93B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24F3-2487-49FF-A99A-D3704913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6752-11D8-450A-A3A4-87551420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B419-E9DB-44F3-B9BB-7765541C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2F92-C0B9-49B6-A59B-C07EE9B4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6649-B8E0-4BD1-9B03-8BABA6CA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5BE0-E57C-4F33-BB28-15DC8D1B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F0C38-C951-4D8B-B27A-8634D3CA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AC9-4B17-4306-8EA2-7DD6DAD8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3314-484C-4F20-9AE1-D2E27A71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C7BC-6CDD-4D19-AE14-5A2E8869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1E8D3-3C44-4261-8EB7-47807A1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CAB3-5911-4075-BF35-6AF2281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E7316-CB2B-4B67-9017-7AB3BAFB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002E-2B0E-44A2-84F6-86512317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7843-93F2-4EDC-8B8A-4E860C45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27EA-CA74-4E5D-AC81-1C1BB1C1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4BBA-0239-4808-9E8D-2F07C84E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5BF6-F8FA-434A-B1AE-E7EE04B9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EC0-342A-4E06-955D-A9206C52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C251-25C2-4D2A-8B84-D3CC0675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822A-FC38-495F-9979-2B4489D4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5CE2-F2E5-45EC-8AC9-CD0C0C4E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17996-5500-45AF-AE70-4A9C7B21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25DA-4958-4BF2-82B7-99BD971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1A93A-BA85-4664-BAC6-80994295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00E4C-4A37-448B-B289-36EF9216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0B481-CDFD-418C-BB95-3A94B551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A285-D8E9-4FEC-BC64-91DE14EF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290-4BDD-4DB4-AAF4-0EEE0F25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A91-8725-43DC-ADC9-AFFA4E4F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2CC-7222-4E11-ADB4-3DA30678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E35-F53D-4A07-8CA8-B7AF0150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6AB-D7B8-4126-9D73-BE2699BC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2B90-7E2E-442D-B594-0B312D08A65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24BE-AD55-4787-B93C-87B7B9AF003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1C43-C87D-4ECC-8EFA-5C09C557DB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CE23-69C9-4A69-910A-180D6EA8212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санёк\Desktop\ur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11640" y="4941360"/>
            <a:ext cx="29876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Выполнила воспитатель Шевчук Т.Т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Горизонтальный свиток 3"/>
          <p:cNvSpPr/>
          <p:nvPr/>
        </p:nvSpPr>
        <p:spPr>
          <a:xfrm>
            <a:off x="3203640" y="1197000"/>
            <a:ext cx="5256000" cy="280836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Мир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краска « Бабочки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Содержимое 11" descr="SAM_0089.JPG"/>
          <p:cNvPicPr/>
          <p:nvPr/>
        </p:nvPicPr>
        <p:blipFill>
          <a:blip r:embed="rId1"/>
          <a:stretch/>
        </p:blipFill>
        <p:spPr>
          <a:xfrm rot="21155400">
            <a:off x="456840" y="2205000"/>
            <a:ext cx="4038480" cy="287964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12" descr="SAM_4647.JPG"/>
          <p:cNvPicPr/>
          <p:nvPr/>
        </p:nvPicPr>
        <p:blipFill>
          <a:blip r:embed="rId2"/>
          <a:stretch/>
        </p:blipFill>
        <p:spPr>
          <a:xfrm rot="633600">
            <a:off x="4591080" y="2617560"/>
            <a:ext cx="40384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«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азрезные бабочки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Содержимое 17" descr="SAM_0086.JPG"/>
          <p:cNvPicPr/>
          <p:nvPr/>
        </p:nvPicPr>
        <p:blipFill>
          <a:blip r:embed="rId1"/>
          <a:stretch/>
        </p:blipFill>
        <p:spPr>
          <a:xfrm>
            <a:off x="1619280" y="2133720"/>
            <a:ext cx="5853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южетно- ролевые иг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« Ловля бабочек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« Бабочки подружки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Содержимое 12" descr="SAM_4641.JPG"/>
          <p:cNvPicPr/>
          <p:nvPr/>
        </p:nvPicPr>
        <p:blipFill>
          <a:blip r:embed="rId1"/>
          <a:stretch/>
        </p:blipFill>
        <p:spPr>
          <a:xfrm rot="1108800">
            <a:off x="4645080" y="2922480"/>
            <a:ext cx="4041720" cy="3030480"/>
          </a:xfrm>
          <a:prstGeom prst="rect">
            <a:avLst/>
          </a:prstGeom>
          <a:ln w="0">
            <a:noFill/>
          </a:ln>
        </p:spPr>
      </p:pic>
      <p:pic>
        <p:nvPicPr>
          <p:cNvPr id="231" name="Содержимое 10" descr="SAM_4634.JPG"/>
          <p:cNvPicPr/>
          <p:nvPr/>
        </p:nvPicPr>
        <p:blipFill>
          <a:blip r:embed="rId2"/>
          <a:stretch/>
        </p:blipFill>
        <p:spPr>
          <a:xfrm rot="21024000">
            <a:off x="449280" y="2828880"/>
            <a:ext cx="4040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зготовление атрибут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Содержимое 4" descr="SAM_0132.JPG"/>
          <p:cNvPicPr/>
          <p:nvPr/>
        </p:nvPicPr>
        <p:blipFill>
          <a:blip r:embed="rId1"/>
          <a:stretch/>
        </p:blipFill>
        <p:spPr>
          <a:xfrm rot="21172200">
            <a:off x="45684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5" descr="SAM_0140.JPG"/>
          <p:cNvPicPr/>
          <p:nvPr/>
        </p:nvPicPr>
        <p:blipFill>
          <a:blip r:embed="rId2"/>
          <a:stretch/>
        </p:blipFill>
        <p:spPr>
          <a:xfrm rot="862200">
            <a:off x="4647960" y="3284640"/>
            <a:ext cx="4038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веты, бабоч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Содержимое 4" descr="SAM_0136.JPG"/>
          <p:cNvPicPr/>
          <p:nvPr/>
        </p:nvPicPr>
        <p:blipFill>
          <a:blip r:embed="rId1"/>
          <a:stretch/>
        </p:blipFill>
        <p:spPr>
          <a:xfrm rot="20909400">
            <a:off x="409680" y="2323800"/>
            <a:ext cx="4128840" cy="314964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8" descr="SAM_0139.JPG"/>
          <p:cNvPicPr/>
          <p:nvPr/>
        </p:nvPicPr>
        <p:blipFill>
          <a:blip r:embed="rId2"/>
          <a:stretch/>
        </p:blipFill>
        <p:spPr>
          <a:xfrm rot="949200">
            <a:off x="4486320" y="3171600"/>
            <a:ext cx="4338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движные иг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« Цветочная полян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«Снежная бабочк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Содержимое 6" descr="SAM_4637.JPG"/>
          <p:cNvPicPr/>
          <p:nvPr/>
        </p:nvPicPr>
        <p:blipFill>
          <a:blip r:embed="rId1"/>
          <a:stretch/>
        </p:blipFill>
        <p:spPr>
          <a:xfrm rot="21113400">
            <a:off x="456840" y="292248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242" name="Содержимое 7" descr="SAM_4414.JPG"/>
          <p:cNvPicPr/>
          <p:nvPr/>
        </p:nvPicPr>
        <p:blipFill>
          <a:blip r:embed="rId2"/>
          <a:stretch/>
        </p:blipFill>
        <p:spPr>
          <a:xfrm rot="1361400">
            <a:off x="4860720" y="3084480"/>
            <a:ext cx="36860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ворчество дет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Лепка из пластил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риг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Содержимое 6" descr="SAM_0119.JPG"/>
          <p:cNvPicPr/>
          <p:nvPr/>
        </p:nvPicPr>
        <p:blipFill>
          <a:blip r:embed="rId1"/>
          <a:stretch/>
        </p:blipFill>
        <p:spPr>
          <a:xfrm rot="21103200">
            <a:off x="456840" y="292248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9" descr="SAM_0124.JPG"/>
          <p:cNvPicPr/>
          <p:nvPr/>
        </p:nvPicPr>
        <p:blipFill>
          <a:blip r:embed="rId2"/>
          <a:stretch/>
        </p:blipFill>
        <p:spPr>
          <a:xfrm rot="717600">
            <a:off x="4582800" y="3103560"/>
            <a:ext cx="4041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аппликация « Бабочка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Содержимое 6" descr="SAM_0146.JPG"/>
          <p:cNvPicPr/>
          <p:nvPr/>
        </p:nvPicPr>
        <p:blipFill>
          <a:blip r:embed="rId1"/>
          <a:stretch/>
        </p:blipFill>
        <p:spPr>
          <a:xfrm rot="21066000">
            <a:off x="423360" y="2328480"/>
            <a:ext cx="4038840" cy="320832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11" descr="SAM_0154.JPG"/>
          <p:cNvPicPr/>
          <p:nvPr/>
        </p:nvPicPr>
        <p:blipFill>
          <a:blip r:embed="rId2"/>
          <a:stretch/>
        </p:blipFill>
        <p:spPr>
          <a:xfrm rot="831000">
            <a:off x="4514400" y="3038040"/>
            <a:ext cx="407376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ставка рабо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2" name="Содержимое 7" descr="SAM_0156.JPG"/>
          <p:cNvPicPr/>
          <p:nvPr/>
        </p:nvPicPr>
        <p:blipFill>
          <a:blip r:embed="rId1"/>
          <a:stretch/>
        </p:blipFill>
        <p:spPr>
          <a:xfrm rot="514800">
            <a:off x="4587840" y="2973240"/>
            <a:ext cx="4038480" cy="3137040"/>
          </a:xfrm>
          <a:prstGeom prst="rect">
            <a:avLst/>
          </a:prstGeom>
          <a:ln w="0">
            <a:noFill/>
          </a:ln>
        </p:spPr>
      </p:pic>
      <p:pic>
        <p:nvPicPr>
          <p:cNvPr id="253" name="Содержимое 6" descr="SAM_0158.JPG"/>
          <p:cNvPicPr/>
          <p:nvPr/>
        </p:nvPicPr>
        <p:blipFill>
          <a:blip r:embed="rId2"/>
          <a:stretch/>
        </p:blipFill>
        <p:spPr>
          <a:xfrm rot="20998200">
            <a:off x="456840" y="2623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ульта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Содержимое 8" descr="диплом.jpg"/>
          <p:cNvPicPr/>
          <p:nvPr/>
        </p:nvPicPr>
        <p:blipFill>
          <a:blip r:embed="rId1"/>
          <a:stretch/>
        </p:blipFill>
        <p:spPr>
          <a:xfrm rot="717600">
            <a:off x="5074920" y="2155320"/>
            <a:ext cx="3135240" cy="4195800"/>
          </a:xfrm>
          <a:prstGeom prst="rect">
            <a:avLst/>
          </a:prstGeom>
          <a:ln w="0">
            <a:noFill/>
          </a:ln>
        </p:spPr>
      </p:pic>
      <p:pic>
        <p:nvPicPr>
          <p:cNvPr id="256" name="Содержимое 4" descr="титульник.jpg"/>
          <p:cNvPicPr/>
          <p:nvPr/>
        </p:nvPicPr>
        <p:blipFill>
          <a:blip r:embed="rId2"/>
          <a:stretch/>
        </p:blipFill>
        <p:spPr>
          <a:xfrm rot="21137400">
            <a:off x="906480" y="2041560"/>
            <a:ext cx="31431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Наблюдения, исследовательская деятельно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Содержимое 4" descr="SAM_0100.JPG"/>
          <p:cNvPicPr/>
          <p:nvPr/>
        </p:nvPicPr>
        <p:blipFill>
          <a:blip r:embed="rId1"/>
          <a:stretch/>
        </p:blipFill>
        <p:spPr>
          <a:xfrm>
            <a:off x="4211640" y="2852640"/>
            <a:ext cx="4753080" cy="347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санёк\Desktop\images.jpg"/>
          <p:cNvPicPr/>
          <p:nvPr/>
        </p:nvPicPr>
        <p:blipFill>
          <a:blip r:embed="rId2"/>
          <a:stretch/>
        </p:blipFill>
        <p:spPr>
          <a:xfrm>
            <a:off x="395280" y="1916280"/>
            <a:ext cx="3375000" cy="27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457200" y="1474920"/>
            <a:ext cx="8308800" cy="33591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Calibri"/>
              </a:rPr>
              <a:t>Уголок  «Мир бабочек»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Содержимое 5" descr="SAM_0080.JPG"/>
          <p:cNvPicPr/>
          <p:nvPr/>
        </p:nvPicPr>
        <p:blipFill>
          <a:blip r:embed="rId1"/>
          <a:stretch/>
        </p:blipFill>
        <p:spPr>
          <a:xfrm>
            <a:off x="1763640" y="1916280"/>
            <a:ext cx="585324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Рассматриваем альбомы, книж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8" descr="SAM_0104.JPG"/>
          <p:cNvPicPr/>
          <p:nvPr/>
        </p:nvPicPr>
        <p:blipFill>
          <a:blip r:embed="rId1"/>
          <a:stretch/>
        </p:blipFill>
        <p:spPr>
          <a:xfrm>
            <a:off x="4648320" y="3213000"/>
            <a:ext cx="403848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6" descr="SAM_0105.JPG"/>
          <p:cNvPicPr/>
          <p:nvPr/>
        </p:nvPicPr>
        <p:blipFill>
          <a:blip r:embed="rId2"/>
          <a:stretch/>
        </p:blipFill>
        <p:spPr>
          <a:xfrm>
            <a:off x="457200" y="2205000"/>
            <a:ext cx="4038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нижный уголо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Содержимое 4" descr="SAM_0112.JPG"/>
          <p:cNvPicPr/>
          <p:nvPr/>
        </p:nvPicPr>
        <p:blipFill>
          <a:blip r:embed="rId1"/>
          <a:stretch/>
        </p:blipFill>
        <p:spPr>
          <a:xfrm>
            <a:off x="457200" y="2276640"/>
            <a:ext cx="4038480" cy="316836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5" descr="SAM_0115.JPG"/>
          <p:cNvPicPr/>
          <p:nvPr/>
        </p:nvPicPr>
        <p:blipFill>
          <a:blip r:embed="rId2"/>
          <a:stretch/>
        </p:blipFill>
        <p:spPr>
          <a:xfrm>
            <a:off x="4932360" y="3284640"/>
            <a:ext cx="388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еседы, занят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7" descr="SAM_0109.JPG"/>
          <p:cNvPicPr/>
          <p:nvPr/>
        </p:nvPicPr>
        <p:blipFill>
          <a:blip r:embed="rId1"/>
          <a:stretch/>
        </p:blipFill>
        <p:spPr>
          <a:xfrm>
            <a:off x="457200" y="2349360"/>
            <a:ext cx="4038480" cy="295128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10" descr="SAM_4630.JPG"/>
          <p:cNvPicPr/>
          <p:nvPr/>
        </p:nvPicPr>
        <p:blipFill>
          <a:blip r:embed="rId2"/>
          <a:stretch/>
        </p:blipFill>
        <p:spPr>
          <a:xfrm>
            <a:off x="4648320" y="2924280"/>
            <a:ext cx="40384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сказывание о бабочк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Содержимое 4" descr="SAM_4642.JPG"/>
          <p:cNvPicPr/>
          <p:nvPr/>
        </p:nvPicPr>
        <p:blipFill>
          <a:blip r:embed="rId1"/>
          <a:stretch/>
        </p:blipFill>
        <p:spPr>
          <a:xfrm rot="21023400">
            <a:off x="456840" y="2623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5" descr="SAM_0081.JPG"/>
          <p:cNvPicPr/>
          <p:nvPr/>
        </p:nvPicPr>
        <p:blipFill>
          <a:blip r:embed="rId2"/>
          <a:stretch/>
        </p:blipFill>
        <p:spPr>
          <a:xfrm rot="928200">
            <a:off x="4647960" y="2623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идактические  иг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20" descr="SAM_0096.JPG"/>
          <p:cNvPicPr/>
          <p:nvPr/>
        </p:nvPicPr>
        <p:blipFill>
          <a:blip r:embed="rId1"/>
          <a:stretch/>
        </p:blipFill>
        <p:spPr>
          <a:xfrm>
            <a:off x="457200" y="26240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92360" y="1855800"/>
            <a:ext cx="475128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/игра: «Собери бабочку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6" descr="SAM_0093.JPG"/>
          <p:cNvPicPr/>
          <p:nvPr/>
        </p:nvPicPr>
        <p:blipFill>
          <a:blip r:embed="rId2"/>
          <a:stretch/>
        </p:blipFill>
        <p:spPr>
          <a:xfrm>
            <a:off x="4648320" y="3213000"/>
            <a:ext cx="40384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д/игра: « Бабочка летает», « Бабочка из мозайки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Содержимое 4" descr="SAM_0130.JPG"/>
          <p:cNvPicPr/>
          <p:nvPr/>
        </p:nvPicPr>
        <p:blipFill>
          <a:blip r:embed="rId1"/>
          <a:stretch/>
        </p:blipFill>
        <p:spPr>
          <a:xfrm rot="21014400">
            <a:off x="456840" y="2624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5" descr="SAM_0129.JPG"/>
          <p:cNvPicPr/>
          <p:nvPr/>
        </p:nvPicPr>
        <p:blipFill>
          <a:blip r:embed="rId2"/>
          <a:stretch/>
        </p:blipFill>
        <p:spPr>
          <a:xfrm rot="710400">
            <a:off x="4486320" y="2903040"/>
            <a:ext cx="411156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1T10:58:45Z</dcterms:created>
  <dc:creator>санёк</dc:creator>
  <dc:description/>
  <dc:language>en-US</dc:language>
  <cp:lastModifiedBy>Методист</cp:lastModifiedBy>
  <dcterms:modified xsi:type="dcterms:W3CDTF">2020-11-11T06:54:58Z</dcterms:modified>
  <cp:revision>61</cp:revision>
  <dc:subject/>
  <dc:title>Мир бабочек</dc:title>
</cp:coreProperties>
</file>