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76A-D61C-4EE9-B77A-7932E1A0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55F0-76F4-486D-B8FE-2100A91C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702-50AF-4B2C-8DC5-25B44760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5B3-21D7-4C28-ACB6-53B61AE0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EB45-EAA8-4820-AEAF-A2F77BC5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0116-3C21-496A-AB5C-2E7AF401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227E-7C59-4C68-9C53-658DA7B3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04B4-D0D8-4561-B8DA-863214BF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4A01-25C5-4D0E-8966-887833B3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0CDD-91D1-4458-AD7C-CED414C2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9FBF-AE0B-4003-A3F3-D80E6C2C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F2B-8B75-42D2-BAA6-9983F1B0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FD49-0F68-4E73-AAE8-CE496525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0410-E88E-4AA8-A846-F4000AEA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CDBA-465E-4E67-B72D-92C00599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8C04-7F7E-4739-AFD2-9814FE0B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C17C-C187-414A-B1AF-9DBC52DC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6CC46-7BF8-40BA-9005-C3D47FDF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C955B-8E8C-4442-8C61-2510C98A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5B0C4-8B75-45BB-AF96-25427C08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E2831-79A1-4186-A5A9-06C09C49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4611D-E863-41DD-8EF9-421B6D0E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D527-EF42-4850-9276-F668B0FA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D3BDF-9661-48F2-99F4-4D0F30C7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50C91-3E37-4341-8A68-ECC2C68D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9E007-FF00-43D8-AD2A-6855827F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17056-C75B-465C-B953-972823B5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2BA81-44E4-467E-9782-50401D5D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5715A-F42D-4A7C-9837-41E51721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64EC9-AF11-4E9A-B0F6-E65D9842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76E2D-83AA-4DD5-9862-25BB3755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C7DE0-E375-414A-8051-C3FABACB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4E368-A858-48B9-94AE-6C1C68A6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983-9F4E-4A13-BBD7-E07961EC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0F7C9-DEBD-4879-B087-0369C0A8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76F68-DEB3-49E0-8CDD-3794C5D5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D50D6-E02B-4F79-8211-0EA143B1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26BB1-5AAC-4FEA-A854-985A82DE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C18ED-CED0-4DCA-A9B1-1C9CB3C2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80F09-C4BC-4136-B9F7-32D50903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62CBB-6D2A-4948-833A-AA78FB2F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A5DE3-F266-4377-B22A-09FC0BF7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33665-3ECD-45C1-A755-E041A26D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64D-B853-43F7-B220-88572892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10A-CD94-4554-9A6C-FFD72D36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E7D-799E-4F2C-8EB3-6C90B08E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029-6A9A-4008-A87E-20DCB072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2B8-5F3D-4819-B141-32CA0C69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9AEE-146F-4C60-B109-B0242417C0D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048F-1DF4-474A-B8B2-130CCB6F992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1CD3-F6B5-4DB4-BD04-AD3598EA6B0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7799-470A-4F5D-BBC1-BA4D70DBC6F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санёк\Desktop\ur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011640" y="4941360"/>
            <a:ext cx="29876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Выполнила воспитатель Шевчук Т.Т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Горизонтальный свиток 3"/>
          <p:cNvSpPr/>
          <p:nvPr/>
        </p:nvSpPr>
        <p:spPr>
          <a:xfrm>
            <a:off x="3203640" y="1197000"/>
            <a:ext cx="5256000" cy="280836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Мир бабо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скраска « Бабочки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Содержимое 11" descr="SAM_0089.JPG"/>
          <p:cNvPicPr/>
          <p:nvPr/>
        </p:nvPicPr>
        <p:blipFill>
          <a:blip r:embed="rId1"/>
          <a:stretch/>
        </p:blipFill>
        <p:spPr>
          <a:xfrm rot="21155400">
            <a:off x="456840" y="2205000"/>
            <a:ext cx="4038480" cy="2879640"/>
          </a:xfrm>
          <a:prstGeom prst="rect">
            <a:avLst/>
          </a:prstGeom>
          <a:ln w="0">
            <a:noFill/>
          </a:ln>
        </p:spPr>
      </p:pic>
      <p:pic>
        <p:nvPicPr>
          <p:cNvPr id="224" name="Содержимое 12" descr="SAM_4647.JPG"/>
          <p:cNvPicPr/>
          <p:nvPr/>
        </p:nvPicPr>
        <p:blipFill>
          <a:blip r:embed="rId2"/>
          <a:stretch/>
        </p:blipFill>
        <p:spPr>
          <a:xfrm rot="633600">
            <a:off x="4591080" y="2617560"/>
            <a:ext cx="40384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«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Разрезные бабочки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Содержимое 17" descr="SAM_0086.JPG"/>
          <p:cNvPicPr/>
          <p:nvPr/>
        </p:nvPicPr>
        <p:blipFill>
          <a:blip r:embed="rId1"/>
          <a:stretch/>
        </p:blipFill>
        <p:spPr>
          <a:xfrm>
            <a:off x="1619280" y="2133720"/>
            <a:ext cx="5853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южетно- ролевые иг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« Ловля бабочек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« Бабочки подружки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Содержимое 12" descr="SAM_4641.JPG"/>
          <p:cNvPicPr/>
          <p:nvPr/>
        </p:nvPicPr>
        <p:blipFill>
          <a:blip r:embed="rId1"/>
          <a:stretch/>
        </p:blipFill>
        <p:spPr>
          <a:xfrm rot="1108800">
            <a:off x="4645080" y="292248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231" name="Содержимое 10" descr="SAM_4634.JPG"/>
          <p:cNvPicPr/>
          <p:nvPr/>
        </p:nvPicPr>
        <p:blipFill>
          <a:blip r:embed="rId2"/>
          <a:stretch/>
        </p:blipFill>
        <p:spPr>
          <a:xfrm rot="21024000">
            <a:off x="449280" y="2828880"/>
            <a:ext cx="4040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зготовление атрибут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Содержимое 4" descr="SAM_0132.JPG"/>
          <p:cNvPicPr/>
          <p:nvPr/>
        </p:nvPicPr>
        <p:blipFill>
          <a:blip r:embed="rId1"/>
          <a:stretch/>
        </p:blipFill>
        <p:spPr>
          <a:xfrm rot="21172200">
            <a:off x="45684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5" descr="SAM_0140.JPG"/>
          <p:cNvPicPr/>
          <p:nvPr/>
        </p:nvPicPr>
        <p:blipFill>
          <a:blip r:embed="rId2"/>
          <a:stretch/>
        </p:blipFill>
        <p:spPr>
          <a:xfrm rot="862200">
            <a:off x="4647960" y="3284640"/>
            <a:ext cx="40384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веты, бабоч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Содержимое 4" descr="SAM_0136.JPG"/>
          <p:cNvPicPr/>
          <p:nvPr/>
        </p:nvPicPr>
        <p:blipFill>
          <a:blip r:embed="rId1"/>
          <a:stretch/>
        </p:blipFill>
        <p:spPr>
          <a:xfrm rot="20909400">
            <a:off x="409680" y="2323800"/>
            <a:ext cx="4128840" cy="3149640"/>
          </a:xfrm>
          <a:prstGeom prst="rect">
            <a:avLst/>
          </a:prstGeom>
          <a:ln w="0">
            <a:noFill/>
          </a:ln>
        </p:spPr>
      </p:pic>
      <p:pic>
        <p:nvPicPr>
          <p:cNvPr id="237" name="Содержимое 8" descr="SAM_0139.JPG"/>
          <p:cNvPicPr/>
          <p:nvPr/>
        </p:nvPicPr>
        <p:blipFill>
          <a:blip r:embed="rId2"/>
          <a:stretch/>
        </p:blipFill>
        <p:spPr>
          <a:xfrm rot="949200">
            <a:off x="4486320" y="3171600"/>
            <a:ext cx="43387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движные иг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« Цветочная полян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«Снежная бабочк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Содержимое 6" descr="SAM_4637.JPG"/>
          <p:cNvPicPr/>
          <p:nvPr/>
        </p:nvPicPr>
        <p:blipFill>
          <a:blip r:embed="rId1"/>
          <a:stretch/>
        </p:blipFill>
        <p:spPr>
          <a:xfrm rot="21113400">
            <a:off x="456840" y="292248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242" name="Содержимое 7" descr="SAM_4414.JPG"/>
          <p:cNvPicPr/>
          <p:nvPr/>
        </p:nvPicPr>
        <p:blipFill>
          <a:blip r:embed="rId2"/>
          <a:stretch/>
        </p:blipFill>
        <p:spPr>
          <a:xfrm rot="1361400">
            <a:off x="4860720" y="3084480"/>
            <a:ext cx="36860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ворчество дете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Лепка из пластили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рига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Содержимое 6" descr="SAM_0119.JPG"/>
          <p:cNvPicPr/>
          <p:nvPr/>
        </p:nvPicPr>
        <p:blipFill>
          <a:blip r:embed="rId1"/>
          <a:stretch/>
        </p:blipFill>
        <p:spPr>
          <a:xfrm rot="21103200">
            <a:off x="456840" y="292248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247" name="Содержимое 9" descr="SAM_0124.JPG"/>
          <p:cNvPicPr/>
          <p:nvPr/>
        </p:nvPicPr>
        <p:blipFill>
          <a:blip r:embed="rId2"/>
          <a:stretch/>
        </p:blipFill>
        <p:spPr>
          <a:xfrm rot="717600">
            <a:off x="4582800" y="3103560"/>
            <a:ext cx="40417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аппликация « Бабочка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Содержимое 6" descr="SAM_0146.JPG"/>
          <p:cNvPicPr/>
          <p:nvPr/>
        </p:nvPicPr>
        <p:blipFill>
          <a:blip r:embed="rId1"/>
          <a:stretch/>
        </p:blipFill>
        <p:spPr>
          <a:xfrm rot="21066000">
            <a:off x="423360" y="2328480"/>
            <a:ext cx="4038840" cy="3208320"/>
          </a:xfrm>
          <a:prstGeom prst="rect">
            <a:avLst/>
          </a:prstGeom>
          <a:ln w="0">
            <a:noFill/>
          </a:ln>
        </p:spPr>
      </p:pic>
      <p:pic>
        <p:nvPicPr>
          <p:cNvPr id="250" name="Содержимое 11" descr="SAM_0154.JPG"/>
          <p:cNvPicPr/>
          <p:nvPr/>
        </p:nvPicPr>
        <p:blipFill>
          <a:blip r:embed="rId2"/>
          <a:stretch/>
        </p:blipFill>
        <p:spPr>
          <a:xfrm rot="831000">
            <a:off x="4514400" y="3038040"/>
            <a:ext cx="407376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ыставка рабо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Содержимое 7" descr="SAM_0156.JPG"/>
          <p:cNvPicPr/>
          <p:nvPr/>
        </p:nvPicPr>
        <p:blipFill>
          <a:blip r:embed="rId1"/>
          <a:stretch/>
        </p:blipFill>
        <p:spPr>
          <a:xfrm rot="514800">
            <a:off x="4587840" y="2973240"/>
            <a:ext cx="4038480" cy="3137040"/>
          </a:xfrm>
          <a:prstGeom prst="rect">
            <a:avLst/>
          </a:prstGeom>
          <a:ln w="0">
            <a:noFill/>
          </a:ln>
        </p:spPr>
      </p:pic>
      <p:pic>
        <p:nvPicPr>
          <p:cNvPr id="253" name="Содержимое 6" descr="SAM_0158.JPG"/>
          <p:cNvPicPr/>
          <p:nvPr/>
        </p:nvPicPr>
        <p:blipFill>
          <a:blip r:embed="rId2"/>
          <a:stretch/>
        </p:blipFill>
        <p:spPr>
          <a:xfrm rot="20998200">
            <a:off x="456840" y="2623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зульта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Содержимое 8" descr="диплом.jpg"/>
          <p:cNvPicPr/>
          <p:nvPr/>
        </p:nvPicPr>
        <p:blipFill>
          <a:blip r:embed="rId1"/>
          <a:stretch/>
        </p:blipFill>
        <p:spPr>
          <a:xfrm rot="717600">
            <a:off x="5074920" y="2155320"/>
            <a:ext cx="3135240" cy="4195800"/>
          </a:xfrm>
          <a:prstGeom prst="rect">
            <a:avLst/>
          </a:prstGeom>
          <a:ln w="0">
            <a:noFill/>
          </a:ln>
        </p:spPr>
      </p:pic>
      <p:pic>
        <p:nvPicPr>
          <p:cNvPr id="256" name="Содержимое 4" descr="титульник.jpg"/>
          <p:cNvPicPr/>
          <p:nvPr/>
        </p:nvPicPr>
        <p:blipFill>
          <a:blip r:embed="rId2"/>
          <a:stretch/>
        </p:blipFill>
        <p:spPr>
          <a:xfrm rot="21137400">
            <a:off x="906480" y="2041560"/>
            <a:ext cx="31431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Наблюдения, исследовательская деятель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Содержимое 4" descr="SAM_0100.JPG"/>
          <p:cNvPicPr/>
          <p:nvPr/>
        </p:nvPicPr>
        <p:blipFill>
          <a:blip r:embed="rId1"/>
          <a:stretch/>
        </p:blipFill>
        <p:spPr>
          <a:xfrm>
            <a:off x="4211640" y="2852640"/>
            <a:ext cx="4753080" cy="3471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Users\санёк\Desktop\images.jpg"/>
          <p:cNvPicPr/>
          <p:nvPr/>
        </p:nvPicPr>
        <p:blipFill>
          <a:blip r:embed="rId2"/>
          <a:stretch/>
        </p:blipFill>
        <p:spPr>
          <a:xfrm>
            <a:off x="395280" y="1916280"/>
            <a:ext cx="337500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457200" y="1474920"/>
            <a:ext cx="8308800" cy="335916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7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Уголок  «Мир бабочек»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Содержимое 5" descr="SAM_0080.JPG"/>
          <p:cNvPicPr/>
          <p:nvPr/>
        </p:nvPicPr>
        <p:blipFill>
          <a:blip r:embed="rId1"/>
          <a:stretch/>
        </p:blipFill>
        <p:spPr>
          <a:xfrm>
            <a:off x="1763640" y="1916280"/>
            <a:ext cx="585324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Рассматриваем альбомы, книжк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8" descr="SAM_0104.JPG"/>
          <p:cNvPicPr/>
          <p:nvPr/>
        </p:nvPicPr>
        <p:blipFill>
          <a:blip r:embed="rId1"/>
          <a:stretch/>
        </p:blipFill>
        <p:spPr>
          <a:xfrm>
            <a:off x="4648320" y="3213000"/>
            <a:ext cx="4038480" cy="3095640"/>
          </a:xfrm>
          <a:prstGeom prst="rect">
            <a:avLst/>
          </a:prstGeom>
          <a:ln w="0">
            <a:noFill/>
          </a:ln>
        </p:spPr>
      </p:pic>
      <p:pic>
        <p:nvPicPr>
          <p:cNvPr id="205" name="Содержимое 6" descr="SAM_0105.JPG"/>
          <p:cNvPicPr/>
          <p:nvPr/>
        </p:nvPicPr>
        <p:blipFill>
          <a:blip r:embed="rId2"/>
          <a:stretch/>
        </p:blipFill>
        <p:spPr>
          <a:xfrm>
            <a:off x="457200" y="2205000"/>
            <a:ext cx="40384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нижный уголо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Содержимое 4" descr="SAM_0112.JPG"/>
          <p:cNvPicPr/>
          <p:nvPr/>
        </p:nvPicPr>
        <p:blipFill>
          <a:blip r:embed="rId1"/>
          <a:stretch/>
        </p:blipFill>
        <p:spPr>
          <a:xfrm>
            <a:off x="457200" y="2276640"/>
            <a:ext cx="4038480" cy="3168360"/>
          </a:xfrm>
          <a:prstGeom prst="rect">
            <a:avLst/>
          </a:prstGeom>
          <a:ln w="0">
            <a:noFill/>
          </a:ln>
        </p:spPr>
      </p:pic>
      <p:pic>
        <p:nvPicPr>
          <p:cNvPr id="208" name="Содержимое 5" descr="SAM_0115.JPG"/>
          <p:cNvPicPr/>
          <p:nvPr/>
        </p:nvPicPr>
        <p:blipFill>
          <a:blip r:embed="rId2"/>
          <a:stretch/>
        </p:blipFill>
        <p:spPr>
          <a:xfrm>
            <a:off x="4932360" y="3284640"/>
            <a:ext cx="3887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Беседы, занят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Содержимое 7" descr="SAM_0109.JPG"/>
          <p:cNvPicPr/>
          <p:nvPr/>
        </p:nvPicPr>
        <p:blipFill>
          <a:blip r:embed="rId1"/>
          <a:stretch/>
        </p:blipFill>
        <p:spPr>
          <a:xfrm>
            <a:off x="457200" y="2349360"/>
            <a:ext cx="4038480" cy="295128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10" descr="SAM_4630.JPG"/>
          <p:cNvPicPr/>
          <p:nvPr/>
        </p:nvPicPr>
        <p:blipFill>
          <a:blip r:embed="rId2"/>
          <a:stretch/>
        </p:blipFill>
        <p:spPr>
          <a:xfrm>
            <a:off x="4648320" y="2924280"/>
            <a:ext cx="40384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ссказывание о бабочк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Содержимое 4" descr="SAM_4642.JPG"/>
          <p:cNvPicPr/>
          <p:nvPr/>
        </p:nvPicPr>
        <p:blipFill>
          <a:blip r:embed="rId1"/>
          <a:stretch/>
        </p:blipFill>
        <p:spPr>
          <a:xfrm rot="21023400">
            <a:off x="456840" y="26236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14" name="Содержимое 5" descr="SAM_0081.JPG"/>
          <p:cNvPicPr/>
          <p:nvPr/>
        </p:nvPicPr>
        <p:blipFill>
          <a:blip r:embed="rId2"/>
          <a:stretch/>
        </p:blipFill>
        <p:spPr>
          <a:xfrm rot="928200">
            <a:off x="4647960" y="2623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идактические  иг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20" descr="SAM_0096.JPG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92360" y="1855800"/>
            <a:ext cx="475128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/игра: «Собери бабочку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6" descr="SAM_0093.JPG"/>
          <p:cNvPicPr/>
          <p:nvPr/>
        </p:nvPicPr>
        <p:blipFill>
          <a:blip r:embed="rId2"/>
          <a:stretch/>
        </p:blipFill>
        <p:spPr>
          <a:xfrm>
            <a:off x="4648320" y="3213000"/>
            <a:ext cx="40384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д/игра: « Бабочка летает», « Бабочка из мозайки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Содержимое 4" descr="SAM_0130.JPG"/>
          <p:cNvPicPr/>
          <p:nvPr/>
        </p:nvPicPr>
        <p:blipFill>
          <a:blip r:embed="rId1"/>
          <a:stretch/>
        </p:blipFill>
        <p:spPr>
          <a:xfrm rot="21014400">
            <a:off x="45684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1" name="Содержимое 5" descr="SAM_0129.JPG"/>
          <p:cNvPicPr/>
          <p:nvPr/>
        </p:nvPicPr>
        <p:blipFill>
          <a:blip r:embed="rId2"/>
          <a:stretch/>
        </p:blipFill>
        <p:spPr>
          <a:xfrm rot="710400">
            <a:off x="4486320" y="2903040"/>
            <a:ext cx="411156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10:58:45Z</dcterms:created>
  <dc:creator>санёк</dc:creator>
  <dc:description/>
  <dc:language>en-US</dc:language>
  <cp:lastModifiedBy>Методист</cp:lastModifiedBy>
  <dcterms:modified xsi:type="dcterms:W3CDTF">2020-11-11T06:54:58Z</dcterms:modified>
  <cp:revision>61</cp:revision>
  <dc:subject/>
  <dc:title>Мир бабочек</dc:title>
</cp:coreProperties>
</file>