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7.gif" ContentType="image/gif"/>
  <Override PartName="/ppt/media/image15.jpeg" ContentType="image/jpeg"/>
  <Override PartName="/ppt/media/image1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9870-A0A9-4183-8363-64F5EC7592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43CB-8BCF-43C2-A346-77260FE5B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24FC-2085-4949-93A4-00317284DA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7D55-947A-4FCC-80F2-D84E86255A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5EEB-7121-4975-AC60-1B0BFE5020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CD08-217F-4AB8-BB47-150E11840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A9DA-F1E8-44BC-9E07-FED376DD4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9A6B-A91A-451F-9F38-F5AA276D2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9DAE-4154-49EE-8A83-6EB314BD9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B3E5-23EF-457E-8415-9E860D35C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07C9-DF13-4456-9ADE-751DE4AA8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E1F4-449D-4A49-B530-B5DD53AF2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18E1-497F-4376-B270-D7EB47ABE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DF35-F06B-4229-A792-2171CAB35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F128-91C8-46B4-B444-DBE531AC3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3BCE-30EF-404D-9A17-867FD164D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66C-A991-4EB3-B32A-0D3C7E14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6DA-43A7-4E36-A67C-5D261367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8AC-8E8E-41CF-8308-DC1BB240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5B96-D40F-4BC0-9693-C1528767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B45-3B93-4CC4-A85F-79BD2576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460-28F8-4DC7-9042-3F2329BA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854-FE11-4F79-9E97-096273CA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FEE-57B4-4983-9BDF-D27F1CC0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2E1-12B7-41AE-BA52-991AFC32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1A9-BAA5-4263-A46F-9BB4BFCF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D88-077C-4EDA-AD6C-E876426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3B6-84D1-4A8E-AB10-0DBF271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9F86-F206-49C7-92CD-FCE21A83C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imer.od.ua/wp-content/uploads/2009/08/cards-n6emo0l1sm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41560" y="199800"/>
            <a:ext cx="506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КОРО В ШКОЛ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-396720" y="4149720"/>
            <a:ext cx="100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br>
              <a:rPr sz="3200"/>
            </a:b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Для родителей будущих перв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419640" y="545796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МБОУ «СШ № 42», г. Нижневартов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читель  начальных      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Щепотина Татьян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95280" y="1574640"/>
            <a:ext cx="820908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ВАШ РЕБЁНОК ИДЕТ </a:t>
            </a:r>
            <a:br>
              <a:rPr sz="4000"/>
            </a:b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В 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432587"/>
          <p:cNvPicPr/>
          <p:nvPr/>
        </p:nvPicPr>
        <p:blipFill>
          <a:blip r:embed="rId1"/>
          <a:stretch/>
        </p:blipFill>
        <p:spPr>
          <a:xfrm>
            <a:off x="179280" y="189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1800360" cy="2435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6948360" y="3645000"/>
            <a:ext cx="1932120" cy="2781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1835280" y="3184560"/>
            <a:ext cx="5267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а переменах допускаются подвижные и настольные игры. Главное, чтобы во время игры соблюдались правила безопасности и школьники случайно не поранили друг д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84360" y="1413000"/>
            <a:ext cx="7777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дыхают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чем отдых должен быть активным, ведь после урока, который предполагает пребывание ученика в однообразной рабочей позе, ребенку необходима разря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peremenka"/>
          <p:cNvPicPr/>
          <p:nvPr/>
        </p:nvPicPr>
        <p:blipFill>
          <a:blip r:embed="rId3"/>
          <a:stretch/>
        </p:blipFill>
        <p:spPr>
          <a:xfrm>
            <a:off x="6659640" y="189000"/>
            <a:ext cx="2155680" cy="1536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17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Arial"/>
              </a:rPr>
              <a:t>Что делают дети на перемен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AG00319_"/>
          <p:cNvPicPr/>
          <p:nvPr/>
        </p:nvPicPr>
        <p:blipFill>
          <a:blip r:embed="rId4"/>
          <a:stretch/>
        </p:blipFill>
        <p:spPr>
          <a:xfrm>
            <a:off x="395280" y="83664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Почему учителя не ставят оценки </a:t>
            </a:r>
            <a:br>
              <a:rPr sz="3600"/>
            </a:b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в 1 класс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191269140_c4121"/>
          <p:cNvPicPr/>
          <p:nvPr/>
        </p:nvPicPr>
        <p:blipFill>
          <a:blip r:embed="rId1"/>
          <a:stretch/>
        </p:blipFill>
        <p:spPr>
          <a:xfrm>
            <a:off x="6940440" y="2924280"/>
            <a:ext cx="2203560" cy="3933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50920" y="1484280"/>
            <a:ext cx="70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1 классе обучение действительно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безоценочное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. Это оправдано тем, что ребенок находится в самом начале учебного пути. К концу первого года обучения уже можно судить о той или иной степени успешности младшего шк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1 классе 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основной упор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делается на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иобретение навыков учебного труда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. В работе учителя с учеником присутствует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словесная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ценка. Важно, чтобы она была позитив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Можно ли носить в школу мобильный телеф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700360" y="1628640"/>
            <a:ext cx="611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нашей школе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запрещено</a:t>
            </a:r>
            <a:r>
              <a:rPr b="0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льзование мобильным телефоном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ы не рекомендуем носить в школу мобильный телефон первоклассникам — велико искушение звонить маме по малейшему поводу или поиграть на уроке в электронную иг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, дорогой телефон может возбудить нездоровый интерес одноклассников, его можно потеря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Картинка 75 из 15113"/>
          <p:cNvPicPr/>
          <p:nvPr/>
        </p:nvPicPr>
        <p:blipFill>
          <a:blip r:embed="rId1"/>
          <a:stretch/>
        </p:blipFill>
        <p:spPr>
          <a:xfrm>
            <a:off x="0" y="1341360"/>
            <a:ext cx="2303640" cy="2352600"/>
          </a:xfrm>
          <a:prstGeom prst="rect">
            <a:avLst/>
          </a:prstGeom>
          <a:ln w="9360">
            <a:solidFill>
              <a:srgbClr val="edfe12"/>
            </a:solidFill>
            <a:miter/>
          </a:ln>
        </p:spPr>
      </p:pic>
      <p:pic>
        <p:nvPicPr>
          <p:cNvPr id="88" name="Picture 12" descr="Картинка 132 из 15113"/>
          <p:cNvPicPr/>
          <p:nvPr/>
        </p:nvPicPr>
        <p:blipFill>
          <a:blip r:embed="rId2"/>
          <a:stretch/>
        </p:blipFill>
        <p:spPr>
          <a:xfrm>
            <a:off x="826920" y="3213000"/>
            <a:ext cx="1873440" cy="2227320"/>
          </a:xfrm>
          <a:prstGeom prst="rect">
            <a:avLst/>
          </a:prstGeom>
          <a:ln w="9360">
            <a:solidFill>
              <a:srgbClr val="edfe12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Согласно ст.901. ГК РФ образовательное учреждение не является профессиональным хранителем  и не несет ответственности за вещи находящиеся при  учениках во время занятий и на территории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ФИЦИАЛЬНЫЙ САЙТ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ШЕЙ ШКО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олучить информацию о школе и познакомиться с уставными документами можно на сайте нашей школы: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ttp://school42nv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:\Users\Виктор\Desktop\Безымянный.png"/>
          <p:cNvPicPr/>
          <p:nvPr/>
        </p:nvPicPr>
        <p:blipFill>
          <a:blip r:embed="rId1"/>
          <a:stretch/>
        </p:blipFill>
        <p:spPr>
          <a:xfrm>
            <a:off x="1258920" y="1452600"/>
            <a:ext cx="662616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00000" y="2637000"/>
            <a:ext cx="756144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5" descr="Картинка 385 из 1243"/>
          <p:cNvPicPr/>
          <p:nvPr/>
        </p:nvPicPr>
        <p:blipFill>
          <a:blip r:embed="rId1"/>
          <a:stretch/>
        </p:blipFill>
        <p:spPr>
          <a:xfrm>
            <a:off x="1619280" y="549360"/>
            <a:ext cx="6046920" cy="1257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Картинка 385 из 1243"/>
          <p:cNvPicPr/>
          <p:nvPr/>
        </p:nvPicPr>
        <p:blipFill>
          <a:blip r:embed="rId2"/>
          <a:stretch/>
        </p:blipFill>
        <p:spPr>
          <a:xfrm rot="10800000">
            <a:off x="1618920" y="4941360"/>
            <a:ext cx="6046920" cy="12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8200" y="259920"/>
            <a:ext cx="5545080" cy="25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АШ РЕБЁНОК ИДЕТ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 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8000" y="3284280"/>
            <a:ext cx="81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Советы и рекоменд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родителям будущих первокласс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а также ответы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часто задаваемые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j0432587"/>
          <p:cNvPicPr/>
          <p:nvPr/>
        </p:nvPicPr>
        <p:blipFill>
          <a:blip r:embed="rId1"/>
          <a:stretch/>
        </p:blipFill>
        <p:spPr>
          <a:xfrm>
            <a:off x="179280" y="18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Картинка 293 из 12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708280"/>
            <a:ext cx="266724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G00319_"/>
          <p:cNvPicPr/>
          <p:nvPr/>
        </p:nvPicPr>
        <p:blipFill>
          <a:blip r:embed="rId4"/>
          <a:stretch/>
        </p:blipFill>
        <p:spPr>
          <a:xfrm>
            <a:off x="7020000" y="333360"/>
            <a:ext cx="158436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Arial"/>
              </a:rPr>
              <a:t>С какого возраста принимаются дети в 1 клас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26920" y="1557360"/>
            <a:ext cx="79218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В первый класс принимаются  дети, достигшие к 1 сентября текущего года возраста не ме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6 лет 6 месяцев</a:t>
            </a: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 при отсутствии противопоказаний по состоянию здоровья, но не позже достижения ими возраста 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(СанПиН 2.4.2.2821-10; п. 1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Картинка 523 из 1204"/>
          <p:cNvPicPr/>
          <p:nvPr/>
        </p:nvPicPr>
        <p:blipFill>
          <a:blip r:embed="rId1"/>
          <a:stretch/>
        </p:blipFill>
        <p:spPr>
          <a:xfrm>
            <a:off x="6948360" y="5084640"/>
            <a:ext cx="180036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Пятидневная учебная нед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Учебная недельная нагрузка  первоклассника не должна превышать  4 уроков в день и 1 день – не более 5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В сентябре- октябре в расписании первоклассников  3 традиционных урока, чтобы легче привыкнуть к новому виду деятельности - учеб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Четвертые уроки проводятся в форме нетрадиционных занятий: игр, экскурсий, сказок, соревнова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 В середине  урока проводятся 1-2 физкультурные  минут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В 1 полугодии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уроки длятся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35 минут,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во втором  - 40 минут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Нормативная наполняемость в классах –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20-25 чело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езотметочная система оценивания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Учебники выдаются бесплат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Домашние задания в 1 классе не задаются.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Домашних заданий в 1 классе нет. Однако,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орекомендовать Ваш учитель.</a:t>
            </a:r>
            <a:r>
              <a:rPr b="1" i="1" lang="ru-RU" sz="4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Ответы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для родителей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на часто задаваем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Как правильно организовать дома рабочее место первокласс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пите первоклассн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исьменный стол. 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бенок сможет сам разлож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ящики стола учеб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адлежности и науч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ддерживать порядок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бочем ме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учше, если освещение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лева. Занавески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тодвинуть в сторону - осно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ет должен попадать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ерхнюю треть о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а 757 из 1228"/>
          <p:cNvPicPr/>
          <p:nvPr/>
        </p:nvPicPr>
        <p:blipFill>
          <a:blip r:embed="rId1"/>
          <a:stretch/>
        </p:blipFill>
        <p:spPr>
          <a:xfrm>
            <a:off x="539640" y="429408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Картинка 544 из 1214"/>
          <p:cNvPicPr/>
          <p:nvPr/>
        </p:nvPicPr>
        <p:blipFill>
          <a:blip r:embed="rId2"/>
          <a:stretch/>
        </p:blipFill>
        <p:spPr>
          <a:xfrm>
            <a:off x="5819760" y="1628640"/>
            <a:ext cx="22017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468360" y="26028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Обязательно ли ребенок </a:t>
            </a:r>
            <a:br>
              <a:rPr sz="3600"/>
            </a:b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должен уметь читать и пис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           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к 1 клас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9280" y="198900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Не обяз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Умение складывать из слогов слова еще не является умением читать. Многие дети с трудом осваивают эту сложную мыслительную операцию - не стоит их подгонять! Навык чтения и письма должен формироваться по специальным методикам (складываются представления о речи, звуках и буква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сновными умениями при чтении являются понимание прочитанного текста, анализ описанной ситу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тветы на вопросы после ч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SCHOOLG"/>
          <p:cNvPicPr/>
          <p:nvPr/>
        </p:nvPicPr>
        <p:blipFill>
          <a:blip r:embed="rId1"/>
          <a:stretch/>
        </p:blipFill>
        <p:spPr>
          <a:xfrm>
            <a:off x="7596360" y="5013360"/>
            <a:ext cx="133668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03:40Z</dcterms:created>
  <dc:creator>Настя</dc:creator>
  <dc:description/>
  <dc:language>en-US</dc:language>
  <cp:lastModifiedBy>Артём Щепотин</cp:lastModifiedBy>
  <dcterms:modified xsi:type="dcterms:W3CDTF">2020-11-11T00:34:55Z</dcterms:modified>
  <cp:revision>73</cp:revision>
  <dc:subject/>
  <dc:title>Ваш ребёнок идет в школу</dc:title>
</cp:coreProperties>
</file>