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C060-63CF-4CBC-81CF-6E72E7166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55A3-50C4-40BF-A5A8-2305CDC98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7199-1F3E-4452-A2BB-9CD8A583E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5B04-48B3-4296-99DE-0B27C1F94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B224-B3D8-4CD9-BB65-D127466C5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7A10-8B13-4A09-8891-D2D0DE89A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995-F495-4103-824D-8F80AB9BC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D389-C5F4-4FE5-80BD-A06106080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9A6-7656-4F8A-BA60-7F1D39DBB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D1BE-1021-4D9A-AC67-4BCC9E508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0D7-DDB2-402A-82F5-658D43576F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976-58B4-4306-872D-716A5A7CA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DD99-96C7-42D6-85A5-0E3B292C9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1CBB-1D0A-4E8C-97B4-1DFDCDDF3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9434-9AFB-4A2E-8F83-79392F139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9034-7127-4EBC-99BA-E1E0A3707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C5C-F0F1-432A-94EE-6ED5409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539-EC53-43BD-9FFE-9D8F971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31E-CA74-4940-89F5-DE459DF7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E6E-ACE7-439A-806C-263762F9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958-DE4C-49E5-9904-3326FB12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1E9-0619-43F1-B110-9F7D0469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CBA-EA18-4DCD-86A4-03B6DB5D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C74-2BCE-4812-8DF6-7C4CC0A9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F74-4062-4A4A-A9A3-3D4ABB41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5C1-41E1-45A0-AC99-4A189E4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03E-F039-465A-B70C-04762EE1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165-2A9C-46C6-AD5A-DD5BD4D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CB7D-555E-4545-8F93-6A52BBEE9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imer.od.ua/wp-content/uploads/2009/08/cards-n6emo0l1sm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1560" y="199800"/>
            <a:ext cx="506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КОРО В ШКОЛ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396720" y="4149720"/>
            <a:ext cx="100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ля родителей будущих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419640" y="545796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БОУ «СШ № 42», г. Нижневарт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 начальных      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Щепотин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95280" y="1574640"/>
            <a:ext cx="82090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800360" cy="243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932120" cy="2781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1835280" y="3184560"/>
            <a:ext cx="5267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а переменах допускаются подвижные и настольные игры. Главное, чтобы во время игры соблюдались правила безопасности и школьники случайно не поранили друг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4360" y="1413000"/>
            <a:ext cx="7777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дыхают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peremenka"/>
          <p:cNvPicPr/>
          <p:nvPr/>
        </p:nvPicPr>
        <p:blipFill>
          <a:blip r:embed="rId3"/>
          <a:stretch/>
        </p:blipFill>
        <p:spPr>
          <a:xfrm>
            <a:off x="6659640" y="189000"/>
            <a:ext cx="2155680" cy="1536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17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Arial"/>
              </a:rPr>
              <a:t>Что делают дети на перемен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G00319_"/>
          <p:cNvPicPr/>
          <p:nvPr/>
        </p:nvPicPr>
        <p:blipFill>
          <a:blip r:embed="rId4"/>
          <a:stretch/>
        </p:blipFill>
        <p:spPr>
          <a:xfrm>
            <a:off x="395280" y="83664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Почему учителя не ставят оценки </a:t>
            </a:r>
            <a:br>
              <a:rPr sz="3600"/>
            </a:b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в 1 клас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191269140_c4121"/>
          <p:cNvPicPr/>
          <p:nvPr/>
        </p:nvPicPr>
        <p:blipFill>
          <a:blip r:embed="rId1"/>
          <a:stretch/>
        </p:blipFill>
        <p:spPr>
          <a:xfrm>
            <a:off x="6940440" y="2924280"/>
            <a:ext cx="2203560" cy="3933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50920" y="1484280"/>
            <a:ext cx="70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обучение действительно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безоценочно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основной упор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делае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обретение навыков учебного труда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В работе учителя с учеником присутствует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словесная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ценка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Можно ли носить в школу мобильный теле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00360" y="1628640"/>
            <a:ext cx="611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шей школе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запрещено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льзование мобильным телефоном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его можно потеря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Картинка 75 из 15113"/>
          <p:cNvPicPr/>
          <p:nvPr/>
        </p:nvPicPr>
        <p:blipFill>
          <a:blip r:embed="rId1"/>
          <a:stretch/>
        </p:blipFill>
        <p:spPr>
          <a:xfrm>
            <a:off x="0" y="1341360"/>
            <a:ext cx="2303640" cy="235260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  <p:pic>
        <p:nvPicPr>
          <p:cNvPr id="88" name="Picture 12" descr="Картинка 132 из 15113"/>
          <p:cNvPicPr/>
          <p:nvPr/>
        </p:nvPicPr>
        <p:blipFill>
          <a:blip r:embed="rId2"/>
          <a:stretch/>
        </p:blipFill>
        <p:spPr>
          <a:xfrm>
            <a:off x="826920" y="3213000"/>
            <a:ext cx="1873440" cy="222732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огласно ст.901. ГК РФ образовательное учреждение не является профессиональным хранителем  и не несет ответственности за вещи находящиеся при  учениках во время занятий и на территории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ФИЦИАЛЬНЫЙ САЙТ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ШЕЙ ШКО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лучить информацию о школе и познакомиться с уставными документами можно на сайте нашей школы: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ttp://school42n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Users\Виктор\Desktop\Безымянный.png"/>
          <p:cNvPicPr/>
          <p:nvPr/>
        </p:nvPicPr>
        <p:blipFill>
          <a:blip r:embed="rId1"/>
          <a:stretch/>
        </p:blipFill>
        <p:spPr>
          <a:xfrm>
            <a:off x="1258920" y="1452600"/>
            <a:ext cx="662616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00000" y="2637000"/>
            <a:ext cx="7561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5" descr="Картинка 385 из 1243"/>
          <p:cNvPicPr/>
          <p:nvPr/>
        </p:nvPicPr>
        <p:blipFill>
          <a:blip r:embed="rId1"/>
          <a:stretch/>
        </p:blipFill>
        <p:spPr>
          <a:xfrm>
            <a:off x="1619280" y="549360"/>
            <a:ext cx="6046920" cy="1257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Картинка 385 из 1243"/>
          <p:cNvPicPr/>
          <p:nvPr/>
        </p:nvPicPr>
        <p:blipFill>
          <a:blip r:embed="rId2"/>
          <a:stretch/>
        </p:blipFill>
        <p:spPr>
          <a:xfrm rot="10800000">
            <a:off x="1618920" y="4941360"/>
            <a:ext cx="6046920" cy="12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8200" y="259920"/>
            <a:ext cx="554508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8000" y="328428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родителям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а также ответы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Картинка 293 из 12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708280"/>
            <a:ext cx="266724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G00319_"/>
          <p:cNvPicPr/>
          <p:nvPr/>
        </p:nvPicPr>
        <p:blipFill>
          <a:blip r:embed="rId4"/>
          <a:stretch/>
        </p:blipFill>
        <p:spPr>
          <a:xfrm>
            <a:off x="7020000" y="333360"/>
            <a:ext cx="158436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С какого возраста принимаются дети в 1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26920" y="1557360"/>
            <a:ext cx="7921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6 лет 6 месяцев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Картинка 523 из 1204"/>
          <p:cNvPicPr/>
          <p:nvPr/>
        </p:nvPicPr>
        <p:blipFill>
          <a:blip r:embed="rId1"/>
          <a:stretch/>
        </p:blipFill>
        <p:spPr>
          <a:xfrm>
            <a:off x="6948360" y="5084640"/>
            <a:ext cx="180036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Пятидневная учебная не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Учебная недельная нагрузка  первоклассника не должна превышать  4 уроков в день и 1 день – не более 5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В сентябре- октябре в расписании первоклассников  3 традиционных урока, чтобы легче привыкнуть к новому виду деятельности - уче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Четвертые уроки проводятся в форме нетрадиционных занятий: игр, экскурсий, сказок, соревнова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 В середине  урока проводятся 1-2 физкультурные  минут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 1 полугоди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уроки длятся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35 минут,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о втором  - 40 минут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Нормативная наполняемость в классах –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20-25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отметочная 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на часто задаваем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ак правильно организовать дома рабочее место первокласс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пите первокласс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енный стол.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бенок сможет сам разлож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ящики стола 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адлежности и науч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ддерживать поряд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бочем 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учше, если освещение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лева. Занавески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одвинуть в сторону -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ет должен попадать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ерхнюю треть 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а 757 из 1228"/>
          <p:cNvPicPr/>
          <p:nvPr/>
        </p:nvPicPr>
        <p:blipFill>
          <a:blip r:embed="rId1"/>
          <a:stretch/>
        </p:blipFill>
        <p:spPr>
          <a:xfrm>
            <a:off x="539640" y="42940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Картинка 544 из 1214"/>
          <p:cNvPicPr/>
          <p:nvPr/>
        </p:nvPicPr>
        <p:blipFill>
          <a:blip r:embed="rId2"/>
          <a:stretch/>
        </p:blipFill>
        <p:spPr>
          <a:xfrm>
            <a:off x="5819760" y="1628640"/>
            <a:ext cx="220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468360" y="260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должен уметь читать и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9280" y="198900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веты на вопросы после ч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SCHOOLG"/>
          <p:cNvPicPr/>
          <p:nvPr/>
        </p:nvPicPr>
        <p:blipFill>
          <a:blip r:embed="rId1"/>
          <a:stretch/>
        </p:blipFill>
        <p:spPr>
          <a:xfrm>
            <a:off x="7596360" y="5013360"/>
            <a:ext cx="13366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Артём Щепотин</cp:lastModifiedBy>
  <dcterms:modified xsi:type="dcterms:W3CDTF">2020-11-11T00:34:55Z</dcterms:modified>
  <cp:revision>73</cp:revision>
  <dc:subject/>
  <dc:title>Ваш ребёнок идет в школу</dc:title>
</cp:coreProperties>
</file>