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1FA3-0D6D-4CC6-B104-F6333AFDB8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F54F-D646-47FE-AFEE-9D0ED1F61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859-18C7-475C-BB15-DB20FF521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72C9-FC56-42E7-8DC7-358838CB3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8E4-364F-4CED-93BB-2BA48560C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3B58-3E3E-448F-9B73-F1F57749F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D127-902D-46E0-9F85-F08DEEE84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E80-2F56-4188-AD30-B7C35336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7BB-385C-4B20-930E-79C03412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691-722B-4549-8560-C92403F0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721-0A30-4CD6-A3E6-1F316F51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E0D5-C779-45A6-8B3F-BEC50562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210E-6F5B-4B24-8955-CBD5ECFD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0E64-E099-4B54-9ED0-CB2EB4E1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F3BD-927C-456C-BB62-C60438C7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AF1E-644D-4206-8352-52C63426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CAE-7A45-47C7-8054-67FA07F5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AD03-238D-4DF3-8B3E-BD87581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EC2-414E-4D2B-ADB7-1B19A1F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45CB-C58A-46F9-B8B1-613B441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423-8EBB-45E8-AA73-C65144BE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2245-D4A1-4C2A-AB2C-17A1A67E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809B-FB93-47F3-822B-92AF2A15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C98F-8D33-4669-A19F-0470CC4C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5CEBF-726A-492D-BDB2-A3D50E5E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ABEC9-810D-482A-BA83-AD51CCD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BE020-6346-4AA6-867F-EDE127EE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4AC78-D15C-4408-B7D1-4C0573C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9E59A-7B81-4081-B23C-56FFA2C6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D43-F9CF-43B5-9917-434D9DF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F80D6-4649-4E10-8DE9-D266D6B9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A1F5D-0764-403C-9CBA-3D143411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B1A28-2C49-4788-9430-D8FC59E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F0D6D-68BA-474B-BF0D-EA9E9A39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43C41-614E-4C00-844F-38578123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90C8D-E2A4-4AB7-B4C0-626E2D58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6A2C6-93BB-4A82-9085-F561CA28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B92D1-00F8-4D4A-956C-084E02BD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E219C-8FDC-4C79-AF87-7B695D65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0EC9-8FD4-4ED2-8049-E55E829A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74A-054B-4A37-BE8F-3A584FFA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9F0C-2C7A-420A-9130-4CCC1888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30545-960E-4142-BBC0-958FA96E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5E1D-B0E5-45D2-847D-8B1E8DA8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1DE9-8CFF-42F4-978C-E68A7D9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F1235-57D2-4AD6-ACDD-33FACE79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F905-5017-4552-9D72-5397817D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F3B09-35D0-4FEB-A9C5-FC38289A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2B066-432A-41B6-AFE4-C3988898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77BE-B2EA-480C-947E-962190CF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9B978-437A-48A5-A4B7-AB7E5124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99D-351C-4F04-B2E3-9187B126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B3360-D7A9-4AB3-9AE5-F96275C7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8CAFE-100A-4C9B-91C1-6D9F0D23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641CB-B99E-4EE3-A9FB-A53BF76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A8D30-C7AC-43CF-A7B1-4C85B11E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BB340-691B-4856-854F-0C22C634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FA788-3DAF-48FC-BE49-CFBBBDD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0719B-C9DA-4DAB-8240-06E37D62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BB8D6-F474-4163-9C32-F5E60BDE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C1BCA-5369-4112-947F-8C100D7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8A47B-4DC1-41EC-AC54-173BB992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592-2259-4E4C-B5C0-67B02887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93AA6-22B8-4A16-B897-9B8FAC20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3C75C5-21DB-4376-A0A2-53CB7432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B6F93-9DBA-4698-9337-30E61AEB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CDCA9-674E-427D-990C-14DED771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9EB1A-4EEC-4501-B636-CC378F90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70DA5-2627-475B-A904-BEC5002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6CD94-08C5-4F93-8DD3-49F043F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E6280-F3A0-4591-B0FF-D779C1D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A82B7-8F4D-4B5A-9332-793EE75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4C433-5253-4B70-A3D0-7A337C62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B16-D3FA-4B31-9F9A-ABED2EE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48D5D-2EE2-483C-8417-DC25D0F2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0F66F-9598-43CB-9648-308D3F2E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EED98-FEA0-4D9D-BDCC-B99825CB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D0F7D-0638-4A11-9B62-A7FCD2C8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B3CAE-28C3-4A77-89D4-CC198F39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EB031-BF23-4D59-8E9E-44E51AE2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71C07-B5AD-40DF-BC9F-58AE821B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5E964-6C2C-4C1B-A8AC-E6EEF2B8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83449-A9D2-461C-A08F-7BF75950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40FFB-713C-4C48-97E9-72B93203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F7F-DAC0-48EE-AAE7-2585D5C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37AFA-E50A-4351-886A-D4A831A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8F8D6-1742-4923-A4BE-CE7CC75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928D8-445F-4EE9-8256-A24BC02E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529BB-E9C7-427D-9E84-78DCDFAB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2DFAC-6079-440B-89E8-B3D1F694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5AD-25A8-4DBF-81CD-58D0C19D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61CA-A00D-491E-9A81-EB6CAB5DC5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D83F-6D32-4343-8452-B5EAEB47B1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F0E1-53DB-4EA6-9ACE-EB7BB762EE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778-4B27-4E10-A898-F736793280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5917-5B5D-4950-AEEC-13A12EDE8C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62A0-5119-4F7B-9181-49F0291EA1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9943-55DC-4B84-A93B-597D90A6D9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571400"/>
            <a:ext cx="842472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ИНФЕК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, 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ПЕРЕДАЮЩИЕСЯ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ПОЛОВЫМ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ПУТЁМ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5651640" y="310500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 Преподаватель организатор ОБЖ Габараев Т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Карпогорская СШ № 11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894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САМЫЕ РАСПРОСТРАНЕННЫЕ ОСЛОЖНЕНИЯ ЗАБОЛЕВАНИЙ, СПРОВОЦИРОВАННЫХ ИППП: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УРЕТР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ЦИСТ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ПИЕЛОНЕФР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ПРОСТАТ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БАРТОЛИН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ЭРЕКТИЛЬНАЯ ДИСФУНКЦИЯ У МУЖЧИН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ИМПОТЕНЦИЯ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РУШЕНИЕ МЕНСТРУАЛЬНОГО ЦИКЛА У ЖЕНЩИН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АГИН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ЭНДОМЕТР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ОСПАЛЕНИЕ ПРИДАТКОВ МАТКИ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ОБШИРНАЯ ЭРОЗИЯ ШЕЙКИ МАТКИ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РУБЦЫ, СПАЙКИ В МАТКЕ, ТРУБАХ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БЕСПЛОДИЕ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ЫКИДЫШИ, ПРЕЖДЕВРЕМЕННЫЕ РОДЫ, МЕРТВОРОЖДЕНИЕ.</a:t>
            </a:r>
            <a:br>
              <a:rPr sz="2000"/>
            </a:b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2920" y="2858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ие болезни, как сифилис, ВИЧ, гепатит, являются смертельно опасными для человека. При третичном сифилисе происходит поражение нервной системы, костей, это приводит к летальному исходу. ВИЧ поражает иммунную систему человека, поэтому любая простуда или царапина становится причиной смерти больно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https://st03.kakprosto.ru/images/article/2019/2/12/337170_5c62c64a4c6bb5c62c64a4c6f4.jpeg"/>
          <p:cNvPicPr/>
          <p:nvPr/>
        </p:nvPicPr>
        <p:blipFill>
          <a:blip r:embed="rId1"/>
          <a:stretch/>
        </p:blipFill>
        <p:spPr>
          <a:xfrm>
            <a:off x="2459160" y="2997360"/>
            <a:ext cx="5295600" cy="3527280"/>
          </a:xfrm>
          <a:prstGeom prst="rect">
            <a:avLst/>
          </a:prstGeom>
          <a:ln w="0">
            <a:noFill/>
          </a:ln>
        </p:spPr>
      </p:pic>
      <p:sp>
        <p:nvSpPr>
          <p:cNvPr id="38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ПРОФИЛАКТИКА</a:t>
            </a:r>
            <a:br>
              <a:rPr sz="3600"/>
            </a:b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50920" y="692280"/>
            <a:ext cx="767376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ие просветительской работы с молодежью по вопросам предотвращения таких болезней, как ВИЧ, гепатит, сифили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паганда защищенных половых а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улярные профосмотры работников общепита, медицинских и педагогических учрежд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следование всех беременны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ние анонимных кабинетов для обследования на ИПП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4000" y="549360"/>
            <a:ext cx="83628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сокий уровень распространения ИППП является огромной проблемой. Согласно данным ВОЗ, за последнее время снизилось число заболевших сифилисом и гонореей. Однако стремительно растет количество случаев хламидиоза, уреаплазмоза. Тревожной остается ситуация с ВИЧ. Уберечься от ИППП возможно при условии разборчивости в половых контактах и использования средств индивидуальной защи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раграф 1.3 вопросы уст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s://www.who.int/ru/news-room/fact-sheets/detail/sexually-transmitted-infections-(stis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s://www.polyclin.ru/ippp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s://medcatalog24.ru/venerologiya/ippp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урнал «Клиническая практика»., Федеральное Медико-Биологическое Агентство., 2019., Том 10., № 3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779640" y="692280"/>
            <a:ext cx="486396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ППП (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фекции, передающиеся половым путем) — это заболевания, путь передачи которых преимущественно половой. Некоторые заболевания передаются в быту (сифилис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https://medcatalog24.ru/wp-content/uploads/2018/02/ippp-326x245.jpg"/>
          <p:cNvPicPr/>
          <p:nvPr/>
        </p:nvPicPr>
        <p:blipFill>
          <a:blip r:embed="rId1"/>
          <a:stretch/>
        </p:blipFill>
        <p:spPr>
          <a:xfrm>
            <a:off x="324000" y="765000"/>
            <a:ext cx="3105000" cy="2333880"/>
          </a:xfrm>
          <a:prstGeom prst="rect">
            <a:avLst/>
          </a:prstGeom>
          <a:ln w="0">
            <a:noFill/>
          </a:ln>
        </p:spPr>
      </p:pic>
      <p:sp>
        <p:nvSpPr>
          <p:cNvPr id="3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23640" y="981000"/>
            <a:ext cx="760068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ути пере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ов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тактно-бытовые ситу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рез кровь (парентеральный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ртикальное заражение, внутриутробное пораж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ругие пу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ражение в момент половой активности происходит при любом виде сексуального конта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95280" y="1341360"/>
          <a:ext cx="8353440" cy="453564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96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актери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ифилис, гонорея, бактериальный вагиноз, мягкий шанк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рибк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ндидоз, опоясывающий лиш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11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у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патит, ВИЧ, герпес, вирус папилломы человека, мононуклеоз, контагиозный моллюск, остроконечная кондиллома, цитомегалови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разита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обковые вши, чесо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стейш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рихомониаз, хламиди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ИПЫ ИНФЕКЦИЙ, ПЕРЕДАЮЩИХСЯ ПОЛОВЫМ ПУТЕМ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бщие признаки ИППП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Жжение, зуд, отечность, покраснение наружных половых органов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Язвочки, эрозии, пятна, пузырьки в паху и на гениталиях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ыделения с неприятным запахом, зеленоватым цветом, творожистой или слизистой консистенци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Боли, жжение при мочеиспускании, частые позывы в туалет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Дискомфорт, болевые ощущения во время полового акт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Увеличение и болезненность паховых лимфатических узлов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овышение температур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2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ПИСОК ИНФЕКЦИЙ, СИМПТОМОМ И ВОЗБУДИТЕЛЕЙ ИППП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24000" y="549360"/>
          <a:ext cx="8424720" cy="5904000"/>
        </p:xfrm>
        <a:graphic>
          <a:graphicData uri="http://schemas.openxmlformats.org/drawingml/2006/table">
            <a:tbl>
              <a:tblPr/>
              <a:tblGrid>
                <a:gridCol w="1871640"/>
                <a:gridCol w="2736720"/>
                <a:gridCol w="3816360"/>
              </a:tblGrid>
              <a:tr h="168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ифил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ледная трепон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Язвы, высыпания, твердый шанкр. Вторичная и третичная форма протекают бессимптом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нор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ноко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Зуд, жжение, отечность генитал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Выделения с неприятным запах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Болезненное мочеиспуск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2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коплаз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актерия микоплазма гени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асто имеет латентное течение. Могут быть незначительные выделения, боль при половом контакте, дискомфорт при мочеиспуск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59292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2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ПИСОК ИНФЕКЦИЙ, СИМПТОМОМ И ВОЗБУДИТЕЛЕЙ ИППП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549360"/>
          <a:ext cx="8497800" cy="5904000"/>
        </p:xfrm>
        <a:graphic>
          <a:graphicData uri="http://schemas.openxmlformats.org/drawingml/2006/table">
            <a:tbl>
              <a:tblPr/>
              <a:tblGrid>
                <a:gridCol w="2232000"/>
                <a:gridCol w="2305080"/>
                <a:gridCol w="3960720"/>
              </a:tblGrid>
              <a:tr h="170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реаплаз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дноклеточная бактерия уреапла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исутствуют незначительные выделения и дискомфорт при опорожнении мочевого пузыр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9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ус папилломы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пилломави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 слизистых появляются бородавки, других симптомов 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23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нитальный герп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ус герп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рпетические высыпания на наружных половых органах, повышение температуры, увеличение лимфоузлов, слаб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58579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2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ПИСОК ИНФЕКЦИЙ, СИМПТОМОМ И ВОЗБУДИТЕЛЕЙ ИППП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50920" y="549360"/>
          <a:ext cx="8424720" cy="4824360"/>
        </p:xfrm>
        <a:graphic>
          <a:graphicData uri="http://schemas.openxmlformats.org/drawingml/2006/table">
            <a:tbl>
              <a:tblPr/>
              <a:tblGrid>
                <a:gridCol w="2212920"/>
                <a:gridCol w="2284200"/>
                <a:gridCol w="3927600"/>
              </a:tblGrid>
              <a:tr h="28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ирус иммунодефицита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текает бессимптомно. На поздних этапах у человека возникают частые простуды, ангина, плохо заживают ссадины, порезы. Увеличиваются лимфоузлы, постоянно присутствует субфебрильная температура, ломота в суставах, повышенная потлив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пат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ус гепатита В,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лабость, головокружение, отеки, синяки на теле, обмороки, рвота, боли в мышцах, суставах. На поздних этапах проявляется желтуха, потемнение мочи, вздутие жив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7228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785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РАСПРОСТРАНЕННОСТЬ ИНФЕКЦИЙ, ПЕРЕДАВАЕМЫХ ПОЛОВЫМ ПУТЕМ, ПО ВОЗРАСТНЫМ ГРУППАМ 2019 ГОД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Users\tex2.KSCHOOL\Desktop\Безымянный.jpg"/>
          <p:cNvPicPr/>
          <p:nvPr/>
        </p:nvPicPr>
        <p:blipFill>
          <a:blip r:embed="rId1"/>
          <a:stretch/>
        </p:blipFill>
        <p:spPr>
          <a:xfrm>
            <a:off x="539640" y="1122480"/>
            <a:ext cx="7920000" cy="5043240"/>
          </a:xfrm>
          <a:prstGeom prst="rect">
            <a:avLst/>
          </a:prstGeom>
          <a:ln w="0">
            <a:noFill/>
          </a:ln>
        </p:spPr>
      </p:pic>
      <p:sp>
        <p:nvSpPr>
          <p:cNvPr id="38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56437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3:10:35Z</dcterms:created>
  <dc:creator>Admin</dc:creator>
  <dc:description/>
  <dc:language>en-US</dc:language>
  <cp:lastModifiedBy>Admin</cp:lastModifiedBy>
  <dcterms:modified xsi:type="dcterms:W3CDTF">2020-10-30T15:37:11Z</dcterms:modified>
  <cp:revision>44</cp:revision>
  <dc:subject/>
  <dc:title>Автономное существование человека в природ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a0000000000010250300207f7000400038000</vt:lpwstr>
  </property>
</Properties>
</file>