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3DBA-EA5C-4AE0-A0EA-D3F9D7DE57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20A0-288F-467D-B2E6-2C8F7C4738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C522-ED38-4E07-8BE6-B38B5AA303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205B-9563-4520-AF40-1BAB83DEB0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26D5-D1DB-45F1-9A2F-70CA204C65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6BCB-4909-43AD-B4BE-B24AF91928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A46F-F788-467E-A530-9EFDB9212C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9A7-DEDD-49BF-967B-4E377353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69A-87E2-4424-A28E-487EA66D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D92E-533B-4762-B0AF-638EF523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1BD-A59A-4095-A680-326C784E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01C9-33EC-49C8-87D4-8072B7BE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59BD-29C7-4F18-A24E-E55851E8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E197-C6AC-4B5D-A695-7C5754FD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8EDE-C6A9-4B28-B4BA-49BB6923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31F0-BF25-4B7A-BE74-1CAA568F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98C5-8933-4E37-AA18-57E98BA2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46AD-0214-44B6-9A5B-15820FFB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FB5-C2DD-41CC-9A42-88BB2144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F756-07E2-4C1F-80F6-8C7E9BE7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FD36-33CD-4AC5-A645-859720CB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2E20-3B8B-4151-B318-87935A7E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1484-7A77-479E-8F76-13CF6525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FA7C-E8A0-46A4-A61C-F19D2C19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7272B-14E1-4500-9475-47D677EB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FA9ED-1BB7-484C-A7A1-B0C80274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C17BF-3624-4E43-985A-1DB03833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BC199-56A1-4F3C-BD53-CBE10751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E1459-1BAC-4968-8A39-2218D5B6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B43-1866-4765-8FFA-FAD22B68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F253C-DEC7-4B05-B96E-5587C4E7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8824C-4CDA-42CF-A8D2-D95AE233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84D00-45CE-442C-8166-92644196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0204E-590F-411A-B133-9D205459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F8AD2-6904-4041-BF0D-ADF4C608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19B21-0A28-4C0C-8390-5B799F4C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69CE8-DF8A-4243-B810-FA6027ED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B8EDC-1C5B-436A-9931-BB0A0A96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6D8AB-FA7C-4678-8EEE-5BD4E581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A2210-6A44-44F9-8BCF-44C5635B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B4D5-6F9B-45AE-8AED-0BAEC096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CD377-C106-4916-8A2C-5CBB3C45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94F46-780B-4C55-82DA-E508E6FB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25ED3-BAA9-48E4-BB1F-8EDD5612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4183C-AA2C-47F6-9500-3C4DCF7A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9733A-6954-4AC2-AC43-6C178F77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AB586-FFF1-46F2-8D0D-98172807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08601-AFBC-44C2-A0BE-B9880679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B1D9A-0562-47BC-B351-F77DB301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8DB66-FBA4-4ECE-A4EF-61ABAE7C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5D1729-A6BF-4C9C-B062-6820A6A7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E34-3455-46E7-8A12-42570329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DFA855-3629-4FA2-A71A-62F8F2BB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356777-213D-480E-A42B-EAB365C8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DA03D7-035A-4570-82D1-47E3E11B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6B9CC-0A2E-45AA-8BE1-DE479B51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6B9A7D-1B10-4D94-8856-C7F53066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1584B-5EBD-43A8-8904-7AB39FE5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3B6F62-F316-4852-B6AE-A8AF9950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5F29B3-A961-4A22-81B5-1F735CB7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C4705A-937C-4426-89FD-1CA63208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57BAD-A710-4661-B653-BA2149AD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6CD-64A8-42D0-9C69-1A0473F1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88B8D-54BF-4F5B-BF1D-5BCBEC77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2FAAF5-FDEE-481E-9FE7-27E461A9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F98C33-69F8-4BF5-A40A-F2286F39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E78F52-A5AD-4A03-998A-085D4F24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30B8C3-711B-4CB7-A4ED-4989C8AC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5CF6A-DA8C-4C24-8F9A-5CD154B9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C2816-AD3A-4CFF-80F4-DFC78CA8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1DE647-F8C5-49D9-B8F8-1284FD67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7CAB43-3218-44AE-914E-BE93F774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300186-3955-4139-8375-E09C759B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AC50-6CCA-4EA3-ADC8-83E95CE0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6C634B-82D2-4F1D-B94E-BD5904CD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6A1A08-72CF-46F4-BE51-63216B5A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20533A-FFF2-495E-B045-5B311359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E5A93E-5AEB-4E39-AAC0-F4B6A3C1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84753A-DB8A-4EC7-A489-42590726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311AD9-ACC8-44D6-B54F-C823E103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E20138-5EAA-4DAE-A67F-D8DFAFB7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F6CC53-4A76-4C68-87D1-502134E5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AC7155-559A-48EB-885C-3FD9D6D9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62E98E-83ED-4D5A-B0E9-0C083F2A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E608-224C-4229-8FF7-F8601617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CE03F4-84E4-4299-A416-D187830D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400F55-89C6-4F48-B507-CBB62B38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DB49DF-3836-493B-8A83-AA094DD0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4B1E56-AE58-45E4-991D-1E979004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2123D5-3ABF-4AD6-8884-ECAD8CF2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24B-7A6B-44C7-988C-90D711A3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484C-248B-4C1A-A9E3-EB8565C246D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CA5E-2B0B-4FE4-ACCB-64FA4787A69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ABD3-2C74-41BE-B1F2-E9740C58013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1CFD-05FF-410D-864A-CDBD661C404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649F-ECC1-42A8-806C-259396C943E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A456-D992-4A21-B70C-D7065F5F484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8AFC-6189-4D01-A9F9-811B7377356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1571400"/>
            <a:ext cx="842472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ИНФЕКЦИИ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, </a:t>
            </a: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ПЕРЕДАЮЩИЕСЯ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 </a:t>
            </a: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ПОЛОВЫМ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 </a:t>
            </a: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ПУТЁМ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Прямоугольник 1"/>
          <p:cNvSpPr/>
          <p:nvPr/>
        </p:nvSpPr>
        <p:spPr>
          <a:xfrm>
            <a:off x="5651640" y="3105000"/>
            <a:ext cx="30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 Преподаватель организатор ОБЖ Габараев Т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«Карпогорская СШ № 118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4920" y="188640"/>
            <a:ext cx="8894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САМЫЕ РАСПРОСТРАНЕННЫЕ ОСЛОЖНЕНИЯ ЗАБОЛЕВАНИЙ, СПРОВОЦИРОВАННЫХ ИППП: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УРЕТРИТ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ЦИСТИТ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ПИЕЛОНЕФРИТ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ПРОСТАТИТ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БАРТОЛИНИТ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ЭРЕКТИЛЬНАЯ ДИСФУНКЦИЯ У МУЖЧИН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ИМПОТЕНЦИЯ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РУШЕНИЕ МЕНСТРУАЛЬНОГО ЦИКЛА У ЖЕНЩИН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ВАГИНИТ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ЭНДОМЕТРИТ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ВОСПАЛЕНИЕ ПРИДАТКОВ МАТКИ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ОБШИРНАЯ ЭРОЗИЯ ШЕЙКИ МАТКИ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РУБЦЫ, СПАЙКИ В МАТКЕ, ТРУБАХ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БЕСПЛОДИЕ.</a:t>
            </a:r>
            <a:br>
              <a:rPr sz="2000"/>
            </a:b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ВЫКИДЫШИ, ПРЕЖДЕВРЕМЕННЫЕ РОДЫ, МЕРТВОРОЖДЕНИЕ.</a:t>
            </a:r>
            <a:br>
              <a:rPr sz="2000"/>
            </a:br>
            <a:br>
              <a:rPr sz="27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215200" y="43578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42920" y="28584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ие болезни, как сифилис, ВИЧ, гепатит, являются смертельно опасными для человека. При третичном сифилисе происходит поражение нервной системы, костей, это приводит к летальному исходу. ВИЧ поражает иммунную систему человека, поэтому любая простуда или царапина становится причиной смерти больног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5" descr="https://st03.kakprosto.ru/images/article/2019/2/12/337170_5c62c64a4c6bb5c62c64a4c6f4.jpeg"/>
          <p:cNvPicPr/>
          <p:nvPr/>
        </p:nvPicPr>
        <p:blipFill>
          <a:blip r:embed="rId1"/>
          <a:stretch/>
        </p:blipFill>
        <p:spPr>
          <a:xfrm>
            <a:off x="2459160" y="2997360"/>
            <a:ext cx="5295600" cy="3527280"/>
          </a:xfrm>
          <a:prstGeom prst="rect">
            <a:avLst/>
          </a:prstGeom>
          <a:ln w="0">
            <a:noFill/>
          </a:ln>
        </p:spPr>
      </p:pic>
      <p:sp>
        <p:nvSpPr>
          <p:cNvPr id="386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15200" y="43578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ПРОФИЛАКТИКА</a:t>
            </a:r>
            <a:br>
              <a:rPr sz="3600"/>
            </a:br>
            <a:br>
              <a:rPr sz="27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50920" y="692280"/>
            <a:ext cx="7673760" cy="57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дение просветительской работы с молодежью по вопросам предотвращения таких болезней, как ВИЧ, гепатит, сифили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паганда защищенных половых ак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гулярные профосмотры работников общепита, медицинских и педагогических учрежд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следование всех беременны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здание анонимных кабинетов для обследования на ИППП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15200" y="43578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24000" y="549360"/>
            <a:ext cx="83628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сокий уровень распространения ИППП является огромной проблемой. Согласно данным ВОЗ, за последнее время снизилось число заболевших сифилисом и гонореей. Однако стремительно растет количество случаев хламидиоза, уреаплазмоза. Тревожной остается ситуация с ВИЧ. Уберечься от ИППП возможно при условии разборчивости в половых контактах и использования средств индивидуальной защи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15200" y="43578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207144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раграф 1.3 вопросы устн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15200" y="43578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207144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s://www.who.int/ru/news-room/fact-sheets/detail/sexually-transmitted-infections-(stis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s://www.polyclin.ru/ippp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s://medcatalog24.ru/venerologiya/ippp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Журнал «Клиническая практика»., Федеральное Медико-Биологическое Агентство., 2019., Том 10., № 3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779640" y="692280"/>
            <a:ext cx="4863960" cy="57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ИППП (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нфекции, передающиеся половым путем) — это заболевания, путь передачи которых преимущественно половой. Некоторые заболевания передаются в быту (сифилис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4" descr="https://medcatalog24.ru/wp-content/uploads/2018/02/ippp-326x245.jpg"/>
          <p:cNvPicPr/>
          <p:nvPr/>
        </p:nvPicPr>
        <p:blipFill>
          <a:blip r:embed="rId1"/>
          <a:stretch/>
        </p:blipFill>
        <p:spPr>
          <a:xfrm>
            <a:off x="324000" y="765000"/>
            <a:ext cx="3105000" cy="2333880"/>
          </a:xfrm>
          <a:prstGeom prst="rect">
            <a:avLst/>
          </a:prstGeom>
          <a:ln w="0">
            <a:noFill/>
          </a:ln>
        </p:spPr>
      </p:pic>
      <p:sp>
        <p:nvSpPr>
          <p:cNvPr id="36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15200" y="43578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23640" y="981000"/>
            <a:ext cx="760068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ути передач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ово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нтактно-бытовые ситуац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ерез кровь (парентеральный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ертикальное заражение, внутриутробное поражени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ругие пу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ражение в момент половой активности происходит при любом виде сексуального контак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15200" y="43578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395280" y="1341360"/>
          <a:ext cx="8353440" cy="453564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96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актериа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ифилис, гонорея, бактериальный вагиноз, мягкий шанк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7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рибко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ндидоз, опоясывающий лиш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11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рус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епатит, ВИЧ, герпес, вирус папилломы человека, мононуклеоз, контагиозный моллюск, остроконечная кондиллома, цитомегаловир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аразитар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обковые вши, чесо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остейш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рихомониаз, хламиди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ТИПЫ ИНФЕКЦИЙ, ПЕРЕДАЮЩИХСЯ ПОЛОВЫМ ПУТЕМ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15200" y="43578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Общие признаки ИППП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Жжение, зуд, отечность, покраснение наружных половых органов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Язвочки, эрозии, пятна, пузырьки в паху и на гениталиях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Выделения с неприятным запахом, зеленоватым цветом, творожистой или слизистой консистенции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Боли, жжение при мочеиспускании, частые позывы в туалет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Дискомфорт, болевые ощущения во время полового акта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Увеличение и болезненность паховых лимфатических узлов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Повышение температуры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215200" y="43578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82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ПИСОК ИНФЕКЦИЙ, СИМПТОМОМ И ВОЗБУДИТЕЛЕЙ ИППП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24000" y="549360"/>
          <a:ext cx="8424720" cy="5904000"/>
        </p:xfrm>
        <a:graphic>
          <a:graphicData uri="http://schemas.openxmlformats.org/drawingml/2006/table">
            <a:tbl>
              <a:tblPr/>
              <a:tblGrid>
                <a:gridCol w="1871640"/>
                <a:gridCol w="2736720"/>
                <a:gridCol w="3816360"/>
              </a:tblGrid>
              <a:tr h="1680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ифил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Бледная трепон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Язвы, высыпания, твердый шанкр. Вторичная и третичная форма протекают бессимптом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оноре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онокок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 Зуд, жжение, отечность генитал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 Выделения с неприятным запах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 Болезненное мочеиспуска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2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икоплазм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актерия микоплазма гени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асто имеет латентное течение. Могут быть незначительные выделения, боль при половом контакте, дискомфорт при мочеиспуска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7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143920" y="592920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82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ПИСОК ИНФЕКЦИЙ, СИМПТОМОМ И ВОЗБУДИТЕЛЕЙ ИППП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50920" y="549360"/>
          <a:ext cx="8497800" cy="5904000"/>
        </p:xfrm>
        <a:graphic>
          <a:graphicData uri="http://schemas.openxmlformats.org/drawingml/2006/table">
            <a:tbl>
              <a:tblPr/>
              <a:tblGrid>
                <a:gridCol w="2232000"/>
                <a:gridCol w="2305080"/>
                <a:gridCol w="3960720"/>
              </a:tblGrid>
              <a:tr h="170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Уреаплазм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дноклеточная бактерия уреапла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рисутствуют незначительные выделения и дискомфорт при опорожнении мочевого пузыр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9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рус папилломы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апилломавир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 слизистых появляются бородавки, других симптомов н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23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енитальный герп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рус герпе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ерпетические высыпания на наружных половых органах, повышение температуры, увеличение лимфоузлов, слаб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7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143920" y="58579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821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ПИСОК ИНФЕКЦИЙ, СИМПТОМОМ И ВОЗБУДИТЕЛЕЙ ИППП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250920" y="549360"/>
          <a:ext cx="8424720" cy="4824360"/>
        </p:xfrm>
        <a:graphic>
          <a:graphicData uri="http://schemas.openxmlformats.org/drawingml/2006/table">
            <a:tbl>
              <a:tblPr/>
              <a:tblGrid>
                <a:gridCol w="2212920"/>
                <a:gridCol w="2284200"/>
                <a:gridCol w="3927600"/>
              </a:tblGrid>
              <a:tr h="283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Вирус иммунодефицита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ротекает бессимптомно. На поздних этапах у человека возникают частые простуды, ангина, плохо заживают ссадины, порезы. Увеличиваются лимфоузлы, постоянно присутствует субфебрильная температура, ломота в суставах, повышенная потлив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епат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рус гепатита В,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лабость, головокружение, отеки, синяки на теле, обмороки, рвота, боли в мышцах, суставах. На поздних этапах проявляется желтуха, потемнение мочи, вздутие живо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37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072280" y="62150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785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РАСПРОСТРАНЕННОСТЬ ИНФЕКЦИЙ, ПЕРЕДАВАЕМЫХ ПОЛОВЫМ ПУТЕМ, ПО ВОЗРАСТНЫМ ГРУППАМ 2019 ГОД.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Picture 2" descr="C:\Users\tex2.KSCHOOL\Desktop\Безымянный.jpg"/>
          <p:cNvPicPr/>
          <p:nvPr/>
        </p:nvPicPr>
        <p:blipFill>
          <a:blip r:embed="rId1"/>
          <a:stretch/>
        </p:blipFill>
        <p:spPr>
          <a:xfrm>
            <a:off x="539640" y="1122480"/>
            <a:ext cx="7920000" cy="5043240"/>
          </a:xfrm>
          <a:prstGeom prst="rect">
            <a:avLst/>
          </a:prstGeom>
          <a:ln w="0">
            <a:noFill/>
          </a:ln>
        </p:spPr>
      </p:pic>
      <p:sp>
        <p:nvSpPr>
          <p:cNvPr id="38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15200" y="564372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3:10:35Z</dcterms:created>
  <dc:creator>Admin</dc:creator>
  <dc:description/>
  <dc:language>en-US</dc:language>
  <cp:lastModifiedBy>Admin</cp:lastModifiedBy>
  <dcterms:modified xsi:type="dcterms:W3CDTF">2020-10-30T15:37:11Z</dcterms:modified>
  <cp:revision>44</cp:revision>
  <dc:subject/>
  <dc:title>Автономное существование человека в природ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2a0000000000010250300207f7000400038000</vt:lpwstr>
  </property>
</Properties>
</file>