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E85E-339E-4273-8303-F168C45C23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6498-1586-42D8-BAB8-4A78C882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0DB0-7DD1-446F-865B-5F64AF5F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C5CD-F2C2-4A47-B253-A88DBE06A3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A679-DD13-489E-8CE4-09891890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CA831-0CA8-4814-AA2F-B23CBBD3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4FB5-C221-4EB8-9A46-FA686A11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4275-4300-4884-A26E-322E84E2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EC27-A13A-4158-908E-28F3B484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51E8-365E-4619-A5D5-D35BA5F1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4C5E2-B088-45CF-BD78-B40499F1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5817-B772-4753-A25E-451AEED2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5340FC-A595-4305-A527-C241B5BE6DD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1640" y="275760"/>
            <a:ext cx="63835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найцы – это люди, которые живут на севере Росс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28720" y="2016000"/>
            <a:ext cx="633564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43680" y="857160"/>
            <a:ext cx="3528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  <a:ea typeface="Microsoft YaHei"/>
              </a:rPr>
              <a:t>АЙО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3680" y="2857680"/>
            <a:ext cx="3571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найская ска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0:09:08Z</dcterms:created>
  <dc:creator>User</dc:creator>
  <dc:description/>
  <dc:language>en-US</dc:language>
  <cp:lastModifiedBy>Дмитрий Каленюк</cp:lastModifiedBy>
  <dcterms:modified xsi:type="dcterms:W3CDTF">2014-11-19T20:27:43Z</dcterms:modified>
  <cp:revision>8</cp:revision>
  <dc:subject/>
  <dc:title>Слайд 1</dc:title>
</cp:coreProperties>
</file>