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426A-1D7A-4327-8DB9-2B60E72989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ABF07-9745-40AA-8542-E9C655A5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C5FC-EC39-470B-A20B-194DD31A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C71B-4A5C-4227-8F69-45ADDDA2CC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DDBD6-CEC8-44C8-BC02-ED1A3FE9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CE87-D377-4617-B45C-CFD1B591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A282-B99A-40AE-9A4C-EC2E3E66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699B-D646-4282-BCB7-62FCCC49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F254-6D7F-46E0-A35B-F71CF267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59DB-C3D4-41F2-9670-0681C862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877A-AD63-40C6-9BC6-38F0766E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33AC-5AC7-4032-A294-97EA7E7C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54852C-97C1-4E69-85B5-A3478A10BA1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1640" y="275760"/>
            <a:ext cx="63835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найцы – это люди, которые живут на севере Росс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28720" y="2016000"/>
            <a:ext cx="633564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43680" y="857160"/>
            <a:ext cx="3528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  <a:ea typeface="Microsoft YaHei"/>
              </a:rPr>
              <a:t>АЙО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3680" y="2857680"/>
            <a:ext cx="3571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найская сказ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0:09:08Z</dcterms:created>
  <dc:creator>User</dc:creator>
  <dc:description/>
  <dc:language>en-US</dc:language>
  <cp:lastModifiedBy>Дмитрий Каленюк</cp:lastModifiedBy>
  <dcterms:modified xsi:type="dcterms:W3CDTF">2014-11-19T20:27:43Z</dcterms:modified>
  <cp:revision>8</cp:revision>
  <dc:subject/>
  <dc:title>Слайд 1</dc:title>
</cp:coreProperties>
</file>