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FD6-0542-4CD2-B4A3-8EBCC6C7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F49-126D-4BEC-8DDB-3FC0DC46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F9A-70DC-4D39-81EE-830404D9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1B8-FE42-4428-BA6D-17799CCF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1725-CD2F-4DF4-8BBC-9507E5D9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A928-5A22-445A-87CC-E3FEA1C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A6B3-9C6D-451B-B734-7504E628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7C49-FD5D-4E68-946C-F14835F7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53AE-EA60-4611-AC94-8FFF8074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CFD7-FEEA-4A9D-A5C0-FA5A5601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EE10-A683-4914-AA4A-AEB1AE9E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6EF-B17D-4EA3-9AD5-84D5A8EB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D449-847B-4F1F-A387-EB6D36CB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DA64-E962-43E9-B1EF-F5FE3550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5B3B-1DE3-4643-8F74-7E049897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8012-29A8-4872-BCDA-F98B4B2F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B215-938A-4DC3-9E1F-00E9D093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E71-D69A-4BD5-A8CB-919048AB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0D1-69CD-44A4-9D24-13DDDBF7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0BFD-17C0-494B-8500-8575B3F0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E7B-8BE2-41DE-BF46-90490831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5EF-882D-42E6-935A-41CB5C52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461-0C25-464F-9D5A-5188DFF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23E-C4D8-4254-9176-F50D7AE2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2828-1DC5-4D12-AEEE-17A1E56735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2FF1-1938-45EA-8FDC-523F0155A5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Бадминтон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полнил Петров Тимофе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ченик 3 «Б» класс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834920" y="3213000"/>
            <a:ext cx="5616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Times New Roman"/>
              </a:rPr>
              <a:t>Все любят и знают игру бадминтон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45284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3121200" cy="20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Times New Roman"/>
              </a:rPr>
              <a:t>Что такое бадминтон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о не просто дворовая игра, а вид спорт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479680" cy="3724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4465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Истори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временная традиция игры берет начало в Англии, в старинной усадьбе Бадминтон-Хаус в 1873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032000" cy="2830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4176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Times New Roman"/>
              </a:rPr>
              <a:t>Снаряже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7640" cy="38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33800" cy="2265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4149720"/>
            <a:ext cx="20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22100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авила. Как играть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ача производится из правой или левой зоны подачи в зависимости от счета. Волан должен лететь по диагонали в зону подачи соперни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6247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ол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7200720" cy="4124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458136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гроки располагаются на противоположных сторонах разделённой сеткой площадки и перекидывают волан через сетку ударами ракеток, стремясь, чтобы он упал на поле противника. Соперничают два игрока или две пары игро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Нарушени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о время игры волан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адает вне пределов ко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олетит сквозь сетку или под 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 перелетит через сет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снется потолка или стен з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снется тела или одежды игро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снется любого предмета или лица, находящегося в непосредственной близости от кор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Вывод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админтон - это великая игра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на проста, интересна и увлекатель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1557360"/>
            <a:ext cx="471024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8T17:39:27Z</dcterms:created>
  <dc:creator>KATYA</dc:creator>
  <dc:description/>
  <dc:language>en-US</dc:language>
  <cp:lastModifiedBy>KATYA</cp:lastModifiedBy>
  <dcterms:modified xsi:type="dcterms:W3CDTF">2020-11-08T18:48:55Z</dcterms:modified>
  <cp:revision>5</cp:revision>
  <dc:subject/>
  <dc:title>Бадминтон</dc:title>
</cp:coreProperties>
</file>