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001-3D4A-4EA0-89E5-0168130E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42C-E2F4-4052-8C3E-60027753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4709-842E-4613-939C-6014BAF1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E503-1B2D-48E7-A30F-AB69E7FE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1967-099D-4BF8-87E2-F770760D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A1B9-EF56-4329-A04A-74A78725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1C11-BD07-457E-AE7A-49C8AE00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C7E3-67B2-4D85-9FE1-4CD33FB1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2186-97AC-44C2-BD31-693A2D9C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A4B3-4924-4A74-8799-239303BE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9C4A-7323-487E-ADE7-A86DD97F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81BB-28A3-439E-BBE5-80D4F7FE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EF9F-A699-42E7-93F3-AC10461C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7613-2917-4784-A34F-ADE4E40F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B83A-3A88-4F70-950F-2AD8FA75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8790-A01A-4DD1-95E5-1081823F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1846-E666-49B5-99FA-4288A54D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2751-8B3D-42D8-984D-7E1C9C6B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B208-29CE-4AF6-A1E5-1B134FF1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4EAC-8880-4592-A51C-CE3CF891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B7F-9774-4C0E-A527-23F30DA3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C62-02DB-4AD0-96AF-27328D14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6491-8B0B-4B26-8945-254A4A96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B2C-3EF9-47C2-85B1-5B93122D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90A0-B637-4F5F-8129-B87690D4EE2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B2EC-0EEF-43C6-AF45-FFC54AF5B09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Бадминтон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ыполнил Петров Тимофе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ченик 3 «Б» класс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834920" y="3213000"/>
            <a:ext cx="5616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Times New Roman"/>
              </a:rPr>
              <a:t>Все любят и знают игру бадминтон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452840" cy="2971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19640" y="3860640"/>
            <a:ext cx="3121200" cy="20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Times New Roman"/>
              </a:rPr>
              <a:t>Что такое бадминтон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то не просто дворовая игра, а вид спорта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479680" cy="3724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44654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История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овременная традиция игры берет начало в Англии, в старинной усадьбе Бадминтон-Хаус в 1873 го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4032000" cy="2830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3284640"/>
            <a:ext cx="41767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Times New Roman"/>
              </a:rPr>
              <a:t>Снаряжен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887640" cy="38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33800" cy="2265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3280" y="4149720"/>
            <a:ext cx="2089440" cy="2089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804000" y="4221000"/>
            <a:ext cx="2158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равила. Как играть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дача производится из правой или левой зоны подачи в зависимости от счета. Волан должен лететь по диагонали в зону подачи соперни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66247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ол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7200720" cy="4124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4581360"/>
            <a:ext cx="47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гроки располагаются на противоположных сторонах разделённой сеткой площадки и перекидывают волан через сетку ударами ракеток, стремясь, чтобы он упал на поле противника. Соперничают два игрока или две пары игро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Нарушения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о время игры волан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адает вне пределов кор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олетит сквозь сетку или под 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е перелетит через сет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оснется потолка или стен з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оснется тела или одежды игро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оснется любого предмета или лица, находящегося в непосредственной близости от кор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Выво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админтон - это великая игра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на проста, интересна и увлекатель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211640" y="1557360"/>
            <a:ext cx="471024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8T17:39:27Z</dcterms:created>
  <dc:creator>KATYA</dc:creator>
  <dc:description/>
  <dc:language>en-US</dc:language>
  <cp:lastModifiedBy>KATYA</cp:lastModifiedBy>
  <dcterms:modified xsi:type="dcterms:W3CDTF">2020-11-08T18:48:55Z</dcterms:modified>
  <cp:revision>5</cp:revision>
  <dc:subject/>
  <dc:title>Бадминтон</dc:title>
</cp:coreProperties>
</file>