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0ED7-D37E-494B-9885-E0299C56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388-9529-4DB2-8981-C1FB86AC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155E-3092-4A4C-B775-9C27DE46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3885-13F7-4EF7-8845-3F2C6A5E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B843-1E1A-48E7-BC1D-05EFC94F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61E1-79E2-4E51-B9E4-869C2A25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9073-3565-4A31-88D5-25FC4C1A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F7AD-75BD-4094-A588-3889E957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245E-D6CD-43BC-ACA4-258BA413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7CF4-6139-4671-B940-AE27D68E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D5D6-592B-41E1-82BE-A624D0B8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D74E-0AF9-4C5F-A319-B90C216E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087E-670C-4848-964B-ADEED154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9FDE-128E-4B29-8A8F-597FA03A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846D-26DE-4314-A360-54F9E3BE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2240-7C38-4EEE-817F-0FA9264B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956B-03AF-4969-A75C-9573AFFE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319C1-D1E8-4DC8-AD8B-E55EC1CB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EB5E2-7698-4879-AD50-8E1322E8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0EAE7-BB37-443D-B44F-65C5EEBE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678CF-5564-4198-85C6-E3DA17BC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1AFF4-32A7-4D9D-B9EA-AAD00956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2C52-CA57-4B14-8FD9-01320D7A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84B10-2774-46AC-93DC-DD46CC89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61BB8-3B82-4257-8BB3-C42A3D18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F4750-A0C7-45A3-A502-0C6F1A0C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63655-A3B4-4855-BF73-E5D9604D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88026-CC5C-4F72-A7EC-05CF5A19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F9F2F-6AEF-4028-B339-6144C807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4FDA4-BCD2-46FA-AB44-DF447DA2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002EE-037D-4A32-A3E1-7916F859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8E5B5-5132-4046-8D3D-7DA6D776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EAEDE-F831-493A-83D3-D0E8FA97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A10-AC96-4876-AC99-BFC71D22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78FBE-D84B-48BF-A594-A7178343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99A4C-8E55-451A-BCA4-9374B3B3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7774C-2EBB-48CC-9ED5-9E48D8D6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8C3C0-048B-4DE0-B4FE-BC6B6282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34B75-E14D-4C13-9A47-BA750E5E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04232-2F83-4FEC-A6C6-EDBE895F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17AE9-11AE-4674-8DC8-15AA4A28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FF32F-0CE2-4799-B6FB-2BB0E585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C7639-9FDF-40C4-9783-44F5799E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34CD-330D-4B51-B834-27976627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40B8-E684-45C9-A068-284BD786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6703-0D91-4395-AC40-DCA3E1B1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12FA-A60C-423B-B21B-E36BEB85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D13-F93A-48BE-B23A-C64FA9F4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C293CB-79F1-4235-B3CF-745E04E2397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4EAD1-F9B7-4804-ACA6-D6748E860330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9266E-9A4F-4E2A-80C7-BD7DE4225859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29654-83AE-4A99-B2F8-E139B058CE23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1800" y="437760"/>
            <a:ext cx="8126280" cy="333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я игра для педагогов дошкольного образован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натоки предметно-пространственной среды в ДОО»</a:t>
            </a:r>
            <a:br>
              <a:rPr sz="36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Рисунок 2" descr=""/>
          <p:cNvPicPr/>
          <p:nvPr/>
        </p:nvPicPr>
        <p:blipFill>
          <a:blip r:embed="rId1"/>
          <a:stretch/>
        </p:blipFill>
        <p:spPr>
          <a:xfrm>
            <a:off x="682560" y="2073240"/>
            <a:ext cx="829476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297000" y="760320"/>
            <a:ext cx="9245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профессиональной компетентности педагогических работников дошкольного образования в освоении и реализации требований ФГОС к развивающей предметно-пространственной среде в ДОО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ять представления педагогов ДОО о развивающей предметно-пространственной среде, особенностях её организации в соответствии с требованиями ФГОС ДО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творческую активность педагогов в решении разнообразных задач и ситуаций, аналитические способнос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ировать деятельность педагогов ДОО по проектированию развивающей предметно-пространственной сре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2"/>
          <p:cNvSpPr/>
          <p:nvPr/>
        </p:nvSpPr>
        <p:spPr>
          <a:xfrm>
            <a:off x="1430280" y="412920"/>
            <a:ext cx="74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е задание «Кто быстрее?» -по 1 балл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604800" y="927000"/>
            <a:ext cx="853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ите следующее утверждение, дав быстрый и правильный отв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«В соответствии с ФГОС ДО предметная среда в детском саду называется…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Прямоугольник 4"/>
          <p:cNvSpPr/>
          <p:nvPr/>
        </p:nvSpPr>
        <p:spPr>
          <a:xfrm>
            <a:off x="604800" y="1893960"/>
            <a:ext cx="853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ой вид деятельности реализуется с помощью следующих предметов: кукла, коляска, машинка, солдатики, железная дорога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Прямоугольник 6"/>
          <p:cNvSpPr/>
          <p:nvPr/>
        </p:nvSpPr>
        <p:spPr>
          <a:xfrm>
            <a:off x="604800" y="2859120"/>
            <a:ext cx="853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ой вид деятельности реализуется с помощью следующих предметов: книги, коробка форм, лото, мозаика, вкладыши, календарь погоды?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Прямоугольник 7"/>
          <p:cNvSpPr/>
          <p:nvPr/>
        </p:nvSpPr>
        <p:spPr>
          <a:xfrm>
            <a:off x="604800" y="382428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 каком центре идет речь: удовлетворение потребностей в двигательной активности, организация самостоятельной двигательной активности, развитие представлений детей о разных видах спорта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631800" y="463680"/>
            <a:ext cx="851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 каком центре идет речь: воспитание эстетических чувств, формирование индивидуально-коллективного творчества, формирование интереса к произведениям искусства, формирование навыков изобразительной деятельности?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631800" y="1787400"/>
            <a:ext cx="851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 какому центру предметно-развивающей среды принадлежат следующие атрибуты: мел, песок, глина, камни, ракушки, перья, уголь, микроскоп, глобус, лабораторное оборудование, мерная посуда и т.д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Прямоугольник 5"/>
          <p:cNvSpPr/>
          <p:nvPr/>
        </p:nvSpPr>
        <p:spPr>
          <a:xfrm>
            <a:off x="631800" y="2897280"/>
            <a:ext cx="851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К какому центру предметно-развивающей среды принадлежат следующие атрибуты: конструкторы разного размера, кубики, крупный и мелкий деревянный строительный материал, схемы и чертежи построек, крупные и мелкие объемные формы и т.д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Прямоугольник 7"/>
          <p:cNvSpPr/>
          <p:nvPr/>
        </p:nvSpPr>
        <p:spPr>
          <a:xfrm flipV="1" rot="10800000">
            <a:off x="631440" y="4219920"/>
            <a:ext cx="889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Как называется предмет, который дети используют в игре вместо другого предмета, руководствуясь принципом «понарошку»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863640" y="77328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Как вы знаете, предметно-развивающую среду условно разделяют на микро- и макросреды. Микросреда – это внутреннее оформление помещений. Перечислите элементы, относящиеся к макросред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Прямоугольник 2"/>
          <p:cNvSpPr/>
          <p:nvPr/>
        </p:nvSpPr>
        <p:spPr>
          <a:xfrm>
            <a:off x="760320" y="1982880"/>
            <a:ext cx="838368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е задание «Волшебники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аждое угаданное слово 2 балл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дставленной таблице закодированы названия основных требований, предъявляемых ФГОС ДО к развивающей предметно-пространственной среде. Необходимо быстро и правильно расшифровать эти названия и озвучить их согласно данной последовательности циф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438120" y="0"/>
          <a:ext cx="8667720" cy="7315200"/>
        </p:xfrm>
        <a:graphic>
          <a:graphicData uri="http://schemas.openxmlformats.org/drawingml/2006/table">
            <a:tbl>
              <a:tblPr/>
              <a:tblGrid>
                <a:gridCol w="722520"/>
                <a:gridCol w="722160"/>
                <a:gridCol w="722160"/>
                <a:gridCol w="722520"/>
                <a:gridCol w="722160"/>
                <a:gridCol w="722520"/>
                <a:gridCol w="722160"/>
                <a:gridCol w="722160"/>
                <a:gridCol w="722520"/>
                <a:gridCol w="722160"/>
                <a:gridCol w="722520"/>
                <a:gridCol w="72216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     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38120" y="7353360"/>
          <a:ext cx="8744040" cy="366480"/>
        </p:xfrm>
        <a:graphic>
          <a:graphicData uri="http://schemas.openxmlformats.org/drawingml/2006/table">
            <a:tbl>
              <a:tblPr/>
              <a:tblGrid>
                <a:gridCol w="8744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631800" y="219240"/>
            <a:ext cx="85122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е задание «Конкурс капитанов» - 10 балл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й приглашает капитанов выйти и выбрать листочек с заданием (можно совещаться с командой, но за это вычитается 5 баллов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 вы понимаете полифункциональность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631800" y="2022480"/>
            <a:ext cx="76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вы понимаете трансформируемость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617400" y="90360"/>
            <a:ext cx="864252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е задание «Заполни пропуск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ы по очереди отвечают на вопросы об особенностях развивающей предметно-пространственной среде в ДОО -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1 баллу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ts val="1474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а должна быть …………………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му: и взрослому, и ребёнк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ts val="14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ts val="14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реда должна обеспечивать богатый выбор для……………работы с деть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ля детей младшего дошкольного возраста необходимо достаточно большое пространство в группе для удовлетворения потребности в ……………..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авильно организованная развивающая среда позволяет каждому ребенку младшего дошкольного возраста найти занятие по душе, поверить в свои силы и способности, научиться взаимодействовать …………., понимать и оценивать их чувства и поступки, а ведь именно это и лежит в основе развивающего обуч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Прямоугольник 2"/>
          <p:cNvSpPr/>
          <p:nvPr/>
        </p:nvSpPr>
        <p:spPr>
          <a:xfrm flipV="1" rot="10800000">
            <a:off x="617040" y="4707000"/>
            <a:ext cx="85266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тогу деловой игры побеждает та команда, которая набрала больше баллов. Победители и участники обмениваются улыбками, объятиями и рукопожатиями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2498760" y="3129120"/>
            <a:ext cx="70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94de61"/>
                </a:solidFill>
                <a:latin typeface="Times New Roman"/>
                <a:ea typeface="Calibri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6T07:41:44Z</dcterms:created>
  <dc:creator>Лариса</dc:creator>
  <dc:description/>
  <dc:language>en-US</dc:language>
  <cp:lastModifiedBy>Лариса</cp:lastModifiedBy>
  <dcterms:modified xsi:type="dcterms:W3CDTF">2020-01-26T10:44:40Z</dcterms:modified>
  <cp:revision>12</cp:revision>
  <dc:subject/>
  <dc:title>Деловая игра для педагогов дошкольного образования «Знатоки предметно-пространственной среды в ДОО»</dc:title>
</cp:coreProperties>
</file>