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E4B-DF4A-40DF-B473-985FE449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A18-C3BC-4EE6-96BC-9975E0A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C19-A3DB-445E-8ADF-F46A2D9D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9D5-0B71-4353-8A72-8799FC0E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EF09-A1C4-4FF2-87BB-3E12F450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4408-7C1D-419E-8B0E-DD27B102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86C3-D95A-4E07-B38F-38B76EE1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611-D9E2-4474-9F49-9AC5EA5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DF9A-5510-4426-97DE-F804326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436A-66D6-43C4-89BA-AA7FBC1C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4780-4EFA-4AC5-994C-91306E9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0D7-CC50-4505-8110-E8E5599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F59C-C4B2-4540-B883-5AEA952E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1A0A-D68D-46F7-9540-CF59079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024A-F318-470A-9EE4-6F78822A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ECFD-C076-400A-BD47-6C3BDA30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F6C-FBA1-47EF-B3AA-64E4E648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7714-D696-4F09-835B-C1773074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6418-072D-408B-AD9E-3E84E43B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D037-D435-4651-8BED-EAA00148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844A-2FB6-4E57-8A65-0C5E90F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311D-1C8A-4F9F-A67A-571F9F8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14E-53A9-4D5C-9EFC-6AFB6215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17B5-0128-45B0-B230-B047B25B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51CE-0725-4DF3-B0EB-B161886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A91D-4D06-46B8-A147-20C3AC5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6B72-CE8A-42FE-9DAC-4CC6262E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13B7-FC77-49B5-A072-FFD00FE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41B2-6D51-4CF1-82AB-10804BB2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F974-CCCA-42EF-970F-567485F4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830B-16DF-4F20-95EC-653BDC9B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2B1E-C696-480A-B3C0-856093BA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78FB-CC23-4393-91E8-D7120264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7B3-411D-4703-B1EF-4CB9EED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630E-EE5D-4650-ABAE-82EFEB8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5B48-0890-4583-AAD6-3654CD9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A532-080D-4E86-9A9F-0DDFCCE3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30D6-AE1F-4D47-991A-EAF41942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4EBC-9479-4180-A788-24B42ED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A9F86-D922-40B0-B068-F12CDD7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DA54-CD8E-4572-ADCC-DAD3FE1A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1F23-AFEB-44C1-8B1C-3373BABC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E6C6-8ACA-476A-906F-14FB58D7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03D-BA86-4D10-ACB2-94BD61E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CB0-519C-40B4-A797-784317B2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D03-4A3D-453D-AFAD-1A30A35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A15-C637-4379-93E1-DB708A10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699-A01A-4945-8769-030B3B5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03D46-B8CC-4C30-BB76-49B46E8A850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8C390-88C7-49FB-9988-B8762C25281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35F6C-67DA-4AD3-BC7D-EE01F37D0F3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6E575-01EA-43B9-9A78-2C9C43B3A00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1800" y="437760"/>
            <a:ext cx="8126280" cy="33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 для педагогов дошкольного образова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токи предметно-пространственной среды в ДОО»</a:t>
            </a:r>
            <a:br>
              <a:rPr sz="36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682560" y="2073240"/>
            <a:ext cx="8294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97000" y="760320"/>
            <a:ext cx="924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ьной компетентности педагогических работников дошкольного образования в освоении и реализации требований ФГОС к развивающей предметно-пространственной среде в ДО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педагогов ДОО о развивающей предметно-пространственной среде, особенностях её организации в соответствии с требованиями ФГОС Д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ую активность педагогов в решении разнообразных задач и ситуаций, аналитические способ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деятельность педагогов ДОО по проектированию развивающей предметно-пространственной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2"/>
          <p:cNvSpPr/>
          <p:nvPr/>
        </p:nvSpPr>
        <p:spPr>
          <a:xfrm>
            <a:off x="1430280" y="412920"/>
            <a:ext cx="74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Кто быстрее?» -по 1 бал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04800" y="927000"/>
            <a:ext cx="853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следующее утверждение, дав быстрый и правильный 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«В соответствии с ФГОС ДО предметная среда в детском саду называется…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04800" y="1893960"/>
            <a:ext cx="853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ой вид деятельности реализуется с помощью следующих предметов: кукла, коляска, машинка, солдатики, железная дорога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604800" y="2859120"/>
            <a:ext cx="853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й вид деятельности реализуется с помощью следующих предметов: книги, коробка форм, лото, мозаика, вкладыши, календарь погоды?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604800" y="3824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каком центре идет речь: удовлетворение потребностей в двигательной активности, организация самостоятельной двигательной активности, развитие представлений детей о разных видах спорта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31800" y="463680"/>
            <a:ext cx="85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каком центре идет речь: воспитание эстетических чувств, формирование индивидуально-коллективного творчества, формирование интереса к произведениям искусства, формирование навыков изобразительной деятельности?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31800" y="1787400"/>
            <a:ext cx="851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 какому центру предметно-развивающей среды принадлежат следующие атрибуты: мел, песок, глина, камни, ракушки, перья, уголь, микроскоп, глобус, лабораторное оборудование, мерная посуда и т.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631800" y="2897280"/>
            <a:ext cx="85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 какому центру предметно-развивающей среды принадлежат следующие атрибуты: конструкторы разного размера, кубики, крупный и мелкий деревянный строительный материал, схемы и чертежи построек, крупные и мелкие объемные формы и т.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7"/>
          <p:cNvSpPr/>
          <p:nvPr/>
        </p:nvSpPr>
        <p:spPr>
          <a:xfrm flipV="1" rot="10800000">
            <a:off x="631440" y="4219920"/>
            <a:ext cx="889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 называется предмет, который дети используют в игре вместо другого предмета, руководствуясь принципом «понарошку»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863640" y="773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 вы знаете, предметно-развивающую среду условно разделяют на микро- и макросреды. Микросреда – это внутреннее оформление помещений. Перечислите элементы, относящиеся к макросред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760320" y="1982880"/>
            <a:ext cx="83836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Волшебник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ое угаданное слово 2 бал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ставленной таблице закодированы названия основных требований, предъявляемых ФГОС ДО к развивающей предметно-пространственной среде. Необходимо быстро и правильно расшифровать эти названия и озвучить их согласно данной последовательности циф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438120" y="0"/>
          <a:ext cx="8667720" cy="7315200"/>
        </p:xfrm>
        <a:graphic>
          <a:graphicData uri="http://schemas.openxmlformats.org/drawingml/2006/table">
            <a:tbl>
              <a:tblPr/>
              <a:tblGrid>
                <a:gridCol w="722520"/>
                <a:gridCol w="722160"/>
                <a:gridCol w="722160"/>
                <a:gridCol w="722520"/>
                <a:gridCol w="722160"/>
                <a:gridCol w="722520"/>
                <a:gridCol w="722160"/>
                <a:gridCol w="722160"/>
                <a:gridCol w="722520"/>
                <a:gridCol w="722160"/>
                <a:gridCol w="722520"/>
                <a:gridCol w="7221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     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38120" y="7353360"/>
          <a:ext cx="8744040" cy="366480"/>
        </p:xfrm>
        <a:graphic>
          <a:graphicData uri="http://schemas.openxmlformats.org/drawingml/2006/table">
            <a:tbl>
              <a:tblPr/>
              <a:tblGrid>
                <a:gridCol w="8744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631800" y="219240"/>
            <a:ext cx="8512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Конкурс капитанов» - 10 балл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приглашает капитанов выйти и выбрать листочек с заданием (можно совещаться с командой, но за это вычитается 5 баллов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вы понимаете полифункциональность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631800" y="202248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вы понимаете трансформируемость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617400" y="90360"/>
            <a:ext cx="86425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Заполни пропус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ы по очереди отвечают на вопросы об особенностях развивающей предметно-пространственной среде в ДОО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1 балл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474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должна быть …………………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: и взрослому, и ребён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реда должна обеспечивать богатый выбор для……………работы с деть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детей младшего дошкольного возраста необходимо достаточно большое пространство в группе для удовлетворения потребности в …………….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авильно организованная развивающая среда позволяет каждому ребенку младшего дошкольного возраста найти занятие по душе, поверить в свои силы и способности, научиться взаимодействовать …………., понимать и оценивать их чувства и поступки, а ведь именно это и лежит в основе развивающего обуч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2"/>
          <p:cNvSpPr/>
          <p:nvPr/>
        </p:nvSpPr>
        <p:spPr>
          <a:xfrm flipV="1" rot="10800000">
            <a:off x="617040" y="4707000"/>
            <a:ext cx="852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у деловой игры побеждает та команда, которая набрала больше баллов. Победители и участники обмениваются улыбками, объятиями и рукопожатия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498760" y="312912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4de61"/>
                </a:solidFill>
                <a:latin typeface="Times New Roman"/>
                <a:ea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6T07:41:44Z</dcterms:created>
  <dc:creator>Лариса</dc:creator>
  <dc:description/>
  <dc:language>en-US</dc:language>
  <cp:lastModifiedBy>Лариса</cp:lastModifiedBy>
  <dcterms:modified xsi:type="dcterms:W3CDTF">2020-01-26T10:44:40Z</dcterms:modified>
  <cp:revision>12</cp:revision>
  <dc:subject/>
  <dc:title>Деловая игра для педагогов дошкольного образования «Знатоки предметно-пространственной среды в ДОО»</dc:title>
</cp:coreProperties>
</file>