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13.jpeg" ContentType="image/jpeg"/>
  <Override PartName="/ppt/media/image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D94C-C1CF-40C4-A9C8-34C996D6BD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519D-B34E-4C73-80A5-BD6D001E07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187F-69C7-4A47-9FAE-A015C82937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BFC2-F79F-4E00-9F7D-F195E157B6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E29-1399-42A5-B046-5541A932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412-FC2C-4D34-B3DD-781A76BB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7FC-D788-4DE1-84B6-0B40E3A2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0DD-26DA-4E4A-B2CF-84951BF2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EAE-37C7-4D7A-BB10-DB6E3B3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3AC-B787-4DC4-A872-B28F7D43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A37-D7C3-4905-8A39-25EE307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E4F-C3A7-4D2E-AD90-49AAE524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E58-DADE-4ADC-BE34-EA8FF9D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5AC-B936-41E5-B844-E35AEAC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671-EA91-4943-90FC-F867BA0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07D-C5FD-4F00-9312-9481FA5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B359-8F0D-4B26-9469-15D2DEEB2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одзаголовок 2"/>
          <p:cNvSpPr/>
          <p:nvPr/>
        </p:nvSpPr>
        <p:spPr>
          <a:xfrm>
            <a:off x="2050920" y="1773360"/>
            <a:ext cx="50882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ДИДАКТИЧЕСКИЕ ИГРЫ И ПОСОБ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ДЛЯ СЕНСОРНОГО РАЗВИТИЯ ДОШКОЛЬНИКОВ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4-5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1042920" y="3716280"/>
            <a:ext cx="720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onotype Corsiva"/>
              </a:rPr>
              <a:t>МДОУ «Детский сад «Чебураш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onotype Corsiva"/>
              </a:rPr>
              <a:t>г. Качканар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Monotype Corsiva"/>
              </a:rPr>
              <a:t>Тасакова Татьяна Леонид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4681800" cy="3513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84720" y="3284640"/>
            <a:ext cx="4392720" cy="3294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443640" y="404640"/>
            <a:ext cx="1643040" cy="273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360036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83880" y="728280"/>
            <a:ext cx="604836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Сенсорное развитие ребенка</a:t>
            </a: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развитие его восприятия и формирование представлений о свойствах предметов и различных явлениях окружающего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3280" y="3357720"/>
            <a:ext cx="3816360" cy="28620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592360" cy="1944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95280" y="4797360"/>
            <a:ext cx="2519280" cy="18892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156360" y="4076640"/>
            <a:ext cx="2665440" cy="19987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84360" y="1252440"/>
            <a:ext cx="4535280" cy="3148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036800" y="241920"/>
            <a:ext cx="68940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Дидактическое пособие по сенсорному развит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«Весёлая гусеница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195640" cy="266400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46160" y="287280"/>
            <a:ext cx="535464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Дидактическое пособие «Черепаш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nasha_umnaya_cherepashka._uchimsya_zavyazyvat_i_shnurovat" descr=""/>
          <p:cNvPicPr/>
          <p:nvPr/>
        </p:nvPicPr>
        <p:blipFill>
          <a:blip r:embed="rId2"/>
          <a:stretch/>
        </p:blipFill>
        <p:spPr>
          <a:xfrm rot="5400000">
            <a:off x="1009440" y="2814480"/>
            <a:ext cx="2803320" cy="3743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59280" y="1125360"/>
            <a:ext cx="3675240" cy="27561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692360" y="1341360"/>
            <a:ext cx="1714320" cy="1703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867280" y="4365720"/>
            <a:ext cx="171468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0520" y="148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0520" bIns="-126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ano_svoimi_ruchkami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85080" cy="4430520"/>
          </a:xfrm>
          <a:prstGeom prst="rect">
            <a:avLst/>
          </a:prstGeom>
          <a:ln w="34920">
            <a:solidFill>
              <a:srgbClr val="3333cc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536120" y="165600"/>
            <a:ext cx="608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идактическое игровое пособ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Сенсорный коври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3"/>
          <p:cNvSpPr/>
          <p:nvPr/>
        </p:nvSpPr>
        <p:spPr>
          <a:xfrm>
            <a:off x="1403280" y="5734080"/>
            <a:ext cx="1619280" cy="91116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4067280" y="5950080"/>
            <a:ext cx="1137960" cy="64764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6659640" y="6165720"/>
            <a:ext cx="673200" cy="379440"/>
          </a:xfrm>
          <a:prstGeom prst="cube">
            <a:avLst>
              <a:gd name="adj" fmla="val 25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20640000">
            <a:off x="539640" y="836280"/>
            <a:ext cx="3240360" cy="2430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435640" y="1052640"/>
            <a:ext cx="3281400" cy="2460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717640" y="3357720"/>
            <a:ext cx="2322720" cy="3097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508720" y="3933720"/>
            <a:ext cx="3240000" cy="24307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74" name="Oval 9"/>
          <p:cNvSpPr/>
          <p:nvPr/>
        </p:nvSpPr>
        <p:spPr>
          <a:xfrm>
            <a:off x="250920" y="3860640"/>
            <a:ext cx="1055520" cy="3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9"/>
          <p:cNvSpPr/>
          <p:nvPr/>
        </p:nvSpPr>
        <p:spPr>
          <a:xfrm>
            <a:off x="1547640" y="3860640"/>
            <a:ext cx="1055880" cy="324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50920" y="4581360"/>
            <a:ext cx="1055520" cy="3240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9"/>
          <p:cNvSpPr/>
          <p:nvPr/>
        </p:nvSpPr>
        <p:spPr>
          <a:xfrm>
            <a:off x="1547640" y="4581360"/>
            <a:ext cx="1057320" cy="324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9"/>
          <p:cNvSpPr/>
          <p:nvPr/>
        </p:nvSpPr>
        <p:spPr>
          <a:xfrm>
            <a:off x="1547640" y="6021360"/>
            <a:ext cx="1055880" cy="3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9"/>
          <p:cNvSpPr/>
          <p:nvPr/>
        </p:nvSpPr>
        <p:spPr>
          <a:xfrm>
            <a:off x="250920" y="5300640"/>
            <a:ext cx="1055520" cy="32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9"/>
          <p:cNvSpPr/>
          <p:nvPr/>
        </p:nvSpPr>
        <p:spPr>
          <a:xfrm>
            <a:off x="1547640" y="5300640"/>
            <a:ext cx="1055880" cy="324000"/>
          </a:xfrm>
          <a:prstGeom prst="ellipse">
            <a:avLst/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9"/>
          <p:cNvSpPr/>
          <p:nvPr/>
        </p:nvSpPr>
        <p:spPr>
          <a:xfrm>
            <a:off x="324000" y="6021360"/>
            <a:ext cx="1056960" cy="324000"/>
          </a:xfrm>
          <a:prstGeom prst="ellipse">
            <a:avLst/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2268720" cy="3024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268720" cy="30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2268360" cy="3024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2268720" cy="30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6" name="Rectangle 19"/>
          <p:cNvSpPr/>
          <p:nvPr/>
        </p:nvSpPr>
        <p:spPr>
          <a:xfrm>
            <a:off x="7164360" y="404640"/>
            <a:ext cx="1535040" cy="540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7164360" y="1052640"/>
            <a:ext cx="932040" cy="539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755640" y="5157720"/>
            <a:ext cx="1055520" cy="5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611280" y="4149720"/>
            <a:ext cx="1438200" cy="5396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476280"/>
            <a:ext cx="4000680" cy="30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3598920"/>
            <a:ext cx="4103640" cy="2882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2" name="Rectangle 19"/>
          <p:cNvSpPr/>
          <p:nvPr/>
        </p:nvSpPr>
        <p:spPr>
          <a:xfrm>
            <a:off x="324000" y="1125360"/>
            <a:ext cx="1535040" cy="540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324000" y="476280"/>
            <a:ext cx="3311280" cy="53964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324000" y="2781360"/>
            <a:ext cx="3311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324000" y="1844640"/>
            <a:ext cx="3311280" cy="792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219640" y="4149720"/>
            <a:ext cx="3240000" cy="172548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1720" y="39924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Дидактическое пособие «Животны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100240" cy="28083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700360" y="1197000"/>
            <a:ext cx="3384360" cy="253836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443640" y="1052640"/>
            <a:ext cx="2154240" cy="288108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68360" y="4365720"/>
            <a:ext cx="1547640" cy="1790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627280" y="4869000"/>
            <a:ext cx="1467000" cy="17906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788000" y="4797360"/>
            <a:ext cx="1579320" cy="1828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877080" y="4365720"/>
            <a:ext cx="1569960" cy="1828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2340000" y="2924280"/>
            <a:ext cx="1476360" cy="1800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5148360" y="2924280"/>
            <a:ext cx="1442880" cy="17604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6:12:45Z</dcterms:created>
  <dc:creator>ВАСЕК</dc:creator>
  <dc:description/>
  <dc:language>en-US</dc:language>
  <cp:lastModifiedBy>Евгений</cp:lastModifiedBy>
  <dcterms:modified xsi:type="dcterms:W3CDTF">2020-11-12T18:24:08Z</dcterms:modified>
  <cp:revision>44</cp:revision>
  <dc:subject/>
  <dc:title>Слайд 1</dc:title>
</cp:coreProperties>
</file>