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2CA9-8CB8-4485-82AE-02D4A647A0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E77-4DB8-4469-89E2-C25965E2E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67F-2AAC-4866-A108-2826E4362D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17C1-0121-4F9B-B684-5F5354138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6C7-9321-47D2-B00F-370CCC4E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D66-63F4-4ACF-ABC0-58AA037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663-5B75-4EDA-A466-8419124A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118-C5C6-47D3-9619-517B9CE3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941-04F6-44D0-9B96-ED614B6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AD5-0EC1-4660-81EB-7AB76FC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DD1-F85C-4894-B459-3A89094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492-6C76-4401-9ACC-6753520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A49-36F8-4694-AA94-5B939F97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ACA-35F5-45E5-A8DD-909B415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46D-9879-4AEB-9928-B63E6C7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778-BA16-4D43-921E-295268F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A22-BBF9-4D67-B919-9EFA119AB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одзаголовок 2"/>
          <p:cNvSpPr/>
          <p:nvPr/>
        </p:nvSpPr>
        <p:spPr>
          <a:xfrm>
            <a:off x="2050920" y="1773360"/>
            <a:ext cx="50882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ДИДАКТИЧЕСКИЕ ИГРЫ И ПОСОБ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ДЛЯ СЕНСОРНОГО РАЗВИТИЯ ДОШКОЛЬНИКОВ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4-5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042920" y="3716280"/>
            <a:ext cx="720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МДОУ «Детский сад «Чебураш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г. Качкана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Тасакова Татьяна Леонид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681800" cy="3513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4392720" cy="3294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43640" y="404640"/>
            <a:ext cx="16430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360036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83880" y="728280"/>
            <a:ext cx="604836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Сенсорное развитие ребенка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развитие его восприятия и формирование представлений о свойствах предметов и различных явлениях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3816360" cy="2862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592360" cy="1944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2519280" cy="18892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56360" y="4076640"/>
            <a:ext cx="2665440" cy="1998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4360" y="1252440"/>
            <a:ext cx="4535280" cy="3148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036800" y="241920"/>
            <a:ext cx="6894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идактическое пособие по сенсорному развит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«Весёлая гусениц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195640" cy="26640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46160" y="287280"/>
            <a:ext cx="535464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идактическое пособие «Черепа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nasha_umnaya_cherepashka._uchimsya_zavyazyvat_i_shnurovat" descr=""/>
          <p:cNvPicPr/>
          <p:nvPr/>
        </p:nvPicPr>
        <p:blipFill>
          <a:blip r:embed="rId2"/>
          <a:stretch/>
        </p:blipFill>
        <p:spPr>
          <a:xfrm rot="5400000">
            <a:off x="1009440" y="2814480"/>
            <a:ext cx="2803320" cy="3743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675240" cy="27561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92360" y="1341360"/>
            <a:ext cx="1714320" cy="170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867280" y="4365720"/>
            <a:ext cx="171468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0520" y="148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0520" bIns="-126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ano_svoimi_ruchkami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85080" cy="4430520"/>
          </a:xfrm>
          <a:prstGeom prst="rect">
            <a:avLst/>
          </a:prstGeom>
          <a:ln w="34920">
            <a:solidFill>
              <a:srgbClr val="3333cc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536120" y="165600"/>
            <a:ext cx="608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идактическое игровое пособ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Сенсорный ковр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403280" y="5734080"/>
            <a:ext cx="1619280" cy="91116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4067280" y="5950080"/>
            <a:ext cx="1137960" cy="64764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6659640" y="6165720"/>
            <a:ext cx="673200" cy="37944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0640000">
            <a:off x="539640" y="836280"/>
            <a:ext cx="3240360" cy="2430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281400" cy="2460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717640" y="3357720"/>
            <a:ext cx="2322720" cy="3097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508720" y="3933720"/>
            <a:ext cx="3240000" cy="2430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74" name="Oval 9"/>
          <p:cNvSpPr/>
          <p:nvPr/>
        </p:nvSpPr>
        <p:spPr>
          <a:xfrm>
            <a:off x="250920" y="3860640"/>
            <a:ext cx="105552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547640" y="3860640"/>
            <a:ext cx="1055880" cy="3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50920" y="4581360"/>
            <a:ext cx="1055520" cy="324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9"/>
          <p:cNvSpPr/>
          <p:nvPr/>
        </p:nvSpPr>
        <p:spPr>
          <a:xfrm>
            <a:off x="1547640" y="4581360"/>
            <a:ext cx="1057320" cy="3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9"/>
          <p:cNvSpPr/>
          <p:nvPr/>
        </p:nvSpPr>
        <p:spPr>
          <a:xfrm>
            <a:off x="1547640" y="6021360"/>
            <a:ext cx="105588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9"/>
          <p:cNvSpPr/>
          <p:nvPr/>
        </p:nvSpPr>
        <p:spPr>
          <a:xfrm>
            <a:off x="250920" y="5300640"/>
            <a:ext cx="1055520" cy="3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9"/>
          <p:cNvSpPr/>
          <p:nvPr/>
        </p:nvSpPr>
        <p:spPr>
          <a:xfrm>
            <a:off x="1547640" y="5300640"/>
            <a:ext cx="1055880" cy="324000"/>
          </a:xfrm>
          <a:prstGeom prst="ellips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9"/>
          <p:cNvSpPr/>
          <p:nvPr/>
        </p:nvSpPr>
        <p:spPr>
          <a:xfrm>
            <a:off x="324000" y="6021360"/>
            <a:ext cx="1056960" cy="32400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2268720" cy="3024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268720" cy="30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2268360" cy="3024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2268720" cy="30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Rectangle 19"/>
          <p:cNvSpPr/>
          <p:nvPr/>
        </p:nvSpPr>
        <p:spPr>
          <a:xfrm>
            <a:off x="7164360" y="404640"/>
            <a:ext cx="1535040" cy="540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7164360" y="1052640"/>
            <a:ext cx="932040" cy="539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755640" y="5157720"/>
            <a:ext cx="1055520" cy="5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611280" y="4149720"/>
            <a:ext cx="1438200" cy="539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000680" cy="30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3598920"/>
            <a:ext cx="4103640" cy="2882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2" name="Rectangle 19"/>
          <p:cNvSpPr/>
          <p:nvPr/>
        </p:nvSpPr>
        <p:spPr>
          <a:xfrm>
            <a:off x="324000" y="1125360"/>
            <a:ext cx="1535040" cy="540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324000" y="476280"/>
            <a:ext cx="3311280" cy="539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24000" y="2781360"/>
            <a:ext cx="3311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24000" y="1844640"/>
            <a:ext cx="3311280" cy="792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3240000" cy="1725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1720" y="39924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Дидактическое пособие «Животны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100240" cy="28083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700360" y="1197000"/>
            <a:ext cx="3384360" cy="25383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43640" y="1052640"/>
            <a:ext cx="2154240" cy="288108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1547640" cy="1790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627280" y="4869000"/>
            <a:ext cx="1467000" cy="1790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788000" y="4797360"/>
            <a:ext cx="1579320" cy="1828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877080" y="4365720"/>
            <a:ext cx="1569960" cy="1828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340000" y="2924280"/>
            <a:ext cx="1476360" cy="1800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148360" y="2924280"/>
            <a:ext cx="1442880" cy="1760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12:45Z</dcterms:created>
  <dc:creator>ВАСЕК</dc:creator>
  <dc:description/>
  <dc:language>en-US</dc:language>
  <cp:lastModifiedBy>Евгений</cp:lastModifiedBy>
  <dcterms:modified xsi:type="dcterms:W3CDTF">2020-11-12T18:24:08Z</dcterms:modified>
  <cp:revision>44</cp:revision>
  <dc:subject/>
  <dc:title>Слайд 1</dc:title>
</cp:coreProperties>
</file>