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5582-945E-4B8E-A7ED-AFEE4210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68CED-506C-4482-BDC1-2AA530F1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0A691-C2FC-4C0C-88E7-BF6A79A3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D52D0-B9CD-444C-8564-46931808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0338-F212-4675-ADCF-327274A1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D779-5368-4631-864B-886D9376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5E68-571B-4341-8C56-82E4279B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4D7E-9E4C-4E59-95A8-6B178E3D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130F-959E-4414-83C7-AF07C6EC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C316-8A72-46AD-B0C2-898F44DD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01BC-5A97-4AB7-8B72-C63D16B9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1282A-B2BA-4AEF-99D9-49ABA68C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CDE3-DBBB-417B-BF8A-FD08A1F8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5E93-0E75-4940-ACF8-CE5C7316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CB43-7350-4006-BA62-6A26492A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747A-681B-4191-8062-C68548EB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FEC6-CD2C-44E7-ADBB-A9E8DFF9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2F3DA-898C-40DF-9EF0-8FB3E44C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AAC44-560A-4CC3-9767-42447300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9FF60-0C66-4776-AF0A-E294DCA9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7E392F-FBBB-4C81-B0C9-BB60D9AD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6EA8A-75BA-4765-94A4-07DDC950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10229-BE06-4EFA-9C61-4566150A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416DC-82B2-46C1-8694-6850FBEC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4ABFC5-19A7-4831-887D-9C7C26A2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28712-1A4A-4620-AB0B-3AB701C4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18C53-D98C-4037-B060-B2F4E498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904609-6F89-4855-A6BC-152BA3E7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61DF3-59C3-4816-92FC-B6217D05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D48A9-806C-4CD0-AC4D-28B20C42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CB5C7-D1AA-42BA-997F-EA9A6583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71BC7-ED48-4777-81BA-93D01CEC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1D433-5BBD-488D-8583-D2DE72ED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4A67-37CF-46C8-B743-DD06777B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56B1D-7C1D-40A6-A266-067C9432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80CF8-56FC-4DB9-B595-CBDEE197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BF407-78D2-4C25-9203-21E96AFB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38E9F-2391-45A7-942A-397BAC0C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4597B-7C80-48ED-85BE-44D17C47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AFF4C-11C4-4532-BD1C-9C543496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A133A-FFB5-497C-B97C-311B9146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70DEC-6E8C-47ED-B9C0-82810285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DD024-5F2A-4B4F-B2D2-69C84AA0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67766-56F0-410B-8CDF-FFE773C6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FCBE0-9FAF-46B3-A886-9E383D3C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34076-DE11-46FD-8465-A73F3101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F3BFF-ABAA-4E72-96E9-19B04A92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785A5-187A-43EC-B299-11FEE274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C977F-6E68-4CC8-9F34-02EB0AF5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86F70-CF86-41D1-B12C-64635EF5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2B5BE-B1BA-4111-A8AD-E0B8DB0E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D291F-2091-44B3-B7A0-D31D3326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A1278-1F2B-40F9-A2E0-271713E4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FA7E0-0220-4EFE-A196-BCE099BD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21B1B-E8C6-45B4-93C1-398191FA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9E90B-3F66-49A2-9D57-0FAD8B62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7DB9D-2EB8-4931-86F3-122944E8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6ABF61-5DEE-4FF1-A935-C5876354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C0F414-9341-4279-B95F-C4BDE76F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79F3DB-386C-44D8-9617-455907EE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DC7A5A-A96F-485D-B7EE-66572E8D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4BB4A-9878-459E-82A8-FA8EC141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48A27-AA1B-4F09-92B6-E5565813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42A31-9C1A-4C92-9936-63F8DA85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0D7CE9-0D54-41C9-AF70-C1B61D2E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5C7C75-97FA-4294-8AC4-7ADD8301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9303A-EB2A-48E5-84DE-72A947D8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C9501F-233B-49EA-A011-2A718DD8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2ED33E-C5ED-4681-905E-BD633D5A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CC79F6-F0D1-4139-BB78-D185D3A3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0BADB-0FE6-4C01-9D95-66BAE154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DBBF2-0154-4CA5-8A30-2048CA97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04040-7240-41C2-AD8E-91C388EA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8CBFF-4458-4FB5-840C-7AC7BFB7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23A8C-75F2-4E0A-9C50-DFF6ADAD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FFB65-F131-4763-A38A-24F93F33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0D604-C753-4E65-B93F-838AF42B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D2D3D-D8D2-4F8D-9498-DEC11887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63BA7-0912-422D-8EE6-DC9AE268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48094-44E3-4DE0-8757-A7C7E986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4EDC5-32D5-45FB-93AD-F120D1CA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8AA59-D7AF-464E-8CDE-7211F64C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E9044-B45D-405F-9D81-32E289EA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F507C-0583-4AED-8AEF-CF23A2E2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1F816-FC82-4F30-A10F-E363481C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585F3-8126-4BE9-9676-7F79310A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610C5-444E-4550-AC6A-F2F1D994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AA258-03D3-4BE6-8146-E6EC0087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757F2-E90B-4B30-9BDB-01DA82B5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D4105-3C98-4BC5-851A-F344BE67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D0122-029B-4665-B0B3-332AF1B2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7BB41-21A7-499C-89C8-616903AB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06DE0-7CEB-4C44-AF0F-2BCB18D3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96FB2-3E3B-42EE-AB50-EA31927C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A391C-241C-43E2-82D6-72645A03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7FAD2-8D85-4AAB-B14C-563A7BD5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CC99-B319-405A-8E4A-387B2A1957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78C2-CA90-47B4-9D63-19FF0F36984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2D34-1EEF-45E1-9904-3D4B21D418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8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6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B210-A60D-402A-8D8F-57BE733593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9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20D0-AA4E-4EB7-99FA-C5D59FAE3D8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6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6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6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CE76-45BE-4880-9491-1BBF9E28162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5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0D7B-F18F-4844-83C2-FED60442703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09D0-5880-488C-9CFC-1F02512D61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5" descr="девоч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-360" y="-603360"/>
            <a:ext cx="9396360" cy="7461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Arial"/>
              </a:rPr>
              <a:t>Лекторий для родителей по теме:</a:t>
            </a: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33cccc"/>
                </a:solidFill>
                <a:uFillTx/>
                <a:latin typeface="Arial"/>
              </a:rPr>
              <a:t>« Как помочь ребенку стать внимательным»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2400" spc="-1" strike="noStrike" u="sng">
                <a:solidFill>
                  <a:srgbClr val="003399"/>
                </a:solidFill>
                <a:uFillTx/>
                <a:latin typeface="Arial"/>
              </a:rPr>
              <a:t>Учитель Курбанова А.Ф. </a:t>
            </a:r>
            <a:br>
              <a:rPr sz="2400"/>
            </a:br>
            <a:r>
              <a:rPr b="1" lang="ru-RU" sz="2400" spc="-1" strike="noStrike" u="sng">
                <a:solidFill>
                  <a:srgbClr val="003399"/>
                </a:solidFill>
                <a:uFillTx/>
                <a:latin typeface="Arial"/>
              </a:rPr>
              <a:t>2А класс МБОУ «СШ №8№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f1f45"/>
                </a:solidFill>
                <a:latin typeface="Arial"/>
              </a:rPr>
              <a:t>Объём внимания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н характеризуется количеством одновременно воспринимаемых и удерживаемых в сознании объек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4" descr="j0233018"/>
          <p:cNvPicPr/>
          <p:nvPr/>
        </p:nvPicPr>
        <p:blipFill>
          <a:blip r:embed="rId1"/>
          <a:stretch/>
        </p:blipFill>
        <p:spPr>
          <a:xfrm>
            <a:off x="5724360" y="3789360"/>
            <a:ext cx="3203640" cy="285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f1f45"/>
                </a:solidFill>
                <a:latin typeface="Arial"/>
              </a:rPr>
              <a:t>Устойчивость внимани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Это возможность длительного сосредоточения на одном и том же объекте, одной и той же пробл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Распределение вним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это одновременное внимание к одному или нескольким объектам при одновременном выполнении действий с ними или наблюдений за н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7" descr="j0292020"/>
          <p:cNvPicPr/>
          <p:nvPr/>
        </p:nvPicPr>
        <p:blipFill>
          <a:blip r:embed="rId1"/>
          <a:stretch/>
        </p:blipFill>
        <p:spPr>
          <a:xfrm>
            <a:off x="5580000" y="306864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Переключение вним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это перемещение внимания с одного объекта на другой или с одного вида деятельности на другой в связи с постановкой  новой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3399"/>
                </a:solidFill>
                <a:latin typeface="Arial"/>
              </a:rPr>
              <a:t>Внимание – это не раз и навсегда данное качество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имание можно и нужно развивать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му ребёнку это сделать трудно.  Ему необходимо помочь научиться управлять своим вниманием. И главным помощниками ребёнку могут стать мама  и пап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Индивидуальные особенности внимани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стойчивое, но слабо переключаемое внимание: дети могут долго и старательно решать одну задачу, но с трудом переходят к следующ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Индивидуальные особенности внима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 Легко переключаемое внимание в процессе работы, но так же и легко отвлекаемое на посторонние момент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Индивидуальные особенности внима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. Хорошо организованное внимание сочетается с малым объёмо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. Легко отвлекаемое внимание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Индивидуальные особенности внима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. Устойчивое непроизвольное внимание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ети  сосредотачивают  внимание  на интересных  особенностях  изучаемого  материа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Если у детей не сформировано произвольное внимание, то -</a:t>
            </a: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250560" y="1628640"/>
            <a:ext cx="8893080" cy="4392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и будут заменять буквы – гласные или согласные, близкие по  акустическим признакам:  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дети –тед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дети – бет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уки –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ж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у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0920" y="1125000"/>
            <a:ext cx="784692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1</a:t>
            </a: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. Часто ли Ваш ребёнок отвлекается во время выполнения заданий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368360" y="3430080"/>
            <a:ext cx="6408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Да.                               -  17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Трудно сказать             -   3 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Нет                              -   5  че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Если  у детей недостаточно развита устойчивость внимания, то они будут: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8360" y="2060280"/>
            <a:ext cx="8229600" cy="425916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пускать буквы в словах –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тава –трава, трва – трав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имерах  пропускают цифры и знаки: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12-6=5  1 -6=5   12- 6 5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5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Если ребёнок переставляет слоги в словах, то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84360" y="2565000"/>
            <a:ext cx="8229600" cy="35384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это связано с неустойчивостью внимания, например, стройка – сытыройка, </a:t>
            </a: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проходили – прохолиди,  собрались – собрасьли,   трава - тва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Если ребёнок добавляет в слова гласные, то -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связано с неустойчивостью произвольного внимания, например,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3514c2"/>
                </a:solidFill>
                <a:latin typeface="Arial"/>
              </a:rPr>
              <a:t>дрова –дорова, стройка – сытыройка.</a:t>
            </a:r>
            <a:r>
              <a:rPr b="0" lang="ru-RU" sz="3200" spc="-1" strike="noStrike">
                <a:solidFill>
                  <a:srgbClr val="3514c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-7480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cc"/>
                </a:solidFill>
                <a:uFillTx/>
                <a:latin typeface="Garamond"/>
              </a:rPr>
              <a:t>Рекомендации родителям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68360" y="620280"/>
            <a:ext cx="8229600" cy="67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могите вашим детям стать внимательным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обретайте, читайте и используйте книги, в которых  можно найти упражнения и игры, способствующие развитию вним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основе внимания лежит интерес. Играйте вместе с детьми  в различные игры, развивающие все свойства вним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учитесь играть в шахматы и шашки, ведь эти игры называют «Школой внимания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 забывайте о спортивных и подвижных играх, благодаря которым можно развивать не только силу и ловкость, но и внимание, воображение, быстроту мышле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чите детей быть наблюдательными – умеющими замечать изменения, происходящие в окружающем мире, видеть необычное в обычном, незнакомое- в знакомо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стоянно тренируйте внимание своего ребенка. Используйте для этого прогулки на свежем воздухе, походы, любую возможнос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тимулируйте интерес к развитию внимания собственными примерами и примерами из жизни других люде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семейном кругу демонстрируйте достижения ребенка по развитию собственного вним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беритесь терпения и не ждите немедленных, успешных результат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11280" y="2636640"/>
            <a:ext cx="6400800" cy="11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С П А С И Б О </a:t>
            </a:r>
            <a:br>
              <a:rPr sz="3600"/>
            </a:b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                 ЗА</a:t>
            </a:r>
            <a:br>
              <a:rPr sz="3600"/>
            </a:b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         ВНИМАНИЕ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3739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2.Можно ли назвать Вашего ребёнка сосредоточенным, усидчивым?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46120" y="2349360"/>
            <a:ext cx="777240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Да                                   -     5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Трудно  сказать               -     9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Нет                                 -   11 че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0088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.Хотелось бы Вам, чтобы Ваш ребёнок был внимательным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8302680" cy="40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а                                  24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рудно сказать                 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Нет                                  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ругое                           1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4. Что Вы делаете для того, чтобы у Вашего ребёнка развивалось внимание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94920" y="2565360"/>
            <a:ext cx="821844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Занимаемся                     17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Затрудняюсь ответить       3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Не знаем                           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Без ответа                         4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30268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5. Считаете ли Вы, что такие собрания необходимо посещать всей семьёй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4000" y="2781360"/>
            <a:ext cx="78483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а                               2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а, но не всег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чается                   2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Необязательно             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з ответа                   1 ч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989840" cy="288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99"/>
                </a:solidFill>
                <a:latin typeface="Garamond"/>
              </a:rPr>
              <a:t>Внимание</a:t>
            </a: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 – это способность человека сосредоточиться на определённом объекте и явлениях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е свойства:  концентрация, объём, устойчивость, распределение, и переключ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нимание может быть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Непроизвольным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не имеющим цели и волевого усилия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a7920"/>
                </a:solidFill>
                <a:latin typeface="Garamond"/>
              </a:rPr>
              <a:t>Произвольным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наличие цели и  и активное её поддержание посредством  силы воли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f1f45"/>
                </a:solidFill>
                <a:latin typeface="Garamond"/>
              </a:rPr>
              <a:t>Послепроизвольным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 наличие цели, но без волевого усилия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f1f45"/>
                </a:solidFill>
                <a:latin typeface="Arial"/>
              </a:rPr>
              <a:t>Концентрация вним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это умение сосредоточиться на нужном объекте, отдельных его частях или признаках, способность вникнуть в проблему, задач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8:00:25Z</dcterms:created>
  <dc:creator>галина</dc:creator>
  <dc:description/>
  <dc:language>en-US</dc:language>
  <cp:lastModifiedBy>Admin</cp:lastModifiedBy>
  <dcterms:modified xsi:type="dcterms:W3CDTF">2020-11-12T14:57:15Z</dcterms:modified>
  <cp:revision>25</cp:revision>
  <dc:subject/>
  <dc:title>1. Часто ли Ваш ребёнок отвлекается во время выполнения заданий?</dc:title>
</cp:coreProperties>
</file>