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48864-101F-45F8-AEEE-445A138C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9C798-751E-4A1F-BF8B-251FB551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E3D8C-CD25-4094-956F-E1DDDC0BE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19022-0E79-4381-9F7E-96246C34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E25F-ED7C-499C-BF33-1D3BCA90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DE88-F340-4F43-8549-64FF59D6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BC4C-663A-4927-A936-8BA30BE3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FFEB-BE5E-4D51-A7E6-4DCE8E33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CC93-33A4-4A08-AAEF-5238922D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CA09-BAD3-4E09-ACCB-60AE14A3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C34D-9C30-472B-8694-7F7CAF64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ECD77-43DC-4D7A-BFBE-16FCB0B2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144A-99E5-4567-83D4-3F39A7FC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00E6-E0E7-474A-BC4C-3372FC65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204E-445B-4C06-81B3-6FED4D1F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1DAC-2B32-4C3D-8BAA-D7580D63E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AAB4-933C-4795-824E-ED209A721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41D48-9A0D-4E78-BA05-CDFF2B79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53F63C-FB39-4083-99DF-8B4A1CFC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4FA272-26CF-4EE3-85A0-61E9DBBE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35D05B-4ED5-49F1-A3FA-3C810E9C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45C969-9396-4AFD-B3C3-C088F0AA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5FF3F-3704-4D4E-94B1-9FC23F66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709EF0-CEFC-4B7D-AA70-649496CC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BDAFEF-22D4-4BF6-B29F-FC7D8D2E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4BA9E7-D0E7-4151-9446-1F864B0E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C3F8A3-A906-40F1-A0D5-B8181842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9A8487-9298-477A-9C54-227E4D8F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23144C-824A-4CA1-8168-00AF69A7A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7802B4-7100-4F23-AA53-C0D96E6B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ED05A-BAAC-4F33-9113-0C4409C73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A376F-623C-47D4-B8AF-0C058960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0EC8F-26D7-47B5-A7D6-2F090E9D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D885C-8309-468A-A45D-A63604F6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44385-771D-4A53-9466-01C88906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1785E-330F-40E6-8A36-92B829D8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D7C16-7F3E-4324-8DA3-E2D22360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44373-70FA-442F-94ED-571D40C3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2282B-EE97-4744-B79E-AF0EAC35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C2276-2056-4AB6-ABE1-F4C34987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DCA9F-BD46-4699-A129-540907C2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479FF-4103-4C97-BA34-8BD268C7C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C2FB7-0B03-4341-9307-815D4C92C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8DF54-5FAC-461D-AA3A-7AA9CD054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0119E-BA25-47B5-A67F-82145ED3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DB6BA-9CB5-4D93-9FDC-CE47F2C6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1CE29-C678-422D-9E00-207ACC0F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4D6EE-7E56-46C0-98F0-BF198C8B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34688-E5E8-4F72-A6B5-5D8EBE65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57BB0-0EA0-443C-B255-0F625258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55CAA-6D1F-416D-B737-FFCF33B6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D6FB5-7CA3-4148-A808-66FE3FEC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BFC2A-6B0F-4A3A-8D95-B99A9303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C668B-C8CF-4451-9BAB-C705D74B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164E3-E0C8-4E4D-AA97-FD85B69EB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3091E-3AEB-4050-A878-01ACFCAD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7AA4D-DA3F-4676-9495-812AB536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7B3F8B-9D3B-4AF3-BD3C-1CBE4E78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B2A115-DDEC-4E88-B8E7-7F3CC10F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A989B1-45FE-46CF-BE9C-C9F62B9F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88DB97-CCF7-44BF-B854-EA4E33E8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2D3D1F-042E-46B8-84D5-EB1F661F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2978F0-503A-45D4-AA2E-0FE86ABB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D3EE55-2622-41A3-9B4C-3711CC36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52965D-3094-4B19-99AF-73A4C126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652A96-4617-48D8-AEB4-A0270681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E4AB5-65C7-4BE3-9B4A-E694071B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A14AF0-AC41-4DE6-8E46-C2703F82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67921F-E9DD-4912-84CD-6DB7B0423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89D208-8862-4358-BFE8-DAA4B1FD9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BAAF9-72DC-423D-97EA-F17B1F48D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A518D-693C-4098-B57A-B5B4739F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F5149-A7C0-4168-BA58-523DE55B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F4AF2-6E9E-4B8D-9D1E-673E42DE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76B13-075A-487D-B150-CEDAE31E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21D50-D870-40B6-B981-DE31401F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9287A-93B5-400D-84B2-64BFDBBC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3544D-7E09-4441-BF27-1EA6750C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866B4-94F1-4F67-9CCF-29132B5C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DFBBD-1542-4442-AC2D-A57341D8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691DB-E381-4CA2-92D4-96B580F9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AD53B-DE97-4AF7-BF30-3F418E1C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755A2-3CF5-436F-98F1-59ED5E0E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1497E-1318-40FD-8053-B5727666E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A0B2C-9B23-40DC-9BF4-178109B5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3C645-C575-4500-86EC-5C8027ED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BEB6B-FAD7-4A5F-912E-D2110B6F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43DDB-3397-4FF6-B453-8DA64824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CA89D-6A0F-4D9B-9D9E-187536AC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E1834-C3B8-48EC-81C6-A676F8A4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41AC4-34F2-4DF6-819E-513BD95D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995F7-ED11-4DD1-9F04-862B6F85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BC3C2-DDE0-4F1D-8AA9-468476DC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D129B-98E9-424A-AC85-EE960443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F3AC5-9335-428B-B94C-30053E962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E76D5-A4EA-404B-88F9-3F4B9FFA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4921-ACBF-4EB3-96B8-37190AE0ECD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2586-4D40-4443-BF85-C295EE6FD6D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1B83-DEA4-4BA3-BB3A-A49D7E310EA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18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69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0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E0EB-D96A-4693-9910-DD98F3D3738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13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14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9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F9C0-FCAE-44C3-8D50-7822A8ECA16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6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6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6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1F29-F80E-47BB-ABD1-27856A0EBE7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4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325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44D7-B083-4A17-8AFA-01640A2526E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27C9-CAFC-4220-B731-6545D116582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5" descr="девоч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-360" y="-603360"/>
            <a:ext cx="9396360" cy="7461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99"/>
                </a:solidFill>
                <a:latin typeface="Arial"/>
              </a:rPr>
              <a:t>Лекторий для родителей по теме:</a:t>
            </a:r>
            <a:br>
              <a:rPr sz="4800"/>
            </a:br>
            <a:br>
              <a:rPr sz="4800"/>
            </a:br>
            <a:r>
              <a:rPr b="1" lang="ru-RU" sz="4800" spc="-1" strike="noStrike" u="sng">
                <a:solidFill>
                  <a:srgbClr val="33cccc"/>
                </a:solidFill>
                <a:uFillTx/>
                <a:latin typeface="Arial"/>
              </a:rPr>
              <a:t>« Как помочь ребенку стать внимательным»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2400" spc="-1" strike="noStrike" u="sng">
                <a:solidFill>
                  <a:srgbClr val="003399"/>
                </a:solidFill>
                <a:uFillTx/>
                <a:latin typeface="Arial"/>
              </a:rPr>
              <a:t>Учитель Курбанова А.Ф. </a:t>
            </a:r>
            <a:br>
              <a:rPr sz="2400"/>
            </a:br>
            <a:r>
              <a:rPr b="1" lang="ru-RU" sz="2400" spc="-1" strike="noStrike" u="sng">
                <a:solidFill>
                  <a:srgbClr val="003399"/>
                </a:solidFill>
                <a:uFillTx/>
                <a:latin typeface="Arial"/>
              </a:rPr>
              <a:t>2А класс МБОУ «СШ №8№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f1f45"/>
                </a:solidFill>
                <a:latin typeface="Arial"/>
              </a:rPr>
              <a:t>Объём внимания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Он характеризуется количеством одновременно воспринимаемых и удерживаемых в сознании объек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4" descr="j0233018"/>
          <p:cNvPicPr/>
          <p:nvPr/>
        </p:nvPicPr>
        <p:blipFill>
          <a:blip r:embed="rId1"/>
          <a:stretch/>
        </p:blipFill>
        <p:spPr>
          <a:xfrm>
            <a:off x="5724360" y="3789360"/>
            <a:ext cx="3203640" cy="285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f1f45"/>
                </a:solidFill>
                <a:latin typeface="Arial"/>
              </a:rPr>
              <a:t>Устойчивость внимания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Это возможность длительного сосредоточения на одном и том же объекте, одной и той же пробле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f1f45"/>
                </a:solidFill>
                <a:latin typeface="Arial"/>
              </a:rPr>
              <a:t>Распределение вним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это одновременное внимание к одному или нескольким объектам при одновременном выполнении действий с ними или наблюдений за ни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Picture 7" descr="j0292020"/>
          <p:cNvPicPr/>
          <p:nvPr/>
        </p:nvPicPr>
        <p:blipFill>
          <a:blip r:embed="rId1"/>
          <a:stretch/>
        </p:blipFill>
        <p:spPr>
          <a:xfrm>
            <a:off x="5580000" y="3068640"/>
            <a:ext cx="1868400" cy="177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f1f45"/>
                </a:solidFill>
                <a:latin typeface="Arial"/>
              </a:rPr>
              <a:t>Переключение вним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это перемещение внимания с одного объекта на другой или с одного вида деятельности на другой в связи с постановкой  новой зада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92000" y="476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3399"/>
                </a:solidFill>
                <a:latin typeface="Arial"/>
              </a:rPr>
              <a:t>Внимание – это не раз и навсегда данное качество!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имание можно и нужно развиват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ому ребёнку это сделать трудно.  Ему необходимо помочь научиться управлять своим вниманием. И главным помощниками ребёнку могут стать мама  и пап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Индивидуальные особенности внимания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стойчивое, но слабо переключаемое внимание: дети могут долго и старательно решать одну задачу, но с трудом переходят к следующе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Индивидуальные особенности внима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 Легко переключаемое внимание в процессе работы, но так же и легко отвлекаемое на посторонние момент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Индивидуальные особенности внима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3. Хорошо организованное внимание сочетается с малым объёмо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4. Легко отвлекаемое внимание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Индивидуальные особенности внима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5. Устойчивое непроизвольное внимание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ети  сосредотачивают  внимание  на интересных  особенностях  изучаемого  материал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Если у детей не сформировано произвольное внимание, то -</a:t>
            </a: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250560" y="1628640"/>
            <a:ext cx="8893080" cy="4392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и будут заменять буквы – гласные или согласные, близкие по  акустическим признакам:   </a:t>
            </a: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дети –тед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дети – бет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з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уки – </a:t>
            </a: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ж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у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0920" y="1125000"/>
            <a:ext cx="7846920" cy="24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1</a:t>
            </a: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. Часто ли Ваш ребёнок отвлекается во время выполнения заданий?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368360" y="3430080"/>
            <a:ext cx="640872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Да.                               -  17 че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Трудно сказать             -   3  че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Нет                              -   5  че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Если  у детей недостаточно развита устойчивость внимания, то они будут: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68360" y="2060280"/>
            <a:ext cx="8229600" cy="425916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пускать буквы в словах – 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тава –трава, трва – трав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римерах  пропускают цифры и знаки: 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12-6=5  1 -6=5   12- 6 5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25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Если ребёнок переставляет слоги в словах, то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684360" y="2565000"/>
            <a:ext cx="8229600" cy="353844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это связано с неустойчивостью внимания, например, стройка – сытыройка, </a:t>
            </a: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проходили – прохолиди,  собрались – собрасьли,   трава - тва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Если ребёнок добавляет в слова гласные, то -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о связано с неустойчивостью произвольного внимания, например,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3514c2"/>
                </a:solidFill>
                <a:latin typeface="Arial"/>
              </a:rPr>
              <a:t>дрова –дорова, стройка – сытыройка.</a:t>
            </a:r>
            <a:r>
              <a:rPr b="0" lang="ru-RU" sz="3200" spc="-1" strike="noStrike">
                <a:solidFill>
                  <a:srgbClr val="3514c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5280" y="-7480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cc"/>
                </a:solidFill>
                <a:uFillTx/>
                <a:latin typeface="Garamond"/>
              </a:rPr>
              <a:t>Рекомендации родителям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68360" y="620280"/>
            <a:ext cx="8229600" cy="67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могите вашим детям стать внимательным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иобретайте, читайте и используйте книги, в которых  можно найти упражнения и игры, способствующие развитию вниман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основе внимания лежит интерес. Играйте вместе с детьми  в различные игры, развивающие все свойства вниман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учитесь играть в шахматы и шашки, ведь эти игры называют «Школой внимания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е забывайте о спортивных и подвижных играх, благодаря которым можно развивать не только силу и ловкость, но и внимание, воображение, быстроту мышлен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Учите детей быть наблюдательными – умеющими замечать изменения, происходящие в окружающем мире, видеть необычное в обычном, незнакомое- в знакомо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стоянно тренируйте внимание своего ребенка. Используйте для этого прогулки на свежем воздухе, походы, любую возможность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тимулируйте интерес к развитию внимания собственными примерами и примерами из жизни других люде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семейном кругу демонстрируйте достижения ребенка по развитию собственного вниман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беритесь терпения и не ждите немедленных, успешных результат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11280" y="2636640"/>
            <a:ext cx="6400800" cy="11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С П А С И Б О </a:t>
            </a:r>
            <a:br>
              <a:rPr sz="3600"/>
            </a:b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                 ЗА</a:t>
            </a:r>
            <a:br>
              <a:rPr sz="3600"/>
            </a:b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         ВНИМАНИЕ!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23640" y="691920"/>
            <a:ext cx="837396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2.Можно ли назвать Вашего ребёнка сосредоточенным, усидчивым?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46120" y="2349360"/>
            <a:ext cx="7772400" cy="35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 Да                                   -     5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 Трудно  сказать               -     9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 Нет                                 -   11 че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300880" cy="15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Хотелось бы Вам, чтобы Ваш ребёнок был внимательным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94920" y="2491920"/>
            <a:ext cx="8302680" cy="40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а                                  24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Трудно сказать                 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Нет                                  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ругое                           1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4. Что Вы делаете для того, чтобы у Вашего ребёнка развивалось внимание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94920" y="2565360"/>
            <a:ext cx="821844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 Занимаемся                     17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 Затрудняюсь ответить       3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 Не знаем                           1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 Без ответа                         4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30268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5. Считаете ли Вы, что такие собрания необходимо посещать всей семьёй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4000" y="2781360"/>
            <a:ext cx="784836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а                               21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а, но не всег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учается                   2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Необязательно             1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Без ответа                   1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989840" cy="288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99"/>
                </a:solidFill>
                <a:latin typeface="Garamond"/>
              </a:rPr>
              <a:t>Внимание</a:t>
            </a: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 – это способность человека сосредоточиться на определённом объекте и явлениях.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сновные свойства:  концентрация, объём, устойчивость, распределение, и переключе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нимание может быть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Garamond"/>
              </a:rPr>
              <a:t>Непроизвольным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(не имеющим цели и волевого усилия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a7920"/>
                </a:solidFill>
                <a:latin typeface="Garamond"/>
              </a:rPr>
              <a:t>Произвольным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(наличие цели и  и активное её поддержание посредством  силы воли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f1f45"/>
                </a:solidFill>
                <a:latin typeface="Garamond"/>
              </a:rPr>
              <a:t>Послепроизвольным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 наличие цели, но без волевого усилия)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f1f45"/>
                </a:solidFill>
                <a:latin typeface="Arial"/>
              </a:rPr>
              <a:t>Концентрация вним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это умение сосредоточиться на нужном объекте, отдельных его частях или признаках, способность вникнуть в проблему, задач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18:00:25Z</dcterms:created>
  <dc:creator>галина</dc:creator>
  <dc:description/>
  <dc:language>en-US</dc:language>
  <cp:lastModifiedBy>Admin</cp:lastModifiedBy>
  <dcterms:modified xsi:type="dcterms:W3CDTF">2020-11-12T14:57:15Z</dcterms:modified>
  <cp:revision>25</cp:revision>
  <dc:subject/>
  <dc:title>1. Часто ли Ваш ребёнок отвлекается во время выполнения заданий?</dc:title>
</cp:coreProperties>
</file>