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A0AABC-B517-447F-81DB-593BBB1687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1334B-0E5A-4CF9-956F-C4071F622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B13106-C394-44EC-A4D5-3830AC01EE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1CFAC-F5FE-4284-B8CE-0C2D636166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4A6F2-3600-404A-A170-B4A2C80C2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0A5CD-A1BA-4C17-ABB7-691466A5C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A387B-969C-45F4-BCDB-A333B7E84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272B4-BD51-4127-A289-8E37C49C5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03619-E2E0-433A-BBB3-B2A44F36E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79BF2-1FCB-4BE6-88BD-11B7854D1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3A168-6D53-4154-BCBA-E8E28BBF4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9C26D-E827-467B-8740-A70FC1F662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273EB-DCA9-4FED-8232-877522856B6B}"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Лекция «Организация командной работы»</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98989"/>
                </a:solidFill>
                <a:latin typeface="Calibri"/>
              </a:rPr>
              <a:t>Для дисциплины «Предпринимательская деятельность в сфере эстетических/парикмахерских услуг»</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Прочтите следующий текст</a:t>
            </a:r>
            <a:endParaRPr b="0" lang="en-US" sz="4000" spc="-1" strike="noStrike">
              <a:solidFill>
                <a:srgbClr val="000000"/>
              </a:solidFill>
              <a:latin typeface="Calibri"/>
            </a:endParaRPr>
          </a:p>
        </p:txBody>
      </p:sp>
      <p:sp>
        <p:nvSpPr>
          <p:cNvPr id="44" name=""/>
          <p:cNvSpPr txBox="1"/>
          <p:nvPr/>
        </p:nvSpPr>
        <p:spPr>
          <a:xfrm>
            <a:off x="457200" y="907560"/>
            <a:ext cx="8229600" cy="5218200"/>
          </a:xfrm>
          <a:prstGeom prst="rect">
            <a:avLst/>
          </a:prstGeom>
          <a:noFill/>
          <a:ln w="0">
            <a:noFill/>
          </a:ln>
        </p:spPr>
        <p:txBody>
          <a:bodyPr anchor="t">
            <a:normAutofit fontScale="96000"/>
          </a:bodyPr>
          <a:p>
            <a:pPr marL="329040" indent="-3290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Известно, что работники, объединенные пониманием своих целей и задач, умеющие поддержать или заменить друг друга в процессе работы, выполняют работу лучше, нежели люди, не имеющие таких характеристик и качеств. Поэтому одна из основных проблем менеджмента – создание команды и поддержание командного духа. Команда отличается от любой другой группы именно сплоченностью вокруг одной цели, наличием одинаковых ценностей, координацией своих усилий в процессе деятельности. </a:t>
            </a:r>
            <a:endParaRPr b="0" lang="en-US" sz="1700" spc="-1" strike="noStrike">
              <a:solidFill>
                <a:srgbClr val="000000"/>
              </a:solidFill>
              <a:latin typeface="Calibri"/>
            </a:endParaRPr>
          </a:p>
          <a:p>
            <a:pPr marL="329040" indent="-3290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Единого определения команды нет, однако для целей нашей лекции можно принять такое определение: Команда – это группа из двух или более людей, которые регулярно взаимодействуют и координируют (в рамках определенных договоренностей) свою работу для достижения общей цели, отличаясь от иных групп взаимозаменяемостью (все члены команды владеют всей полнотой информации о целях и ходе совместной деятельности по их достижению и могут в любой момент взять на себя ответственность за руководство всей группой). </a:t>
            </a:r>
            <a:endParaRPr b="0" lang="en-US" sz="1700" spc="-1" strike="noStrike">
              <a:solidFill>
                <a:srgbClr val="000000"/>
              </a:solidFill>
              <a:latin typeface="Calibri"/>
            </a:endParaRPr>
          </a:p>
          <a:p>
            <a:pPr marL="329040" indent="-3290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Сразу следует отметить, что командная работа на первых порах невозможна без участия администрации, которая создает команду, распределяет роли, участвует в разрешении конфликтов и вообще контролирует происходящее в команде. Лидер команды, как правило, не является официальным руководителем. Основная идея команды – раскрепощение людей, которые самостоятельно, без указаний и понуканий, выполняют свои обязанности и достигают поставленных целей.</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чтите следующий текст</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ля создания команды обычно следует пройти несколько этапов:</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 Формирование и начало совместной работы (обсуждение устава, разработка и доведение до каждого члена команды правил работы в команде, четкое распределение ролей, согласование графика совещаний и уточнение состава участников, согласование всех решений с членами команды).</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 Конфликты и противостояния (отсутствие сотрудничества из-за личного опыта, взаимные нападки и конкуренция, признание поставленных целей труднодостижимыми, недовольство по поводу больших нагрузок; следует напомнить сотрудникам, что разногласия – это неотъемлемая часть работы, определить и довести до всех достигнутые результаты, предложить лидеру комментировать каждое достижение). Если руководство не прикладывает необходимых усилий, то команда чаще всего распадается на этом этапе.</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 Нормализация (конструктивная критика, старание достичь взаимопонимания, больше доверия друг к другу, появление чувства общности).</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 Работа в полную силу (промежуточные результаты достигаются раньше, чем ожидалось; сотрудники обучают и поддерживают друг друга).</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Прочтите следующий текст</a:t>
            </a:r>
            <a:endParaRPr b="0" lang="en-US" sz="4000" spc="-1" strike="noStrike">
              <a:solidFill>
                <a:srgbClr val="000000"/>
              </a:solidFill>
              <a:latin typeface="Calibri"/>
            </a:endParaRPr>
          </a:p>
        </p:txBody>
      </p:sp>
      <p:sp>
        <p:nvSpPr>
          <p:cNvPr id="48" name=""/>
          <p:cNvSpPr txBox="1"/>
          <p:nvPr/>
        </p:nvSpPr>
        <p:spPr>
          <a:xfrm>
            <a:off x="457200" y="836280"/>
            <a:ext cx="8229600" cy="5289480"/>
          </a:xfrm>
          <a:prstGeom prst="rect">
            <a:avLst/>
          </a:prstGeom>
          <a:noFill/>
          <a:ln w="0">
            <a:noFill/>
          </a:ln>
        </p:spPr>
        <p:txBody>
          <a:bodyPr anchor="t">
            <a:normAutofit fontScale="97000"/>
          </a:bodyPr>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становка задач для работника – это целое искусство. Поэтому к постановке задач также следует подготовиться. Вначале руководитель задает себе вопросы:</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 Можно ли эту задачу вообще не выполнять (не принесет пользы и прибыли или ее можно перепоручить другому отделу)?</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 Есть ли у работника успешный и регулярный опыт решения аналогичных задач (принимается решение о том, на каких этапах и по каким вопросам решение обязательно должно быть согласовано с руководителем)?</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 Есть ли у работника все необходимые ресурсы (приоритетность новой задачи, имеющаяся нагрузка работника, дополнительная информация, организация его взаимодействия с другими работниками / подразделениями)?</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сле этого ставим задачу в соответствии с алгоритмом </a:t>
            </a:r>
            <a:r>
              <a:rPr b="0" lang="en-US" sz="1800" spc="-1" strike="noStrike">
                <a:solidFill>
                  <a:srgbClr val="000000"/>
                </a:solidFill>
                <a:latin typeface="Calibri"/>
              </a:rPr>
              <a:t>SMART</a:t>
            </a:r>
            <a:r>
              <a:rPr b="0" lang="ru-RU" sz="1800" spc="-1" strike="noStrike">
                <a:solidFill>
                  <a:srgbClr val="000000"/>
                </a:solidFill>
                <a:latin typeface="Calibri"/>
              </a:rPr>
              <a:t>.</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 </a:t>
            </a:r>
            <a:r>
              <a:rPr b="0" lang="en-US" sz="1800" spc="-1" strike="noStrike">
                <a:solidFill>
                  <a:srgbClr val="000000"/>
                </a:solidFill>
                <a:latin typeface="Calibri"/>
              </a:rPr>
              <a:t>S</a:t>
            </a:r>
            <a:r>
              <a:rPr b="0" lang="ru-RU" sz="1800" spc="-1" strike="noStrike">
                <a:solidFill>
                  <a:srgbClr val="000000"/>
                </a:solidFill>
                <a:latin typeface="Calibri"/>
              </a:rPr>
              <a:t> (</a:t>
            </a:r>
            <a:r>
              <a:rPr b="0" lang="en-US" sz="1800" spc="-1" strike="noStrike">
                <a:solidFill>
                  <a:srgbClr val="000000"/>
                </a:solidFill>
                <a:latin typeface="Calibri"/>
              </a:rPr>
              <a:t>specific</a:t>
            </a:r>
            <a:r>
              <a:rPr b="0" lang="ru-RU" sz="1800" spc="-1" strike="noStrike">
                <a:solidFill>
                  <a:srgbClr val="000000"/>
                </a:solidFill>
                <a:latin typeface="Calibri"/>
              </a:rPr>
              <a:t> – конкретный) – что нужно достигнуть?</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 </a:t>
            </a:r>
            <a:r>
              <a:rPr b="0" lang="en-US" sz="1800" spc="-1" strike="noStrike">
                <a:solidFill>
                  <a:srgbClr val="000000"/>
                </a:solidFill>
                <a:latin typeface="Calibri"/>
              </a:rPr>
              <a:t>M</a:t>
            </a:r>
            <a:r>
              <a:rPr b="0" lang="ru-RU" sz="1800" spc="-1" strike="noStrike">
                <a:solidFill>
                  <a:srgbClr val="000000"/>
                </a:solidFill>
                <a:latin typeface="Calibri"/>
              </a:rPr>
              <a:t> (</a:t>
            </a:r>
            <a:r>
              <a:rPr b="0" lang="en-US" sz="1800" spc="-1" strike="noStrike">
                <a:solidFill>
                  <a:srgbClr val="000000"/>
                </a:solidFill>
                <a:latin typeface="Calibri"/>
              </a:rPr>
              <a:t>measurable</a:t>
            </a:r>
            <a:r>
              <a:rPr b="0" lang="ru-RU" sz="1800" spc="-1" strike="noStrike">
                <a:solidFill>
                  <a:srgbClr val="000000"/>
                </a:solidFill>
                <a:latin typeface="Calibri"/>
              </a:rPr>
              <a:t> – измеримый) – в чем измеряется результат?</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 </a:t>
            </a:r>
            <a:r>
              <a:rPr b="0" lang="en-US" sz="1800" spc="-1" strike="noStrike">
                <a:solidFill>
                  <a:srgbClr val="000000"/>
                </a:solidFill>
                <a:latin typeface="Calibri"/>
              </a:rPr>
              <a:t>A</a:t>
            </a:r>
            <a:r>
              <a:rPr b="0" lang="ru-RU" sz="1800" spc="-1" strike="noStrike">
                <a:solidFill>
                  <a:srgbClr val="000000"/>
                </a:solidFill>
                <a:latin typeface="Calibri"/>
              </a:rPr>
              <a:t> (</a:t>
            </a:r>
            <a:r>
              <a:rPr b="0" lang="en-US" sz="1800" spc="-1" strike="noStrike">
                <a:solidFill>
                  <a:srgbClr val="000000"/>
                </a:solidFill>
                <a:latin typeface="Calibri"/>
              </a:rPr>
              <a:t>attainable</a:t>
            </a:r>
            <a:r>
              <a:rPr b="0" lang="ru-RU" sz="1800" spc="-1" strike="noStrike">
                <a:solidFill>
                  <a:srgbClr val="000000"/>
                </a:solidFill>
                <a:latin typeface="Calibri"/>
              </a:rPr>
              <a:t> – достижимый) – за счет чего достигать, можно ли достичь?</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 </a:t>
            </a:r>
            <a:r>
              <a:rPr b="0" lang="en-US" sz="1800" spc="-1" strike="noStrike">
                <a:solidFill>
                  <a:srgbClr val="000000"/>
                </a:solidFill>
                <a:latin typeface="Calibri"/>
              </a:rPr>
              <a:t>R</a:t>
            </a:r>
            <a:r>
              <a:rPr b="0" lang="ru-RU" sz="1800" spc="-1" strike="noStrike">
                <a:solidFill>
                  <a:srgbClr val="000000"/>
                </a:solidFill>
                <a:latin typeface="Calibri"/>
              </a:rPr>
              <a:t> (</a:t>
            </a:r>
            <a:r>
              <a:rPr b="0" lang="en-US" sz="1800" spc="-1" strike="noStrike">
                <a:solidFill>
                  <a:srgbClr val="000000"/>
                </a:solidFill>
                <a:latin typeface="Calibri"/>
              </a:rPr>
              <a:t>relevant</a:t>
            </a:r>
            <a:r>
              <a:rPr b="0" lang="ru-RU" sz="1800" spc="-1" strike="noStrike">
                <a:solidFill>
                  <a:srgbClr val="000000"/>
                </a:solidFill>
                <a:latin typeface="Calibri"/>
              </a:rPr>
              <a:t> – актуальный, соответствие целям) – ради чего решается задача?</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 </a:t>
            </a:r>
            <a:r>
              <a:rPr b="0" lang="en-US" sz="1800" spc="-1" strike="noStrike">
                <a:solidFill>
                  <a:srgbClr val="000000"/>
                </a:solidFill>
                <a:latin typeface="Calibri"/>
              </a:rPr>
              <a:t>T</a:t>
            </a:r>
            <a:r>
              <a:rPr b="0" lang="ru-RU" sz="1800" spc="-1" strike="noStrike">
                <a:solidFill>
                  <a:srgbClr val="000000"/>
                </a:solidFill>
                <a:latin typeface="Calibri"/>
              </a:rPr>
              <a:t> (</a:t>
            </a:r>
            <a:r>
              <a:rPr b="0" lang="en-US" sz="1800" spc="-1" strike="noStrike">
                <a:solidFill>
                  <a:srgbClr val="000000"/>
                </a:solidFill>
                <a:latin typeface="Calibri"/>
              </a:rPr>
              <a:t>time</a:t>
            </a:r>
            <a:r>
              <a:rPr b="0" lang="ru-RU" sz="1800" spc="-1" strike="noStrike">
                <a:solidFill>
                  <a:srgbClr val="000000"/>
                </a:solidFill>
                <a:latin typeface="Calibri"/>
              </a:rPr>
              <a:t>-</a:t>
            </a:r>
            <a:r>
              <a:rPr b="0" lang="en-US" sz="1800" spc="-1" strike="noStrike">
                <a:solidFill>
                  <a:srgbClr val="000000"/>
                </a:solidFill>
                <a:latin typeface="Calibri"/>
              </a:rPr>
              <a:t>bound</a:t>
            </a:r>
            <a:r>
              <a:rPr b="0" lang="ru-RU" sz="1800" spc="-1" strike="noStrike">
                <a:solidFill>
                  <a:srgbClr val="000000"/>
                </a:solidFill>
                <a:latin typeface="Calibri"/>
              </a:rPr>
              <a:t> – ограничение по времени) – в какой момент должен быть достигнут результат?</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чтите следующий текст</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Мотивация работника не должна быть только денежной. Можно объяснить, какие выгоды он получит при успешном выполнении задачи, исходя из знания того, что именно воодушевляет работника (стремление помочь своим коллегам, показать свою значимость по сравнению с остальными, желание сделать карьеру и быть замеченным «наверху» и т.д.).</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уществуют разные способы принятия решений, например, интуитивный (личностные ощущения), основывающийся на суждениях (накопленный опыт и знания), рациональный (объективный аналитический процесс, не опираясь на прошлый опыт.). Также выделяют коллегиальный и индивидуальный способы принятия решений, при этом индивидуально решения рекомендуется принимать по несложным задачам, не требующим для своей реализации участие других подразделений. В настоящее время рекомендуется вовлекать работников в принятие решения, поэтому выделяют такие стили, как автократический (на основе информации от работников руководитель принимает решение), консультативный (обсуждение проблемы с компетентными работниками, получение от них идей и предложений, принятие решения), демократичный (обсуждение проблемы с группой, принятие ее решения)».</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тветьте на вопросы письменно</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1. Дайте определение команды.</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2. Для чего нужно участие администрации в создании команды?</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3. Перечислите этапы формирования команды.</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4. Опишите процесс подготовки к постановке задачи.</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5. Опишите постановку задачи в соответствии с алгоритмом </a:t>
            </a:r>
            <a:r>
              <a:rPr b="0" lang="en-US" sz="2500" spc="-1" strike="noStrike">
                <a:solidFill>
                  <a:srgbClr val="000000"/>
                </a:solidFill>
                <a:latin typeface="Calibri"/>
              </a:rPr>
              <a:t>SMART</a:t>
            </a:r>
            <a:r>
              <a:rPr b="0" lang="ru-RU"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6. Как предполагается мотивировать работника?</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7. Перечислите способы принятия решения, в зависимости от личного опыта.</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8. Перечислите способы принятия коллегиального решения.</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Выполните в тетради самостоятельную работу</a:t>
            </a:r>
            <a:endParaRPr b="0" lang="en-US" sz="40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Запишите в тетради вопрос «Возможно ли создание команды в условиях салона красоты и если да, то на достижение каких целей будет направлена работа такой команды?», после чего, используя ресурсы сети Интернет и собственные аналитические способности, ответьте на вопрос письменно.</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1-12T18:21:11Z</dcterms:created>
  <dc:creator>Антон</dc:creator>
  <dc:description/>
  <dc:language>en-US</dc:language>
  <cp:lastModifiedBy>Антон</cp:lastModifiedBy>
  <dcterms:modified xsi:type="dcterms:W3CDTF">2020-11-12T18:28:09Z</dcterms:modified>
  <cp:revision>1</cp:revision>
  <dc:subject/>
  <dc:title>Лекция «Организация командной работы»</dc:title>
</cp:coreProperties>
</file>