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5BD-46C9-40B1-A2FE-2AC60D6A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CF7-7F01-4527-9D8D-B6E33CC5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B67-0496-4060-A988-55890A9E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00D-4CE3-44EB-8E9D-5CC122D4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13F-2F04-4357-BFA8-C7888854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6BC-E9C3-4043-AF1F-AC0BD4B3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1CB-13C6-4394-A62A-97503903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74C-B37E-4038-BE6E-BD1E1E2B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525-CF57-4BEA-83E5-72FD4497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6273-9030-45B5-9B02-9AAF7EEE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747-8462-45E7-9D24-D29EF527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4B8-7748-4E05-BB09-8FDA8946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5054-2399-4317-BC40-8D147CCC1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кция «Основы маркетинг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Для дисциплины «Предпринимательская деятельность в сфере эстетических/парикмахерских услуг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диного определения маркетинга нет, однако чаще всего используется такое: маркетинг – это система планирования ассортимента и объема выпускаемых изделий, определение цен, распределение продуктов между выбранными рынками и стимулирование их сбыта с целью удовлетворения потребностей. Исходной идеей, лежащей в основе маркетинга, является идея человеческих нужд, переходящих в потребности в соответствии с культурным уровнем и личностью индиви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ять основных принципов маркетинга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) производство и продажа товаров должны соответствовать потребностям покупателей, рыночной ситуации и возможностям компан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) полное удовлетворение потребностей покупателей и соответствие современному техническому и художественному уровню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) присутствие на рынке на момент наиболее эффективно возможной реализации продук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) постоянное обновление выпускаемой или реализуемой продук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)  единство стратегии и тактики для быстрого реагирования на изменяющийся спрос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маркетинг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Максимизация возможно высокого уровня потребления – фирмы пытаются увеличить свои продажи, с помощью различных способов и методов (вводят моду на свою продукцию, намечают стратегию роста продаж и др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Максимизация потребительской удовлетворенности, т. е. цель маркетинга – выявить существующие потребности и предложить максимально возможный ассортимент однородного това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Максимизация выбора. Данная цель вытекает и как бы является продолжением предыдущей. Однако некоторые потребители при избытке определенных товарных категориях испытывают чувство беспокойства и растеря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Максимизация качества жизни. Наличие ассортимента товаров благоприятно влияет на его качество, количество, доступность, стоимость, т. е. товар «совершенствуется», а следовательно, потребитель может максимально удовлетворить свои потребности, повысить качество жиз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дачи маркетинг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) исследование, анализ, оценка потребностей реальных и потенциальных покупателе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) помощь маркетинга в разработке нового товара (услуг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) обеспечение сервисного обслужива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) маркетинговые коммуника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) исследование, анализ, оценка и прогнозирование состояния реальных и потенциальных рынк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) исследование деятельности конкурен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) сбыт товара (услуги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) формирование ассортиментной поли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) формирование и реализация ценовой политики фирм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) формирование стратегии поведения фир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к правило, фирмы следуют какой-то одной концепции маркетинга. Основные концепции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Концепция совершенствования производства (покупатель выбирает товар в зависимости от его цены и его доступности  приобретения, поэтому следует увеличить производственную мощность, повысить эффективность распределе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. Концепция совершенствования товара (потребители будут благосклонны к товарам, предлагающим наивысшее качество, лучшие эксплуатационные свойства и характеристики, откуда вытекает необходимость постоянного совершенствования товара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Концепция интенсификации продаж (главное – это продать товар; при покупке товара есть возможность преодолеть сдерживающие факторы покупателя и тем самым повлиять на характер его поведе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. Концепция маркетинга (определение нужд и потребностей целевых рынков и обеспечение желаемой удовлетворенности более эффективными и более продуктивными способами, чем у конкурентов; основа – определение целевых клиентов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. Концепция социально-этичного маркетинга (удовлетворение запросов не только потребителей, но и общества в целом, связана с с защитой природной окружающей среды, нехваткой ресурсов, быстрым ростом населения, этической ответственностью общества перед своими гражданами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на вопросы пись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Дайте определение маркети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еречислите цели маркети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еречислите задачи маркети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Перечислите концепции маркети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полните в тетради самостоятельную работ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записанный текст, запишите в тетради вопрос «В соответствии с какой концепцией маркетинга должен работать салон красоты?», после чего, используя собственные аналитические способности и, в случае надобности, ресурсы сети Интернет, ответьте на вопрос письменно, с обосно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2T18:28:19Z</dcterms:created>
  <dc:creator>Антон</dc:creator>
  <dc:description/>
  <dc:language>en-US</dc:language>
  <cp:lastModifiedBy>Антон</cp:lastModifiedBy>
  <dcterms:modified xsi:type="dcterms:W3CDTF">2020-11-12T18:32:49Z</dcterms:modified>
  <cp:revision>1</cp:revision>
  <dc:subject/>
  <dc:title>Лекция «Основы маркетинга»</dc:title>
</cp:coreProperties>
</file>