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419-B8DA-4C48-919D-98803966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776-5550-4AF7-BF01-8BED95F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881-4BF6-48E6-A16A-D323789D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86C-DB69-47D3-B463-02EA2B14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60B-35B2-4BE1-881A-EE68880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B2F-0060-4C5F-8789-08545A34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8D0-3BF0-4C28-A0DE-77332D2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6A2-D0E7-4F7D-B91A-193F3529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A34-6702-48B6-9DBA-0C8C7498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E16-45A0-4C5D-8C07-A2B05A8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2DE-13E1-4561-8516-5626B6BA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AEB-6035-492D-8F46-0B0B99AF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488-B36D-4E93-B60D-71A408D7A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 «Основы маркетинг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Для дисциплины «Предпринимательская деятельность в сфере эстетических/парикмахерских услуг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диного определения маркетинга нет, однако чаще всего используется такое: маркетинг – это система планирования ассортимента и объема выпускаемых изделий, определение цен, распределение продуктов между выбранными рынками и стимулирование их сбыта с целью удовлетворения потребностей. Исходной идеей, лежащей в основе маркетинга, является идея человеческих нужд, переходящих в потребности в соответствии с культурным уровнем и личностью индиви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ять основных принципов маркетинг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производство и продажа товаров должны соответствовать потребностям покупателей, рыночной ситуации и возможностям компан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полное удовлетворение потребностей покупателей и соответствие современному техническому и художественному уровн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) присутствие на рынке на момент наиболее эффективно возможной реализации продук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) постоянное обновление выпускаемой или реализуемой продук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)  единство стратегии и тактики для быстрого реагирования на изменяющийся спрос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маркетин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Максимизация возможно высокого уровня потребления – фирмы пытаются увеличить свои продажи, с помощью различных способов и методов (вводят моду на свою продукцию, намечают стратегию роста продаж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Максимизация потребительской удовлетворенности, т. е. цель маркетинга – выявить существующие потребности и предложить максимально возможный ассортимент однородного това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Максимизация выбора. Данная цель вытекает и как бы является продолжением предыдущей. Однако некоторые потребители при избытке определенных товарных категориях испытывают чувство беспокойства и растеря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Максимизация качества жизни. Наличие ассортимента товаров благоприятно влияет на его качество, количество, доступность, стоимость, т. е. товар «совершенствуется», а следовательно, потребитель может максимально удовлетворить свои потребности, повысить качество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чи маркетинг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 исследование, анализ, оценка потребностей реальных и потенциальных покупател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 помощь маркетинга в разработке нового товара (услуг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) обеспечение сервисного обслужив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) маркетинговые коммуник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) исследование, анализ, оценка и прогнозирование состояния реальных и потенци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) исследование деятельности конкурен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) сбыт товара (услуг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) формирование ассортимент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) формирование и реализация ценовой политики фир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) формирование стратегии поведения фир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к правило, фирмы следуют какой-то одной концепции маркетинга. Основные концепции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Концепция совершенствования производства (покупатель выбирает товар в зависимости от его цены и его доступности  приобретения, поэтому следует увеличить производственную мощность, повысить эффективность распределе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Концепция совершенствования товара (потребители будут благосклонны к товарам, предлагающим наивысшее качество, лучшие эксплуатационные свойства и характеристики, откуда вытекает необходимость постоянного совершенствования товара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Концепция интенсификации продаж (главное – это продать товар; при покупке товара есть возможность преодолеть сдерживающие факторы покупателя и тем самым повлиять на характер его поведе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Концепция маркетинга (определение нужд и потребностей целевых рынков и обеспечение желаемой удовлетворенности более эффективными и более продуктивными способами, чем у конкурентов; основа – определение целевых клиен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Концепция социально-этичного маркетинга (удовлетворение запросов не только потребителей, но и общества в целом, связана с с защитой природной окружающей среды, нехваткой ресурсов, быстрым ростом населения, этической ответственностью общества перед своими гражданам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айте определение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еречислите цели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речислите задачи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еречислите концепции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е в тетради самостоятельную раб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записанный текст, запишите в тетради вопрос «В соответствии с какой концепцией маркетинга должен работать салон красоты?», после чего, используя собственные аналитические способности и, в случае надобности, ресурсы сети Интернет, ответьте на вопрос письменно, с обосн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2T18:28:19Z</dcterms:created>
  <dc:creator>Антон</dc:creator>
  <dc:description/>
  <dc:language>en-US</dc:language>
  <cp:lastModifiedBy>Антон</cp:lastModifiedBy>
  <dcterms:modified xsi:type="dcterms:W3CDTF">2020-11-12T18:32:49Z</dcterms:modified>
  <cp:revision>1</cp:revision>
  <dc:subject/>
  <dc:title>Лекция «Основы маркетинга»</dc:title>
</cp:coreProperties>
</file>