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843-A95A-4185-91FA-D10278A7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4AE-62BA-4121-BE8A-C0DD3AC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DFC-5ADB-4B1C-8A53-4346B09E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4E4-9AB6-4F52-8C8A-0B52DF8F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30AA-2C36-4151-8ED0-01D04A39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E487-69C8-4699-AE8D-DDE20D7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4D21-7A25-4FEF-BD2F-2E2B79D1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7D78-5A9F-4956-A42A-E6AA13AA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E8F7-1109-4288-98BF-8B9B386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78F2-9DD0-4DA8-A346-EF0591E4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A08A-A252-40BF-B8B7-1F8B6E7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121-38D4-4D81-B94A-9AD6CB4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D35F-7ACC-4B73-B9E7-A3A33007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9C11-CC19-4328-B268-486EA24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527A-F10C-4AFB-AA80-4958871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D376-AB34-4F9F-8C98-5EFFC6F5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71C-49D7-49F5-87B6-4EF561B6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F9E1-C9E4-472C-B5F7-57907DEB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A10C0-0592-419A-8CF4-9F52906F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2005-F471-4C74-9A7A-1ADA407C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3D5E-D287-4A03-B19A-87A5CD02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6AA3-461F-440A-B53E-81E072F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3EC-EFE6-4919-AE7C-D079246F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2775C-1940-483B-A12A-CC98C42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3DBEE-9E8A-4CDE-8200-9672177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3574-7778-4F59-8CEA-AE2FAE4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3BE7-B99A-4C2F-B614-1806DB1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B2E9-DD41-4755-BCBF-9FB7C06B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05AC-70F7-4144-84CC-0C9E9B23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6AA7-945F-448F-9A55-376CA953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B7C4-409F-4C30-B5C7-0FF36E74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47C4-6EFB-435B-A264-03254589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ECF7E-4F33-408C-8192-F0C9E07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CCD-645B-48A6-BD58-5BCAE04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26D8-AA5A-44FE-8CB3-93C1368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CCBD-2599-4E4B-8FA2-B05D351D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99F9-8AD1-46B1-B250-8BBA865E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E70FC-AE64-4A63-8198-2018677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446F-3DFD-4233-BB97-3E6ECD5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1CEB-851B-4771-B5A5-BEFAAF2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65328-35A1-4B19-A558-72E7EE6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63464-CEE0-46CD-9F5C-E14DDD6E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FF69-3EA4-4F65-A6D2-832C42DA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313C-0931-4E2D-83A8-068AE6CF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B63-8230-4867-B0BE-7BD097DB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6F0AF-A18F-483C-B5DE-92928B0D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9BAF-AE07-4515-B2E6-C0850E6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97F2-E6D0-4965-B262-649FC69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BD0A0-99DF-44A5-8670-E18F116D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FC4D-975D-48CC-96A4-F4084096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6F61-D7B7-4386-BB97-114EC89B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B954-B045-480B-95C8-BEDB4FAD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F332-B1B3-490D-8D8B-5215E1F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E611-7C6D-425D-9B1F-BFA1657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D2EB-865C-44F2-81F4-0174B626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50D-BC48-4E3C-8F2E-6F4B064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749D-8ADC-4337-9422-F13E4E01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A3B-0F16-4363-988C-481C34C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9E0-06DD-4206-A1B1-4BB0A78C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0A3-8E93-4910-AF48-07FB05B9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BFF-0BA7-48C8-B967-826F671DE7FB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705-BB57-4258-8D4F-2FA3A2510CBE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AA7-380E-419D-8947-1D7B9CACC52C}" type="slidenum">
              <a:rPr b="0" lang="ru-RU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8D8-3C5E-441A-8754-2DFAC80E4698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B84-E527-4B0C-8292-23DAC29D164B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03920"/>
            <a:ext cx="8435880" cy="50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ое воспитание дошкольников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омплекс   оздоровительно-образовательных мероприятий, основу которых составляет двигательная активнос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8800" y="259920"/>
            <a:ext cx="85075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ктивный отдых детей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27" name="Organization Chart 3"/>
          <p:cNvGrpSpPr/>
          <p:nvPr/>
        </p:nvGrpSpPr>
        <p:grpSpPr>
          <a:xfrm>
            <a:off x="0" y="1357200"/>
            <a:ext cx="9143640" cy="4499280"/>
            <a:chOff x="0" y="1357200"/>
            <a:chExt cx="9143640" cy="4499280"/>
          </a:xfrm>
        </p:grpSpPr>
        <p:cxnSp>
          <p:nvCxnSpPr>
            <p:cNvPr id="328" name="_s69640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5527800" y="1464120"/>
              <a:ext cx="1800360" cy="339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1" name="_s69641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318200" y="2666520"/>
              <a:ext cx="1800360" cy="97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3" name="_s69642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155760" y="2491920"/>
              <a:ext cx="1800360" cy="1343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_s69643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1971720" y="1306440"/>
              <a:ext cx="1800360" cy="3714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0" name="_s69644"/>
            <p:cNvSpPr/>
            <p:nvPr/>
          </p:nvSpPr>
          <p:spPr>
            <a:xfrm>
              <a:off x="1330920" y="1357200"/>
              <a:ext cx="6796440" cy="899640"/>
            </a:xfrm>
            <a:prstGeom prst="roundRect">
              <a:avLst>
                <a:gd name="adj" fmla="val 16667"/>
              </a:avLst>
            </a:prstGeom>
            <a:solidFill>
              <a:srgbClr val="b3eaf2"/>
            </a:solidFill>
            <a:ln w="255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600" spc="-1" strike="noStrike">
                  <a:solidFill>
                    <a:srgbClr val="0b5395"/>
                  </a:solidFill>
                  <a:latin typeface="Times New Roman"/>
                  <a:ea typeface="Times New Roman"/>
                </a:rPr>
                <a:t>Праздники,  Досуги, Дни здоровья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_s69645"/>
            <p:cNvSpPr/>
            <p:nvPr/>
          </p:nvSpPr>
          <p:spPr>
            <a:xfrm>
              <a:off x="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Развле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кательны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_s69646"/>
            <p:cNvSpPr/>
            <p:nvPr/>
          </p:nvSpPr>
          <p:spPr>
            <a:xfrm>
              <a:off x="237060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Познава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тельные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_s69647"/>
            <p:cNvSpPr/>
            <p:nvPr/>
          </p:nvSpPr>
          <p:spPr>
            <a:xfrm>
              <a:off x="4642560" y="4056840"/>
              <a:ext cx="213048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Нравственно-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патриотически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69648"/>
            <p:cNvSpPr/>
            <p:nvPr/>
          </p:nvSpPr>
          <p:spPr>
            <a:xfrm>
              <a:off x="7111800" y="4056840"/>
              <a:ext cx="2031840" cy="1799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О здоровом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Verdana"/>
                </a:rPr>
                <a:t>образе жизн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3"/>
          <p:cNvSpPr/>
          <p:nvPr/>
        </p:nvSpPr>
        <p:spPr>
          <a:xfrm>
            <a:off x="324000" y="301680"/>
            <a:ext cx="856908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стоятельная двигательная актив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двигательная активность детей способствует укреплению здоровья, гармоничному физическому развитию, деятельности сердечно-сосудистой, дыхательной систем, аппарата кровообращения, развитию моторики, физических качеств, повышению работоспособ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самостоятельной двигательной деятельности имеет свою специфик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е организации физкультурно-игровой среды: должно быть достаточно места для движений, оптимальное количество, разнообразие, смена пособ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в обязательном порядке в режиме дня времени для самостоятельной двигательной деятельности: во время утреннего приема, до занятий и между ними, на прогулке, после сна, в вечернее врем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должны владеть специальными (опосредованными) методами активизации движений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324000" y="3016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608040" y="115920"/>
            <a:ext cx="813600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рекционная    Раб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ррекционной  работы – способствовать полноценному психическому и личностному развитию ребен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ознания (рассказы на этические темы, объяснения, разъяснения, этические беседы, увещевания, внушения, инструктажи, приме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деятельности и формирование опыта поведения  (упражнение, требование, приучкение, метод воспитывающих ситуац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я деятельности (поощрение, наказание, соревнован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 игротерапия, арттерапия (изобразительная, сказко-, музыко-и т.д.), поведенческое (различного вида тренинги, психогимнастика, социальная терап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оугольник 3"/>
          <p:cNvSpPr/>
          <p:nvPr/>
        </p:nvSpPr>
        <p:spPr>
          <a:xfrm>
            <a:off x="324000" y="30168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468360" y="301680"/>
            <a:ext cx="8280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ьная  работа с деть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а на развитие ребенка с учетом его личностных качест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основных направления рабо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ход к каждому ребенку в смешанной групп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занятия с детьми, которым они требуют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имеющейся проблемы, выбирают метод работы с конкретным ребенком: беседа, игра, физические упражнения, пальчиковая гимнастика,  дидактические игры, наблюдения, посильный физический труд. И весь комплекс работы с конкретным ребенком строится  с учетом особенностей его развития (физического, нравственного, психологического, умственного)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3"/>
          <p:cNvSpPr/>
          <p:nvPr/>
        </p:nvSpPr>
        <p:spPr>
          <a:xfrm>
            <a:off x="324000" y="3016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324000" y="620640"/>
            <a:ext cx="8424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вижные игры на прогул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влияют на развитие мышления, смекалки, ловкости, морально волевых качест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ют физическое здоровье, обучают жизненным ситуациям, помогают ребенку получить правильное развитие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игре ребенок познает окружающий мир, его законы, учится жить по правилам. Все дети  обожают двигаться, прыгать, скакать, бегать наперегон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ребенком игры на прогулке совершенно иное, чем в условиях помещения. В процессе подвижных игр на прогулке дети изучают окружающую прир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8760"/>
            <a:ext cx="847260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7" name="Diagram 35"/>
          <p:cNvGrpSpPr/>
          <p:nvPr/>
        </p:nvGrpSpPr>
        <p:grpSpPr>
          <a:xfrm>
            <a:off x="631800" y="835200"/>
            <a:ext cx="7997400" cy="5459040"/>
            <a:chOff x="631800" y="835200"/>
            <a:chExt cx="7997400" cy="5459040"/>
          </a:xfrm>
        </p:grpSpPr>
        <p:sp>
          <p:nvSpPr>
            <p:cNvPr id="258" name="_s62468"/>
            <p:cNvSpPr/>
            <p:nvPr/>
          </p:nvSpPr>
          <p:spPr>
            <a:xfrm flipH="1" flipV="1">
              <a:off x="2503080" y="2553840"/>
              <a:ext cx="83952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62469"/>
            <p:cNvSpPr/>
            <p:nvPr/>
          </p:nvSpPr>
          <p:spPr>
            <a:xfrm>
              <a:off x="814680" y="1478520"/>
              <a:ext cx="1958040" cy="128124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a5c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Подвижны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игры на прогулк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_s62472"/>
            <p:cNvSpPr/>
            <p:nvPr/>
          </p:nvSpPr>
          <p:spPr>
            <a:xfrm flipH="1">
              <a:off x="2358360" y="3685680"/>
              <a:ext cx="1127160" cy="46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_s62473"/>
            <p:cNvSpPr/>
            <p:nvPr/>
          </p:nvSpPr>
          <p:spPr>
            <a:xfrm>
              <a:off x="631800" y="3577320"/>
              <a:ext cx="1807920" cy="127872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Индивидуальна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 с дет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_s62476"/>
            <p:cNvSpPr/>
            <p:nvPr/>
          </p:nvSpPr>
          <p:spPr>
            <a:xfrm flipH="1">
              <a:off x="3342240" y="4323240"/>
              <a:ext cx="653400" cy="79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_s62477"/>
            <p:cNvSpPr/>
            <p:nvPr/>
          </p:nvSpPr>
          <p:spPr>
            <a:xfrm>
              <a:off x="2409840" y="4979520"/>
              <a:ext cx="1807920" cy="12808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Коррекционна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_s62478"/>
            <p:cNvSpPr/>
            <p:nvPr/>
          </p:nvSpPr>
          <p:spPr>
            <a:xfrm>
              <a:off x="5096520" y="4314600"/>
              <a:ext cx="554760" cy="69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_s62479"/>
            <p:cNvSpPr/>
            <p:nvPr/>
          </p:nvSpPr>
          <p:spPr>
            <a:xfrm>
              <a:off x="5042880" y="5015880"/>
              <a:ext cx="1945800" cy="127836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a5c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Самостоятельная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двигательная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ктивност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_s62480"/>
            <p:cNvSpPr/>
            <p:nvPr/>
          </p:nvSpPr>
          <p:spPr>
            <a:xfrm>
              <a:off x="5978520" y="3432960"/>
              <a:ext cx="1276920" cy="12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_s62481"/>
            <p:cNvSpPr/>
            <p:nvPr/>
          </p:nvSpPr>
          <p:spPr>
            <a:xfrm>
              <a:off x="6665400" y="3176280"/>
              <a:ext cx="1963800" cy="13168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10cf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ктивный отды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_s62482"/>
            <p:cNvSpPr/>
            <p:nvPr/>
          </p:nvSpPr>
          <p:spPr>
            <a:xfrm flipV="1">
              <a:off x="5498280" y="2407320"/>
              <a:ext cx="833400" cy="70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_s62483"/>
            <p:cNvSpPr/>
            <p:nvPr/>
          </p:nvSpPr>
          <p:spPr>
            <a:xfrm>
              <a:off x="6083280" y="1364040"/>
              <a:ext cx="1949400" cy="130248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о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здоровительная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а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в течение дн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_s62484"/>
            <p:cNvSpPr/>
            <p:nvPr/>
          </p:nvSpPr>
          <p:spPr>
            <a:xfrm flipV="1">
              <a:off x="4440240" y="1839600"/>
              <a:ext cx="0" cy="91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_s62485"/>
            <p:cNvSpPr/>
            <p:nvPr/>
          </p:nvSpPr>
          <p:spPr>
            <a:xfrm>
              <a:off x="3465720" y="835200"/>
              <a:ext cx="1945440" cy="1289520"/>
            </a:xfrm>
            <a:prstGeom prst="ellipse">
              <a:avLst/>
            </a:prstGeom>
            <a:solidFill>
              <a:srgbClr val="77d9e8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ы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зан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_s62486"/>
            <p:cNvSpPr/>
            <p:nvPr/>
          </p:nvSpPr>
          <p:spPr>
            <a:xfrm>
              <a:off x="2551320" y="2768040"/>
              <a:ext cx="3810600" cy="1618560"/>
            </a:xfrm>
            <a:prstGeom prst="ellipse">
              <a:avLst/>
            </a:prstGeom>
            <a:solidFill>
              <a:srgbClr val="5ff3ca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ормы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о-оздоровительно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работы в ДОО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Organization Chart 2"/>
          <p:cNvGrpSpPr/>
          <p:nvPr/>
        </p:nvGrpSpPr>
        <p:grpSpPr>
          <a:xfrm>
            <a:off x="250920" y="333360"/>
            <a:ext cx="8713080" cy="5731560"/>
            <a:chOff x="250920" y="333360"/>
            <a:chExt cx="8713080" cy="5731560"/>
          </a:xfrm>
        </p:grpSpPr>
        <p:cxnSp>
          <p:nvCxnSpPr>
            <p:cNvPr id="274" name="_s63492"/>
            <p:cNvCxnSpPr/>
            <p:nvPr/>
          </p:nvCxnSpPr>
          <p:spPr>
            <a:xfrm flipV="1">
              <a:off x="762408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63493"/>
            <p:cNvCxnSpPr/>
            <p:nvPr/>
          </p:nvCxnSpPr>
          <p:spPr>
            <a:xfrm flipV="1">
              <a:off x="465696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6" name="_s63494"/>
            <p:cNvCxnSpPr/>
            <p:nvPr/>
          </p:nvCxnSpPr>
          <p:spPr>
            <a:xfrm flipV="1">
              <a:off x="1689480" y="3850920"/>
              <a:ext cx="396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63495"/>
            <p:cNvCxnSpPr>
              <a:endCxn id="278" idx="2"/>
            </p:cNvCxnSpPr>
            <p:nvPr/>
          </p:nvCxnSpPr>
          <p:spPr>
            <a:xfrm flipV="1" rot="16200000">
              <a:off x="5788800" y="607680"/>
              <a:ext cx="704160" cy="29678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63496"/>
            <p:cNvCxnSpPr>
              <a:endCxn id="278" idx="2"/>
            </p:cNvCxnSpPr>
            <p:nvPr/>
          </p:nvCxnSpPr>
          <p:spPr>
            <a:xfrm flipV="1">
              <a:off x="4653360" y="1745640"/>
              <a:ext cx="3240" cy="70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63497"/>
            <p:cNvCxnSpPr>
              <a:endCxn id="278" idx="2"/>
            </p:cNvCxnSpPr>
            <p:nvPr/>
          </p:nvCxnSpPr>
          <p:spPr>
            <a:xfrm flipH="1" flipV="1" rot="5400000">
              <a:off x="2821320" y="608040"/>
              <a:ext cx="704160" cy="2967840"/>
            </a:xfrm>
            <a:prstGeom prst="bentConnector3">
              <a:avLst>
                <a:gd name="adj1" fmla="val 499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63498"/>
            <p:cNvSpPr/>
            <p:nvPr/>
          </p:nvSpPr>
          <p:spPr>
            <a:xfrm>
              <a:off x="1634400" y="333360"/>
              <a:ext cx="6045840" cy="1406880"/>
            </a:xfrm>
            <a:prstGeom prst="roundRect">
              <a:avLst>
                <a:gd name="adj" fmla="val 16667"/>
              </a:avLst>
            </a:prstGeom>
            <a:solidFill>
              <a:srgbClr val="b3eaf2"/>
            </a:solidFill>
            <a:ln w="25560">
              <a:solidFill>
                <a:srgbClr val="0bd0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Физкультурные  занятия: 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ключают в себя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вводно-подготовительную часть (разминку)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основную, где решается комплекс основных задач,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заключительную (назначение которой восстановить дыхание и пульс)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Форма занятия зависит от возраста детей, задач, места проведени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1" name="_s63499"/>
            <p:cNvGrpSpPr/>
            <p:nvPr/>
          </p:nvGrpSpPr>
          <p:grpSpPr>
            <a:xfrm>
              <a:off x="250920" y="2409480"/>
              <a:ext cx="2805480" cy="1539000"/>
              <a:chOff x="250920" y="2409480"/>
              <a:chExt cx="2805480" cy="1539000"/>
            </a:xfrm>
          </p:grpSpPr>
          <p:pic>
            <p:nvPicPr>
              <p:cNvPr id="282" name="_s63499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2409480"/>
                <a:ext cx="28054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485640" y="2509920"/>
                <a:ext cx="240732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Традиционные</a:t>
                </a: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" name="_s63500"/>
            <p:cNvGrpSpPr/>
            <p:nvPr/>
          </p:nvGrpSpPr>
          <p:grpSpPr>
            <a:xfrm>
              <a:off x="3318120" y="2409480"/>
              <a:ext cx="2675520" cy="1539000"/>
              <a:chOff x="3318120" y="2409480"/>
              <a:chExt cx="2675520" cy="1539000"/>
            </a:xfrm>
          </p:grpSpPr>
          <p:pic>
            <p:nvPicPr>
              <p:cNvPr id="285" name="_s6350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18120" y="2409480"/>
                <a:ext cx="267552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3453840" y="2509920"/>
                <a:ext cx="240804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Сюжетные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7" name="_s63501"/>
            <p:cNvGrpSpPr/>
            <p:nvPr/>
          </p:nvGrpSpPr>
          <p:grpSpPr>
            <a:xfrm>
              <a:off x="6288120" y="2409480"/>
              <a:ext cx="2675880" cy="1539000"/>
              <a:chOff x="6288120" y="2409480"/>
              <a:chExt cx="2675880" cy="1539000"/>
            </a:xfrm>
          </p:grpSpPr>
          <p:pic>
            <p:nvPicPr>
              <p:cNvPr id="288" name="_s635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288120" y="240948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>
                <a:off x="6419880" y="250992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Игровые</a:t>
                </a:r>
                <a:r>
                  <a:rPr b="1" lang="ru-RU" sz="2200" spc="-1" strike="noStrike">
                    <a:solidFill>
                      <a:srgbClr val="00cc00"/>
                    </a:solidFill>
                    <a:latin typeface="Verdana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0" name="_s63502"/>
            <p:cNvGrpSpPr/>
            <p:nvPr/>
          </p:nvGrpSpPr>
          <p:grpSpPr>
            <a:xfrm>
              <a:off x="353520" y="4525920"/>
              <a:ext cx="2675880" cy="1539000"/>
              <a:chOff x="353520" y="4525920"/>
              <a:chExt cx="2675880" cy="1539000"/>
            </a:xfrm>
          </p:grpSpPr>
          <p:pic>
            <p:nvPicPr>
              <p:cNvPr id="291" name="_s63502" descr=""/>
              <p:cNvPicPr/>
              <p:nvPr/>
            </p:nvPicPr>
            <p:blipFill>
              <a:blip r:embed="rId4"/>
              <a:stretch/>
            </p:blipFill>
            <p:spPr>
              <a:xfrm>
                <a:off x="353520" y="452592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487440" y="462420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 –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тренировки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" name="_s63503"/>
            <p:cNvGrpSpPr/>
            <p:nvPr/>
          </p:nvGrpSpPr>
          <p:grpSpPr>
            <a:xfrm>
              <a:off x="3318120" y="4525920"/>
              <a:ext cx="2687400" cy="1539000"/>
              <a:chOff x="3318120" y="4525920"/>
              <a:chExt cx="2687400" cy="1539000"/>
            </a:xfrm>
          </p:grpSpPr>
          <p:pic>
            <p:nvPicPr>
              <p:cNvPr id="294" name="_s63503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8120" y="4525920"/>
                <a:ext cx="268740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3453840" y="4624200"/>
                <a:ext cx="240804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 – 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соревнования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6" name="_s63504"/>
            <p:cNvGrpSpPr/>
            <p:nvPr/>
          </p:nvGrpSpPr>
          <p:grpSpPr>
            <a:xfrm>
              <a:off x="6288120" y="4525920"/>
              <a:ext cx="2675880" cy="1539000"/>
              <a:chOff x="6288120" y="4525920"/>
              <a:chExt cx="2675880" cy="1539000"/>
            </a:xfrm>
          </p:grpSpPr>
          <p:pic>
            <p:nvPicPr>
              <p:cNvPr id="297" name="_s63504" descr=""/>
              <p:cNvPicPr/>
              <p:nvPr/>
            </p:nvPicPr>
            <p:blipFill>
              <a:blip r:embed="rId6"/>
              <a:stretch/>
            </p:blipFill>
            <p:spPr>
              <a:xfrm>
                <a:off x="6288120" y="4525920"/>
                <a:ext cx="2675880" cy="153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6419880" y="4624200"/>
                <a:ext cx="2408400" cy="12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нятия-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Verdana"/>
                  </a:rPr>
                  <a:t>зачеты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_s63495"/>
          <p:cNvCxnSpPr/>
          <p:nvPr/>
        </p:nvCxnSpPr>
        <p:spPr>
          <a:xfrm flipV="1" rot="16200000">
            <a:off x="5741280" y="599400"/>
            <a:ext cx="716760" cy="30502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0" name="_s63496"/>
          <p:cNvCxnSpPr/>
          <p:nvPr/>
        </p:nvCxnSpPr>
        <p:spPr>
          <a:xfrm flipV="1">
            <a:off x="4570560" y="2126520"/>
            <a:ext cx="36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1" name="_s63497"/>
          <p:cNvCxnSpPr/>
          <p:nvPr/>
        </p:nvCxnSpPr>
        <p:spPr>
          <a:xfrm flipH="1" flipV="1" rot="5400000">
            <a:off x="2691360" y="599400"/>
            <a:ext cx="716760" cy="30502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_s63498"/>
          <p:cNvSpPr/>
          <p:nvPr/>
        </p:nvSpPr>
        <p:spPr>
          <a:xfrm>
            <a:off x="1467000" y="333360"/>
            <a:ext cx="6215040" cy="1150920"/>
          </a:xfrm>
          <a:prstGeom prst="roundRect">
            <a:avLst>
              <a:gd name="adj" fmla="val 16667"/>
            </a:avLst>
          </a:prstGeom>
          <a:solidFill>
            <a:srgbClr val="b3eaf2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культурно-оздоровительная рабо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течение д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_s63499"/>
          <p:cNvGrpSpPr/>
          <p:nvPr/>
        </p:nvGrpSpPr>
        <p:grpSpPr>
          <a:xfrm>
            <a:off x="255600" y="2451240"/>
            <a:ext cx="1549440" cy="1346040"/>
            <a:chOff x="255600" y="2451240"/>
            <a:chExt cx="1549440" cy="1346040"/>
          </a:xfrm>
        </p:grpSpPr>
        <p:pic>
          <p:nvPicPr>
            <p:cNvPr id="304" name="_s63499" descr=""/>
            <p:cNvPicPr/>
            <p:nvPr/>
          </p:nvPicPr>
          <p:blipFill>
            <a:blip r:embed="rId1"/>
            <a:stretch/>
          </p:blipFill>
          <p:spPr>
            <a:xfrm>
              <a:off x="255600" y="2451240"/>
              <a:ext cx="15494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2680" y="2541600"/>
              <a:ext cx="129852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рення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имна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" name="_s63499"/>
          <p:cNvGrpSpPr/>
          <p:nvPr/>
        </p:nvGrpSpPr>
        <p:grpSpPr>
          <a:xfrm>
            <a:off x="1951200" y="2451240"/>
            <a:ext cx="1547640" cy="1346040"/>
            <a:chOff x="1951200" y="2451240"/>
            <a:chExt cx="1547640" cy="1346040"/>
          </a:xfrm>
        </p:grpSpPr>
        <p:pic>
          <p:nvPicPr>
            <p:cNvPr id="307" name="_s63499" descr=""/>
            <p:cNvPicPr/>
            <p:nvPr/>
          </p:nvPicPr>
          <p:blipFill>
            <a:blip r:embed="rId2"/>
            <a:stretch/>
          </p:blipFill>
          <p:spPr>
            <a:xfrm>
              <a:off x="1951200" y="2451240"/>
              <a:ext cx="154764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077920" y="254160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зкульт-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инутк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_s63499"/>
          <p:cNvGrpSpPr/>
          <p:nvPr/>
        </p:nvGrpSpPr>
        <p:grpSpPr>
          <a:xfrm>
            <a:off x="3803760" y="2457360"/>
            <a:ext cx="1549440" cy="1339920"/>
            <a:chOff x="3803760" y="2457360"/>
            <a:chExt cx="1549440" cy="1339920"/>
          </a:xfrm>
        </p:grpSpPr>
        <p:pic>
          <p:nvPicPr>
            <p:cNvPr id="310" name="_s63499" descr=""/>
            <p:cNvPicPr/>
            <p:nvPr/>
          </p:nvPicPr>
          <p:blipFill>
            <a:blip r:embed="rId3"/>
            <a:stretch/>
          </p:blipFill>
          <p:spPr>
            <a:xfrm>
              <a:off x="3803760" y="2457360"/>
              <a:ext cx="15494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930480" y="254628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вижны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гр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" name="_s63499"/>
          <p:cNvGrpSpPr/>
          <p:nvPr/>
        </p:nvGrpSpPr>
        <p:grpSpPr>
          <a:xfrm>
            <a:off x="5730840" y="2457360"/>
            <a:ext cx="1548000" cy="1339920"/>
            <a:chOff x="5730840" y="2457360"/>
            <a:chExt cx="1548000" cy="1339920"/>
          </a:xfrm>
        </p:grpSpPr>
        <p:pic>
          <p:nvPicPr>
            <p:cNvPr id="313" name="_s63499" descr=""/>
            <p:cNvPicPr/>
            <p:nvPr/>
          </p:nvPicPr>
          <p:blipFill>
            <a:blip r:embed="rId4"/>
            <a:stretch/>
          </p:blipFill>
          <p:spPr>
            <a:xfrm>
              <a:off x="5730840" y="2457360"/>
              <a:ext cx="154800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856120" y="2546280"/>
              <a:ext cx="12988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имнас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ле сн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" name="_s63499"/>
          <p:cNvGrpSpPr/>
          <p:nvPr/>
        </p:nvGrpSpPr>
        <p:grpSpPr>
          <a:xfrm>
            <a:off x="7315200" y="2457360"/>
            <a:ext cx="1822320" cy="1339920"/>
            <a:chOff x="7315200" y="2457360"/>
            <a:chExt cx="1822320" cy="1339920"/>
          </a:xfrm>
        </p:grpSpPr>
        <p:pic>
          <p:nvPicPr>
            <p:cNvPr id="316" name="_s63499" descr=""/>
            <p:cNvPicPr/>
            <p:nvPr/>
          </p:nvPicPr>
          <p:blipFill>
            <a:blip r:embed="rId5"/>
            <a:stretch/>
          </p:blipFill>
          <p:spPr>
            <a:xfrm>
              <a:off x="7315200" y="2457360"/>
              <a:ext cx="182232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75480" y="2546280"/>
              <a:ext cx="1297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аливающие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я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8" name="Прямая соединительная линия 18"/>
          <p:cNvSpPr/>
          <p:nvPr/>
        </p:nvSpPr>
        <p:spPr>
          <a:xfrm>
            <a:off x="2697120" y="2124000"/>
            <a:ext cx="0" cy="358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Прямая соединительная линия 21"/>
          <p:cNvSpPr/>
          <p:nvPr/>
        </p:nvSpPr>
        <p:spPr>
          <a:xfrm>
            <a:off x="6491160" y="2131920"/>
            <a:ext cx="0" cy="355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Прямая соединительная линия 27"/>
          <p:cNvSpPr/>
          <p:nvPr/>
        </p:nvSpPr>
        <p:spPr>
          <a:xfrm>
            <a:off x="4575240" y="1484280"/>
            <a:ext cx="4680" cy="2826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324000" y="301680"/>
            <a:ext cx="856908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не только физкультурное мероприятие, сколько специально предусмотренный режимный момент, где сосредоточен целый комплекс воздействий на разностороннее развитие детей (движение, музыка, ритмы, эстетика окружения, общение, игр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проведения гимнас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ая форма с использование общеразвивающих упражн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какого-нибудь сюжета ( «На прогулке», «Мы на луг ходили», «Воробышки», «Медвежата»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разным уровнем подвижности (средним - в начале занятия), средне - большим – в середине, малым – в конц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ов ритмической гимнастики, танцевальных движений, хоров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оровительный бег (проводится на участке в течение 3-5 минут с постепенным увеличением расстояния, интенсивности, времен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проводится с детьми ежедневно в утренний отрезок времени, в течение 10 – 12 минут. Комплекс утренней гимнастики планируется на две недели и состоит из трех часте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ая ча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различные виды ходьбы и бега. Это небольшая размин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У с предметами (флажки, платочки, кегли, кубики, обручи, мячи и т.п.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ой ча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ренней гимнастики проводится ходьба в умеренном темпе и игры малой подвижности для восстановления дыхания, включаются элементы здоровьесберегающих технологий, способствующие полноценному физическому развитию: упражнения на восстановление дыхания, пальчиковые гимнастики, упражнения для глаз, упражнения для профилактики плоскостопия, самомассаж и друг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тмичного сопровождения используются счет, хлопки, звукозапись, музыкальное сопровожд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ведения утренней гимнастики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но быть никакой заорганизованности, строгих правил и требований дисциплины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едует обеспечить полную раскованность в поведении, приподнятое эмоциональное состояние и настоящую раскованность движени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3"/>
          <p:cNvSpPr/>
          <p:nvPr/>
        </p:nvSpPr>
        <p:spPr>
          <a:xfrm>
            <a:off x="324000" y="301680"/>
            <a:ext cx="856908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ратковременные физические упражнения, имеющие целью предупреждение утомления, восстановление умственной работоспособности (возбуждают те участки коры головного мозга, которые не были активны в предшествующей деятельности, и дают отдых тем, которые работали). Они улучшают кровообращение, снимают утомление мышц, ЦНС, активизируют мышление детей, создают положительные эмоции и повышают интерес  к заняти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физкультминуток – 1,5 – 2 мин; их рекомендуется проводить со  средней групп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формы физкультминуток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азвивающие упражнения, подвижные игры, дидактические игры с движением, танцевальные движения, выполнение движений под текст стихотворения, любые двигательное действие и зада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к проведению физкультминуток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тся на начальном этапе утом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олжны быть просты по структуре, интересны и хорошо знакомы детя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 для выполнения на ограниченной площад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ключать движения, воздействующие на крупные группы мышц, улучшающие функциональную деятельность всех органов и систем орган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физкультминуток должно органически сочетаться с видом и программным содержанием занят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обычно состоит из 2-4 упражнений: для рук и плечевого пояса, туловища, но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324000" y="301680"/>
            <a:ext cx="8569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могут быть разнообразны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физкультурных занятий. Здесь решается целый комплекс оздоровительных, образовательных и воспитательных задач. Подбор упражнений подчинен тем же требованиям: обеспечение нагрузки на все группы мышц, разная интенсивность с постепенным повышением нагрузки. Главное отличие в том, что игры проводятся в более непринужденной форме, длительность их меньш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с элементами спорта  (баскетбола, футбола и т.д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разной подвижности и на разные движ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 на развитие физических качеств (развитие ловкости, быстроты, выносливости. Например: метание мяча и бег за ним, подкидывание мяча вверх и ловля мяча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игры с движениями («Гуси- лебеди», « У медведя во бору»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3"/>
          <p:cNvSpPr/>
          <p:nvPr/>
        </p:nvSpPr>
        <p:spPr>
          <a:xfrm>
            <a:off x="324000" y="301680"/>
            <a:ext cx="85690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после с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нять настроение и мышечный тонус детей с помощью контрастных воздушных ванн и физических упражне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состоит из нескольких частей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очные упражнения в постели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 простого самомассажа (растирание, поглаживание, пощипывание, поколачивание, надавливание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общеразвивающих упражнений у кроваток (дыхательная гимнастика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ьба по "тропе здоровья" (ходьба по массажным, ребристым, солевым или мокрым дорожк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олжна помочь ребенку проснуться, вызывать у него положительные эмоции, укреплять мышечный тону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3"/>
          <p:cNvSpPr/>
          <p:nvPr/>
        </p:nvSpPr>
        <p:spPr>
          <a:xfrm>
            <a:off x="324000" y="301680"/>
            <a:ext cx="856908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ющие мероприят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ние - это система мероприятий, направленных на тренировку защитных физиологических механизмов терморегуляции организ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у закаливания в детском саду должны входить методы, предусматривающие воздействие разных закаляющих факторов: воды, воздуха, температур, солнечных и ультрафиолетовых лучей, механических и прочих раздражи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акаливани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с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должна возрастать постепенно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7:42:14Z</dcterms:created>
  <dc:creator>Admin</dc:creator>
  <dc:description/>
  <dc:language>en-US</dc:language>
  <cp:lastModifiedBy>UserISS</cp:lastModifiedBy>
  <dcterms:modified xsi:type="dcterms:W3CDTF">2019-06-21T08:02:18Z</dcterms:modified>
  <cp:revision>112</cp:revision>
  <dc:subject/>
  <dc:title>Муниципальное дошкольное  образовательное учреждение  «Ромодановский детский сад  комбинированного вида»</dc:title>
</cp:coreProperties>
</file>