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9FB-4C93-4D81-AD99-EB725B1C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3FD-2CF5-44EA-A83A-BEBD26D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C47-E7DB-4595-8AB8-7DAAAC7F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43E-24AA-4742-B27D-0B2C7EB2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755-ACA7-47B7-A51D-A83B69C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85E-4C05-49D5-8741-311567F2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BAD7-3AE5-45D3-9B47-5A5B925B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0D2-1E5B-4B72-80C8-D8AABF3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3B6-9C8F-4FAB-BD1B-AC3F1F2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F81E-5BBE-4468-8AE6-E4B1ED23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3AC-9682-4EEF-92C7-6AD4D6A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6D9-716F-43D5-87DD-7DF4BBC0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9F50-47A8-49E4-83AD-F7F38F3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BA5B-A77A-4E5E-8593-DB0BE8C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339-171F-469E-9185-7D472FA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26D8-3A64-46EE-B7EF-02C3428D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5743-B5C2-42F0-AFE3-7D51BDA7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BC68-8485-4E4E-B33D-670BAC04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5E51-E44D-425C-ABC7-88B2166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9A16-D51A-4059-9C32-BC7F5E1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8C7D-2BDC-4A5C-B98B-D521E1D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D33B-9547-4B94-9BC2-6FB95AB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895-7E9A-4A39-8A7C-11554BEF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CE63-7545-4759-8CB3-8E6E15F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9E12-851E-4DD3-A916-59789844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3993-3143-4E70-A7B1-BAD3F5C1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22EB-584D-4213-9F29-8B123084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A396-9186-49E6-8F86-A710722B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C117-A3D3-4AAD-9BA8-0E939AEF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61B1-45D6-4337-BCF2-196B58CA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F7511-8A67-4E6C-9E65-A6E4609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BC94-093E-48E8-A7BB-7C41FD07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990A-36E3-42C0-9614-87E0A84C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F41-7003-44B7-90D4-66D34F2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E865B-4BA1-457A-B8E2-A3B8D07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00FAB-D294-4889-A5A0-1A0CF36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2809-520F-49F6-8CA8-571109BE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56B5-27E2-4022-A51B-8B16CF0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EFFE-EAA8-49C5-A2E1-6B9C7EE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540F-5AFD-4915-BFFE-554867C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6C8C-7F30-41B3-8512-2E1A95D5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03A5-FF42-47D0-9070-9FE8CA36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88A9-83E3-4C6E-B2DF-6E2C759A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6907-A334-4F76-8218-8259A1C3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379-C2D8-401C-B5C9-646F8EE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8E9E-6432-4DB9-A7FA-EF1C847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58D8-817D-4FC8-944E-ACFC0CD1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C147F-ECF6-4D3C-A331-731188B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63850-C34C-4E3F-A045-1BE27EEF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467B-8EC5-4993-BF06-6B6F1F5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01AB-817B-46C7-B80B-177249C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CA0A6-6C3D-4E67-9F11-BF20F2AD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4F80-9D74-410C-B395-1EFD0B3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AAF02-E8B3-4E38-8FBC-DA600511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E4A47-8A95-4B63-A7D6-94BFC7A6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738-F3C5-4B0B-B57E-A04153BA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F6D2-48D7-44BB-A81B-5A391E66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247-DA53-4301-BED5-0341E32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F3E-6CF0-4542-9366-BA6AED4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414-98D3-49B7-83DD-F660ED3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0ED0-3268-4F7B-B4FD-80600C21A50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3542-3A00-45C8-9B43-2618E212A545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6267-D454-4DBE-84C9-EA3512228984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B196-02EA-4221-8BB7-3FA5B334BBC4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1A7-EFFB-4EFB-9FBB-6B45A3CE8B10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03920"/>
            <a:ext cx="843588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ое воспитание дошкольников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омплекс   оздоровительно-образовательных мероприятий, основу которых составляет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8800" y="259920"/>
            <a:ext cx="8507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ивный отдых детей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27" name="Organization Chart 3"/>
          <p:cNvGrpSpPr/>
          <p:nvPr/>
        </p:nvGrpSpPr>
        <p:grpSpPr>
          <a:xfrm>
            <a:off x="0" y="1357200"/>
            <a:ext cx="9143640" cy="4499280"/>
            <a:chOff x="0" y="1357200"/>
            <a:chExt cx="9143640" cy="4499280"/>
          </a:xfrm>
        </p:grpSpPr>
        <p:cxnSp>
          <p:nvCxnSpPr>
            <p:cNvPr id="328" name="_s69640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5527800" y="1464120"/>
              <a:ext cx="1800360" cy="339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1" name="_s69641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318200" y="2666520"/>
              <a:ext cx="1800360" cy="97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3" name="_s69642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155760" y="2491920"/>
              <a:ext cx="1800360" cy="134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_s69643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1971720" y="1306440"/>
              <a:ext cx="1800360" cy="3714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0" name="_s69644"/>
            <p:cNvSpPr/>
            <p:nvPr/>
          </p:nvSpPr>
          <p:spPr>
            <a:xfrm>
              <a:off x="1330920" y="1357200"/>
              <a:ext cx="6796440" cy="899640"/>
            </a:xfrm>
            <a:prstGeom prst="roundRect">
              <a:avLst>
                <a:gd name="adj" fmla="val 16667"/>
              </a:avLst>
            </a:prstGeom>
            <a:solidFill>
              <a:srgbClr val="b3eaf2"/>
            </a:solidFill>
            <a:ln w="255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6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Праздники,  Досуги, Дни здоровья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_s69645"/>
            <p:cNvSpPr/>
            <p:nvPr/>
          </p:nvSpPr>
          <p:spPr>
            <a:xfrm>
              <a:off x="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Развле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кательны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_s69646"/>
            <p:cNvSpPr/>
            <p:nvPr/>
          </p:nvSpPr>
          <p:spPr>
            <a:xfrm>
              <a:off x="237060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Познава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тельные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69647"/>
            <p:cNvSpPr/>
            <p:nvPr/>
          </p:nvSpPr>
          <p:spPr>
            <a:xfrm>
              <a:off x="4642560" y="4056840"/>
              <a:ext cx="213048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Нравственно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патриотическ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69648"/>
            <p:cNvSpPr/>
            <p:nvPr/>
          </p:nvSpPr>
          <p:spPr>
            <a:xfrm>
              <a:off x="711180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О здоровом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образе жизн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3"/>
          <p:cNvSpPr/>
          <p:nvPr/>
        </p:nvSpPr>
        <p:spPr>
          <a:xfrm>
            <a:off x="324000" y="301680"/>
            <a:ext cx="85690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стоятельная двигательная актив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вигательная активность детей способствует укреплению здоровья, гармоничному физическому развитию, деятельности сердечно-сосудистой, дыхательной систем, аппарата кровообращения, развитию моторики, физических качеств, повышению работо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самостоятельной двигательной деятельности имеет свою специфик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 организации физкультурно-игровой среды: должно быть достаточно места для движений, оптимальное количество, разнообразие, смена пособ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в обязательном порядке в режиме дня времени для самостоятельной двигательной деятельности: во время утреннего приема, до занятий и между ними, на прогулке, после сна, в вечернее врем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должны владеть специальными (опосредованными) методами активизации движений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324000" y="3016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608040" y="115920"/>
            <a:ext cx="813600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рекционная   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ррекционной  работы – способствовать полноценному психическому и личностному развитию ребен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ознания (рассказы на этические темы, объяснения, разъяснения, этические беседы, увещевания, внушения, инструктажи, приме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деятельности и формирование опыта поведения  (упражнение, требование, приучкение, метод воспитывающих ситуац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я деятельности (поощрение, наказание, соревнован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 игротерапия, арттерапия (изобразительная, сказко-, музыко-и т.д.), поведенческое (различного вида тренинги, психогимнастика, социальная терап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324000" y="30168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468360" y="301680"/>
            <a:ext cx="8280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ьная  работа с деть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а развитие ребенка с учетом его личностных качест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сновных направлени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к каждому ребенку в смешанной групп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нятия с детьми, которым они требуют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имеющейся проблемы, выбирают метод работы с конкретным ребенком: беседа, игра, физические упражнения, пальчиковая гимнастика,  дидактические игры, наблюдения, посильный физический труд. И весь комплекс работы с конкретным ребенком строится  с учетом особенностей его развития (физического, нравственного, психологического, умственного)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324000" y="3016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324000" y="620640"/>
            <a:ext cx="8424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ижные игры на прогул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влияют на развитие мышления, смекалки, ловкости, морально волевых качест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ют физическое здоровье, обучают жизненным ситуациям, помогают ребенку получить правильное развитие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игре ребенок познает окружающий мир, его законы, учится жить по правилам. Все дети  обожают двигаться, прыгать, скакать, бегать наперегон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ребенком игры на прогулке совершенно иное, чем в условиях помещения. В процессе подвижных игр на прогулке дети изучают окружающую прир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84726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7" name="Diagram 35"/>
          <p:cNvGrpSpPr/>
          <p:nvPr/>
        </p:nvGrpSpPr>
        <p:grpSpPr>
          <a:xfrm>
            <a:off x="631800" y="835200"/>
            <a:ext cx="7997400" cy="5459040"/>
            <a:chOff x="631800" y="835200"/>
            <a:chExt cx="7997400" cy="5459040"/>
          </a:xfrm>
        </p:grpSpPr>
        <p:sp>
          <p:nvSpPr>
            <p:cNvPr id="258" name="_s62468"/>
            <p:cNvSpPr/>
            <p:nvPr/>
          </p:nvSpPr>
          <p:spPr>
            <a:xfrm flipH="1" flipV="1">
              <a:off x="2503080" y="2553840"/>
              <a:ext cx="83952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62469"/>
            <p:cNvSpPr/>
            <p:nvPr/>
          </p:nvSpPr>
          <p:spPr>
            <a:xfrm>
              <a:off x="814680" y="1478520"/>
              <a:ext cx="1958040" cy="128124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a5c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одвижны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игры на прогулк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_s62472"/>
            <p:cNvSpPr/>
            <p:nvPr/>
          </p:nvSpPr>
          <p:spPr>
            <a:xfrm flipH="1">
              <a:off x="2358360" y="3685680"/>
              <a:ext cx="112716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_s62473"/>
            <p:cNvSpPr/>
            <p:nvPr/>
          </p:nvSpPr>
          <p:spPr>
            <a:xfrm>
              <a:off x="631800" y="3577320"/>
              <a:ext cx="1807920" cy="127872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Индивидуальна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 с дет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_s62476"/>
            <p:cNvSpPr/>
            <p:nvPr/>
          </p:nvSpPr>
          <p:spPr>
            <a:xfrm flipH="1">
              <a:off x="3342240" y="4323240"/>
              <a:ext cx="653400" cy="79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_s62477"/>
            <p:cNvSpPr/>
            <p:nvPr/>
          </p:nvSpPr>
          <p:spPr>
            <a:xfrm>
              <a:off x="2409840" y="4979520"/>
              <a:ext cx="1807920" cy="12808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Коррекционна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_s62478"/>
            <p:cNvSpPr/>
            <p:nvPr/>
          </p:nvSpPr>
          <p:spPr>
            <a:xfrm>
              <a:off x="5096520" y="4314600"/>
              <a:ext cx="554760" cy="69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_s62479"/>
            <p:cNvSpPr/>
            <p:nvPr/>
          </p:nvSpPr>
          <p:spPr>
            <a:xfrm>
              <a:off x="5042880" y="5015880"/>
              <a:ext cx="1945800" cy="127836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a5c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амостоятельная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вигательная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ктивност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_s62480"/>
            <p:cNvSpPr/>
            <p:nvPr/>
          </p:nvSpPr>
          <p:spPr>
            <a:xfrm>
              <a:off x="5978520" y="3432960"/>
              <a:ext cx="127692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_s62481"/>
            <p:cNvSpPr/>
            <p:nvPr/>
          </p:nvSpPr>
          <p:spPr>
            <a:xfrm>
              <a:off x="6665400" y="3176280"/>
              <a:ext cx="1963800" cy="13168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ктивный отды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_s62482"/>
            <p:cNvSpPr/>
            <p:nvPr/>
          </p:nvSpPr>
          <p:spPr>
            <a:xfrm flipV="1">
              <a:off x="5498280" y="2407320"/>
              <a:ext cx="83340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_s62483"/>
            <p:cNvSpPr/>
            <p:nvPr/>
          </p:nvSpPr>
          <p:spPr>
            <a:xfrm>
              <a:off x="6083280" y="1364040"/>
              <a:ext cx="1949400" cy="13024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о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здоровительная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 течение дн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_s62484"/>
            <p:cNvSpPr/>
            <p:nvPr/>
          </p:nvSpPr>
          <p:spPr>
            <a:xfrm flipV="1">
              <a:off x="4440240" y="1839600"/>
              <a:ext cx="0" cy="91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_s62485"/>
            <p:cNvSpPr/>
            <p:nvPr/>
          </p:nvSpPr>
          <p:spPr>
            <a:xfrm>
              <a:off x="3465720" y="835200"/>
              <a:ext cx="1945440" cy="128952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ы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зан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_s62486"/>
            <p:cNvSpPr/>
            <p:nvPr/>
          </p:nvSpPr>
          <p:spPr>
            <a:xfrm>
              <a:off x="2551320" y="2768040"/>
              <a:ext cx="3810600" cy="1618560"/>
            </a:xfrm>
            <a:prstGeom prst="ellipse">
              <a:avLst/>
            </a:prstGeom>
            <a:solidFill>
              <a:srgbClr val="5ff3ca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ормы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о-оздоровительно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ы в ДО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Organization Chart 2"/>
          <p:cNvGrpSpPr/>
          <p:nvPr/>
        </p:nvGrpSpPr>
        <p:grpSpPr>
          <a:xfrm>
            <a:off x="250920" y="333360"/>
            <a:ext cx="8713080" cy="5731560"/>
            <a:chOff x="250920" y="333360"/>
            <a:chExt cx="8713080" cy="5731560"/>
          </a:xfrm>
        </p:grpSpPr>
        <p:cxnSp>
          <p:nvCxnSpPr>
            <p:cNvPr id="274" name="_s63492"/>
            <p:cNvCxnSpPr/>
            <p:nvPr/>
          </p:nvCxnSpPr>
          <p:spPr>
            <a:xfrm flipV="1">
              <a:off x="762408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63493"/>
            <p:cNvCxnSpPr/>
            <p:nvPr/>
          </p:nvCxnSpPr>
          <p:spPr>
            <a:xfrm flipV="1">
              <a:off x="465696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63494"/>
            <p:cNvCxnSpPr/>
            <p:nvPr/>
          </p:nvCxnSpPr>
          <p:spPr>
            <a:xfrm flipV="1">
              <a:off x="168948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63495"/>
            <p:cNvCxnSpPr>
              <a:endCxn id="278" idx="2"/>
            </p:cNvCxnSpPr>
            <p:nvPr/>
          </p:nvCxnSpPr>
          <p:spPr>
            <a:xfrm flipV="1" rot="16200000">
              <a:off x="5788800" y="607680"/>
              <a:ext cx="704160" cy="29678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63496"/>
            <p:cNvCxnSpPr>
              <a:endCxn id="278" idx="2"/>
            </p:cNvCxnSpPr>
            <p:nvPr/>
          </p:nvCxnSpPr>
          <p:spPr>
            <a:xfrm flipV="1">
              <a:off x="4653360" y="1745640"/>
              <a:ext cx="324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63497"/>
            <p:cNvCxnSpPr>
              <a:endCxn id="278" idx="2"/>
            </p:cNvCxnSpPr>
            <p:nvPr/>
          </p:nvCxnSpPr>
          <p:spPr>
            <a:xfrm flipH="1" flipV="1" rot="5400000">
              <a:off x="2821320" y="608040"/>
              <a:ext cx="704160" cy="29678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63498"/>
            <p:cNvSpPr/>
            <p:nvPr/>
          </p:nvSpPr>
          <p:spPr>
            <a:xfrm>
              <a:off x="1634400" y="333360"/>
              <a:ext cx="6045840" cy="1406880"/>
            </a:xfrm>
            <a:prstGeom prst="roundRect">
              <a:avLst>
                <a:gd name="adj" fmla="val 16667"/>
              </a:avLst>
            </a:prstGeom>
            <a:solidFill>
              <a:srgbClr val="b3eaf2"/>
            </a:solidFill>
            <a:ln w="25560">
              <a:solidFill>
                <a:srgbClr val="0bd0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ые  занятия: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ключают в себя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вводно-подготовительную часть (разминку)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основную, где решается комплекс основных задач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заключительную (назначение которой восстановить дыхание и пульс)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Форма занятия зависит от возраста детей, задач, места прове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1" name="_s63499"/>
            <p:cNvGrpSpPr/>
            <p:nvPr/>
          </p:nvGrpSpPr>
          <p:grpSpPr>
            <a:xfrm>
              <a:off x="250920" y="2409480"/>
              <a:ext cx="2805480" cy="1539000"/>
              <a:chOff x="250920" y="2409480"/>
              <a:chExt cx="2805480" cy="1539000"/>
            </a:xfrm>
          </p:grpSpPr>
          <p:pic>
            <p:nvPicPr>
              <p:cNvPr id="282" name="_s6349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409480"/>
                <a:ext cx="28054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85640" y="2509920"/>
                <a:ext cx="240732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Традиционные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" name="_s63500"/>
            <p:cNvGrpSpPr/>
            <p:nvPr/>
          </p:nvGrpSpPr>
          <p:grpSpPr>
            <a:xfrm>
              <a:off x="3318120" y="2409480"/>
              <a:ext cx="2675520" cy="1539000"/>
              <a:chOff x="3318120" y="2409480"/>
              <a:chExt cx="2675520" cy="1539000"/>
            </a:xfrm>
          </p:grpSpPr>
          <p:pic>
            <p:nvPicPr>
              <p:cNvPr id="285" name="_s6350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18120" y="2409480"/>
                <a:ext cx="267552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3453840" y="2509920"/>
                <a:ext cx="240804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Сюжетные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7" name="_s63501"/>
            <p:cNvGrpSpPr/>
            <p:nvPr/>
          </p:nvGrpSpPr>
          <p:grpSpPr>
            <a:xfrm>
              <a:off x="6288120" y="2409480"/>
              <a:ext cx="2675880" cy="1539000"/>
              <a:chOff x="6288120" y="2409480"/>
              <a:chExt cx="2675880" cy="1539000"/>
            </a:xfrm>
          </p:grpSpPr>
          <p:pic>
            <p:nvPicPr>
              <p:cNvPr id="288" name="_s635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288120" y="240948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6419880" y="250992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Игровые</a:t>
                </a:r>
                <a:r>
                  <a:rPr b="1" lang="ru-RU" sz="2200" spc="-1" strike="noStrike">
                    <a:solidFill>
                      <a:srgbClr val="00cc00"/>
                    </a:solidFill>
                    <a:latin typeface="Verdana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0" name="_s63502"/>
            <p:cNvGrpSpPr/>
            <p:nvPr/>
          </p:nvGrpSpPr>
          <p:grpSpPr>
            <a:xfrm>
              <a:off x="353520" y="4525920"/>
              <a:ext cx="2675880" cy="1539000"/>
              <a:chOff x="353520" y="4525920"/>
              <a:chExt cx="2675880" cy="1539000"/>
            </a:xfrm>
          </p:grpSpPr>
          <p:pic>
            <p:nvPicPr>
              <p:cNvPr id="291" name="_s63502" descr=""/>
              <p:cNvPicPr/>
              <p:nvPr/>
            </p:nvPicPr>
            <p:blipFill>
              <a:blip r:embed="rId4"/>
              <a:stretch/>
            </p:blipFill>
            <p:spPr>
              <a:xfrm>
                <a:off x="353520" y="452592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487440" y="462420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 –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тренировки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_s63503"/>
            <p:cNvGrpSpPr/>
            <p:nvPr/>
          </p:nvGrpSpPr>
          <p:grpSpPr>
            <a:xfrm>
              <a:off x="3318120" y="4525920"/>
              <a:ext cx="2687400" cy="1539000"/>
              <a:chOff x="3318120" y="4525920"/>
              <a:chExt cx="2687400" cy="1539000"/>
            </a:xfrm>
          </p:grpSpPr>
          <p:pic>
            <p:nvPicPr>
              <p:cNvPr id="294" name="_s63503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8120" y="4525920"/>
                <a:ext cx="268740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3453840" y="4624200"/>
                <a:ext cx="240804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 –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соревнования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6" name="_s63504"/>
            <p:cNvGrpSpPr/>
            <p:nvPr/>
          </p:nvGrpSpPr>
          <p:grpSpPr>
            <a:xfrm>
              <a:off x="6288120" y="4525920"/>
              <a:ext cx="2675880" cy="1539000"/>
              <a:chOff x="6288120" y="4525920"/>
              <a:chExt cx="2675880" cy="1539000"/>
            </a:xfrm>
          </p:grpSpPr>
          <p:pic>
            <p:nvPicPr>
              <p:cNvPr id="297" name="_s63504" descr=""/>
              <p:cNvPicPr/>
              <p:nvPr/>
            </p:nvPicPr>
            <p:blipFill>
              <a:blip r:embed="rId6"/>
              <a:stretch/>
            </p:blipFill>
            <p:spPr>
              <a:xfrm>
                <a:off x="6288120" y="452592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6419880" y="462420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-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четы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_s63495"/>
          <p:cNvCxnSpPr/>
          <p:nvPr/>
        </p:nvCxnSpPr>
        <p:spPr>
          <a:xfrm flipV="1" rot="16200000">
            <a:off x="5741280" y="599400"/>
            <a:ext cx="716760" cy="30502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0" name="_s63496"/>
          <p:cNvCxnSpPr/>
          <p:nvPr/>
        </p:nvCxnSpPr>
        <p:spPr>
          <a:xfrm flipV="1">
            <a:off x="4570560" y="2126520"/>
            <a:ext cx="36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1" name="_s63497"/>
          <p:cNvCxnSpPr/>
          <p:nvPr/>
        </p:nvCxnSpPr>
        <p:spPr>
          <a:xfrm flipH="1" flipV="1" rot="5400000">
            <a:off x="2691360" y="599400"/>
            <a:ext cx="716760" cy="30502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_s63498"/>
          <p:cNvSpPr/>
          <p:nvPr/>
        </p:nvSpPr>
        <p:spPr>
          <a:xfrm>
            <a:off x="1467000" y="333360"/>
            <a:ext cx="6215040" cy="1150920"/>
          </a:xfrm>
          <a:prstGeom prst="roundRect">
            <a:avLst>
              <a:gd name="adj" fmla="val 16667"/>
            </a:avLst>
          </a:prstGeom>
          <a:solidFill>
            <a:srgbClr val="b3eaf2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культурно-оздоровительная рабо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ечение д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_s63499"/>
          <p:cNvGrpSpPr/>
          <p:nvPr/>
        </p:nvGrpSpPr>
        <p:grpSpPr>
          <a:xfrm>
            <a:off x="255600" y="2451240"/>
            <a:ext cx="1549440" cy="1346040"/>
            <a:chOff x="255600" y="2451240"/>
            <a:chExt cx="1549440" cy="1346040"/>
          </a:xfrm>
        </p:grpSpPr>
        <p:pic>
          <p:nvPicPr>
            <p:cNvPr id="304" name="_s63499" descr=""/>
            <p:cNvPicPr/>
            <p:nvPr/>
          </p:nvPicPr>
          <p:blipFill>
            <a:blip r:embed="rId1"/>
            <a:stretch/>
          </p:blipFill>
          <p:spPr>
            <a:xfrm>
              <a:off x="255600" y="2451240"/>
              <a:ext cx="1549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2680" y="2541600"/>
              <a:ext cx="12985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рення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имна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" name="_s63499"/>
          <p:cNvGrpSpPr/>
          <p:nvPr/>
        </p:nvGrpSpPr>
        <p:grpSpPr>
          <a:xfrm>
            <a:off x="1951200" y="2451240"/>
            <a:ext cx="1547640" cy="1346040"/>
            <a:chOff x="1951200" y="2451240"/>
            <a:chExt cx="1547640" cy="1346040"/>
          </a:xfrm>
        </p:grpSpPr>
        <p:pic>
          <p:nvPicPr>
            <p:cNvPr id="307" name="_s63499" descr=""/>
            <p:cNvPicPr/>
            <p:nvPr/>
          </p:nvPicPr>
          <p:blipFill>
            <a:blip r:embed="rId2"/>
            <a:stretch/>
          </p:blipFill>
          <p:spPr>
            <a:xfrm>
              <a:off x="1951200" y="2451240"/>
              <a:ext cx="15476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77920" y="254160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зкульт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нут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_s63499"/>
          <p:cNvGrpSpPr/>
          <p:nvPr/>
        </p:nvGrpSpPr>
        <p:grpSpPr>
          <a:xfrm>
            <a:off x="3803760" y="2457360"/>
            <a:ext cx="1549440" cy="1339920"/>
            <a:chOff x="3803760" y="2457360"/>
            <a:chExt cx="1549440" cy="1339920"/>
          </a:xfrm>
        </p:grpSpPr>
        <p:pic>
          <p:nvPicPr>
            <p:cNvPr id="310" name="_s63499" descr=""/>
            <p:cNvPicPr/>
            <p:nvPr/>
          </p:nvPicPr>
          <p:blipFill>
            <a:blip r:embed="rId3"/>
            <a:stretch/>
          </p:blipFill>
          <p:spPr>
            <a:xfrm>
              <a:off x="3803760" y="2457360"/>
              <a:ext cx="15494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930480" y="254628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вижны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" name="_s63499"/>
          <p:cNvGrpSpPr/>
          <p:nvPr/>
        </p:nvGrpSpPr>
        <p:grpSpPr>
          <a:xfrm>
            <a:off x="5730840" y="2457360"/>
            <a:ext cx="1548000" cy="1339920"/>
            <a:chOff x="5730840" y="2457360"/>
            <a:chExt cx="1548000" cy="1339920"/>
          </a:xfrm>
        </p:grpSpPr>
        <p:pic>
          <p:nvPicPr>
            <p:cNvPr id="313" name="_s63499" descr=""/>
            <p:cNvPicPr/>
            <p:nvPr/>
          </p:nvPicPr>
          <p:blipFill>
            <a:blip r:embed="rId4"/>
            <a:stretch/>
          </p:blipFill>
          <p:spPr>
            <a:xfrm>
              <a:off x="5730840" y="2457360"/>
              <a:ext cx="154800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856120" y="2546280"/>
              <a:ext cx="12988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имна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 сн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" name="_s63499"/>
          <p:cNvGrpSpPr/>
          <p:nvPr/>
        </p:nvGrpSpPr>
        <p:grpSpPr>
          <a:xfrm>
            <a:off x="7315200" y="2457360"/>
            <a:ext cx="1822320" cy="1339920"/>
            <a:chOff x="7315200" y="2457360"/>
            <a:chExt cx="1822320" cy="1339920"/>
          </a:xfrm>
        </p:grpSpPr>
        <p:pic>
          <p:nvPicPr>
            <p:cNvPr id="316" name="_s63499" descr=""/>
            <p:cNvPicPr/>
            <p:nvPr/>
          </p:nvPicPr>
          <p:blipFill>
            <a:blip r:embed="rId5"/>
            <a:stretch/>
          </p:blipFill>
          <p:spPr>
            <a:xfrm>
              <a:off x="7315200" y="2457360"/>
              <a:ext cx="18223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75480" y="254628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аливающ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я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8" name="Прямая соединительная линия 18"/>
          <p:cNvSpPr/>
          <p:nvPr/>
        </p:nvSpPr>
        <p:spPr>
          <a:xfrm>
            <a:off x="2697120" y="2124000"/>
            <a:ext cx="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ая соединительная линия 21"/>
          <p:cNvSpPr/>
          <p:nvPr/>
        </p:nvSpPr>
        <p:spPr>
          <a:xfrm>
            <a:off x="6491160" y="2131920"/>
            <a:ext cx="0" cy="355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ая соединительная линия 27"/>
          <p:cNvSpPr/>
          <p:nvPr/>
        </p:nvSpPr>
        <p:spPr>
          <a:xfrm>
            <a:off x="4575240" y="1484280"/>
            <a:ext cx="4680" cy="2826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324000" y="301680"/>
            <a:ext cx="856908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только физкультурное мероприятие, сколько специально предусмотренный режимный момент, где сосредоточен целый комплекс воздействий на разностороннее развитие детей (движение, музыка, ритмы, эстетика окружения, общение, игр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роведения гимнас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форма с использование общеразвивающих упражн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какого-нибудь сюжета ( «На прогулке», «Мы на луг ходили», «Воробышки», «Медвежата»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разным уровнем подвижности (средним - в начале занятия), средне - большим – в середине, малым – в конц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ов ритмической гимнастики, танцевальных движений, хоров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й бег (проводится на участке в течение 3-5 минут с постепенным увеличением расстояния, интенсивности, времен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проводится с детьми ежедневно в утренний отрезок времени, в течение 10 – 12 минут. Комплекс утренней гимнастики планируется на две недели и состоит из трех часте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ча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различные виды ходьбы и бега. Это небольшая разми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У с предметами (флажки, платочки, кегли, кубики, обручи, мячи и т.п.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й ча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ренней гимнастики проводится ходьба в умеренном темпе и игры малой подвижности для восстановления дыхания, включаются элементы здоровьесберегающих технологий, способствующие полноценному физическому развитию: упражнения на восстановление дыхания, пальчиковые гимнастики, упражнения для глаз, упражнения для профилактики плоскостопия, самомассаж и друг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тмичного сопровождения используются счет, хлопки, звукозапись, музыкальное сопрово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ведения утренней гимнастики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быть никакой заорганизованности, строгих правил и требований дисциплины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едует обеспечить полную раскованность в поведении, приподнятое эмоциональное состояние и настоящую раскованность движе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324000" y="301680"/>
            <a:ext cx="856908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ратковременные физические упражнения, имеющие целью предупреждение утомления, восстановление умственной работоспособности (возбуждают те участки коры головного мозга, которые не были активны в предшествующей деятельности, и дают отдых тем, которые работали). Они улучшают кровообращение, снимают утомление мышц, ЦНС, активизируют мышление детей, создают положительные эмоции и повышают интерес  к заняти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физкультминуток – 1,5 – 2 мин; их рекомендуется проводить со  средней групп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физкультминуток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ие упражнения, подвижные игры, дидактические игры с движением, танцевальные движения, выполнение движений под текст стихотворения, любые двигательное действие и зад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к проведению физкультминуток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ся на начальном этапе утом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олжны быть просты по структуре, интересны и хорошо знакомы детя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 для выполнения на ограниченной площад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ключать движения, воздействующие на крупные группы мышц, улучшающие функциональную деятельность всех органов и систем орган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физкультминуток должно органически сочетаться с видом и программным содержанием занят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обычно состоит из 2-4 упражнений: для рук и плечевого пояса, туловища, но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324000" y="30168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могут быть разнообразны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физкультурных занятий. Здесь решается целый комплекс оздоровительных, образовательных и воспитательных задач. Подбор упражнений подчинен тем же требованиям: обеспечение нагрузки на все группы мышц, разная интенсивность с постепенным повышением нагрузки. Главное отличие в том, что игры проводятся в более непринужденной форме, длительность их меньш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элементами спорта  (баскетбола, футбола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разной подвижности и на разные движ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на развитие физических качеств (развитие ловкости, быстроты, выносливости. Например: метание мяча и бег за ним, подкидывание мяча вверх и ловля мяча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игры с движениями («Гуси- лебеди», « У медведя во бору»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3"/>
          <p:cNvSpPr/>
          <p:nvPr/>
        </p:nvSpPr>
        <p:spPr>
          <a:xfrm>
            <a:off x="324000" y="301680"/>
            <a:ext cx="85690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после с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нять настроение и мышечный тонус детей с помощью контрастных воздушных ванн и физических упражне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состоит из нескольких частей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очные упражнения в постели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 простого самомассажа (растирание, поглаживание, пощипывание, поколачивание, надавливание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бщеразвивающих упражнений у кроваток (дыхательная гимнастика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по "тропе здоровья" (ходьба по массажным, ребристым, солевым или мокрым дорожк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олжна помочь ребенку проснуться, вызывать у него положительные эмоции, укреплять мышечный тону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3"/>
          <p:cNvSpPr/>
          <p:nvPr/>
        </p:nvSpPr>
        <p:spPr>
          <a:xfrm>
            <a:off x="324000" y="301680"/>
            <a:ext cx="85690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ющие мероприят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- это система мероприятий, направленных на тренировку защитных физиологических механизмов терморегуляции организ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у закаливания в детском саду должны входить методы, предусматривающие воздействие разных закаляющих факторов: воды, воздуха, температур, солнечных и ультрафиолетовых лучей, механических и прочих раздражи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акали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должна возрастать постепенн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2:14Z</dcterms:created>
  <dc:creator>Admin</dc:creator>
  <dc:description/>
  <dc:language>en-US</dc:language>
  <cp:lastModifiedBy>UserISS</cp:lastModifiedBy>
  <dcterms:modified xsi:type="dcterms:W3CDTF">2019-06-21T08:02:18Z</dcterms:modified>
  <cp:revision>112</cp:revision>
  <dc:subject/>
  <dc:title>Муниципальное дошкольное  образовательное учреждение  «Ромодановский детский сад  комбинированного вида»</dc:title>
</cp:coreProperties>
</file>