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jpeg" ContentType="image/jpeg"/>
  <Override PartName="/ppt/media/image8.jpeg" ContentType="image/jpeg"/>
  <Override PartName="/ppt/media/image10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21FE5-70BF-4BEC-94B6-12087082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CBF3D-4A50-4ED9-B2A1-1D7EC8D7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61A25-59DF-4B95-A749-0FD066E8E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6D8F1-D029-4BB6-9479-596D9E53E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A9A6-8835-40F9-81ED-229F095D0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F7F9-91F6-4252-9117-96BCE9AD3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C8E4-9CDB-4337-920E-0253DAEBC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0A284-A770-41F0-9B4C-92BC67E89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6A9EF-B954-424A-B56B-E5A2A87B3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F5D9C-30A0-4571-AAD4-D20E895E7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D98A-4DC2-48F6-96ED-2356E9E3E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E7528-6E22-491F-B89E-D9761E24B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577CD-F31A-4B77-A395-E92BC69F68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чиров Гуржап Ванюшкеевич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ров Гуржап Ванюшкеевич 1905 ондо Буряад АССР-эй Баргажан аймагай Яригта тосхондо </a:t>
            </a:r>
            <a:r>
              <a:rPr b="0" lang="mn-Cyrl-M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ытэй малшан, т</a:t>
            </a:r>
            <a:r>
              <a:rPr b="0" lang="mn-Cyrl-M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эршэ дархан Очиров Очир Ванюшкеевичай гэр б</a:t>
            </a:r>
            <a:r>
              <a:rPr b="0" lang="mn-Cyrl-M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эдэ т</a:t>
            </a:r>
            <a:r>
              <a:rPr b="0" lang="mn-Cyrl-M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э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. Яригта тосхондо эхин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mn-Cyrl-M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уули д</a:t>
            </a:r>
            <a:r>
              <a:rPr b="0" lang="mn-Cyrl-MN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ээд 1927 ондо Улаан Армиин зэргэдэ абтаад, 1946 оной февраль болотор совет армида алба хаагаа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Объект 8" descr=""/>
          <p:cNvPicPr/>
          <p:nvPr/>
        </p:nvPicPr>
        <p:blipFill>
          <a:blip r:embed="rId2"/>
          <a:stretch/>
        </p:blipFill>
        <p:spPr>
          <a:xfrm>
            <a:off x="900000" y="1628640"/>
            <a:ext cx="2597400" cy="374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эдэ Духовщино районай партиин комитедэй секретарь н</a:t>
            </a:r>
            <a:r>
              <a:rPr b="0" lang="mn-Cyrl-MN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эр П.Ф.Цурановтай хамта партизанска отряд ба партизанска бригада байгуулаа, Гуржап Очиров </a:t>
            </a:r>
            <a:r>
              <a:rPr b="0" lang="en-GB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mn-Cyrl-MN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ээрнь К.Е.Варшиловай х</a:t>
            </a:r>
            <a:r>
              <a:rPr b="0" lang="mn-Cyrl-MN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элбэри доро командалаа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187280" y="1484280"/>
            <a:ext cx="3343320" cy="41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75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артизанска отряд дайсадта  ехэхэн гээлтэ, хороолто ушаруулаа. 1942 оной апрель 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ада Каспля-Липка, Спас-Липка, Босино-Озерецкое ба Преображенски 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mn-Cyrl-M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у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нуудта 230 немец</a:t>
            </a:r>
            <a:r>
              <a:rPr b="0" lang="mn-Cyrl-M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е хюудэбэ. Тиихэдэ 17 моритой ашаануудые, олон тоото буу зэбсэг </a:t>
            </a:r>
            <a:r>
              <a:rPr b="0" lang="en-GB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мынуудые, пулемед</a:t>
            </a:r>
            <a:r>
              <a:rPr b="0" lang="mn-Cyrl-M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е, винтовкон</a:t>
            </a:r>
            <a:r>
              <a:rPr b="0" lang="mn-Cyrl-MN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</a:t>
            </a:r>
            <a:r>
              <a:rPr b="0" lang="ru-RU" sz="2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ые, автомадуудые эзэмдээ.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2"/>
          <a:stretch/>
        </p:blipFill>
        <p:spPr>
          <a:xfrm>
            <a:off x="539640" y="1197000"/>
            <a:ext cx="385452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эдэнэр  Батябска шэглэл руу Демидов-Велинск, Демидов-Духовщино, Смоленск-Каспля-Демидово, Смоленск-Орша, Демидов-Якович харгынуудаар олон немец</a:t>
            </a:r>
            <a:r>
              <a:rPr b="0" lang="mn-Cyrl-MN" sz="2800" spc="-1" strike="noStrike">
                <a:solidFill>
                  <a:srgbClr val="000000"/>
                </a:solidFill>
                <a:latin typeface="Arial"/>
              </a:rPr>
              <a:t>үү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дые хюуда ḣэн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679320" y="1600200"/>
            <a:ext cx="3816360" cy="42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Гуржаб Очиров хэлэдэг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: « Энэ албанда хусэтэй шанга байгаа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а илаха. Дайнай газарта ганса баатаршалга гаргаха бага, харин дайсанаа сохихо шадалтай байха ё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755640" y="2205000"/>
            <a:ext cx="3751200" cy="30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Эгээ нухэроо алдахадань аймшагтай. Булта ухэл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о айгаашье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аа, Эхэ ороноо тулоо байлдаанда гарана. Саша Туровский ехэ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ниин хун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эн.Булад шэнги хатуу зурхэтэй, нухэдтоо ехэ уринаар хандадаг». Энэ хуниие Гуржаб Очиров юун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ээшье улуу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анадаг 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эн.Туровский хододоо армиин дурим ё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 сахидаг байга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539640" y="2205000"/>
            <a:ext cx="4319640" cy="295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чиров Гуржап Ванюшкеевичай шагналнууд</a:t>
            </a:r>
            <a:r>
              <a:rPr b="1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ронын наркомай нэрлэжэ </a:t>
            </a:r>
            <a:r>
              <a:rPr b="0" lang="mn-Cyrl-M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э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 часы ба м</a:t>
            </a:r>
            <a:r>
              <a:rPr b="0" lang="mn-Cyrl-M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гэн потсигар(1945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японец</a:t>
            </a:r>
            <a:r>
              <a:rPr b="0" lang="mn-Cyrl-M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эй ара талада дайшалхы даабари д</a:t>
            </a:r>
            <a:r>
              <a:rPr b="0" lang="mn-Cyrl-M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ү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гэ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</a:t>
            </a:r>
            <a:r>
              <a:rPr b="0" lang="mn-Cyrl-M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й тү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</a:t>
            </a:r>
            <a:r>
              <a:rPr b="0" lang="mn-Cyrl-M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өө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боронын наркомай нэрлэжэ </a:t>
            </a:r>
            <a:r>
              <a:rPr b="0" lang="mn-Cyrl-M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ү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э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 часы (193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енинэй орден (1942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лаан Тугай орден (1943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лаан Одоной орден (1945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даль «Германи ила</a:t>
            </a:r>
            <a:r>
              <a:rPr b="0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ай </a:t>
            </a:r>
            <a:r>
              <a:rPr b="0" lang="mn-Cyrl-MN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үлөө</a:t>
            </a: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1941-1945».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Объект 4" descr=""/>
          <p:cNvPicPr/>
          <p:nvPr/>
        </p:nvPicPr>
        <p:blipFill>
          <a:blip r:embed="rId2"/>
          <a:stretch/>
        </p:blipFill>
        <p:spPr>
          <a:xfrm>
            <a:off x="1025640" y="1628640"/>
            <a:ext cx="3217680" cy="41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нэ ном ганса Буряад орондо мэдээжэ болоогʏй, харин ондоо гʏрэнʏʏдтэ мэдээжэ болонхой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Объект 4" descr=""/>
          <p:cNvPicPr/>
          <p:nvPr/>
        </p:nvPicPr>
        <p:blipFill>
          <a:blip r:embed="rId2"/>
          <a:stretch/>
        </p:blipFill>
        <p:spPr>
          <a:xfrm>
            <a:off x="684360" y="2205000"/>
            <a:ext cx="3367080" cy="776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subTitle"/>
          </p:nvPr>
        </p:nvSpPr>
        <p:spPr>
          <a:xfrm>
            <a:off x="1332000" y="2349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96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1" lang="ru-RU" sz="9600" spc="-1" strike="noStrike">
                <a:solidFill>
                  <a:srgbClr val="000000"/>
                </a:solidFill>
                <a:latin typeface="Arial"/>
              </a:rPr>
              <a:t>айн даа!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уржап Очировай дайшалхы саг тухай Д.Хилтухин ба А.Бальбуров «Амиды ябахые захирнаб» г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 ном 1963 ондо бэшэ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н. Энэ ном соо партизан бай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н сагай дайшалхы замын тодорхойгоор хэлэгдэнэ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Объект 4" descr=""/>
          <p:cNvPicPr/>
          <p:nvPr/>
        </p:nvPicPr>
        <p:blipFill>
          <a:blip r:embed="rId2"/>
          <a:stretch/>
        </p:blipFill>
        <p:spPr>
          <a:xfrm>
            <a:off x="684360" y="2060640"/>
            <a:ext cx="3430440" cy="791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33336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Очиров Гуржап Ванюшкеевич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Смоленщина хотодо 1941-  1943 онуудта партизанска отряд ударидалжа яба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а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Тэрэ    2500 сэрэгшэдые дахуулжа , эрэлхэг зоригоо харуулжа алдарша</a:t>
            </a:r>
            <a:r>
              <a:rPr b="0" lang="en-US" sz="2400" spc="-1" strike="noStrike">
                <a:solidFill>
                  <a:srgbClr val="000000"/>
                </a:solidFill>
                <a:latin typeface="Arial Unicode MS"/>
              </a:rPr>
              <a:t>h</a:t>
            </a:r>
            <a:r>
              <a:rPr b="0" lang="ru-RU" sz="2400" spc="-1" strike="noStrike">
                <a:solidFill>
                  <a:srgbClr val="000000"/>
                </a:solidFill>
                <a:latin typeface="Arial Unicode MS"/>
              </a:rPr>
              <a:t>ан юм.</a:t>
            </a:r>
            <a:r>
              <a:rPr b="0" lang="ru-RU" sz="2000" spc="-1" strike="noStrike">
                <a:solidFill>
                  <a:srgbClr val="000000"/>
                </a:solidFill>
                <a:latin typeface="Arial Unicode MS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971640" y="1700280"/>
            <a:ext cx="240192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Смоленск хото зунай 1941 онд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042920" y="1916280"/>
            <a:ext cx="6840720" cy="36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52 стрелково дивизиин сэрэгшэ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1403280" y="1413000"/>
            <a:ext cx="5689800" cy="46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айсад Смоленск хото зунай 1941 ондо  добтолжо ороб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2"/>
          <a:stretch/>
        </p:blipFill>
        <p:spPr>
          <a:xfrm>
            <a:off x="1332000" y="1666800"/>
            <a:ext cx="6613560" cy="46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642920" y="1267920"/>
            <a:ext cx="4038840" cy="488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юлиин 28 1941ондо Гуржап Очировай отряд дивизиин ябалга далдаха гэḣэн захиралта абаба.Смоленщина захада батальоной 72 сэрэгшэд толгойгоороо сасулжа тэмсээ. Батальон дайшалхы даабарияа дʏʏргээ 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826920" y="1197000"/>
            <a:ext cx="345924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Гуржап Очиров тэрэ байлдаан соо шархатаḣан байгаа , бодохо аргагуй. Хажуудань Гена Миронов солдат хʏбʏʏн шархатаад хэбтэнэ.Тойроод  ганса немецууд. ¥хɵɵ ḣаамнай дээрээ гэжэ тэрэ хоер бодоно. Гена хэлэбэ : « Танай захиралта ʏгыт , нэгэ адляар куроогоо дараяа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 Би иимэ захиралта ʏгэхэгʏйб. Зугаа дʏʏрээ! Амиды ябахые захирнаб!» гэжэ командир хэлэбэ. Энэʏгэнʏʏдынь повестиин эгээ кульминацинь болоно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755640" y="1700280"/>
            <a:ext cx="337356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Амиды ябахые захирнаб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2920" y="162864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mn-Cyrl-MN" sz="2800" spc="-1" strike="noStrike">
                <a:solidFill>
                  <a:srgbClr val="000000"/>
                </a:solidFill>
                <a:latin typeface="Arial"/>
              </a:rPr>
              <a:t>ү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ин  харанхые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амбаашалан хэдыхэн сэрэгшэд б</a:t>
            </a:r>
            <a:r>
              <a:rPr b="0" lang="mn-Cyrl-MN" sz="2800" spc="-1" strike="noStrike">
                <a:solidFill>
                  <a:srgbClr val="000000"/>
                </a:solidFill>
                <a:latin typeface="Arial"/>
              </a:rPr>
              <a:t>ү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элэлтэ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mn-Cyrl-MN" sz="2800" spc="-1" strike="noStrike">
                <a:solidFill>
                  <a:srgbClr val="000000"/>
                </a:solidFill>
                <a:latin typeface="Arial"/>
              </a:rPr>
              <a:t>өө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гаража Смоленск областиин Духовщино районай Гришково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h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уури х</a:t>
            </a:r>
            <a:r>
              <a:rPr b="0" lang="mn-Cyrl-MN" sz="2800" spc="-1" strike="noStrike">
                <a:solidFill>
                  <a:srgbClr val="000000"/>
                </a:solidFill>
                <a:latin typeface="Arial"/>
              </a:rPr>
              <a:t>ү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эḣэн байна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611280" y="1484280"/>
            <a:ext cx="3790800" cy="424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10-22T08:58:45Z</dcterms:created>
  <dc:creator>79246573881</dc:creator>
  <dc:description/>
  <dc:language>en-US</dc:language>
  <cp:lastModifiedBy>79246573881</cp:lastModifiedBy>
  <dcterms:modified xsi:type="dcterms:W3CDTF">2020-11-12T14:11:37Z</dcterms:modified>
  <cp:revision>80</cp:revision>
  <dc:subject/>
  <dc:title>Слайд 1</dc:title>
</cp:coreProperties>
</file>