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D0BE-7C7E-4D37-A87D-A44A4082F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1CAF-E280-4676-A158-D9AEEF362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6F4A-3560-4F80-A649-17DF3905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7172-68D6-4A26-960B-4B43DCAC8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923A-9837-454B-80A8-9CBFF762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D7EA-7832-4D6E-9974-587FADBC9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0AD4-D082-4240-AE95-CFBF0FF6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A8BF-F5C8-4121-91E5-16AD560F5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0746-CD65-4E7D-B0A4-920BF43D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688-1341-4EAC-A563-C8A219C5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CD74-0453-4970-BCC3-73E66EF74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8384-97FF-40B1-BBE5-DABDFE89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3415-4823-45CB-9B8C-9D86DBF38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иров Гуржап Ванюшк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ров Гуржап Ванюшкеевич 1905 ондо Буряад АССР-эй Баргажан аймагай Яригта тосхондо 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ытэй малшан, т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эршэ дархан Очиров Очир Ванюшкеевичай гэр б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дэ т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. Яригта тосхондо эхин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уули д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ээд 1927 ондо Улаан Армиин зэргэдэ абтаад, 1946 оной февраль болотор совет армида алба хаага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8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2597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дэ Духовщино районай партиин комитедэй секретарь н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эр П.Ф.Цурановтай хамта партизанска отряд ба партизанска бригада байгуулаа, Гуржап Очиров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эрнь К.Е.Варшиловай х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лбэри доро командала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3343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занска отряд дайсадта  ехэхэн гээлтэ, хороолто ушаруулаа. 1942 оной апрель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да Каспля-Липка, Спас-Липка, Босино-Озерецкое ба Преображенски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уудта 230 немец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 хюудэбэ. Тиихэдэ 17 моритой ашаануудые, олон тоото буу зэбсэг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ынуудые, пулемед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, винтовкон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, автомадуудые эзэмдээ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54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эдэнэр  Батябска шэглэл руу Демидов-Велинск, Демидов-Духовщино, Смоленск-Каспля-Демидово, Смоленск-Орша, Демидов-Якович харгынуудаар олон немец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е хюуда ḣэ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9320" y="1600200"/>
            <a:ext cx="3816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ржаб Очиров хэлэдэ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: « Энэ албанда хусэтэй шанга байга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а илаха. Дайнай газарта ганса баатаршалга гаргаха бага, харин дайсанаа сохихо шадалтай байха 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3751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гээ нухэроо алдахадань аймшагтай. Булта ухэл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о айгаашье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а, Эхэ ороноо тулоо байлдаанда гарана. Саша Туровский ехэ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ниин хун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н.Булад шэнги хатуу зурхэтэй, нухэдтоо ехэ уринаар хандадаг». Энэ хуниие Гуржаб Очиров юу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эшье улуу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надаг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н.Туровский хододоо армиин дурим ё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 сахидаг байга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431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ров Гуржап Ванюшкеевичай шагналнуу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ын наркомай нэрлэжэ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часы ба м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эн потсигар(194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понец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эй ара талада дайшалхы даабари д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 т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ө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оронын наркомай нэрлэжэ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часы (193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нинэй орден (194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аан Тугай орден (1943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аан Одоной орден (194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аль «Германи ил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й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лөө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41-1945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1025640" y="1628640"/>
            <a:ext cx="3217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э ном ганса Буряад орондо мэдээжэ болоогʏй, харин ондоо гʏрэнʏʏдтэ мэдээжэ болонхо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36708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йн да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жап Очировай дайшалхы саг тухай Д.Хилтухин ба А.Бальбуров «Амиды ябахые захирнаб» г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ном 1963 ондо бэш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. Энэ ном соо партизан ба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сагай дайшалхы замын тодорхойгоор хэлэгдэн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430440" cy="79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чиров Гуржап Ванюшкеевич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моленщина хотодо 1941-  1943 онуудта партизанска отряд ударидалжа яб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эрэ    2500 сэрэгшэдые дахуулжа , эрэлхэг зоригоо харуулжа алдарш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 юм.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2401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оленск хото зунай 1941 он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8407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2 стрелково дивизиин сэрэгшэ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56898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йсад Смоленск хото зунай 1941 ондо  добтолжо оро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1666800"/>
            <a:ext cx="6613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2920" y="1267920"/>
            <a:ext cx="40388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юлиин 28 1941ондо Гуржап Очировай отряд дивизиин ябалга далдаха гэḣэн захиралта абаба.Смоленщина захада батальоной 72 сэрэгшэд толгойгоороо сасулжа тэмсээ. Батальон дайшалхы даабарияа дʏʏргээ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459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ржап Очиров тэрэ байлдаан соо шархатаḣан байгаа , бодохо аргагуй. Хажуудань Гена Миронов солдат хʏбʏʏн шархатаад хэбтэнэ.Тойроод  ганса немецууд. ¥хɵɵ ḣаамнай дээрээ гэжэ тэрэ хоер бодоно. Гена хэлэбэ : « Танай захиралта ʏгыт , нэгэ адляар куроогоо дарая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Би иимэ захиралта ʏгэхэгʏйб. Зугаа дʏʏрээ! Амиды ябахые захирнаб!» гэжэ командир хэлэбэ. Энэʏгэнʏʏдынь повестиин эгээ кульминацинь боло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373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н  харанхы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баашалан хэдыхэн сэрэгшэд б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элт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аража Смоленск областиин Духовщино районай Гришково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ури х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эḣэн бай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790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2T08:58:45Z</dcterms:created>
  <dc:creator>79246573881</dc:creator>
  <dc:description/>
  <dc:language>en-US</dc:language>
  <cp:lastModifiedBy>79246573881</cp:lastModifiedBy>
  <dcterms:modified xsi:type="dcterms:W3CDTF">2020-11-12T14:11:37Z</dcterms:modified>
  <cp:revision>80</cp:revision>
  <dc:subject/>
  <dc:title>Слайд 1</dc:title>
</cp:coreProperties>
</file>